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notesSlide49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_rels/notesSlide4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1.xml.rels" ContentType="application/vnd.openxmlformats-package.relationships+xml"/>
  <Override PartName="/ppt/notesSlides/notesSlide6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5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7.wmf" ContentType="image/x-wmf"/>
  <Override PartName="/ppt/media/image23.png" ContentType="image/png"/>
  <Override PartName="/ppt/media/image22.jpeg" ContentType="image/jpeg"/>
  <Override PartName="/ppt/media/image21.jpeg" ContentType="image/jpeg"/>
  <Override PartName="/ppt/media/image29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49.jpeg" ContentType="image/jpeg"/>
  <Override PartName="/ppt/media/image15.png" ContentType="image/pn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media/image4.png" ContentType="image/png"/>
  <Override PartName="/ppt/media/image12.jpeg" ContentType="image/jpeg"/>
  <Override PartName="/ppt/media/image6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7.jpeg" ContentType="image/jpeg"/>
  <Override PartName="/ppt/media/image28.png" ContentType="image/png"/>
  <Override PartName="/ppt/media/image14.jpeg" ContentType="image/jpeg"/>
  <Override PartName="/ppt/media/image40.png" ContentType="image/png"/>
  <Override PartName="/ppt/media/image42.png" ContentType="image/png"/>
  <Override PartName="/ppt/media/image44.jpeg" ContentType="image/jpeg"/>
  <Override PartName="/ppt/media/image50.png" ContentType="image/png"/>
  <Override PartName="/ppt/media/image9.jpeg" ContentType="image/jpeg"/>
  <Override PartName="/ppt/media/image48.png" ContentType="image/png"/>
  <Override PartName="/ppt/media/image51.png" ContentType="image/png"/>
  <Override PartName="/ppt/media/image45.jpeg" ContentType="image/jpeg"/>
  <Override PartName="/ppt/media/image55.png" ContentType="image/png"/>
  <Override PartName="/ppt/media/image52.jpeg" ContentType="image/jpeg"/>
  <Override PartName="/ppt/media/image38.png" ContentType="image/png"/>
  <Override PartName="/ppt/media/image39.jpeg" ContentType="image/jpeg"/>
  <Override PartName="/ppt/media/image8.png" ContentType="image/png"/>
  <Override PartName="/ppt/media/image41.png" ContentType="image/png"/>
  <Override PartName="/ppt/media/image53.jpeg" ContentType="image/jpeg"/>
  <Override PartName="/ppt/media/image56.png" ContentType="image/png"/>
  <Override PartName="/ppt/media/image46.png" ContentType="image/png"/>
  <Override PartName="/ppt/media/image57.jpeg" ContentType="image/jpeg"/>
  <Override PartName="/ppt/media/image47.png" ContentType="image/png"/>
  <Override PartName="/ppt/media/image35.jpeg" ContentType="image/jpeg"/>
  <Override PartName="/ppt/media/image30.png" ContentType="image/png"/>
  <Override PartName="/ppt/media/image10.jpeg" ContentType="image/jpeg"/>
  <Override PartName="/ppt/media/image34.jpeg" ContentType="image/jpeg"/>
  <Override PartName="/ppt/media/image37.png" ContentType="image/png"/>
  <Override PartName="/ppt/media/image33.jpeg" ContentType="image/jpeg"/>
  <Override PartName="/ppt/media/image5.png" ContentType="image/png"/>
  <Override PartName="/ppt/media/image43.jpeg" ContentType="image/jpeg"/>
  <Override PartName="/ppt/media/image13.png" ContentType="image/png"/>
  <Override PartName="/ppt/media/image5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8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60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  <p:sldId id="299" r:id="rId59"/>
    <p:sldId id="300" r:id="rId60"/>
    <p:sldId id="301" r:id="rId61"/>
    <p:sldId id="302" r:id="rId62"/>
    <p:sldId id="303" r:id="rId63"/>
    <p:sldId id="304" r:id="rId64"/>
    <p:sldId id="305" r:id="rId65"/>
    <p:sldId id="306" r:id="rId66"/>
    <p:sldId id="307" r:id="rId67"/>
    <p:sldId id="308" r:id="rId68"/>
    <p:sldId id="309" r:id="rId69"/>
    <p:sldId id="310" r:id="rId70"/>
    <p:sldId id="311" r:id="rId71"/>
    <p:sldId id="312" r:id="rId72"/>
    <p:sldId id="313" r:id="rId73"/>
    <p:sldId id="314" r:id="rId74"/>
    <p:sldId id="315" r:id="rId75"/>
    <p:sldId id="316" r:id="rId76"/>
    <p:sldId id="317" r:id="rId77"/>
    <p:sldId id="318" r:id="rId78"/>
    <p:sldId id="319" r:id="rId79"/>
    <p:sldId id="320" r:id="rId80"/>
    <p:sldId id="321" r:id="rId81"/>
    <p:sldId id="322" r:id="rId82"/>
    <p:sldId id="323" r:id="rId83"/>
    <p:sldId id="324" r:id="rId84"/>
    <p:sldId id="325" r:id="rId85"/>
    <p:sldId id="326" r:id="rId86"/>
    <p:sldId id="327" r:id="rId87"/>
    <p:sldId id="328" r:id="rId88"/>
    <p:sldId id="329" r:id="rId89"/>
    <p:sldId id="330" r:id="rId90"/>
    <p:sldId id="331" r:id="rId91"/>
    <p:sldId id="332" r:id="rId92"/>
    <p:sldId id="333" r:id="rId93"/>
    <p:sldId id="334" r:id="rId94"/>
    <p:sldId id="335" r:id="rId95"/>
    <p:sldId id="336" r:id="rId96"/>
    <p:sldId id="337" r:id="rId97"/>
    <p:sldId id="338" r:id="rId98"/>
    <p:sldId id="339" r:id="rId99"/>
    <p:sldId id="340" r:id="rId100"/>
    <p:sldId id="341" r:id="rId101"/>
    <p:sldId id="342" r:id="rId102"/>
    <p:sldId id="343" r:id="rId103"/>
    <p:sldId id="344" r:id="rId104"/>
    <p:sldId id="345" r:id="rId105"/>
    <p:sldId id="346" r:id="rId106"/>
    <p:sldId id="347" r:id="rId107"/>
    <p:sldId id="348" r:id="rId108"/>
    <p:sldId id="349" r:id="rId109"/>
    <p:sldId id="350" r:id="rId110"/>
    <p:sldId id="351" r:id="rId111"/>
  </p:sldIdLst>
  <p:sldSz cx="9144000" cy="6858000"/>
  <p:notesSz cx="68580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slide" Target="slides/slide44.xml"/><Relationship Id="rId60" Type="http://schemas.openxmlformats.org/officeDocument/2006/relationships/slide" Target="slides/slide45.xml"/><Relationship Id="rId61" Type="http://schemas.openxmlformats.org/officeDocument/2006/relationships/slide" Target="slides/slide46.xml"/><Relationship Id="rId62" Type="http://schemas.openxmlformats.org/officeDocument/2006/relationships/slide" Target="slides/slide47.xml"/><Relationship Id="rId63" Type="http://schemas.openxmlformats.org/officeDocument/2006/relationships/slide" Target="slides/slide48.xml"/><Relationship Id="rId64" Type="http://schemas.openxmlformats.org/officeDocument/2006/relationships/slide" Target="slides/slide49.xml"/><Relationship Id="rId65" Type="http://schemas.openxmlformats.org/officeDocument/2006/relationships/slide" Target="slides/slide50.xml"/><Relationship Id="rId66" Type="http://schemas.openxmlformats.org/officeDocument/2006/relationships/slide" Target="slides/slide51.xml"/><Relationship Id="rId67" Type="http://schemas.openxmlformats.org/officeDocument/2006/relationships/slide" Target="slides/slide52.xml"/><Relationship Id="rId68" Type="http://schemas.openxmlformats.org/officeDocument/2006/relationships/slide" Target="slides/slide53.xml"/><Relationship Id="rId69" Type="http://schemas.openxmlformats.org/officeDocument/2006/relationships/slide" Target="slides/slide54.xml"/><Relationship Id="rId70" Type="http://schemas.openxmlformats.org/officeDocument/2006/relationships/slide" Target="slides/slide55.xml"/><Relationship Id="rId71" Type="http://schemas.openxmlformats.org/officeDocument/2006/relationships/slide" Target="slides/slide56.xml"/><Relationship Id="rId72" Type="http://schemas.openxmlformats.org/officeDocument/2006/relationships/slide" Target="slides/slide57.xml"/><Relationship Id="rId73" Type="http://schemas.openxmlformats.org/officeDocument/2006/relationships/slide" Target="slides/slide58.xml"/><Relationship Id="rId74" Type="http://schemas.openxmlformats.org/officeDocument/2006/relationships/slide" Target="slides/slide59.xml"/><Relationship Id="rId75" Type="http://schemas.openxmlformats.org/officeDocument/2006/relationships/slide" Target="slides/slide60.xml"/><Relationship Id="rId76" Type="http://schemas.openxmlformats.org/officeDocument/2006/relationships/slide" Target="slides/slide61.xml"/><Relationship Id="rId77" Type="http://schemas.openxmlformats.org/officeDocument/2006/relationships/slide" Target="slides/slide62.xml"/><Relationship Id="rId78" Type="http://schemas.openxmlformats.org/officeDocument/2006/relationships/slide" Target="slides/slide63.xml"/><Relationship Id="rId79" Type="http://schemas.openxmlformats.org/officeDocument/2006/relationships/slide" Target="slides/slide64.xml"/><Relationship Id="rId80" Type="http://schemas.openxmlformats.org/officeDocument/2006/relationships/slide" Target="slides/slide65.xml"/><Relationship Id="rId81" Type="http://schemas.openxmlformats.org/officeDocument/2006/relationships/slide" Target="slides/slide66.xml"/><Relationship Id="rId82" Type="http://schemas.openxmlformats.org/officeDocument/2006/relationships/slide" Target="slides/slide67.xml"/><Relationship Id="rId83" Type="http://schemas.openxmlformats.org/officeDocument/2006/relationships/slide" Target="slides/slide68.xml"/><Relationship Id="rId84" Type="http://schemas.openxmlformats.org/officeDocument/2006/relationships/slide" Target="slides/slide69.xml"/><Relationship Id="rId85" Type="http://schemas.openxmlformats.org/officeDocument/2006/relationships/slide" Target="slides/slide70.xml"/><Relationship Id="rId86" Type="http://schemas.openxmlformats.org/officeDocument/2006/relationships/slide" Target="slides/slide71.xml"/><Relationship Id="rId87" Type="http://schemas.openxmlformats.org/officeDocument/2006/relationships/slide" Target="slides/slide72.xml"/><Relationship Id="rId88" Type="http://schemas.openxmlformats.org/officeDocument/2006/relationships/slide" Target="slides/slide73.xml"/><Relationship Id="rId89" Type="http://schemas.openxmlformats.org/officeDocument/2006/relationships/slide" Target="slides/slide74.xml"/><Relationship Id="rId90" Type="http://schemas.openxmlformats.org/officeDocument/2006/relationships/slide" Target="slides/slide75.xml"/><Relationship Id="rId91" Type="http://schemas.openxmlformats.org/officeDocument/2006/relationships/slide" Target="slides/slide76.xml"/><Relationship Id="rId92" Type="http://schemas.openxmlformats.org/officeDocument/2006/relationships/slide" Target="slides/slide77.xml"/><Relationship Id="rId93" Type="http://schemas.openxmlformats.org/officeDocument/2006/relationships/slide" Target="slides/slide78.xml"/><Relationship Id="rId94" Type="http://schemas.openxmlformats.org/officeDocument/2006/relationships/slide" Target="slides/slide79.xml"/><Relationship Id="rId95" Type="http://schemas.openxmlformats.org/officeDocument/2006/relationships/slide" Target="slides/slide80.xml"/><Relationship Id="rId96" Type="http://schemas.openxmlformats.org/officeDocument/2006/relationships/slide" Target="slides/slide81.xml"/><Relationship Id="rId97" Type="http://schemas.openxmlformats.org/officeDocument/2006/relationships/slide" Target="slides/slide82.xml"/><Relationship Id="rId98" Type="http://schemas.openxmlformats.org/officeDocument/2006/relationships/slide" Target="slides/slide83.xml"/><Relationship Id="rId99" Type="http://schemas.openxmlformats.org/officeDocument/2006/relationships/slide" Target="slides/slide84.xml"/><Relationship Id="rId100" Type="http://schemas.openxmlformats.org/officeDocument/2006/relationships/slide" Target="slides/slide85.xml"/><Relationship Id="rId101" Type="http://schemas.openxmlformats.org/officeDocument/2006/relationships/slide" Target="slides/slide86.xml"/><Relationship Id="rId102" Type="http://schemas.openxmlformats.org/officeDocument/2006/relationships/slide" Target="slides/slide87.xml"/><Relationship Id="rId103" Type="http://schemas.openxmlformats.org/officeDocument/2006/relationships/slide" Target="slides/slide88.xml"/><Relationship Id="rId104" Type="http://schemas.openxmlformats.org/officeDocument/2006/relationships/slide" Target="slides/slide89.xml"/><Relationship Id="rId105" Type="http://schemas.openxmlformats.org/officeDocument/2006/relationships/slide" Target="slides/slide90.xml"/><Relationship Id="rId106" Type="http://schemas.openxmlformats.org/officeDocument/2006/relationships/slide" Target="slides/slide91.xml"/><Relationship Id="rId107" Type="http://schemas.openxmlformats.org/officeDocument/2006/relationships/slide" Target="slides/slide92.xml"/><Relationship Id="rId108" Type="http://schemas.openxmlformats.org/officeDocument/2006/relationships/slide" Target="slides/slide93.xml"/><Relationship Id="rId109" Type="http://schemas.openxmlformats.org/officeDocument/2006/relationships/slide" Target="slides/slide94.xml"/><Relationship Id="rId110" Type="http://schemas.openxmlformats.org/officeDocument/2006/relationships/slide" Target="slides/slide95.xml"/><Relationship Id="rId111" Type="http://schemas.openxmlformats.org/officeDocument/2006/relationships/slide" Target="slides/slide96.xml"/><Relationship Id="rId1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0" y="0"/>
            <a:ext cx="685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ldImg"/>
          </p:nvPr>
        </p:nvSpPr>
        <p:spPr>
          <a:xfrm>
            <a:off x="1119240" y="692280"/>
            <a:ext cx="461808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Click to move the slide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body"/>
          </p:nvPr>
        </p:nvSpPr>
        <p:spPr>
          <a:xfrm>
            <a:off x="914400" y="4385880"/>
            <a:ext cx="5027760" cy="41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 type="dt" idx="39"/>
          </p:nvPr>
        </p:nvSpPr>
        <p:spPr>
          <a:xfrm>
            <a:off x="388440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E88E4-0182-44DD-8408-E1261FD48F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 type="ftr" idx="40"/>
          </p:nvPr>
        </p:nvSpPr>
        <p:spPr>
          <a:xfrm>
            <a:off x="-360" y="877212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 type="sldNum" idx="41"/>
          </p:nvPr>
        </p:nvSpPr>
        <p:spPr>
          <a:xfrm>
            <a:off x="3884400" y="877212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C1623-DD1A-4BEA-92C4-B489E23EEF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1924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914400" y="4385880"/>
            <a:ext cx="502776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Slide Number Placeholder 3"/>
          <p:cNvSpPr/>
          <p:nvPr/>
        </p:nvSpPr>
        <p:spPr>
          <a:xfrm>
            <a:off x="388476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E16B5-FC4A-4BF2-8C0A-8E74717BBD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1924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914400" y="4385880"/>
            <a:ext cx="502776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Slide Number Placeholder 3"/>
          <p:cNvSpPr/>
          <p:nvPr/>
        </p:nvSpPr>
        <p:spPr>
          <a:xfrm>
            <a:off x="388476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F6BA1-CCEA-4952-B482-ED7262F75F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Rectangle 7"/>
          <p:cNvSpPr/>
          <p:nvPr/>
        </p:nvSpPr>
        <p:spPr>
          <a:xfrm>
            <a:off x="388476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4FD9E-3E7D-4777-81A1-BF39E8B63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1"/>
          <p:cNvSpPr>
            <a:spLocks noGrp="1"/>
          </p:cNvSpPr>
          <p:nvPr>
            <p:ph type="sldImg"/>
          </p:nvPr>
        </p:nvSpPr>
        <p:spPr>
          <a:xfrm>
            <a:off x="111924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1254" name="PlaceHolder 2"/>
          <p:cNvSpPr>
            <a:spLocks noGrp="1"/>
          </p:cNvSpPr>
          <p:nvPr>
            <p:ph type="body"/>
          </p:nvPr>
        </p:nvSpPr>
        <p:spPr>
          <a:xfrm>
            <a:off x="914400" y="4385880"/>
            <a:ext cx="502776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1924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914400" y="4385880"/>
            <a:ext cx="502776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Slide Number Placeholder 3"/>
          <p:cNvSpPr/>
          <p:nvPr/>
        </p:nvSpPr>
        <p:spPr>
          <a:xfrm>
            <a:off x="388476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1BF1C-C385-491E-91B7-7921F9B3B4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Rectangle 7"/>
          <p:cNvSpPr/>
          <p:nvPr/>
        </p:nvSpPr>
        <p:spPr>
          <a:xfrm>
            <a:off x="388476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7911A-658F-4DAA-93A6-FB17B82142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1"/>
          <p:cNvSpPr>
            <a:spLocks noGrp="1"/>
          </p:cNvSpPr>
          <p:nvPr>
            <p:ph type="sldImg"/>
          </p:nvPr>
        </p:nvSpPr>
        <p:spPr>
          <a:xfrm>
            <a:off x="111924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1260" name="PlaceHolder 2"/>
          <p:cNvSpPr>
            <a:spLocks noGrp="1"/>
          </p:cNvSpPr>
          <p:nvPr>
            <p:ph type="body"/>
          </p:nvPr>
        </p:nvSpPr>
        <p:spPr>
          <a:xfrm>
            <a:off x="914400" y="4385880"/>
            <a:ext cx="502776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Rectangle 7"/>
          <p:cNvSpPr/>
          <p:nvPr/>
        </p:nvSpPr>
        <p:spPr>
          <a:xfrm>
            <a:off x="388476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B0395-2E9D-4231-BEE6-3A711C6146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1"/>
          <p:cNvSpPr>
            <a:spLocks noGrp="1"/>
          </p:cNvSpPr>
          <p:nvPr>
            <p:ph type="sldImg"/>
          </p:nvPr>
        </p:nvSpPr>
        <p:spPr>
          <a:xfrm>
            <a:off x="111924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1263" name="PlaceHolder 2"/>
          <p:cNvSpPr>
            <a:spLocks noGrp="1"/>
          </p:cNvSpPr>
          <p:nvPr>
            <p:ph type="body"/>
          </p:nvPr>
        </p:nvSpPr>
        <p:spPr>
          <a:xfrm>
            <a:off x="914400" y="4385880"/>
            <a:ext cx="502776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Rectangle 7"/>
          <p:cNvSpPr/>
          <p:nvPr/>
        </p:nvSpPr>
        <p:spPr>
          <a:xfrm>
            <a:off x="388476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EBF11-9CAD-43E0-A6D7-3F3BBC3C31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1"/>
          <p:cNvSpPr>
            <a:spLocks noGrp="1"/>
          </p:cNvSpPr>
          <p:nvPr>
            <p:ph type="sldImg"/>
          </p:nvPr>
        </p:nvSpPr>
        <p:spPr>
          <a:xfrm>
            <a:off x="111924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1266" name="PlaceHolder 2"/>
          <p:cNvSpPr>
            <a:spLocks noGrp="1"/>
          </p:cNvSpPr>
          <p:nvPr>
            <p:ph type="body"/>
          </p:nvPr>
        </p:nvSpPr>
        <p:spPr>
          <a:xfrm>
            <a:off x="914400" y="4385880"/>
            <a:ext cx="502776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Rectangle 7"/>
          <p:cNvSpPr/>
          <p:nvPr/>
        </p:nvSpPr>
        <p:spPr>
          <a:xfrm>
            <a:off x="388476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96848-3B34-474C-A073-E9BC4586A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1"/>
          <p:cNvSpPr>
            <a:spLocks noGrp="1"/>
          </p:cNvSpPr>
          <p:nvPr>
            <p:ph type="sldImg"/>
          </p:nvPr>
        </p:nvSpPr>
        <p:spPr>
          <a:xfrm>
            <a:off x="111924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1269" name="PlaceHolder 2"/>
          <p:cNvSpPr>
            <a:spLocks noGrp="1"/>
          </p:cNvSpPr>
          <p:nvPr>
            <p:ph type="body"/>
          </p:nvPr>
        </p:nvSpPr>
        <p:spPr>
          <a:xfrm>
            <a:off x="914400" y="4385880"/>
            <a:ext cx="502776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Rectangle 7"/>
          <p:cNvSpPr/>
          <p:nvPr/>
        </p:nvSpPr>
        <p:spPr>
          <a:xfrm>
            <a:off x="388476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BDE80-66A3-4977-9B9B-E6DE4C168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1"/>
          <p:cNvSpPr>
            <a:spLocks noGrp="1"/>
          </p:cNvSpPr>
          <p:nvPr>
            <p:ph type="sldImg"/>
          </p:nvPr>
        </p:nvSpPr>
        <p:spPr>
          <a:xfrm>
            <a:off x="111924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914400" y="4385880"/>
            <a:ext cx="502776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Rectangle 7"/>
          <p:cNvSpPr/>
          <p:nvPr/>
        </p:nvSpPr>
        <p:spPr>
          <a:xfrm>
            <a:off x="388476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B2F55-8D23-416C-B526-A465519E86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1"/>
          <p:cNvSpPr>
            <a:spLocks noGrp="1"/>
          </p:cNvSpPr>
          <p:nvPr>
            <p:ph type="sldImg"/>
          </p:nvPr>
        </p:nvSpPr>
        <p:spPr>
          <a:xfrm>
            <a:off x="111924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1275" name="PlaceHolder 2"/>
          <p:cNvSpPr>
            <a:spLocks noGrp="1"/>
          </p:cNvSpPr>
          <p:nvPr>
            <p:ph type="body"/>
          </p:nvPr>
        </p:nvSpPr>
        <p:spPr>
          <a:xfrm>
            <a:off x="914400" y="4385880"/>
            <a:ext cx="502776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Rectangle 7"/>
          <p:cNvSpPr/>
          <p:nvPr/>
        </p:nvSpPr>
        <p:spPr>
          <a:xfrm>
            <a:off x="388476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F090F-0BC4-4F68-ACDE-055DC73015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1"/>
          <p:cNvSpPr>
            <a:spLocks noGrp="1"/>
          </p:cNvSpPr>
          <p:nvPr>
            <p:ph type="sldImg"/>
          </p:nvPr>
        </p:nvSpPr>
        <p:spPr>
          <a:xfrm>
            <a:off x="111924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1278" name="PlaceHolder 2"/>
          <p:cNvSpPr>
            <a:spLocks noGrp="1"/>
          </p:cNvSpPr>
          <p:nvPr>
            <p:ph type="body"/>
          </p:nvPr>
        </p:nvSpPr>
        <p:spPr>
          <a:xfrm>
            <a:off x="914400" y="4385880"/>
            <a:ext cx="502776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Rectangle 7"/>
          <p:cNvSpPr/>
          <p:nvPr/>
        </p:nvSpPr>
        <p:spPr>
          <a:xfrm>
            <a:off x="388476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27F90-BF4E-432A-81B6-C9D66D7BED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1"/>
          <p:cNvSpPr>
            <a:spLocks noGrp="1"/>
          </p:cNvSpPr>
          <p:nvPr>
            <p:ph type="sldImg"/>
          </p:nvPr>
        </p:nvSpPr>
        <p:spPr>
          <a:xfrm>
            <a:off x="111924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1281" name="PlaceHolder 2"/>
          <p:cNvSpPr>
            <a:spLocks noGrp="1"/>
          </p:cNvSpPr>
          <p:nvPr>
            <p:ph type="body"/>
          </p:nvPr>
        </p:nvSpPr>
        <p:spPr>
          <a:xfrm>
            <a:off x="914400" y="4385880"/>
            <a:ext cx="502776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Rectangle 7"/>
          <p:cNvSpPr/>
          <p:nvPr/>
        </p:nvSpPr>
        <p:spPr>
          <a:xfrm>
            <a:off x="388476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4CB5D-F7D0-4762-84EF-C996D8E861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1"/>
          <p:cNvSpPr>
            <a:spLocks noGrp="1"/>
          </p:cNvSpPr>
          <p:nvPr>
            <p:ph type="sldImg"/>
          </p:nvPr>
        </p:nvSpPr>
        <p:spPr>
          <a:xfrm>
            <a:off x="111924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1284" name="PlaceHolder 2"/>
          <p:cNvSpPr>
            <a:spLocks noGrp="1"/>
          </p:cNvSpPr>
          <p:nvPr>
            <p:ph type="body"/>
          </p:nvPr>
        </p:nvSpPr>
        <p:spPr>
          <a:xfrm>
            <a:off x="914400" y="4385880"/>
            <a:ext cx="502776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Rectangle 7"/>
          <p:cNvSpPr/>
          <p:nvPr/>
        </p:nvSpPr>
        <p:spPr>
          <a:xfrm>
            <a:off x="388476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49278-B3FD-47AE-B07F-C8CC63B56F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1"/>
          <p:cNvSpPr>
            <a:spLocks noGrp="1"/>
          </p:cNvSpPr>
          <p:nvPr>
            <p:ph type="sldImg"/>
          </p:nvPr>
        </p:nvSpPr>
        <p:spPr>
          <a:xfrm>
            <a:off x="111924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1287" name="PlaceHolder 2"/>
          <p:cNvSpPr>
            <a:spLocks noGrp="1"/>
          </p:cNvSpPr>
          <p:nvPr>
            <p:ph type="body"/>
          </p:nvPr>
        </p:nvSpPr>
        <p:spPr>
          <a:xfrm>
            <a:off x="914400" y="4385880"/>
            <a:ext cx="502776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Rectangle 7"/>
          <p:cNvSpPr/>
          <p:nvPr/>
        </p:nvSpPr>
        <p:spPr>
          <a:xfrm>
            <a:off x="388476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EC3A8-56AA-458B-AB98-2171C39BC2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1"/>
          <p:cNvSpPr>
            <a:spLocks noGrp="1"/>
          </p:cNvSpPr>
          <p:nvPr>
            <p:ph type="sldImg"/>
          </p:nvPr>
        </p:nvSpPr>
        <p:spPr>
          <a:xfrm>
            <a:off x="111924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1290" name="PlaceHolder 2"/>
          <p:cNvSpPr>
            <a:spLocks noGrp="1"/>
          </p:cNvSpPr>
          <p:nvPr>
            <p:ph type="body"/>
          </p:nvPr>
        </p:nvSpPr>
        <p:spPr>
          <a:xfrm>
            <a:off x="914400" y="4385880"/>
            <a:ext cx="502776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Rectangle 7"/>
          <p:cNvSpPr/>
          <p:nvPr/>
        </p:nvSpPr>
        <p:spPr>
          <a:xfrm>
            <a:off x="388476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23EAC-34E7-42C1-81ED-95CEDEC004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1"/>
          <p:cNvSpPr>
            <a:spLocks noGrp="1"/>
          </p:cNvSpPr>
          <p:nvPr>
            <p:ph type="sldImg"/>
          </p:nvPr>
        </p:nvSpPr>
        <p:spPr>
          <a:xfrm>
            <a:off x="111924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1293" name="PlaceHolder 2"/>
          <p:cNvSpPr>
            <a:spLocks noGrp="1"/>
          </p:cNvSpPr>
          <p:nvPr>
            <p:ph type="body"/>
          </p:nvPr>
        </p:nvSpPr>
        <p:spPr>
          <a:xfrm>
            <a:off x="914400" y="4385880"/>
            <a:ext cx="502776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27C0-839A-4422-B40E-6ADB89F40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581120"/>
            <a:ext cx="811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360" y="3730680"/>
            <a:ext cx="811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DCCF-8915-4E2E-844A-26260CD7C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95360" y="1581120"/>
            <a:ext cx="3960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53720" y="1581120"/>
            <a:ext cx="3960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E74315-AD82-452C-8522-9F9DB7678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4805A7-7DF0-4A04-ACC5-E6FCEDAA0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418680"/>
            <a:ext cx="693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7ED5DF-B507-40D6-B6E3-2E1E813E6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95360" y="158112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53720" y="1581120"/>
            <a:ext cx="3960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95360" y="373068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C6CC08-E8C7-429A-88F2-D6F909F8A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95360" y="1581120"/>
            <a:ext cx="3960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53720" y="158112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53720" y="373068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953B03-2F56-4255-BB1B-50A797F95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95360" y="158112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53720" y="158112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95360" y="3730680"/>
            <a:ext cx="811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70940E-AA1B-4BD9-85E8-2CBD58C1B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95360" y="1581120"/>
            <a:ext cx="811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95360" y="3730680"/>
            <a:ext cx="811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A73CE0-9931-437D-B996-3EA500921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95360" y="158112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53720" y="158112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95360" y="373068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53720" y="373068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C04DD4-CFD5-444D-A935-B70B65F2C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95360" y="1581120"/>
            <a:ext cx="2612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280" y="1581120"/>
            <a:ext cx="2612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83200" y="1581120"/>
            <a:ext cx="2612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95360" y="3730680"/>
            <a:ext cx="2612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280" y="3730680"/>
            <a:ext cx="2612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83200" y="3730680"/>
            <a:ext cx="2612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BBD121-A3C2-46F4-9DEA-F35E9306C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F9C008-953E-49B2-B557-C650F0908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158112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3720" y="158112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360" y="373068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3720" y="373068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EB71-F392-4B26-B734-BA348A2AF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95360" y="1581120"/>
            <a:ext cx="8115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EE34ED-5390-4B78-94AF-3BE69073C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95360" y="1581120"/>
            <a:ext cx="8115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21F6EB-7D90-44BC-BBAB-D6FB45877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95360" y="1581120"/>
            <a:ext cx="3960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53720" y="1581120"/>
            <a:ext cx="3960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E5C654-1F88-4F0E-9BEA-4D1348DD6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C1F51E-E567-4D62-8A1A-21555C4F5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418680"/>
            <a:ext cx="693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F54691-7386-4158-A775-991EA8FDE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95360" y="158112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53720" y="1581120"/>
            <a:ext cx="3960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95360" y="373068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9DB13F-4597-46B3-A692-17FDD44BD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95360" y="1581120"/>
            <a:ext cx="3960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53720" y="158112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53720" y="373068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F47CA0-8F5F-448A-8771-0BFA663D3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95360" y="158112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53720" y="158112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95360" y="3730680"/>
            <a:ext cx="811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756265-7F9C-4629-B6C3-43EE80518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95360" y="1581120"/>
            <a:ext cx="811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95360" y="3730680"/>
            <a:ext cx="811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A84054-5C33-41D0-8160-AAAFA314F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95360" y="158112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53720" y="158112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95360" y="373068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53720" y="373068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922820-1AEE-4F12-B321-61E1948F2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360" y="1581120"/>
            <a:ext cx="2612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280" y="1581120"/>
            <a:ext cx="2612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3200" y="1581120"/>
            <a:ext cx="2612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360" y="3730680"/>
            <a:ext cx="2612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280" y="3730680"/>
            <a:ext cx="2612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3200" y="3730680"/>
            <a:ext cx="2612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4807-A82B-4B9B-BC32-730FA7089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95360" y="1581120"/>
            <a:ext cx="2612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280" y="1581120"/>
            <a:ext cx="2612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983200" y="1581120"/>
            <a:ext cx="2612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95360" y="3730680"/>
            <a:ext cx="2612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280" y="3730680"/>
            <a:ext cx="2612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983200" y="3730680"/>
            <a:ext cx="2612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0865B5-3C24-444A-BC63-B93FDB8BB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74778E-A057-4828-B0E0-5410B4089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95360" y="1581120"/>
            <a:ext cx="8115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05908A-8F12-4E0D-8FB9-C7AC411B8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95360" y="1581120"/>
            <a:ext cx="8115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E32A19-E1B5-470D-9E35-C1A66E8EB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95360" y="1581120"/>
            <a:ext cx="3960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53720" y="1581120"/>
            <a:ext cx="3960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A4279E-7053-44B3-A2FE-0BB8DEED3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4769BB-B27E-411A-B035-DDD42215D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418680"/>
            <a:ext cx="693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C8A0E0-6F4B-4080-A8A1-7F01C4796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95360" y="158112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53720" y="1581120"/>
            <a:ext cx="3960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95360" y="373068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975481-3B23-49E9-9020-A6384D24A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95360" y="1581120"/>
            <a:ext cx="3960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53720" y="158112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53720" y="373068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FB329B-F576-4DAA-93FA-92151A925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95360" y="158112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53720" y="158112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95360" y="3730680"/>
            <a:ext cx="811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11D5C6-7D94-46B5-9423-0753DB6B7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FB284-7C48-49F2-BB8C-BA5E997F9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95360" y="1581120"/>
            <a:ext cx="811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95360" y="3730680"/>
            <a:ext cx="811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7F4438-96DC-4FAC-8F6D-147A75ECF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95360" y="158112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53720" y="158112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95360" y="373068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53720" y="373068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D5995C-D44B-4B49-B094-009C78216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95360" y="1581120"/>
            <a:ext cx="2612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280" y="1581120"/>
            <a:ext cx="2612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983200" y="1581120"/>
            <a:ext cx="2612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95360" y="3730680"/>
            <a:ext cx="2612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280" y="3730680"/>
            <a:ext cx="2612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983200" y="3730680"/>
            <a:ext cx="2612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6AD096-DCF7-48FF-815B-5476869AF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BB7428-23A0-42FA-A9B9-CF7A636AF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95360" y="1581120"/>
            <a:ext cx="8115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516033-259A-4E87-9A4A-791E113E6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95360" y="1581120"/>
            <a:ext cx="8115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0041BE-1442-4B6C-81AD-55F394495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95360" y="1581120"/>
            <a:ext cx="3960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53720" y="1581120"/>
            <a:ext cx="3960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2BB311-BFA5-45FA-B3C8-60EC8AFBD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23FAED-6557-4967-8D52-D1BEE2CFC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418680"/>
            <a:ext cx="693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A4D5B0-F5B3-480D-B9F5-472A8AAFA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95360" y="158112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53720" y="1581120"/>
            <a:ext cx="3960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95360" y="373068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88B045-7789-4F96-8671-D166A1EE4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95360" y="1581120"/>
            <a:ext cx="8115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78657-D257-4FB4-B05C-6669A17DD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95360" y="1581120"/>
            <a:ext cx="3960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53720" y="158112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53720" y="373068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8EEBFD-5611-42F4-9F7B-2B59A8AC5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95360" y="158112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53720" y="158112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95360" y="3730680"/>
            <a:ext cx="811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617D00-7FED-40E4-B431-95B964C05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95360" y="1581120"/>
            <a:ext cx="811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95360" y="3730680"/>
            <a:ext cx="811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C6450A-8531-4133-A7CB-85317F8B5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95360" y="158112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53720" y="158112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95360" y="373068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53720" y="373068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F2584F-41AA-46B9-9418-46D1F83D9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95360" y="1581120"/>
            <a:ext cx="2612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280" y="1581120"/>
            <a:ext cx="2612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983200" y="1581120"/>
            <a:ext cx="2612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95360" y="3730680"/>
            <a:ext cx="2612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280" y="3730680"/>
            <a:ext cx="2612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5983200" y="3730680"/>
            <a:ext cx="2612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076A10-86B8-42C8-8706-8D6AC6D52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D0A0780-4EAA-4F6C-82BB-C9C759390EF2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95360" y="1581120"/>
            <a:ext cx="8115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964D303-2A02-4638-9DD7-834F2F74EC49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95360" y="1581120"/>
            <a:ext cx="8115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D9B0C34-7780-4446-B4D5-D0B0052A7E4C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95360" y="1581120"/>
            <a:ext cx="3960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53720" y="1581120"/>
            <a:ext cx="3960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797080D-C6E4-4CE5-BB7F-69EC85A902B7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5EC76F6-4957-4A82-BD46-C2AC7900985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360" y="1581120"/>
            <a:ext cx="8115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D3506-0F41-41DF-BD85-3F0387FC6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418680"/>
            <a:ext cx="693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0F837AB-A0D1-4827-9D3D-3A8B752B0CC9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95360" y="158112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53720" y="1581120"/>
            <a:ext cx="3960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95360" y="373068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B171444-C8C4-46BA-B20E-9EF9C4F9D0A0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95360" y="1581120"/>
            <a:ext cx="3960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53720" y="158112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53720" y="373068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B450828-B220-45E3-9463-08784F0CD2E5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95360" y="158112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53720" y="158112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95360" y="3730680"/>
            <a:ext cx="811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C7D89B5-1204-44E1-8ECB-E18C6EA55B2B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95360" y="1581120"/>
            <a:ext cx="811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95360" y="3730680"/>
            <a:ext cx="811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D8BC44A-F7DD-4CF6-973E-9C351ABA00DF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95360" y="158112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53720" y="158112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95360" y="373068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53720" y="373068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7C30A48-25D0-4E03-84F7-E5914EAF5A92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95360" y="1581120"/>
            <a:ext cx="2612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280" y="1581120"/>
            <a:ext cx="2612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5983200" y="1581120"/>
            <a:ext cx="2612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95360" y="3730680"/>
            <a:ext cx="2612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280" y="3730680"/>
            <a:ext cx="2612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5983200" y="3730680"/>
            <a:ext cx="2612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F8936E6-10A6-440C-9241-4AE8D304866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360" y="1581120"/>
            <a:ext cx="3960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3720" y="1581120"/>
            <a:ext cx="3960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EFC5A-ED4E-4F28-8EA1-F8DB5DF70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9739F-CCBC-4D3B-B8C0-8374E89E6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418680"/>
            <a:ext cx="693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091A1-E0EC-417A-83D1-189D31BD8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158112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3720" y="1581120"/>
            <a:ext cx="3960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5360" y="373068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42677-6159-42A9-B651-BD7C8E36E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5360" y="1581120"/>
            <a:ext cx="8115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4262-F665-4A34-92E6-CA21DB486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360" y="1581120"/>
            <a:ext cx="3960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3720" y="158112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53720" y="373068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6F1C8-0227-4000-A99A-04B06117D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360" y="158112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3720" y="158112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360" y="3730680"/>
            <a:ext cx="811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D7306-2314-4D0A-B0B1-810183AF6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360" y="1581120"/>
            <a:ext cx="811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5360" y="3730680"/>
            <a:ext cx="811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FE3FC-4043-4A2B-A753-460FD2646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158112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3720" y="158112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360" y="373068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53720" y="373068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EDA28-7E45-4B90-A861-5A8D2FA65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360" y="1581120"/>
            <a:ext cx="2612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280" y="1581120"/>
            <a:ext cx="2612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3200" y="1581120"/>
            <a:ext cx="2612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5360" y="3730680"/>
            <a:ext cx="2612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280" y="3730680"/>
            <a:ext cx="2612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3200" y="3730680"/>
            <a:ext cx="2612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3F773-E94E-46F5-8D1E-3692ADD9E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A75BF-C5DD-4147-9F63-6A0375D6D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95360" y="1581120"/>
            <a:ext cx="8115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3896F-50E2-4ECC-9928-BF6E60555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95360" y="1581120"/>
            <a:ext cx="8115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F0AAC-5B1D-4D32-9817-B8E4760C1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360" y="1581120"/>
            <a:ext cx="3960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3720" y="1581120"/>
            <a:ext cx="3960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37975-2462-44C3-807B-6F6AD29C9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0CE5C-DAB4-4BAA-8E72-8E4DC82F5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360" y="1581120"/>
            <a:ext cx="8115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0A2B-49A9-4EAB-992A-92AD24B03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418680"/>
            <a:ext cx="693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1A2D8-259B-4EFB-BA90-D8F2101CA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5360" y="158112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3720" y="1581120"/>
            <a:ext cx="3960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95360" y="373068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207CA-5325-4EF2-9595-4B8450CD7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5360" y="1581120"/>
            <a:ext cx="3960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3720" y="158112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53720" y="373068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4BBBE-6C98-41DA-B138-14A5623FB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95360" y="158112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53720" y="158112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95360" y="3730680"/>
            <a:ext cx="811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92181-A7FD-4D98-8BF8-A97768DD4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95360" y="1581120"/>
            <a:ext cx="811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5360" y="3730680"/>
            <a:ext cx="811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5FF36-2394-443E-BEE9-F7D5EFE93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360" y="158112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53720" y="158112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95360" y="373068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53720" y="373068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EFB18-8938-493D-87DC-565C938FB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95360" y="1581120"/>
            <a:ext cx="2612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280" y="1581120"/>
            <a:ext cx="2612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83200" y="1581120"/>
            <a:ext cx="2612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95360" y="3730680"/>
            <a:ext cx="2612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280" y="3730680"/>
            <a:ext cx="2612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83200" y="3730680"/>
            <a:ext cx="2612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B9DA2-062A-44B5-8AA3-EBE71A0EA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FAF92-528A-4EE7-A596-DE1402C3C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95360" y="1581120"/>
            <a:ext cx="8115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89E5C-F11D-49CA-953B-9BAA6BF95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95360" y="1581120"/>
            <a:ext cx="8115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6D9824-975C-4269-B7D3-CB3D19B11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1581120"/>
            <a:ext cx="3960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3720" y="1581120"/>
            <a:ext cx="3960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4AE6-A583-4FF0-A584-BFB3E1CA6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95360" y="1581120"/>
            <a:ext cx="3960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53720" y="1581120"/>
            <a:ext cx="3960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581CF0-022C-495C-8DF6-E4C96C431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B28A1-5269-45C1-A2DC-883C795B4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418680"/>
            <a:ext cx="693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0748D-8D06-4B04-B434-EDDCE742E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95360" y="158112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53720" y="1581120"/>
            <a:ext cx="3960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95360" y="373068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1992E-CF57-4BCC-9822-71F35EE83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95360" y="1581120"/>
            <a:ext cx="3960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53720" y="158112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53720" y="373068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8D4FC-C551-495D-8B2C-1DAAEF47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95360" y="158112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53720" y="158112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95360" y="3730680"/>
            <a:ext cx="811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FDA1A-915A-4338-A6B4-0339F40A9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95360" y="1581120"/>
            <a:ext cx="811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5360" y="3730680"/>
            <a:ext cx="811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739FF-3FD8-4A99-ABB0-32FA377C3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95360" y="158112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53720" y="158112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95360" y="373068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53720" y="373068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81D493-E132-4898-B4CE-F16A5A11F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95360" y="1581120"/>
            <a:ext cx="2612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280" y="1581120"/>
            <a:ext cx="2612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83200" y="1581120"/>
            <a:ext cx="2612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95360" y="3730680"/>
            <a:ext cx="2612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280" y="3730680"/>
            <a:ext cx="2612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83200" y="3730680"/>
            <a:ext cx="2612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00042-34AB-49C6-8B88-324104E27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F7C34C-608C-4E51-97B5-E83E13D45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4A18-6910-4858-AF61-AC039E87D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95360" y="1581120"/>
            <a:ext cx="8115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BCB83B-EE3C-4A13-A164-F4A248462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95360" y="1581120"/>
            <a:ext cx="8115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1E9688-4366-46E9-BC72-9FA76CC2F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95360" y="1581120"/>
            <a:ext cx="3960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53720" y="1581120"/>
            <a:ext cx="3960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9275DC-28C1-4B2E-B5EE-AB1359CB2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964520-7B1D-4682-924F-63BDC559C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418680"/>
            <a:ext cx="693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80845C-3770-4A11-954A-076AAC541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95360" y="158112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53720" y="1581120"/>
            <a:ext cx="3960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95360" y="373068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E23FCC-5215-45D7-B7D4-E8FECD845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95360" y="1581120"/>
            <a:ext cx="3960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53720" y="158112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53720" y="373068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DD27C4-A1D6-4874-8734-9261D3648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95360" y="158112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53720" y="158112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95360" y="3730680"/>
            <a:ext cx="811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B677B8-B275-4861-BB5A-34A9C1D11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95360" y="1581120"/>
            <a:ext cx="811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95360" y="3730680"/>
            <a:ext cx="811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17C829-072F-4B25-9B7A-AC56A5226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95360" y="158112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53720" y="158112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95360" y="373068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53720" y="373068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6DDF5F-B472-4F97-9A91-0817D7FA9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418680"/>
            <a:ext cx="693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EA8A-9EF5-4934-ABCD-55EEBE9B3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95360" y="1581120"/>
            <a:ext cx="2612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280" y="1581120"/>
            <a:ext cx="2612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83200" y="1581120"/>
            <a:ext cx="2612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95360" y="3730680"/>
            <a:ext cx="2612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280" y="3730680"/>
            <a:ext cx="2612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83200" y="3730680"/>
            <a:ext cx="2612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E03D0-DAD8-4BF8-B942-FA1C2C62E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6EC1B3-CE9F-4B8D-8518-402E6DEDE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95360" y="1581120"/>
            <a:ext cx="8115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9F8DF7-E2B1-4B0C-B2EA-7053B220C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95360" y="1581120"/>
            <a:ext cx="8115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77B646-42AA-402B-8384-3B1F565B8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95360" y="1581120"/>
            <a:ext cx="3960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53720" y="1581120"/>
            <a:ext cx="3960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1DF88F-10F9-43A8-9B5B-2F856488E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DD3F3C-8A57-4698-9532-F52BA76D0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418680"/>
            <a:ext cx="693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91EC5C-6113-4930-96F3-E61CA9A2C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95360" y="158112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53720" y="1581120"/>
            <a:ext cx="3960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95360" y="373068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D28B0F-512F-4825-977E-E2115DEB9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95360" y="1581120"/>
            <a:ext cx="3960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53720" y="158112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53720" y="373068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AB5F86-5D65-4511-B36C-32F65A979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95360" y="158112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53720" y="158112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95360" y="3730680"/>
            <a:ext cx="811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430724-B057-4A9A-AF1C-D41FC9232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360" y="158112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3720" y="1581120"/>
            <a:ext cx="3960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5360" y="373068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7C88-6BAD-4BB2-984C-DDF3B6824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95360" y="1581120"/>
            <a:ext cx="811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95360" y="3730680"/>
            <a:ext cx="811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4F6716-3237-4D49-B3C4-51C9526DC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95360" y="158112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53720" y="158112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95360" y="373068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53720" y="373068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11BD43-2301-4F08-A57D-BB5A8C6DE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95360" y="1581120"/>
            <a:ext cx="2612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280" y="1581120"/>
            <a:ext cx="2612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83200" y="1581120"/>
            <a:ext cx="2612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95360" y="3730680"/>
            <a:ext cx="2612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280" y="3730680"/>
            <a:ext cx="2612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83200" y="3730680"/>
            <a:ext cx="2612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694790-A9EE-4E9E-AFE2-A81DA67BD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9E3B2D-1571-4786-915A-E34D72805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95360" y="1581120"/>
            <a:ext cx="8115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CDCC7B-40B6-4A4C-8DEF-68B48C228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95360" y="1581120"/>
            <a:ext cx="8115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64883F-DC7F-42E2-8CC9-7B820A0F0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95360" y="1581120"/>
            <a:ext cx="3960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53720" y="1581120"/>
            <a:ext cx="3960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EDA1F7-3940-49A3-B2AC-192653180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7D73C8-3A3B-45D6-A48A-0E2A91E12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418680"/>
            <a:ext cx="693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9DD4C1-36DF-4318-8742-399AA8990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95360" y="158112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53720" y="1581120"/>
            <a:ext cx="3960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95360" y="373068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0F5BD3-0DCE-472D-A51F-C4001E72C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581120"/>
            <a:ext cx="3960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3720" y="158112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3720" y="373068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1240-695F-4719-B20D-857309C4F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95360" y="1581120"/>
            <a:ext cx="3960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53720" y="158112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53720" y="373068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6DF1F8-45B9-4EE9-A2EF-45C0C120F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95360" y="158112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53720" y="158112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95360" y="3730680"/>
            <a:ext cx="811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AAEB23-577C-4D1B-A236-008927DDB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95360" y="1581120"/>
            <a:ext cx="811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95360" y="3730680"/>
            <a:ext cx="811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33B0F5-6342-42B8-96A9-87E0541DD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95360" y="158112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53720" y="158112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95360" y="373068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53720" y="373068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A62338-F0EE-441E-A933-EBE78AF24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95360" y="1581120"/>
            <a:ext cx="2612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280" y="1581120"/>
            <a:ext cx="2612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83200" y="1581120"/>
            <a:ext cx="2612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95360" y="3730680"/>
            <a:ext cx="2612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280" y="3730680"/>
            <a:ext cx="2612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83200" y="3730680"/>
            <a:ext cx="2612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7B374E-9456-4224-951F-8400C4BF3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E1D694-7BFF-4CB3-970C-F62656D87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95360" y="1581120"/>
            <a:ext cx="8115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295B4E-C46F-4C92-AC3C-EF0A79814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95360" y="1581120"/>
            <a:ext cx="8115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0297CC-8829-41B5-B869-C5D773BC5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95360" y="1581120"/>
            <a:ext cx="3960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53720" y="1581120"/>
            <a:ext cx="3960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9C9266-6328-4C53-A413-B53145020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84C816-6235-4A4F-93F9-0917628B6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58112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3720" y="158112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360" y="3730680"/>
            <a:ext cx="811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7C21-8CB5-4EFB-BCE9-5710A5945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418680"/>
            <a:ext cx="693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F519AE-B1A8-4B73-8A6F-CF66029E2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95360" y="158112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53720" y="1581120"/>
            <a:ext cx="3960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95360" y="373068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8F4A05-1483-4884-84BF-72CBD63EE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95360" y="1581120"/>
            <a:ext cx="3960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53720" y="158112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53720" y="373068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003D60-4896-45C3-8D7A-ED6D8E040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95360" y="158112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53720" y="158112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95360" y="3730680"/>
            <a:ext cx="811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5BEE80-0705-464F-AE44-ABC4ACC91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95360" y="1581120"/>
            <a:ext cx="811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95360" y="3730680"/>
            <a:ext cx="811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00E26A-2E0A-4530-B428-5A272344E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95360" y="158112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53720" y="158112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95360" y="373068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53720" y="373068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AE58B8-5C09-493D-83C8-15F8CAF7B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95360" y="1581120"/>
            <a:ext cx="2612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280" y="1581120"/>
            <a:ext cx="2612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83200" y="1581120"/>
            <a:ext cx="2612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95360" y="3730680"/>
            <a:ext cx="2612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280" y="3730680"/>
            <a:ext cx="2612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83200" y="3730680"/>
            <a:ext cx="2612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01C168-FF69-4CA8-AACF-F24E43B08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9C6245-3B4C-43C3-9CFA-1EE669D61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95360" y="1581120"/>
            <a:ext cx="8115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5A7945-B037-4B7F-979D-8FF50F915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95360" y="1581120"/>
            <a:ext cx="8115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E416BE-A4E2-42CC-AE2A-A4D063A8B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1581120"/>
            <a:ext cx="8115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850"/>
              </a:spcBef>
              <a:buClr>
                <a:srgbClr val="5f5f5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8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850"/>
              </a:spcBef>
              <a:buClr>
                <a:srgbClr val="5f5f5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85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19120" y="6582960"/>
            <a:ext cx="2895480" cy="27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5f5f5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Comic Sans MS"/>
              </a:rPr>
              <a:t>MEM 650 Quality 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E1F39-18CF-4650-9A38-E20E5968AB56}" type="slidenum">
              <a:rPr b="0" lang="en-US" sz="1400" spc="-1" strike="noStrike">
                <a:solidFill>
                  <a:srgbClr val="5f5f5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324000" y="304920"/>
            <a:ext cx="8553240" cy="6229080"/>
          </a:xfrm>
          <a:prstGeom prst="rect">
            <a:avLst/>
          </a:prstGeom>
          <a:noFill/>
          <a:ln cap="sq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8"/>
          <p:cNvSpPr/>
          <p:nvPr/>
        </p:nvSpPr>
        <p:spPr>
          <a:xfrm>
            <a:off x="324000" y="304920"/>
            <a:ext cx="8553240" cy="6229080"/>
          </a:xfrm>
          <a:prstGeom prst="rect">
            <a:avLst/>
          </a:prstGeom>
          <a:noFill/>
          <a:ln cap="sq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95360" y="1581120"/>
            <a:ext cx="8115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850"/>
              </a:spcBef>
              <a:buClr>
                <a:srgbClr val="5f5f5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8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850"/>
              </a:spcBef>
              <a:buClr>
                <a:srgbClr val="5f5f5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85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3219120" y="6582960"/>
            <a:ext cx="2895480" cy="27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5f5f5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Comic Sans MS"/>
              </a:rPr>
              <a:t>MEM 650 Quality 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EE489-527B-4FB6-803D-A1C31791E2C7}" type="slidenum">
              <a:rPr b="0" lang="en-US" sz="1400" spc="-1" strike="noStrike">
                <a:solidFill>
                  <a:srgbClr val="5f5f5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8"/>
          <p:cNvSpPr/>
          <p:nvPr/>
        </p:nvSpPr>
        <p:spPr>
          <a:xfrm>
            <a:off x="324000" y="304920"/>
            <a:ext cx="8553240" cy="6229080"/>
          </a:xfrm>
          <a:prstGeom prst="rect">
            <a:avLst/>
          </a:prstGeom>
          <a:noFill/>
          <a:ln cap="sq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95360" y="1581120"/>
            <a:ext cx="8115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850"/>
              </a:spcBef>
              <a:buClr>
                <a:srgbClr val="5f5f5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8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850"/>
              </a:spcBef>
              <a:buClr>
                <a:srgbClr val="5f5f5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85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3219120" y="6582960"/>
            <a:ext cx="2895480" cy="27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5f5f5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Comic Sans MS"/>
              </a:rPr>
              <a:t>MEM 650 Quality 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F8077-9030-4F47-8B6E-EF81A3BEBB52}" type="slidenum">
              <a:rPr b="0" lang="en-US" sz="1400" spc="-1" strike="noStrike">
                <a:solidFill>
                  <a:srgbClr val="5f5f5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8"/>
          <p:cNvSpPr/>
          <p:nvPr/>
        </p:nvSpPr>
        <p:spPr>
          <a:xfrm>
            <a:off x="324000" y="304920"/>
            <a:ext cx="8553240" cy="6229080"/>
          </a:xfrm>
          <a:prstGeom prst="rect">
            <a:avLst/>
          </a:prstGeom>
          <a:noFill/>
          <a:ln cap="sq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95360" y="1581120"/>
            <a:ext cx="8115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850"/>
              </a:spcBef>
              <a:buClr>
                <a:srgbClr val="5f5f5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8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850"/>
              </a:spcBef>
              <a:buClr>
                <a:srgbClr val="5f5f5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85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3219120" y="6582960"/>
            <a:ext cx="2895480" cy="27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5f5f5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Comic Sans MS"/>
              </a:rPr>
              <a:t>MEM 650 Quality 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B3014-4729-41D2-B1E4-D0B2EDEA94DF}" type="slidenum">
              <a:rPr b="0" lang="en-US" sz="1400" spc="-1" strike="noStrike">
                <a:solidFill>
                  <a:srgbClr val="5f5f5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8"/>
          <p:cNvSpPr/>
          <p:nvPr/>
        </p:nvSpPr>
        <p:spPr>
          <a:xfrm>
            <a:off x="324000" y="304920"/>
            <a:ext cx="8553240" cy="6229080"/>
          </a:xfrm>
          <a:prstGeom prst="rect">
            <a:avLst/>
          </a:prstGeom>
          <a:noFill/>
          <a:ln cap="sq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495360" y="1581120"/>
            <a:ext cx="8115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850"/>
              </a:spcBef>
              <a:buClr>
                <a:srgbClr val="5f5f5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8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850"/>
              </a:spcBef>
              <a:buClr>
                <a:srgbClr val="5f5f5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85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ftr" idx="37"/>
          </p:nvPr>
        </p:nvSpPr>
        <p:spPr>
          <a:xfrm>
            <a:off x="3219120" y="6582960"/>
            <a:ext cx="2895480" cy="27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5f5f5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Comic Sans MS"/>
              </a:rPr>
              <a:t>Copyright 2006 John Wiley &amp; Sons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sldNum" idx="38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Times New Roman"/>
              </a:rPr>
              <a:t>3-</a:t>
            </a:r>
            <a:fld id="{EA29193C-B481-4017-A7C0-195C6FDD3AF3}" type="slidenum">
              <a:rPr b="0" lang="en-US" sz="1400" spc="-1" strike="noStrike">
                <a:solidFill>
                  <a:srgbClr val="5f5f5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2260440"/>
            <a:ext cx="9147240" cy="0"/>
          </a:xfrm>
          <a:prstGeom prst="line">
            <a:avLst/>
          </a:prstGeom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95360" y="1581120"/>
            <a:ext cx="8115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850"/>
              </a:spcBef>
              <a:buClr>
                <a:srgbClr val="5f5f5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8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850"/>
              </a:spcBef>
              <a:buClr>
                <a:srgbClr val="5f5f5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85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Times New Roman"/>
              </a:rPr>
              <a:t>MEM 650 Quality 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D9CB1-DA48-41CE-911F-CD92569B2BF0}" type="slidenum">
              <a:rPr b="0" lang="en-US" sz="1400" spc="-1" strike="noStrike">
                <a:solidFill>
                  <a:srgbClr val="5f5f5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8"/>
          <p:cNvSpPr/>
          <p:nvPr/>
        </p:nvSpPr>
        <p:spPr>
          <a:xfrm>
            <a:off x="324000" y="304920"/>
            <a:ext cx="8553240" cy="6229080"/>
          </a:xfrm>
          <a:prstGeom prst="rect">
            <a:avLst/>
          </a:prstGeom>
          <a:noFill/>
          <a:ln cap="sq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95360" y="1581120"/>
            <a:ext cx="8115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850"/>
              </a:spcBef>
              <a:buClr>
                <a:srgbClr val="5f5f5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8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850"/>
              </a:spcBef>
              <a:buClr>
                <a:srgbClr val="5f5f5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85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219120" y="6582960"/>
            <a:ext cx="2895480" cy="27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5f5f5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Comic Sans MS"/>
              </a:rPr>
              <a:t>MEM 650 Quality 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91274-1A8B-46E8-BA90-5129050D300A}" type="slidenum">
              <a:rPr b="0" lang="en-US" sz="1400" spc="-1" strike="noStrike">
                <a:solidFill>
                  <a:srgbClr val="5f5f5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8"/>
          <p:cNvSpPr/>
          <p:nvPr/>
        </p:nvSpPr>
        <p:spPr>
          <a:xfrm>
            <a:off x="324000" y="304920"/>
            <a:ext cx="8553240" cy="6229080"/>
          </a:xfrm>
          <a:prstGeom prst="rect">
            <a:avLst/>
          </a:prstGeom>
          <a:noFill/>
          <a:ln cap="sq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95360" y="1581120"/>
            <a:ext cx="8115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850"/>
              </a:spcBef>
              <a:buClr>
                <a:srgbClr val="5f5f5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8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850"/>
              </a:spcBef>
              <a:buClr>
                <a:srgbClr val="5f5f5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85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219120" y="6582960"/>
            <a:ext cx="2895480" cy="27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5f5f5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Comic Sans MS"/>
              </a:rPr>
              <a:t>MEM 650 Quality 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54A54-A5A3-4AFB-BA32-167AA3418752}" type="slidenum">
              <a:rPr b="0" lang="en-US" sz="1400" spc="-1" strike="noStrike">
                <a:solidFill>
                  <a:srgbClr val="5f5f5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8"/>
          <p:cNvSpPr/>
          <p:nvPr/>
        </p:nvSpPr>
        <p:spPr>
          <a:xfrm>
            <a:off x="324000" y="304920"/>
            <a:ext cx="8553240" cy="6229080"/>
          </a:xfrm>
          <a:prstGeom prst="rect">
            <a:avLst/>
          </a:prstGeom>
          <a:noFill/>
          <a:ln cap="sq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95360" y="1581120"/>
            <a:ext cx="8115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850"/>
              </a:spcBef>
              <a:buClr>
                <a:srgbClr val="5f5f5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8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850"/>
              </a:spcBef>
              <a:buClr>
                <a:srgbClr val="5f5f5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85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219120" y="6582960"/>
            <a:ext cx="2895480" cy="27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5f5f5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Comic Sans MS"/>
              </a:rPr>
              <a:t>MEM 650 Quality 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33FBE-81ED-4862-831C-F0A2A43768C3}" type="slidenum">
              <a:rPr b="0" lang="en-US" sz="1400" spc="-1" strike="noStrike">
                <a:solidFill>
                  <a:srgbClr val="5f5f5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8"/>
          <p:cNvSpPr/>
          <p:nvPr/>
        </p:nvSpPr>
        <p:spPr>
          <a:xfrm>
            <a:off x="324000" y="304920"/>
            <a:ext cx="8553240" cy="6229080"/>
          </a:xfrm>
          <a:prstGeom prst="rect">
            <a:avLst/>
          </a:prstGeom>
          <a:noFill/>
          <a:ln cap="sq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95360" y="1581120"/>
            <a:ext cx="8115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850"/>
              </a:spcBef>
              <a:buClr>
                <a:srgbClr val="5f5f5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8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850"/>
              </a:spcBef>
              <a:buClr>
                <a:srgbClr val="5f5f5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85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219120" y="6582960"/>
            <a:ext cx="2895480" cy="27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5f5f5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Comic Sans MS"/>
              </a:rPr>
              <a:t>MEM 650 Quality 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0F85D-7262-40A0-9FD4-1DFF7F04A497}" type="slidenum">
              <a:rPr b="0" lang="en-US" sz="1400" spc="-1" strike="noStrike">
                <a:solidFill>
                  <a:srgbClr val="5f5f5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8"/>
          <p:cNvSpPr/>
          <p:nvPr/>
        </p:nvSpPr>
        <p:spPr>
          <a:xfrm>
            <a:off x="324000" y="304920"/>
            <a:ext cx="8553240" cy="6229080"/>
          </a:xfrm>
          <a:prstGeom prst="rect">
            <a:avLst/>
          </a:prstGeom>
          <a:noFill/>
          <a:ln cap="sq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95360" y="1581120"/>
            <a:ext cx="8115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850"/>
              </a:spcBef>
              <a:buClr>
                <a:srgbClr val="5f5f5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8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850"/>
              </a:spcBef>
              <a:buClr>
                <a:srgbClr val="5f5f5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85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3219120" y="6582960"/>
            <a:ext cx="2895480" cy="27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5f5f5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Comic Sans MS"/>
              </a:rPr>
              <a:t>MEM 650 Quality 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19CD3-AD0E-4B53-B52C-F33C6DDB331E}" type="slidenum">
              <a:rPr b="0" lang="en-US" sz="1400" spc="-1" strike="noStrike">
                <a:solidFill>
                  <a:srgbClr val="5f5f5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8"/>
          <p:cNvSpPr/>
          <p:nvPr/>
        </p:nvSpPr>
        <p:spPr>
          <a:xfrm>
            <a:off x="324000" y="304920"/>
            <a:ext cx="8553240" cy="6229080"/>
          </a:xfrm>
          <a:prstGeom prst="rect">
            <a:avLst/>
          </a:prstGeom>
          <a:noFill/>
          <a:ln cap="sq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95360" y="1581120"/>
            <a:ext cx="8115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850"/>
              </a:spcBef>
              <a:buClr>
                <a:srgbClr val="5f5f5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8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850"/>
              </a:spcBef>
              <a:buClr>
                <a:srgbClr val="5f5f5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85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219120" y="6582960"/>
            <a:ext cx="2895480" cy="27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5f5f5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Comic Sans MS"/>
              </a:rPr>
              <a:t>MEM 650 Quality 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7F8AB-3B54-4618-8D08-DA1B4BBEDC8E}" type="slidenum">
              <a:rPr b="0" lang="en-US" sz="1400" spc="-1" strike="noStrike">
                <a:solidFill>
                  <a:srgbClr val="5f5f5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8"/>
          <p:cNvSpPr/>
          <p:nvPr/>
        </p:nvSpPr>
        <p:spPr>
          <a:xfrm>
            <a:off x="324000" y="304920"/>
            <a:ext cx="8553240" cy="6229080"/>
          </a:xfrm>
          <a:prstGeom prst="rect">
            <a:avLst/>
          </a:prstGeom>
          <a:noFill/>
          <a:ln cap="sq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95360" y="1581120"/>
            <a:ext cx="8115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850"/>
              </a:spcBef>
              <a:buClr>
                <a:srgbClr val="5f5f5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8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850"/>
              </a:spcBef>
              <a:buClr>
                <a:srgbClr val="5f5f5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85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3219120" y="6582960"/>
            <a:ext cx="2895480" cy="27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5f5f5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Comic Sans MS"/>
              </a:rPr>
              <a:t>MEM 650 Quality 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069B4-4EB1-46F5-B8D3-D022543A3609}" type="slidenum">
              <a:rPr b="0" lang="en-US" sz="1400" spc="-1" strike="noStrike">
                <a:solidFill>
                  <a:srgbClr val="5f5f5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s://en.wikipedia.org/wiki/Poka_yoke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5.xml"/><Relationship Id="rId8" Type="http://schemas.openxmlformats.org/officeDocument/2006/relationships/slide" Target="slide6.xml"/><Relationship Id="rId9" Type="http://schemas.openxmlformats.org/officeDocument/2006/relationships/slide" Target="slide7.xml"/><Relationship Id="rId10" Type="http://schemas.openxmlformats.org/officeDocument/2006/relationships/slide" Target="slide4.xml"/><Relationship Id="rId11" Type="http://schemas.openxmlformats.org/officeDocument/2006/relationships/slide" Target="slide3.xml"/><Relationship Id="rId1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4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49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49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49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4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49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49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49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49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49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49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49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49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49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49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49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49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49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49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49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49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49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49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49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49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49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8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A239F-B930-4A4F-A6AC-3696803356D2}" type="slidenum">
              <a:rPr b="0" lang="en-US" sz="14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744640" y="1297080"/>
            <a:ext cx="4160880" cy="87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pter 5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4" name="Rectangle 6"/>
          <p:cNvSpPr/>
          <p:nvPr/>
        </p:nvSpPr>
        <p:spPr>
          <a:xfrm>
            <a:off x="2624040" y="2546280"/>
            <a:ext cx="639936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lity Control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Slide Number Placeholder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0D0A3-61DB-4401-ABAF-F8C6E9C6AF33}" type="slidenum">
              <a:rPr b="0" lang="en-US" sz="14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Quality control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5" name="Text Box 18"/>
          <p:cNvSpPr/>
          <p:nvPr/>
        </p:nvSpPr>
        <p:spPr>
          <a:xfrm>
            <a:off x="471600" y="1562040"/>
            <a:ext cx="81262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term quality control can be defined as the </a:t>
            </a: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metho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used to </a:t>
            </a: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control of various factor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at </a:t>
            </a: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affect the qualit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 mainly depends on working conditions, type of labour, measuring instruments, material, tools, machines and skill required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Slide Number Placeholder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D1CB9-5CB4-4F8F-A0C1-730A1790217C}" type="slidenum">
              <a:rPr b="0" lang="en-US" sz="14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69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Quality control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8" name="AutoShape 6"/>
          <p:cNvSpPr/>
          <p:nvPr/>
        </p:nvSpPr>
        <p:spPr>
          <a:xfrm>
            <a:off x="262080" y="-3650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AutoShape 8"/>
          <p:cNvSpPr/>
          <p:nvPr/>
        </p:nvSpPr>
        <p:spPr>
          <a:xfrm>
            <a:off x="262080" y="-3650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AutoShape 10"/>
          <p:cNvSpPr/>
          <p:nvPr/>
        </p:nvSpPr>
        <p:spPr>
          <a:xfrm>
            <a:off x="262080" y="-3650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1" name="Group 3"/>
          <p:cNvGrpSpPr/>
          <p:nvPr/>
        </p:nvGrpSpPr>
        <p:grpSpPr>
          <a:xfrm>
            <a:off x="1362240" y="531720"/>
            <a:ext cx="6419520" cy="6307200"/>
            <a:chOff x="1362240" y="531720"/>
            <a:chExt cx="6419520" cy="6307200"/>
          </a:xfrm>
        </p:grpSpPr>
        <p:grpSp>
          <p:nvGrpSpPr>
            <p:cNvPr id="602" name="Group 4"/>
            <p:cNvGrpSpPr/>
            <p:nvPr/>
          </p:nvGrpSpPr>
          <p:grpSpPr>
            <a:xfrm>
              <a:off x="2025360" y="1261080"/>
              <a:ext cx="5076360" cy="4864320"/>
              <a:chOff x="2025360" y="1261080"/>
              <a:chExt cx="5076360" cy="4864320"/>
            </a:xfrm>
          </p:grpSpPr>
          <p:sp>
            <p:nvSpPr>
              <p:cNvPr id="603" name="Freeform 5"/>
              <p:cNvSpPr/>
              <p:nvPr/>
            </p:nvSpPr>
            <p:spPr>
              <a:xfrm>
                <a:off x="2037960" y="1261080"/>
                <a:ext cx="2535480" cy="2435040"/>
              </a:xfrm>
              <a:custGeom>
                <a:avLst/>
                <a:gdLst>
                  <a:gd name="textAreaLeft" fmla="*/ 0 w 2535480"/>
                  <a:gd name="textAreaRight" fmla="*/ 2535840 w 2535480"/>
                  <a:gd name="textAreaTop" fmla="*/ 0 h 2435040"/>
                  <a:gd name="textAreaBottom" fmla="*/ 2435040 h 2435040"/>
                </a:gdLst>
                <a:ahLst/>
                <a:rect l="textAreaLeft" t="textAreaTop" r="textAreaRight" b="textAreaBottom"/>
                <a:pathLst>
                  <a:path w="1410" h="1411">
                    <a:moveTo>
                      <a:pt x="1410" y="0"/>
                    </a:moveTo>
                    <a:lnTo>
                      <a:pt x="1410" y="1411"/>
                    </a:lnTo>
                    <a:lnTo>
                      <a:pt x="0" y="1411"/>
                    </a:lnTo>
                    <a:lnTo>
                      <a:pt x="0" y="1344"/>
                    </a:lnTo>
                    <a:lnTo>
                      <a:pt x="2" y="1283"/>
                    </a:lnTo>
                    <a:lnTo>
                      <a:pt x="10" y="1222"/>
                    </a:lnTo>
                    <a:lnTo>
                      <a:pt x="18" y="1174"/>
                    </a:lnTo>
                    <a:lnTo>
                      <a:pt x="26" y="1128"/>
                    </a:lnTo>
                    <a:lnTo>
                      <a:pt x="34" y="1088"/>
                    </a:lnTo>
                    <a:lnTo>
                      <a:pt x="48" y="1038"/>
                    </a:lnTo>
                    <a:lnTo>
                      <a:pt x="61" y="987"/>
                    </a:lnTo>
                    <a:lnTo>
                      <a:pt x="80" y="934"/>
                    </a:lnTo>
                    <a:lnTo>
                      <a:pt x="101" y="883"/>
                    </a:lnTo>
                    <a:lnTo>
                      <a:pt x="117" y="835"/>
                    </a:lnTo>
                    <a:lnTo>
                      <a:pt x="152" y="776"/>
                    </a:lnTo>
                    <a:lnTo>
                      <a:pt x="170" y="728"/>
                    </a:lnTo>
                    <a:lnTo>
                      <a:pt x="202" y="678"/>
                    </a:lnTo>
                    <a:lnTo>
                      <a:pt x="234" y="630"/>
                    </a:lnTo>
                    <a:lnTo>
                      <a:pt x="266" y="582"/>
                    </a:lnTo>
                    <a:lnTo>
                      <a:pt x="304" y="534"/>
                    </a:lnTo>
                    <a:lnTo>
                      <a:pt x="338" y="488"/>
                    </a:lnTo>
                    <a:lnTo>
                      <a:pt x="378" y="443"/>
                    </a:lnTo>
                    <a:lnTo>
                      <a:pt x="429" y="392"/>
                    </a:lnTo>
                    <a:lnTo>
                      <a:pt x="480" y="350"/>
                    </a:lnTo>
                    <a:lnTo>
                      <a:pt x="520" y="315"/>
                    </a:lnTo>
                    <a:lnTo>
                      <a:pt x="560" y="280"/>
                    </a:lnTo>
                    <a:lnTo>
                      <a:pt x="605" y="248"/>
                    </a:lnTo>
                    <a:lnTo>
                      <a:pt x="656" y="216"/>
                    </a:lnTo>
                    <a:lnTo>
                      <a:pt x="704" y="182"/>
                    </a:lnTo>
                    <a:lnTo>
                      <a:pt x="749" y="160"/>
                    </a:lnTo>
                    <a:lnTo>
                      <a:pt x="808" y="134"/>
                    </a:lnTo>
                    <a:lnTo>
                      <a:pt x="861" y="107"/>
                    </a:lnTo>
                    <a:lnTo>
                      <a:pt x="914" y="88"/>
                    </a:lnTo>
                    <a:lnTo>
                      <a:pt x="973" y="70"/>
                    </a:lnTo>
                    <a:lnTo>
                      <a:pt x="1032" y="51"/>
                    </a:lnTo>
                    <a:lnTo>
                      <a:pt x="1098" y="35"/>
                    </a:lnTo>
                    <a:lnTo>
                      <a:pt x="1173" y="19"/>
                    </a:lnTo>
                    <a:lnTo>
                      <a:pt x="1229" y="14"/>
                    </a:lnTo>
                    <a:lnTo>
                      <a:pt x="1288" y="6"/>
                    </a:lnTo>
                    <a:lnTo>
                      <a:pt x="1333" y="3"/>
                    </a:lnTo>
                    <a:lnTo>
                      <a:pt x="1357" y="0"/>
                    </a:lnTo>
                    <a:lnTo>
                      <a:pt x="1410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6"/>
              <p:cNvSpPr/>
              <p:nvPr/>
            </p:nvSpPr>
            <p:spPr>
              <a:xfrm rot="10800000">
                <a:off x="4544280" y="3681720"/>
                <a:ext cx="2535480" cy="2434680"/>
              </a:xfrm>
              <a:custGeom>
                <a:avLst/>
                <a:gdLst>
                  <a:gd name="textAreaLeft" fmla="*/ 0 w 2535480"/>
                  <a:gd name="textAreaRight" fmla="*/ 2535840 w 2535480"/>
                  <a:gd name="textAreaTop" fmla="*/ 0 h 2434680"/>
                  <a:gd name="textAreaBottom" fmla="*/ 2435040 h 2434680"/>
                </a:gdLst>
                <a:ahLst/>
                <a:rect l="textAreaLeft" t="textAreaTop" r="textAreaRight" b="textAreaBottom"/>
                <a:pathLst>
                  <a:path w="1410" h="1411">
                    <a:moveTo>
                      <a:pt x="1410" y="0"/>
                    </a:moveTo>
                    <a:lnTo>
                      <a:pt x="1410" y="1411"/>
                    </a:lnTo>
                    <a:lnTo>
                      <a:pt x="0" y="1411"/>
                    </a:lnTo>
                    <a:lnTo>
                      <a:pt x="0" y="1344"/>
                    </a:lnTo>
                    <a:lnTo>
                      <a:pt x="2" y="1283"/>
                    </a:lnTo>
                    <a:lnTo>
                      <a:pt x="10" y="1222"/>
                    </a:lnTo>
                    <a:lnTo>
                      <a:pt x="18" y="1174"/>
                    </a:lnTo>
                    <a:lnTo>
                      <a:pt x="26" y="1128"/>
                    </a:lnTo>
                    <a:lnTo>
                      <a:pt x="34" y="1088"/>
                    </a:lnTo>
                    <a:lnTo>
                      <a:pt x="48" y="1038"/>
                    </a:lnTo>
                    <a:lnTo>
                      <a:pt x="61" y="987"/>
                    </a:lnTo>
                    <a:lnTo>
                      <a:pt x="80" y="934"/>
                    </a:lnTo>
                    <a:lnTo>
                      <a:pt x="101" y="883"/>
                    </a:lnTo>
                    <a:lnTo>
                      <a:pt x="117" y="835"/>
                    </a:lnTo>
                    <a:lnTo>
                      <a:pt x="152" y="776"/>
                    </a:lnTo>
                    <a:lnTo>
                      <a:pt x="170" y="728"/>
                    </a:lnTo>
                    <a:lnTo>
                      <a:pt x="202" y="678"/>
                    </a:lnTo>
                    <a:lnTo>
                      <a:pt x="234" y="630"/>
                    </a:lnTo>
                    <a:lnTo>
                      <a:pt x="266" y="582"/>
                    </a:lnTo>
                    <a:lnTo>
                      <a:pt x="304" y="534"/>
                    </a:lnTo>
                    <a:lnTo>
                      <a:pt x="338" y="488"/>
                    </a:lnTo>
                    <a:lnTo>
                      <a:pt x="378" y="443"/>
                    </a:lnTo>
                    <a:lnTo>
                      <a:pt x="429" y="392"/>
                    </a:lnTo>
                    <a:lnTo>
                      <a:pt x="480" y="350"/>
                    </a:lnTo>
                    <a:lnTo>
                      <a:pt x="520" y="315"/>
                    </a:lnTo>
                    <a:lnTo>
                      <a:pt x="560" y="280"/>
                    </a:lnTo>
                    <a:lnTo>
                      <a:pt x="605" y="248"/>
                    </a:lnTo>
                    <a:lnTo>
                      <a:pt x="656" y="216"/>
                    </a:lnTo>
                    <a:lnTo>
                      <a:pt x="704" y="182"/>
                    </a:lnTo>
                    <a:lnTo>
                      <a:pt x="749" y="160"/>
                    </a:lnTo>
                    <a:lnTo>
                      <a:pt x="808" y="134"/>
                    </a:lnTo>
                    <a:lnTo>
                      <a:pt x="861" y="107"/>
                    </a:lnTo>
                    <a:lnTo>
                      <a:pt x="914" y="88"/>
                    </a:lnTo>
                    <a:lnTo>
                      <a:pt x="973" y="70"/>
                    </a:lnTo>
                    <a:lnTo>
                      <a:pt x="1032" y="51"/>
                    </a:lnTo>
                    <a:lnTo>
                      <a:pt x="1098" y="35"/>
                    </a:lnTo>
                    <a:lnTo>
                      <a:pt x="1173" y="19"/>
                    </a:lnTo>
                    <a:lnTo>
                      <a:pt x="1229" y="14"/>
                    </a:lnTo>
                    <a:lnTo>
                      <a:pt x="1288" y="6"/>
                    </a:lnTo>
                    <a:lnTo>
                      <a:pt x="1333" y="3"/>
                    </a:lnTo>
                    <a:lnTo>
                      <a:pt x="1357" y="0"/>
                    </a:lnTo>
                    <a:lnTo>
                      <a:pt x="1410" y="0"/>
                    </a:lnTo>
                    <a:close/>
                  </a:path>
                </a:pathLst>
              </a:custGeom>
              <a:solidFill>
                <a:srgbClr val="ff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7"/>
              <p:cNvSpPr/>
              <p:nvPr/>
            </p:nvSpPr>
            <p:spPr>
              <a:xfrm rot="5400000">
                <a:off x="4600440" y="1213920"/>
                <a:ext cx="2432880" cy="2537280"/>
              </a:xfrm>
              <a:custGeom>
                <a:avLst/>
                <a:gdLst>
                  <a:gd name="textAreaLeft" fmla="*/ 0 w 2432880"/>
                  <a:gd name="textAreaRight" fmla="*/ 2433240 w 2432880"/>
                  <a:gd name="textAreaTop" fmla="*/ 0 h 2537280"/>
                  <a:gd name="textAreaBottom" fmla="*/ 2537640 h 2537280"/>
                </a:gdLst>
                <a:ahLst/>
                <a:rect l="textAreaLeft" t="textAreaTop" r="textAreaRight" b="textAreaBottom"/>
                <a:pathLst>
                  <a:path w="1410" h="1411">
                    <a:moveTo>
                      <a:pt x="1410" y="0"/>
                    </a:moveTo>
                    <a:lnTo>
                      <a:pt x="1410" y="1411"/>
                    </a:lnTo>
                    <a:lnTo>
                      <a:pt x="0" y="1411"/>
                    </a:lnTo>
                    <a:lnTo>
                      <a:pt x="0" y="1344"/>
                    </a:lnTo>
                    <a:lnTo>
                      <a:pt x="2" y="1283"/>
                    </a:lnTo>
                    <a:lnTo>
                      <a:pt x="10" y="1222"/>
                    </a:lnTo>
                    <a:lnTo>
                      <a:pt x="18" y="1174"/>
                    </a:lnTo>
                    <a:lnTo>
                      <a:pt x="26" y="1128"/>
                    </a:lnTo>
                    <a:lnTo>
                      <a:pt x="34" y="1088"/>
                    </a:lnTo>
                    <a:lnTo>
                      <a:pt x="48" y="1038"/>
                    </a:lnTo>
                    <a:lnTo>
                      <a:pt x="61" y="987"/>
                    </a:lnTo>
                    <a:lnTo>
                      <a:pt x="80" y="934"/>
                    </a:lnTo>
                    <a:lnTo>
                      <a:pt x="101" y="883"/>
                    </a:lnTo>
                    <a:lnTo>
                      <a:pt x="117" y="835"/>
                    </a:lnTo>
                    <a:lnTo>
                      <a:pt x="152" y="776"/>
                    </a:lnTo>
                    <a:lnTo>
                      <a:pt x="170" y="728"/>
                    </a:lnTo>
                    <a:lnTo>
                      <a:pt x="202" y="678"/>
                    </a:lnTo>
                    <a:lnTo>
                      <a:pt x="234" y="630"/>
                    </a:lnTo>
                    <a:lnTo>
                      <a:pt x="266" y="582"/>
                    </a:lnTo>
                    <a:lnTo>
                      <a:pt x="304" y="534"/>
                    </a:lnTo>
                    <a:lnTo>
                      <a:pt x="338" y="488"/>
                    </a:lnTo>
                    <a:lnTo>
                      <a:pt x="378" y="443"/>
                    </a:lnTo>
                    <a:lnTo>
                      <a:pt x="429" y="392"/>
                    </a:lnTo>
                    <a:lnTo>
                      <a:pt x="480" y="350"/>
                    </a:lnTo>
                    <a:lnTo>
                      <a:pt x="520" y="315"/>
                    </a:lnTo>
                    <a:lnTo>
                      <a:pt x="560" y="280"/>
                    </a:lnTo>
                    <a:lnTo>
                      <a:pt x="605" y="248"/>
                    </a:lnTo>
                    <a:lnTo>
                      <a:pt x="656" y="216"/>
                    </a:lnTo>
                    <a:lnTo>
                      <a:pt x="704" y="182"/>
                    </a:lnTo>
                    <a:lnTo>
                      <a:pt x="749" y="160"/>
                    </a:lnTo>
                    <a:lnTo>
                      <a:pt x="808" y="134"/>
                    </a:lnTo>
                    <a:lnTo>
                      <a:pt x="861" y="107"/>
                    </a:lnTo>
                    <a:lnTo>
                      <a:pt x="914" y="88"/>
                    </a:lnTo>
                    <a:lnTo>
                      <a:pt x="973" y="70"/>
                    </a:lnTo>
                    <a:lnTo>
                      <a:pt x="1032" y="51"/>
                    </a:lnTo>
                    <a:lnTo>
                      <a:pt x="1098" y="35"/>
                    </a:lnTo>
                    <a:lnTo>
                      <a:pt x="1173" y="19"/>
                    </a:lnTo>
                    <a:lnTo>
                      <a:pt x="1229" y="14"/>
                    </a:lnTo>
                    <a:lnTo>
                      <a:pt x="1288" y="6"/>
                    </a:lnTo>
                    <a:lnTo>
                      <a:pt x="1333" y="3"/>
                    </a:lnTo>
                    <a:lnTo>
                      <a:pt x="1357" y="0"/>
                    </a:lnTo>
                    <a:lnTo>
                      <a:pt x="1410" y="0"/>
                    </a:lnTo>
                    <a:close/>
                  </a:path>
                </a:pathLst>
              </a:custGeom>
              <a:solidFill>
                <a:srgbClr val="dcc2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Freeform 8"/>
              <p:cNvSpPr/>
              <p:nvPr/>
            </p:nvSpPr>
            <p:spPr>
              <a:xfrm rot="16200000">
                <a:off x="2077560" y="3639960"/>
                <a:ext cx="2432880" cy="2537640"/>
              </a:xfrm>
              <a:custGeom>
                <a:avLst/>
                <a:gdLst>
                  <a:gd name="textAreaLeft" fmla="*/ 0 w 2432880"/>
                  <a:gd name="textAreaRight" fmla="*/ 2433240 w 2432880"/>
                  <a:gd name="textAreaTop" fmla="*/ 0 h 2537640"/>
                  <a:gd name="textAreaBottom" fmla="*/ 2538000 h 2537640"/>
                </a:gdLst>
                <a:ahLst/>
                <a:rect l="textAreaLeft" t="textAreaTop" r="textAreaRight" b="textAreaBottom"/>
                <a:pathLst>
                  <a:path w="1410" h="1411">
                    <a:moveTo>
                      <a:pt x="1410" y="0"/>
                    </a:moveTo>
                    <a:lnTo>
                      <a:pt x="1410" y="1411"/>
                    </a:lnTo>
                    <a:lnTo>
                      <a:pt x="0" y="1411"/>
                    </a:lnTo>
                    <a:lnTo>
                      <a:pt x="0" y="1344"/>
                    </a:lnTo>
                    <a:lnTo>
                      <a:pt x="2" y="1283"/>
                    </a:lnTo>
                    <a:lnTo>
                      <a:pt x="10" y="1222"/>
                    </a:lnTo>
                    <a:lnTo>
                      <a:pt x="18" y="1174"/>
                    </a:lnTo>
                    <a:lnTo>
                      <a:pt x="26" y="1128"/>
                    </a:lnTo>
                    <a:lnTo>
                      <a:pt x="34" y="1088"/>
                    </a:lnTo>
                    <a:lnTo>
                      <a:pt x="48" y="1038"/>
                    </a:lnTo>
                    <a:lnTo>
                      <a:pt x="61" y="987"/>
                    </a:lnTo>
                    <a:lnTo>
                      <a:pt x="80" y="934"/>
                    </a:lnTo>
                    <a:lnTo>
                      <a:pt x="101" y="883"/>
                    </a:lnTo>
                    <a:lnTo>
                      <a:pt x="117" y="835"/>
                    </a:lnTo>
                    <a:lnTo>
                      <a:pt x="152" y="776"/>
                    </a:lnTo>
                    <a:lnTo>
                      <a:pt x="170" y="728"/>
                    </a:lnTo>
                    <a:lnTo>
                      <a:pt x="202" y="678"/>
                    </a:lnTo>
                    <a:lnTo>
                      <a:pt x="234" y="630"/>
                    </a:lnTo>
                    <a:lnTo>
                      <a:pt x="266" y="582"/>
                    </a:lnTo>
                    <a:lnTo>
                      <a:pt x="304" y="534"/>
                    </a:lnTo>
                    <a:lnTo>
                      <a:pt x="338" y="488"/>
                    </a:lnTo>
                    <a:lnTo>
                      <a:pt x="378" y="443"/>
                    </a:lnTo>
                    <a:lnTo>
                      <a:pt x="429" y="392"/>
                    </a:lnTo>
                    <a:lnTo>
                      <a:pt x="480" y="350"/>
                    </a:lnTo>
                    <a:lnTo>
                      <a:pt x="520" y="315"/>
                    </a:lnTo>
                    <a:lnTo>
                      <a:pt x="560" y="280"/>
                    </a:lnTo>
                    <a:lnTo>
                      <a:pt x="605" y="248"/>
                    </a:lnTo>
                    <a:lnTo>
                      <a:pt x="656" y="216"/>
                    </a:lnTo>
                    <a:lnTo>
                      <a:pt x="704" y="182"/>
                    </a:lnTo>
                    <a:lnTo>
                      <a:pt x="749" y="160"/>
                    </a:lnTo>
                    <a:lnTo>
                      <a:pt x="808" y="134"/>
                    </a:lnTo>
                    <a:lnTo>
                      <a:pt x="861" y="107"/>
                    </a:lnTo>
                    <a:lnTo>
                      <a:pt x="914" y="88"/>
                    </a:lnTo>
                    <a:lnTo>
                      <a:pt x="973" y="70"/>
                    </a:lnTo>
                    <a:lnTo>
                      <a:pt x="1032" y="51"/>
                    </a:lnTo>
                    <a:lnTo>
                      <a:pt x="1098" y="35"/>
                    </a:lnTo>
                    <a:lnTo>
                      <a:pt x="1173" y="19"/>
                    </a:lnTo>
                    <a:lnTo>
                      <a:pt x="1229" y="14"/>
                    </a:lnTo>
                    <a:lnTo>
                      <a:pt x="1288" y="6"/>
                    </a:lnTo>
                    <a:lnTo>
                      <a:pt x="1333" y="3"/>
                    </a:lnTo>
                    <a:lnTo>
                      <a:pt x="1357" y="0"/>
                    </a:lnTo>
                    <a:lnTo>
                      <a:pt x="141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Oval 9"/>
              <p:cNvSpPr/>
              <p:nvPr/>
            </p:nvSpPr>
            <p:spPr>
              <a:xfrm>
                <a:off x="2036160" y="1266480"/>
                <a:ext cx="5051160" cy="48474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Line 10"/>
              <p:cNvSpPr/>
              <p:nvPr/>
            </p:nvSpPr>
            <p:spPr>
              <a:xfrm>
                <a:off x="2037960" y="3687480"/>
                <a:ext cx="5063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Line 11"/>
              <p:cNvSpPr/>
              <p:nvPr/>
            </p:nvSpPr>
            <p:spPr>
              <a:xfrm>
                <a:off x="4569840" y="1266480"/>
                <a:ext cx="0" cy="4850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Rectangle 12"/>
              <p:cNvSpPr/>
              <p:nvPr/>
            </p:nvSpPr>
            <p:spPr>
              <a:xfrm>
                <a:off x="4782240" y="2177280"/>
                <a:ext cx="1380600" cy="121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 Plan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dentify  problem and develop  plan for improvement.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Rectangle 13"/>
              <p:cNvSpPr/>
              <p:nvPr/>
            </p:nvSpPr>
            <p:spPr>
              <a:xfrm>
                <a:off x="4798080" y="4091040"/>
                <a:ext cx="1413360" cy="66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 Do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mplement  plan on a test basis.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Rectangle 14"/>
              <p:cNvSpPr/>
              <p:nvPr/>
            </p:nvSpPr>
            <p:spPr>
              <a:xfrm>
                <a:off x="2945880" y="4091040"/>
                <a:ext cx="1688400" cy="66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 Study/Check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ssess  plan; is it working?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Rectangle 15"/>
              <p:cNvSpPr/>
              <p:nvPr/>
            </p:nvSpPr>
            <p:spPr>
              <a:xfrm>
                <a:off x="3043080" y="2193120"/>
                <a:ext cx="1492200" cy="84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 Act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nstitutionalize improvement; continue  cycle.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4" name="Freeform 16"/>
            <p:cNvSpPr/>
            <p:nvPr/>
          </p:nvSpPr>
          <p:spPr>
            <a:xfrm rot="18127200">
              <a:off x="3587040" y="4015080"/>
              <a:ext cx="1803240" cy="2690280"/>
            </a:xfrm>
            <a:custGeom>
              <a:avLst/>
              <a:gdLst>
                <a:gd name="textAreaLeft" fmla="*/ 0 w 1803240"/>
                <a:gd name="textAreaRight" fmla="*/ 1803600 w 1803240"/>
                <a:gd name="textAreaTop" fmla="*/ 0 h 2690280"/>
                <a:gd name="textAreaBottom" fmla="*/ 2690640 h 2690280"/>
              </a:gdLst>
              <a:ahLst/>
              <a:rect l="textAreaLeft" t="textAreaTop" r="textAreaRight" b="textAreaBottom"/>
              <a:pathLst>
                <a:path w="1038" h="1479">
                  <a:moveTo>
                    <a:pt x="935" y="1479"/>
                  </a:moveTo>
                  <a:lnTo>
                    <a:pt x="956" y="1479"/>
                  </a:lnTo>
                  <a:lnTo>
                    <a:pt x="1038" y="1284"/>
                  </a:lnTo>
                  <a:lnTo>
                    <a:pt x="1007" y="1274"/>
                  </a:lnTo>
                  <a:lnTo>
                    <a:pt x="997" y="1274"/>
                  </a:lnTo>
                  <a:lnTo>
                    <a:pt x="976" y="1263"/>
                  </a:lnTo>
                  <a:lnTo>
                    <a:pt x="956" y="1253"/>
                  </a:lnTo>
                  <a:lnTo>
                    <a:pt x="935" y="1253"/>
                  </a:lnTo>
                  <a:lnTo>
                    <a:pt x="914" y="1243"/>
                  </a:lnTo>
                  <a:lnTo>
                    <a:pt x="904" y="1233"/>
                  </a:lnTo>
                  <a:lnTo>
                    <a:pt x="884" y="1222"/>
                  </a:lnTo>
                  <a:lnTo>
                    <a:pt x="863" y="1222"/>
                  </a:lnTo>
                  <a:lnTo>
                    <a:pt x="843" y="1212"/>
                  </a:lnTo>
                  <a:lnTo>
                    <a:pt x="832" y="1202"/>
                  </a:lnTo>
                  <a:lnTo>
                    <a:pt x="812" y="1191"/>
                  </a:lnTo>
                  <a:lnTo>
                    <a:pt x="791" y="1181"/>
                  </a:lnTo>
                  <a:lnTo>
                    <a:pt x="781" y="1171"/>
                  </a:lnTo>
                  <a:lnTo>
                    <a:pt x="771" y="1161"/>
                  </a:lnTo>
                  <a:lnTo>
                    <a:pt x="750" y="1150"/>
                  </a:lnTo>
                  <a:lnTo>
                    <a:pt x="729" y="1140"/>
                  </a:lnTo>
                  <a:lnTo>
                    <a:pt x="719" y="1130"/>
                  </a:lnTo>
                  <a:lnTo>
                    <a:pt x="699" y="1109"/>
                  </a:lnTo>
                  <a:lnTo>
                    <a:pt x="688" y="1109"/>
                  </a:lnTo>
                  <a:lnTo>
                    <a:pt x="678" y="1099"/>
                  </a:lnTo>
                  <a:lnTo>
                    <a:pt x="658" y="1078"/>
                  </a:lnTo>
                  <a:lnTo>
                    <a:pt x="647" y="1068"/>
                  </a:lnTo>
                  <a:lnTo>
                    <a:pt x="616" y="1048"/>
                  </a:lnTo>
                  <a:lnTo>
                    <a:pt x="606" y="1027"/>
                  </a:lnTo>
                  <a:lnTo>
                    <a:pt x="586" y="1007"/>
                  </a:lnTo>
                  <a:lnTo>
                    <a:pt x="565" y="996"/>
                  </a:lnTo>
                  <a:lnTo>
                    <a:pt x="545" y="965"/>
                  </a:lnTo>
                  <a:lnTo>
                    <a:pt x="524" y="955"/>
                  </a:lnTo>
                  <a:lnTo>
                    <a:pt x="514" y="935"/>
                  </a:lnTo>
                  <a:lnTo>
                    <a:pt x="493" y="914"/>
                  </a:lnTo>
                  <a:lnTo>
                    <a:pt x="473" y="883"/>
                  </a:lnTo>
                  <a:lnTo>
                    <a:pt x="462" y="863"/>
                  </a:lnTo>
                  <a:lnTo>
                    <a:pt x="442" y="832"/>
                  </a:lnTo>
                  <a:lnTo>
                    <a:pt x="432" y="811"/>
                  </a:lnTo>
                  <a:lnTo>
                    <a:pt x="411" y="780"/>
                  </a:lnTo>
                  <a:lnTo>
                    <a:pt x="401" y="750"/>
                  </a:lnTo>
                  <a:lnTo>
                    <a:pt x="380" y="729"/>
                  </a:lnTo>
                  <a:lnTo>
                    <a:pt x="370" y="709"/>
                  </a:lnTo>
                  <a:lnTo>
                    <a:pt x="360" y="678"/>
                  </a:lnTo>
                  <a:lnTo>
                    <a:pt x="349" y="657"/>
                  </a:lnTo>
                  <a:lnTo>
                    <a:pt x="339" y="626"/>
                  </a:lnTo>
                  <a:lnTo>
                    <a:pt x="329" y="606"/>
                  </a:lnTo>
                  <a:lnTo>
                    <a:pt x="329" y="575"/>
                  </a:lnTo>
                  <a:lnTo>
                    <a:pt x="319" y="554"/>
                  </a:lnTo>
                  <a:lnTo>
                    <a:pt x="308" y="524"/>
                  </a:lnTo>
                  <a:lnTo>
                    <a:pt x="298" y="493"/>
                  </a:lnTo>
                  <a:lnTo>
                    <a:pt x="298" y="462"/>
                  </a:lnTo>
                  <a:lnTo>
                    <a:pt x="288" y="431"/>
                  </a:lnTo>
                  <a:lnTo>
                    <a:pt x="288" y="400"/>
                  </a:lnTo>
                  <a:lnTo>
                    <a:pt x="277" y="369"/>
                  </a:lnTo>
                  <a:lnTo>
                    <a:pt x="277" y="339"/>
                  </a:lnTo>
                  <a:lnTo>
                    <a:pt x="277" y="308"/>
                  </a:lnTo>
                  <a:lnTo>
                    <a:pt x="277" y="277"/>
                  </a:lnTo>
                  <a:lnTo>
                    <a:pt x="277" y="246"/>
                  </a:lnTo>
                  <a:lnTo>
                    <a:pt x="349" y="246"/>
                  </a:lnTo>
                  <a:lnTo>
                    <a:pt x="185" y="0"/>
                  </a:lnTo>
                  <a:lnTo>
                    <a:pt x="0" y="246"/>
                  </a:lnTo>
                  <a:lnTo>
                    <a:pt x="72" y="246"/>
                  </a:lnTo>
                  <a:lnTo>
                    <a:pt x="72" y="277"/>
                  </a:lnTo>
                  <a:lnTo>
                    <a:pt x="72" y="318"/>
                  </a:lnTo>
                  <a:lnTo>
                    <a:pt x="72" y="349"/>
                  </a:lnTo>
                  <a:lnTo>
                    <a:pt x="72" y="380"/>
                  </a:lnTo>
                  <a:lnTo>
                    <a:pt x="72" y="411"/>
                  </a:lnTo>
                  <a:lnTo>
                    <a:pt x="82" y="441"/>
                  </a:lnTo>
                  <a:lnTo>
                    <a:pt x="82" y="472"/>
                  </a:lnTo>
                  <a:lnTo>
                    <a:pt x="92" y="503"/>
                  </a:lnTo>
                  <a:lnTo>
                    <a:pt x="92" y="534"/>
                  </a:lnTo>
                  <a:lnTo>
                    <a:pt x="103" y="565"/>
                  </a:lnTo>
                  <a:lnTo>
                    <a:pt x="113" y="596"/>
                  </a:lnTo>
                  <a:lnTo>
                    <a:pt x="123" y="626"/>
                  </a:lnTo>
                  <a:lnTo>
                    <a:pt x="123" y="657"/>
                  </a:lnTo>
                  <a:lnTo>
                    <a:pt x="134" y="678"/>
                  </a:lnTo>
                  <a:lnTo>
                    <a:pt x="144" y="719"/>
                  </a:lnTo>
                  <a:lnTo>
                    <a:pt x="164" y="739"/>
                  </a:lnTo>
                  <a:lnTo>
                    <a:pt x="175" y="770"/>
                  </a:lnTo>
                  <a:lnTo>
                    <a:pt x="185" y="801"/>
                  </a:lnTo>
                  <a:lnTo>
                    <a:pt x="195" y="832"/>
                  </a:lnTo>
                  <a:lnTo>
                    <a:pt x="216" y="852"/>
                  </a:lnTo>
                  <a:lnTo>
                    <a:pt x="226" y="883"/>
                  </a:lnTo>
                  <a:lnTo>
                    <a:pt x="236" y="914"/>
                  </a:lnTo>
                  <a:lnTo>
                    <a:pt x="257" y="935"/>
                  </a:lnTo>
                  <a:lnTo>
                    <a:pt x="267" y="955"/>
                  </a:lnTo>
                  <a:lnTo>
                    <a:pt x="288" y="986"/>
                  </a:lnTo>
                  <a:lnTo>
                    <a:pt x="308" y="1007"/>
                  </a:lnTo>
                  <a:lnTo>
                    <a:pt x="319" y="1037"/>
                  </a:lnTo>
                  <a:lnTo>
                    <a:pt x="339" y="1058"/>
                  </a:lnTo>
                  <a:lnTo>
                    <a:pt x="360" y="1078"/>
                  </a:lnTo>
                  <a:lnTo>
                    <a:pt x="380" y="1099"/>
                  </a:lnTo>
                  <a:lnTo>
                    <a:pt x="401" y="1120"/>
                  </a:lnTo>
                  <a:lnTo>
                    <a:pt x="411" y="1140"/>
                  </a:lnTo>
                  <a:lnTo>
                    <a:pt x="432" y="1161"/>
                  </a:lnTo>
                  <a:lnTo>
                    <a:pt x="462" y="1181"/>
                  </a:lnTo>
                  <a:lnTo>
                    <a:pt x="473" y="1202"/>
                  </a:lnTo>
                  <a:lnTo>
                    <a:pt x="493" y="1222"/>
                  </a:lnTo>
                  <a:lnTo>
                    <a:pt x="524" y="1243"/>
                  </a:lnTo>
                  <a:lnTo>
                    <a:pt x="545" y="1263"/>
                  </a:lnTo>
                  <a:lnTo>
                    <a:pt x="565" y="1274"/>
                  </a:lnTo>
                  <a:lnTo>
                    <a:pt x="586" y="1294"/>
                  </a:lnTo>
                  <a:lnTo>
                    <a:pt x="616" y="1315"/>
                  </a:lnTo>
                  <a:lnTo>
                    <a:pt x="637" y="1325"/>
                  </a:lnTo>
                  <a:lnTo>
                    <a:pt x="658" y="1346"/>
                  </a:lnTo>
                  <a:lnTo>
                    <a:pt x="668" y="1346"/>
                  </a:lnTo>
                  <a:lnTo>
                    <a:pt x="678" y="1356"/>
                  </a:lnTo>
                  <a:lnTo>
                    <a:pt x="688" y="1366"/>
                  </a:lnTo>
                  <a:lnTo>
                    <a:pt x="709" y="1376"/>
                  </a:lnTo>
                  <a:lnTo>
                    <a:pt x="719" y="1376"/>
                  </a:lnTo>
                  <a:lnTo>
                    <a:pt x="729" y="1387"/>
                  </a:lnTo>
                  <a:lnTo>
                    <a:pt x="750" y="1397"/>
                  </a:lnTo>
                  <a:lnTo>
                    <a:pt x="760" y="1407"/>
                  </a:lnTo>
                  <a:lnTo>
                    <a:pt x="771" y="1407"/>
                  </a:lnTo>
                  <a:lnTo>
                    <a:pt x="791" y="1418"/>
                  </a:lnTo>
                  <a:lnTo>
                    <a:pt x="801" y="1428"/>
                  </a:lnTo>
                  <a:lnTo>
                    <a:pt x="822" y="1428"/>
                  </a:lnTo>
                  <a:lnTo>
                    <a:pt x="832" y="1438"/>
                  </a:lnTo>
                  <a:lnTo>
                    <a:pt x="853" y="1448"/>
                  </a:lnTo>
                  <a:lnTo>
                    <a:pt x="863" y="1448"/>
                  </a:lnTo>
                  <a:lnTo>
                    <a:pt x="873" y="1459"/>
                  </a:lnTo>
                  <a:lnTo>
                    <a:pt x="894" y="1459"/>
                  </a:lnTo>
                  <a:lnTo>
                    <a:pt x="904" y="1469"/>
                  </a:lnTo>
                  <a:lnTo>
                    <a:pt x="925" y="1469"/>
                  </a:lnTo>
                  <a:lnTo>
                    <a:pt x="935" y="1479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00ff"/>
                </a:gs>
              </a:gsLst>
              <a:lin ang="0"/>
            </a:gra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17"/>
            <p:cNvSpPr/>
            <p:nvPr/>
          </p:nvSpPr>
          <p:spPr>
            <a:xfrm rot="18127200">
              <a:off x="3741840" y="656640"/>
              <a:ext cx="1783800" cy="2691720"/>
            </a:xfrm>
            <a:custGeom>
              <a:avLst/>
              <a:gdLst>
                <a:gd name="textAreaLeft" fmla="*/ 0 w 1783800"/>
                <a:gd name="textAreaRight" fmla="*/ 1784160 w 1783800"/>
                <a:gd name="textAreaTop" fmla="*/ 0 h 2691720"/>
                <a:gd name="textAreaBottom" fmla="*/ 2691720 h 2691720"/>
              </a:gdLst>
              <a:ahLst/>
              <a:rect l="textAreaLeft" t="textAreaTop" r="textAreaRight" b="textAreaBottom"/>
              <a:pathLst>
                <a:path w="1027" h="1480">
                  <a:moveTo>
                    <a:pt x="92" y="0"/>
                  </a:moveTo>
                  <a:lnTo>
                    <a:pt x="72" y="0"/>
                  </a:lnTo>
                  <a:lnTo>
                    <a:pt x="0" y="195"/>
                  </a:lnTo>
                  <a:lnTo>
                    <a:pt x="21" y="206"/>
                  </a:lnTo>
                  <a:lnTo>
                    <a:pt x="31" y="206"/>
                  </a:lnTo>
                  <a:lnTo>
                    <a:pt x="51" y="216"/>
                  </a:lnTo>
                  <a:lnTo>
                    <a:pt x="72" y="226"/>
                  </a:lnTo>
                  <a:lnTo>
                    <a:pt x="92" y="226"/>
                  </a:lnTo>
                  <a:lnTo>
                    <a:pt x="113" y="236"/>
                  </a:lnTo>
                  <a:lnTo>
                    <a:pt x="123" y="247"/>
                  </a:lnTo>
                  <a:lnTo>
                    <a:pt x="144" y="257"/>
                  </a:lnTo>
                  <a:lnTo>
                    <a:pt x="164" y="267"/>
                  </a:lnTo>
                  <a:lnTo>
                    <a:pt x="185" y="277"/>
                  </a:lnTo>
                  <a:lnTo>
                    <a:pt x="205" y="277"/>
                  </a:lnTo>
                  <a:lnTo>
                    <a:pt x="216" y="298"/>
                  </a:lnTo>
                  <a:lnTo>
                    <a:pt x="236" y="308"/>
                  </a:lnTo>
                  <a:lnTo>
                    <a:pt x="247" y="308"/>
                  </a:lnTo>
                  <a:lnTo>
                    <a:pt x="267" y="319"/>
                  </a:lnTo>
                  <a:lnTo>
                    <a:pt x="277" y="329"/>
                  </a:lnTo>
                  <a:lnTo>
                    <a:pt x="298" y="339"/>
                  </a:lnTo>
                  <a:lnTo>
                    <a:pt x="308" y="360"/>
                  </a:lnTo>
                  <a:lnTo>
                    <a:pt x="329" y="370"/>
                  </a:lnTo>
                  <a:lnTo>
                    <a:pt x="339" y="370"/>
                  </a:lnTo>
                  <a:lnTo>
                    <a:pt x="349" y="380"/>
                  </a:lnTo>
                  <a:lnTo>
                    <a:pt x="370" y="401"/>
                  </a:lnTo>
                  <a:lnTo>
                    <a:pt x="390" y="411"/>
                  </a:lnTo>
                  <a:lnTo>
                    <a:pt x="411" y="432"/>
                  </a:lnTo>
                  <a:lnTo>
                    <a:pt x="432" y="452"/>
                  </a:lnTo>
                  <a:lnTo>
                    <a:pt x="452" y="473"/>
                  </a:lnTo>
                  <a:lnTo>
                    <a:pt x="462" y="493"/>
                  </a:lnTo>
                  <a:lnTo>
                    <a:pt x="483" y="514"/>
                  </a:lnTo>
                  <a:lnTo>
                    <a:pt x="503" y="534"/>
                  </a:lnTo>
                  <a:lnTo>
                    <a:pt x="514" y="555"/>
                  </a:lnTo>
                  <a:lnTo>
                    <a:pt x="534" y="575"/>
                  </a:lnTo>
                  <a:lnTo>
                    <a:pt x="555" y="596"/>
                  </a:lnTo>
                  <a:lnTo>
                    <a:pt x="565" y="617"/>
                  </a:lnTo>
                  <a:lnTo>
                    <a:pt x="586" y="647"/>
                  </a:lnTo>
                  <a:lnTo>
                    <a:pt x="606" y="668"/>
                  </a:lnTo>
                  <a:lnTo>
                    <a:pt x="616" y="699"/>
                  </a:lnTo>
                  <a:lnTo>
                    <a:pt x="627" y="730"/>
                  </a:lnTo>
                  <a:lnTo>
                    <a:pt x="647" y="750"/>
                  </a:lnTo>
                  <a:lnTo>
                    <a:pt x="658" y="781"/>
                  </a:lnTo>
                  <a:lnTo>
                    <a:pt x="668" y="801"/>
                  </a:lnTo>
                  <a:lnTo>
                    <a:pt x="678" y="822"/>
                  </a:lnTo>
                  <a:lnTo>
                    <a:pt x="688" y="853"/>
                  </a:lnTo>
                  <a:lnTo>
                    <a:pt x="699" y="873"/>
                  </a:lnTo>
                  <a:lnTo>
                    <a:pt x="709" y="904"/>
                  </a:lnTo>
                  <a:lnTo>
                    <a:pt x="709" y="935"/>
                  </a:lnTo>
                  <a:lnTo>
                    <a:pt x="719" y="956"/>
                  </a:lnTo>
                  <a:lnTo>
                    <a:pt x="729" y="986"/>
                  </a:lnTo>
                  <a:lnTo>
                    <a:pt x="729" y="1017"/>
                  </a:lnTo>
                  <a:lnTo>
                    <a:pt x="740" y="1048"/>
                  </a:lnTo>
                  <a:lnTo>
                    <a:pt x="740" y="1079"/>
                  </a:lnTo>
                  <a:lnTo>
                    <a:pt x="750" y="1110"/>
                  </a:lnTo>
                  <a:lnTo>
                    <a:pt x="750" y="1141"/>
                  </a:lnTo>
                  <a:lnTo>
                    <a:pt x="750" y="1171"/>
                  </a:lnTo>
                  <a:lnTo>
                    <a:pt x="750" y="1202"/>
                  </a:lnTo>
                  <a:lnTo>
                    <a:pt x="750" y="1233"/>
                  </a:lnTo>
                  <a:lnTo>
                    <a:pt x="678" y="1233"/>
                  </a:lnTo>
                  <a:lnTo>
                    <a:pt x="843" y="1480"/>
                  </a:lnTo>
                  <a:lnTo>
                    <a:pt x="1027" y="1233"/>
                  </a:lnTo>
                  <a:lnTo>
                    <a:pt x="966" y="1233"/>
                  </a:lnTo>
                  <a:lnTo>
                    <a:pt x="966" y="1202"/>
                  </a:lnTo>
                  <a:lnTo>
                    <a:pt x="956" y="1161"/>
                  </a:lnTo>
                  <a:lnTo>
                    <a:pt x="956" y="1130"/>
                  </a:lnTo>
                  <a:lnTo>
                    <a:pt x="956" y="1099"/>
                  </a:lnTo>
                  <a:lnTo>
                    <a:pt x="956" y="1069"/>
                  </a:lnTo>
                  <a:lnTo>
                    <a:pt x="945" y="1038"/>
                  </a:lnTo>
                  <a:lnTo>
                    <a:pt x="945" y="1007"/>
                  </a:lnTo>
                  <a:lnTo>
                    <a:pt x="935" y="976"/>
                  </a:lnTo>
                  <a:lnTo>
                    <a:pt x="935" y="945"/>
                  </a:lnTo>
                  <a:lnTo>
                    <a:pt x="925" y="914"/>
                  </a:lnTo>
                  <a:lnTo>
                    <a:pt x="914" y="884"/>
                  </a:lnTo>
                  <a:lnTo>
                    <a:pt x="914" y="853"/>
                  </a:lnTo>
                  <a:lnTo>
                    <a:pt x="904" y="822"/>
                  </a:lnTo>
                  <a:lnTo>
                    <a:pt x="894" y="801"/>
                  </a:lnTo>
                  <a:lnTo>
                    <a:pt x="884" y="771"/>
                  </a:lnTo>
                  <a:lnTo>
                    <a:pt x="873" y="740"/>
                  </a:lnTo>
                  <a:lnTo>
                    <a:pt x="853" y="709"/>
                  </a:lnTo>
                  <a:lnTo>
                    <a:pt x="843" y="678"/>
                  </a:lnTo>
                  <a:lnTo>
                    <a:pt x="832" y="647"/>
                  </a:lnTo>
                  <a:lnTo>
                    <a:pt x="812" y="627"/>
                  </a:lnTo>
                  <a:lnTo>
                    <a:pt x="801" y="596"/>
                  </a:lnTo>
                  <a:lnTo>
                    <a:pt x="791" y="575"/>
                  </a:lnTo>
                  <a:lnTo>
                    <a:pt x="771" y="545"/>
                  </a:lnTo>
                  <a:lnTo>
                    <a:pt x="760" y="524"/>
                  </a:lnTo>
                  <a:lnTo>
                    <a:pt x="740" y="503"/>
                  </a:lnTo>
                  <a:lnTo>
                    <a:pt x="729" y="473"/>
                  </a:lnTo>
                  <a:lnTo>
                    <a:pt x="709" y="442"/>
                  </a:lnTo>
                  <a:lnTo>
                    <a:pt x="688" y="421"/>
                  </a:lnTo>
                  <a:lnTo>
                    <a:pt x="668" y="401"/>
                  </a:lnTo>
                  <a:lnTo>
                    <a:pt x="647" y="380"/>
                  </a:lnTo>
                  <a:lnTo>
                    <a:pt x="637" y="360"/>
                  </a:lnTo>
                  <a:lnTo>
                    <a:pt x="616" y="339"/>
                  </a:lnTo>
                  <a:lnTo>
                    <a:pt x="596" y="319"/>
                  </a:lnTo>
                  <a:lnTo>
                    <a:pt x="575" y="298"/>
                  </a:lnTo>
                  <a:lnTo>
                    <a:pt x="555" y="277"/>
                  </a:lnTo>
                  <a:lnTo>
                    <a:pt x="534" y="257"/>
                  </a:lnTo>
                  <a:lnTo>
                    <a:pt x="514" y="236"/>
                  </a:lnTo>
                  <a:lnTo>
                    <a:pt x="483" y="226"/>
                  </a:lnTo>
                  <a:lnTo>
                    <a:pt x="462" y="206"/>
                  </a:lnTo>
                  <a:lnTo>
                    <a:pt x="442" y="185"/>
                  </a:lnTo>
                  <a:lnTo>
                    <a:pt x="421" y="164"/>
                  </a:lnTo>
                  <a:lnTo>
                    <a:pt x="401" y="154"/>
                  </a:lnTo>
                  <a:lnTo>
                    <a:pt x="380" y="144"/>
                  </a:lnTo>
                  <a:lnTo>
                    <a:pt x="360" y="134"/>
                  </a:lnTo>
                  <a:lnTo>
                    <a:pt x="349" y="123"/>
                  </a:lnTo>
                  <a:lnTo>
                    <a:pt x="339" y="113"/>
                  </a:lnTo>
                  <a:lnTo>
                    <a:pt x="329" y="103"/>
                  </a:lnTo>
                  <a:lnTo>
                    <a:pt x="308" y="103"/>
                  </a:lnTo>
                  <a:lnTo>
                    <a:pt x="298" y="92"/>
                  </a:lnTo>
                  <a:lnTo>
                    <a:pt x="277" y="82"/>
                  </a:lnTo>
                  <a:lnTo>
                    <a:pt x="267" y="82"/>
                  </a:lnTo>
                  <a:lnTo>
                    <a:pt x="257" y="72"/>
                  </a:lnTo>
                  <a:lnTo>
                    <a:pt x="236" y="62"/>
                  </a:lnTo>
                  <a:lnTo>
                    <a:pt x="226" y="51"/>
                  </a:lnTo>
                  <a:lnTo>
                    <a:pt x="205" y="51"/>
                  </a:lnTo>
                  <a:lnTo>
                    <a:pt x="195" y="41"/>
                  </a:lnTo>
                  <a:lnTo>
                    <a:pt x="175" y="31"/>
                  </a:lnTo>
                  <a:lnTo>
                    <a:pt x="164" y="31"/>
                  </a:lnTo>
                  <a:lnTo>
                    <a:pt x="154" y="21"/>
                  </a:lnTo>
                  <a:lnTo>
                    <a:pt x="134" y="21"/>
                  </a:lnTo>
                  <a:lnTo>
                    <a:pt x="123" y="10"/>
                  </a:lnTo>
                  <a:lnTo>
                    <a:pt x="113" y="10"/>
                  </a:lnTo>
                  <a:lnTo>
                    <a:pt x="92" y="0"/>
                  </a:lnTo>
                  <a:close/>
                </a:path>
              </a:pathLst>
            </a:custGeom>
            <a:gradFill rotWithShape="0">
              <a:gsLst>
                <a:gs pos="0">
                  <a:srgbClr val="0f7c82"/>
                </a:gs>
                <a:gs pos="100000">
                  <a:srgbClr val="8490b0"/>
                </a:gs>
              </a:gsLst>
              <a:lin ang="0"/>
            </a:gra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18"/>
            <p:cNvSpPr/>
            <p:nvPr/>
          </p:nvSpPr>
          <p:spPr>
            <a:xfrm rot="18127200">
              <a:off x="1535760" y="2710440"/>
              <a:ext cx="2569320" cy="1830600"/>
            </a:xfrm>
            <a:custGeom>
              <a:avLst/>
              <a:gdLst>
                <a:gd name="textAreaLeft" fmla="*/ 0 w 2569320"/>
                <a:gd name="textAreaRight" fmla="*/ 2569680 w 2569320"/>
                <a:gd name="textAreaTop" fmla="*/ 0 h 1830600"/>
                <a:gd name="textAreaBottom" fmla="*/ 1830960 h 1830600"/>
              </a:gdLst>
              <a:ahLst/>
              <a:rect l="textAreaLeft" t="textAreaTop" r="textAreaRight" b="textAreaBottom"/>
              <a:pathLst>
                <a:path w="1479" h="1007">
                  <a:moveTo>
                    <a:pt x="0" y="935"/>
                  </a:moveTo>
                  <a:lnTo>
                    <a:pt x="205" y="1007"/>
                  </a:lnTo>
                  <a:lnTo>
                    <a:pt x="205" y="997"/>
                  </a:lnTo>
                  <a:lnTo>
                    <a:pt x="215" y="976"/>
                  </a:lnTo>
                  <a:lnTo>
                    <a:pt x="226" y="956"/>
                  </a:lnTo>
                  <a:lnTo>
                    <a:pt x="226" y="935"/>
                  </a:lnTo>
                  <a:lnTo>
                    <a:pt x="236" y="914"/>
                  </a:lnTo>
                  <a:lnTo>
                    <a:pt x="246" y="904"/>
                  </a:lnTo>
                  <a:lnTo>
                    <a:pt x="256" y="884"/>
                  </a:lnTo>
                  <a:lnTo>
                    <a:pt x="267" y="863"/>
                  </a:lnTo>
                  <a:lnTo>
                    <a:pt x="277" y="843"/>
                  </a:lnTo>
                  <a:lnTo>
                    <a:pt x="277" y="822"/>
                  </a:lnTo>
                  <a:lnTo>
                    <a:pt x="298" y="812"/>
                  </a:lnTo>
                  <a:lnTo>
                    <a:pt x="308" y="791"/>
                  </a:lnTo>
                  <a:lnTo>
                    <a:pt x="308" y="781"/>
                  </a:lnTo>
                  <a:lnTo>
                    <a:pt x="318" y="760"/>
                  </a:lnTo>
                  <a:lnTo>
                    <a:pt x="328" y="750"/>
                  </a:lnTo>
                  <a:lnTo>
                    <a:pt x="339" y="730"/>
                  </a:lnTo>
                  <a:lnTo>
                    <a:pt x="359" y="719"/>
                  </a:lnTo>
                  <a:lnTo>
                    <a:pt x="369" y="699"/>
                  </a:lnTo>
                  <a:lnTo>
                    <a:pt x="369" y="688"/>
                  </a:lnTo>
                  <a:lnTo>
                    <a:pt x="380" y="678"/>
                  </a:lnTo>
                  <a:lnTo>
                    <a:pt x="400" y="658"/>
                  </a:lnTo>
                  <a:lnTo>
                    <a:pt x="411" y="637"/>
                  </a:lnTo>
                  <a:lnTo>
                    <a:pt x="431" y="616"/>
                  </a:lnTo>
                  <a:lnTo>
                    <a:pt x="452" y="596"/>
                  </a:lnTo>
                  <a:lnTo>
                    <a:pt x="472" y="575"/>
                  </a:lnTo>
                  <a:lnTo>
                    <a:pt x="493" y="555"/>
                  </a:lnTo>
                  <a:lnTo>
                    <a:pt x="513" y="545"/>
                  </a:lnTo>
                  <a:lnTo>
                    <a:pt x="534" y="524"/>
                  </a:lnTo>
                  <a:lnTo>
                    <a:pt x="544" y="514"/>
                  </a:lnTo>
                  <a:lnTo>
                    <a:pt x="575" y="493"/>
                  </a:lnTo>
                  <a:lnTo>
                    <a:pt x="595" y="473"/>
                  </a:lnTo>
                  <a:lnTo>
                    <a:pt x="616" y="452"/>
                  </a:lnTo>
                  <a:lnTo>
                    <a:pt x="647" y="442"/>
                  </a:lnTo>
                  <a:lnTo>
                    <a:pt x="667" y="421"/>
                  </a:lnTo>
                  <a:lnTo>
                    <a:pt x="698" y="411"/>
                  </a:lnTo>
                  <a:lnTo>
                    <a:pt x="729" y="390"/>
                  </a:lnTo>
                  <a:lnTo>
                    <a:pt x="750" y="380"/>
                  </a:lnTo>
                  <a:lnTo>
                    <a:pt x="780" y="370"/>
                  </a:lnTo>
                  <a:lnTo>
                    <a:pt x="801" y="360"/>
                  </a:lnTo>
                  <a:lnTo>
                    <a:pt x="822" y="349"/>
                  </a:lnTo>
                  <a:lnTo>
                    <a:pt x="852" y="339"/>
                  </a:lnTo>
                  <a:lnTo>
                    <a:pt x="873" y="329"/>
                  </a:lnTo>
                  <a:lnTo>
                    <a:pt x="904" y="319"/>
                  </a:lnTo>
                  <a:lnTo>
                    <a:pt x="935" y="319"/>
                  </a:lnTo>
                  <a:lnTo>
                    <a:pt x="955" y="308"/>
                  </a:lnTo>
                  <a:lnTo>
                    <a:pt x="986" y="298"/>
                  </a:lnTo>
                  <a:lnTo>
                    <a:pt x="1017" y="288"/>
                  </a:lnTo>
                  <a:lnTo>
                    <a:pt x="1048" y="288"/>
                  </a:lnTo>
                  <a:lnTo>
                    <a:pt x="1078" y="277"/>
                  </a:lnTo>
                  <a:lnTo>
                    <a:pt x="1109" y="277"/>
                  </a:lnTo>
                  <a:lnTo>
                    <a:pt x="1140" y="277"/>
                  </a:lnTo>
                  <a:lnTo>
                    <a:pt x="1171" y="277"/>
                  </a:lnTo>
                  <a:lnTo>
                    <a:pt x="1202" y="277"/>
                  </a:lnTo>
                  <a:lnTo>
                    <a:pt x="1233" y="277"/>
                  </a:lnTo>
                  <a:lnTo>
                    <a:pt x="1233" y="349"/>
                  </a:lnTo>
                  <a:lnTo>
                    <a:pt x="1479" y="175"/>
                  </a:lnTo>
                  <a:lnTo>
                    <a:pt x="1233" y="0"/>
                  </a:lnTo>
                  <a:lnTo>
                    <a:pt x="1233" y="62"/>
                  </a:lnTo>
                  <a:lnTo>
                    <a:pt x="1202" y="62"/>
                  </a:lnTo>
                  <a:lnTo>
                    <a:pt x="1161" y="62"/>
                  </a:lnTo>
                  <a:lnTo>
                    <a:pt x="1130" y="72"/>
                  </a:lnTo>
                  <a:lnTo>
                    <a:pt x="1099" y="72"/>
                  </a:lnTo>
                  <a:lnTo>
                    <a:pt x="1068" y="72"/>
                  </a:lnTo>
                  <a:lnTo>
                    <a:pt x="1037" y="82"/>
                  </a:lnTo>
                  <a:lnTo>
                    <a:pt x="1006" y="82"/>
                  </a:lnTo>
                  <a:lnTo>
                    <a:pt x="976" y="92"/>
                  </a:lnTo>
                  <a:lnTo>
                    <a:pt x="945" y="92"/>
                  </a:lnTo>
                  <a:lnTo>
                    <a:pt x="914" y="103"/>
                  </a:lnTo>
                  <a:lnTo>
                    <a:pt x="883" y="113"/>
                  </a:lnTo>
                  <a:lnTo>
                    <a:pt x="852" y="113"/>
                  </a:lnTo>
                  <a:lnTo>
                    <a:pt x="822" y="123"/>
                  </a:lnTo>
                  <a:lnTo>
                    <a:pt x="801" y="134"/>
                  </a:lnTo>
                  <a:lnTo>
                    <a:pt x="770" y="144"/>
                  </a:lnTo>
                  <a:lnTo>
                    <a:pt x="739" y="154"/>
                  </a:lnTo>
                  <a:lnTo>
                    <a:pt x="709" y="164"/>
                  </a:lnTo>
                  <a:lnTo>
                    <a:pt x="678" y="185"/>
                  </a:lnTo>
                  <a:lnTo>
                    <a:pt x="647" y="195"/>
                  </a:lnTo>
                  <a:lnTo>
                    <a:pt x="626" y="205"/>
                  </a:lnTo>
                  <a:lnTo>
                    <a:pt x="595" y="226"/>
                  </a:lnTo>
                  <a:lnTo>
                    <a:pt x="575" y="236"/>
                  </a:lnTo>
                  <a:lnTo>
                    <a:pt x="544" y="247"/>
                  </a:lnTo>
                  <a:lnTo>
                    <a:pt x="524" y="267"/>
                  </a:lnTo>
                  <a:lnTo>
                    <a:pt x="503" y="288"/>
                  </a:lnTo>
                  <a:lnTo>
                    <a:pt x="472" y="298"/>
                  </a:lnTo>
                  <a:lnTo>
                    <a:pt x="441" y="319"/>
                  </a:lnTo>
                  <a:lnTo>
                    <a:pt x="421" y="339"/>
                  </a:lnTo>
                  <a:lnTo>
                    <a:pt x="400" y="360"/>
                  </a:lnTo>
                  <a:lnTo>
                    <a:pt x="380" y="380"/>
                  </a:lnTo>
                  <a:lnTo>
                    <a:pt x="359" y="390"/>
                  </a:lnTo>
                  <a:lnTo>
                    <a:pt x="339" y="411"/>
                  </a:lnTo>
                  <a:lnTo>
                    <a:pt x="318" y="432"/>
                  </a:lnTo>
                  <a:lnTo>
                    <a:pt x="298" y="452"/>
                  </a:lnTo>
                  <a:lnTo>
                    <a:pt x="277" y="473"/>
                  </a:lnTo>
                  <a:lnTo>
                    <a:pt x="256" y="493"/>
                  </a:lnTo>
                  <a:lnTo>
                    <a:pt x="236" y="514"/>
                  </a:lnTo>
                  <a:lnTo>
                    <a:pt x="226" y="545"/>
                  </a:lnTo>
                  <a:lnTo>
                    <a:pt x="205" y="565"/>
                  </a:lnTo>
                  <a:lnTo>
                    <a:pt x="185" y="586"/>
                  </a:lnTo>
                  <a:lnTo>
                    <a:pt x="164" y="606"/>
                  </a:lnTo>
                  <a:lnTo>
                    <a:pt x="154" y="627"/>
                  </a:lnTo>
                  <a:lnTo>
                    <a:pt x="143" y="647"/>
                  </a:lnTo>
                  <a:lnTo>
                    <a:pt x="133" y="668"/>
                  </a:lnTo>
                  <a:lnTo>
                    <a:pt x="123" y="678"/>
                  </a:lnTo>
                  <a:lnTo>
                    <a:pt x="113" y="688"/>
                  </a:lnTo>
                  <a:lnTo>
                    <a:pt x="102" y="699"/>
                  </a:lnTo>
                  <a:lnTo>
                    <a:pt x="102" y="719"/>
                  </a:lnTo>
                  <a:lnTo>
                    <a:pt x="92" y="730"/>
                  </a:lnTo>
                  <a:lnTo>
                    <a:pt x="82" y="750"/>
                  </a:lnTo>
                  <a:lnTo>
                    <a:pt x="82" y="760"/>
                  </a:lnTo>
                  <a:lnTo>
                    <a:pt x="71" y="771"/>
                  </a:lnTo>
                  <a:lnTo>
                    <a:pt x="61" y="781"/>
                  </a:lnTo>
                  <a:lnTo>
                    <a:pt x="51" y="801"/>
                  </a:lnTo>
                  <a:lnTo>
                    <a:pt x="51" y="812"/>
                  </a:lnTo>
                  <a:lnTo>
                    <a:pt x="41" y="832"/>
                  </a:lnTo>
                  <a:lnTo>
                    <a:pt x="30" y="843"/>
                  </a:lnTo>
                  <a:lnTo>
                    <a:pt x="30" y="863"/>
                  </a:lnTo>
                  <a:lnTo>
                    <a:pt x="20" y="873"/>
                  </a:lnTo>
                  <a:lnTo>
                    <a:pt x="20" y="894"/>
                  </a:lnTo>
                  <a:lnTo>
                    <a:pt x="10" y="904"/>
                  </a:lnTo>
                  <a:lnTo>
                    <a:pt x="10" y="914"/>
                  </a:lnTo>
                  <a:lnTo>
                    <a:pt x="0" y="935"/>
                  </a:lnTo>
                  <a:close/>
                </a:path>
              </a:pathLst>
            </a:custGeom>
            <a:gradFill rotWithShape="0">
              <a:gsLst>
                <a:gs pos="0">
                  <a:srgbClr val="0f7c82"/>
                </a:gs>
                <a:gs pos="100000">
                  <a:srgbClr val="000000"/>
                </a:gs>
              </a:gsLst>
              <a:lin ang="5400000"/>
            </a:gra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19"/>
            <p:cNvSpPr/>
            <p:nvPr/>
          </p:nvSpPr>
          <p:spPr>
            <a:xfrm rot="18127200">
              <a:off x="5039640" y="2820240"/>
              <a:ext cx="2569320" cy="1828440"/>
            </a:xfrm>
            <a:custGeom>
              <a:avLst/>
              <a:gdLst>
                <a:gd name="textAreaLeft" fmla="*/ 0 w 2569320"/>
                <a:gd name="textAreaRight" fmla="*/ 2569680 w 2569320"/>
                <a:gd name="textAreaTop" fmla="*/ 0 h 1828440"/>
                <a:gd name="textAreaBottom" fmla="*/ 1828800 h 1828440"/>
              </a:gdLst>
              <a:ahLst/>
              <a:rect l="textAreaLeft" t="textAreaTop" r="textAreaRight" b="textAreaBottom"/>
              <a:pathLst>
                <a:path w="1479" h="1006">
                  <a:moveTo>
                    <a:pt x="1479" y="71"/>
                  </a:moveTo>
                  <a:lnTo>
                    <a:pt x="1274" y="0"/>
                  </a:lnTo>
                  <a:lnTo>
                    <a:pt x="1274" y="10"/>
                  </a:lnTo>
                  <a:lnTo>
                    <a:pt x="1263" y="30"/>
                  </a:lnTo>
                  <a:lnTo>
                    <a:pt x="1253" y="51"/>
                  </a:lnTo>
                  <a:lnTo>
                    <a:pt x="1253" y="71"/>
                  </a:lnTo>
                  <a:lnTo>
                    <a:pt x="1243" y="92"/>
                  </a:lnTo>
                  <a:lnTo>
                    <a:pt x="1233" y="102"/>
                  </a:lnTo>
                  <a:lnTo>
                    <a:pt x="1222" y="123"/>
                  </a:lnTo>
                  <a:lnTo>
                    <a:pt x="1212" y="143"/>
                  </a:lnTo>
                  <a:lnTo>
                    <a:pt x="1202" y="164"/>
                  </a:lnTo>
                  <a:lnTo>
                    <a:pt x="1202" y="174"/>
                  </a:lnTo>
                  <a:lnTo>
                    <a:pt x="1181" y="195"/>
                  </a:lnTo>
                  <a:lnTo>
                    <a:pt x="1171" y="215"/>
                  </a:lnTo>
                  <a:lnTo>
                    <a:pt x="1171" y="226"/>
                  </a:lnTo>
                  <a:lnTo>
                    <a:pt x="1161" y="246"/>
                  </a:lnTo>
                  <a:lnTo>
                    <a:pt x="1150" y="256"/>
                  </a:lnTo>
                  <a:lnTo>
                    <a:pt x="1140" y="277"/>
                  </a:lnTo>
                  <a:lnTo>
                    <a:pt x="1120" y="287"/>
                  </a:lnTo>
                  <a:lnTo>
                    <a:pt x="1109" y="308"/>
                  </a:lnTo>
                  <a:lnTo>
                    <a:pt x="1109" y="318"/>
                  </a:lnTo>
                  <a:lnTo>
                    <a:pt x="1099" y="328"/>
                  </a:lnTo>
                  <a:lnTo>
                    <a:pt x="1078" y="349"/>
                  </a:lnTo>
                  <a:lnTo>
                    <a:pt x="1068" y="359"/>
                  </a:lnTo>
                  <a:lnTo>
                    <a:pt x="1048" y="390"/>
                  </a:lnTo>
                  <a:lnTo>
                    <a:pt x="1027" y="400"/>
                  </a:lnTo>
                  <a:lnTo>
                    <a:pt x="1007" y="421"/>
                  </a:lnTo>
                  <a:lnTo>
                    <a:pt x="986" y="441"/>
                  </a:lnTo>
                  <a:lnTo>
                    <a:pt x="965" y="462"/>
                  </a:lnTo>
                  <a:lnTo>
                    <a:pt x="945" y="482"/>
                  </a:lnTo>
                  <a:lnTo>
                    <a:pt x="935" y="493"/>
                  </a:lnTo>
                  <a:lnTo>
                    <a:pt x="904" y="513"/>
                  </a:lnTo>
                  <a:lnTo>
                    <a:pt x="883" y="534"/>
                  </a:lnTo>
                  <a:lnTo>
                    <a:pt x="863" y="544"/>
                  </a:lnTo>
                  <a:lnTo>
                    <a:pt x="832" y="565"/>
                  </a:lnTo>
                  <a:lnTo>
                    <a:pt x="811" y="575"/>
                  </a:lnTo>
                  <a:lnTo>
                    <a:pt x="780" y="595"/>
                  </a:lnTo>
                  <a:lnTo>
                    <a:pt x="750" y="606"/>
                  </a:lnTo>
                  <a:lnTo>
                    <a:pt x="729" y="626"/>
                  </a:lnTo>
                  <a:lnTo>
                    <a:pt x="698" y="637"/>
                  </a:lnTo>
                  <a:lnTo>
                    <a:pt x="678" y="647"/>
                  </a:lnTo>
                  <a:lnTo>
                    <a:pt x="657" y="657"/>
                  </a:lnTo>
                  <a:lnTo>
                    <a:pt x="626" y="667"/>
                  </a:lnTo>
                  <a:lnTo>
                    <a:pt x="606" y="678"/>
                  </a:lnTo>
                  <a:lnTo>
                    <a:pt x="575" y="678"/>
                  </a:lnTo>
                  <a:lnTo>
                    <a:pt x="544" y="688"/>
                  </a:lnTo>
                  <a:lnTo>
                    <a:pt x="524" y="698"/>
                  </a:lnTo>
                  <a:lnTo>
                    <a:pt x="493" y="708"/>
                  </a:lnTo>
                  <a:lnTo>
                    <a:pt x="462" y="708"/>
                  </a:lnTo>
                  <a:lnTo>
                    <a:pt x="431" y="719"/>
                  </a:lnTo>
                  <a:lnTo>
                    <a:pt x="400" y="719"/>
                  </a:lnTo>
                  <a:lnTo>
                    <a:pt x="370" y="729"/>
                  </a:lnTo>
                  <a:lnTo>
                    <a:pt x="339" y="729"/>
                  </a:lnTo>
                  <a:lnTo>
                    <a:pt x="308" y="729"/>
                  </a:lnTo>
                  <a:lnTo>
                    <a:pt x="277" y="729"/>
                  </a:lnTo>
                  <a:lnTo>
                    <a:pt x="246" y="729"/>
                  </a:lnTo>
                  <a:lnTo>
                    <a:pt x="246" y="657"/>
                  </a:lnTo>
                  <a:lnTo>
                    <a:pt x="0" y="822"/>
                  </a:lnTo>
                  <a:lnTo>
                    <a:pt x="246" y="1006"/>
                  </a:lnTo>
                  <a:lnTo>
                    <a:pt x="246" y="935"/>
                  </a:lnTo>
                  <a:lnTo>
                    <a:pt x="277" y="935"/>
                  </a:lnTo>
                  <a:lnTo>
                    <a:pt x="318" y="935"/>
                  </a:lnTo>
                  <a:lnTo>
                    <a:pt x="349" y="935"/>
                  </a:lnTo>
                  <a:lnTo>
                    <a:pt x="380" y="935"/>
                  </a:lnTo>
                  <a:lnTo>
                    <a:pt x="411" y="935"/>
                  </a:lnTo>
                  <a:lnTo>
                    <a:pt x="441" y="924"/>
                  </a:lnTo>
                  <a:lnTo>
                    <a:pt x="472" y="924"/>
                  </a:lnTo>
                  <a:lnTo>
                    <a:pt x="503" y="914"/>
                  </a:lnTo>
                  <a:lnTo>
                    <a:pt x="534" y="914"/>
                  </a:lnTo>
                  <a:lnTo>
                    <a:pt x="565" y="904"/>
                  </a:lnTo>
                  <a:lnTo>
                    <a:pt x="596" y="893"/>
                  </a:lnTo>
                  <a:lnTo>
                    <a:pt x="626" y="883"/>
                  </a:lnTo>
                  <a:lnTo>
                    <a:pt x="657" y="883"/>
                  </a:lnTo>
                  <a:lnTo>
                    <a:pt x="678" y="873"/>
                  </a:lnTo>
                  <a:lnTo>
                    <a:pt x="709" y="863"/>
                  </a:lnTo>
                  <a:lnTo>
                    <a:pt x="739" y="842"/>
                  </a:lnTo>
                  <a:lnTo>
                    <a:pt x="770" y="832"/>
                  </a:lnTo>
                  <a:lnTo>
                    <a:pt x="801" y="822"/>
                  </a:lnTo>
                  <a:lnTo>
                    <a:pt x="832" y="811"/>
                  </a:lnTo>
                  <a:lnTo>
                    <a:pt x="852" y="791"/>
                  </a:lnTo>
                  <a:lnTo>
                    <a:pt x="883" y="780"/>
                  </a:lnTo>
                  <a:lnTo>
                    <a:pt x="904" y="770"/>
                  </a:lnTo>
                  <a:lnTo>
                    <a:pt x="935" y="750"/>
                  </a:lnTo>
                  <a:lnTo>
                    <a:pt x="955" y="739"/>
                  </a:lnTo>
                  <a:lnTo>
                    <a:pt x="976" y="719"/>
                  </a:lnTo>
                  <a:lnTo>
                    <a:pt x="1007" y="698"/>
                  </a:lnTo>
                  <a:lnTo>
                    <a:pt x="1037" y="688"/>
                  </a:lnTo>
                  <a:lnTo>
                    <a:pt x="1058" y="667"/>
                  </a:lnTo>
                  <a:lnTo>
                    <a:pt x="1078" y="647"/>
                  </a:lnTo>
                  <a:lnTo>
                    <a:pt x="1099" y="626"/>
                  </a:lnTo>
                  <a:lnTo>
                    <a:pt x="1120" y="606"/>
                  </a:lnTo>
                  <a:lnTo>
                    <a:pt x="1140" y="595"/>
                  </a:lnTo>
                  <a:lnTo>
                    <a:pt x="1161" y="575"/>
                  </a:lnTo>
                  <a:lnTo>
                    <a:pt x="1181" y="544"/>
                  </a:lnTo>
                  <a:lnTo>
                    <a:pt x="1202" y="534"/>
                  </a:lnTo>
                  <a:lnTo>
                    <a:pt x="1222" y="513"/>
                  </a:lnTo>
                  <a:lnTo>
                    <a:pt x="1243" y="482"/>
                  </a:lnTo>
                  <a:lnTo>
                    <a:pt x="1253" y="462"/>
                  </a:lnTo>
                  <a:lnTo>
                    <a:pt x="1274" y="441"/>
                  </a:lnTo>
                  <a:lnTo>
                    <a:pt x="1294" y="421"/>
                  </a:lnTo>
                  <a:lnTo>
                    <a:pt x="1315" y="390"/>
                  </a:lnTo>
                  <a:lnTo>
                    <a:pt x="1325" y="369"/>
                  </a:lnTo>
                  <a:lnTo>
                    <a:pt x="1335" y="349"/>
                  </a:lnTo>
                  <a:lnTo>
                    <a:pt x="1346" y="339"/>
                  </a:lnTo>
                  <a:lnTo>
                    <a:pt x="1356" y="328"/>
                  </a:lnTo>
                  <a:lnTo>
                    <a:pt x="1366" y="318"/>
                  </a:lnTo>
                  <a:lnTo>
                    <a:pt x="1376" y="297"/>
                  </a:lnTo>
                  <a:lnTo>
                    <a:pt x="1376" y="287"/>
                  </a:lnTo>
                  <a:lnTo>
                    <a:pt x="1387" y="277"/>
                  </a:lnTo>
                  <a:lnTo>
                    <a:pt x="1397" y="256"/>
                  </a:lnTo>
                  <a:lnTo>
                    <a:pt x="1397" y="246"/>
                  </a:lnTo>
                  <a:lnTo>
                    <a:pt x="1407" y="236"/>
                  </a:lnTo>
                  <a:lnTo>
                    <a:pt x="1418" y="215"/>
                  </a:lnTo>
                  <a:lnTo>
                    <a:pt x="1428" y="205"/>
                  </a:lnTo>
                  <a:lnTo>
                    <a:pt x="1428" y="184"/>
                  </a:lnTo>
                  <a:lnTo>
                    <a:pt x="1438" y="174"/>
                  </a:lnTo>
                  <a:lnTo>
                    <a:pt x="1448" y="154"/>
                  </a:lnTo>
                  <a:lnTo>
                    <a:pt x="1448" y="143"/>
                  </a:lnTo>
                  <a:lnTo>
                    <a:pt x="1459" y="133"/>
                  </a:lnTo>
                  <a:lnTo>
                    <a:pt x="1459" y="113"/>
                  </a:lnTo>
                  <a:lnTo>
                    <a:pt x="1469" y="102"/>
                  </a:lnTo>
                  <a:lnTo>
                    <a:pt x="1469" y="82"/>
                  </a:lnTo>
                  <a:lnTo>
                    <a:pt x="1479" y="71"/>
                  </a:lnTo>
                  <a:close/>
                </a:path>
              </a:pathLst>
            </a:custGeom>
            <a:gradFill rotWithShape="0">
              <a:gsLst>
                <a:gs pos="0">
                  <a:srgbClr val="8490b0"/>
                </a:gs>
                <a:gs pos="100000">
                  <a:srgbClr val="ff00ff"/>
                </a:gs>
              </a:gsLst>
              <a:lin ang="5400000"/>
            </a:gra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6840" y="418680"/>
            <a:ext cx="8304120" cy="87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IVES OF QUALITY CONTROL</a:t>
            </a:r>
            <a:endParaRPr b="1" lang="en-US" sz="3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9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7E4C3-27BB-4BFA-849A-F0A114010121}" type="slidenum">
              <a:rPr b="0" lang="en-US" sz="14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itle 1"/>
          <p:cNvSpPr/>
          <p:nvPr/>
        </p:nvSpPr>
        <p:spPr>
          <a:xfrm>
            <a:off x="473040" y="1090440"/>
            <a:ext cx="8304120" cy="53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To produce 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ptimum quality at economic rat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To ensure 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atisfaction of customers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products and services of higher quality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velo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procedure for 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ood vendor and vendee relations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To improve 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uality and productivit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Evaluation of quality standards of incoming material, product, WIP and outgoing product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Judging the 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formity of the proces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Reduction in 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cra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work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Few customer complaints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Reduction in inspection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6840" y="418680"/>
            <a:ext cx="8304120" cy="87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Quality Assurance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2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F7531-4ADD-4F54-AE80-9F72E4235344}" type="slidenum">
              <a:rPr b="0" lang="en-US" sz="14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itle 1"/>
          <p:cNvSpPr/>
          <p:nvPr/>
        </p:nvSpPr>
        <p:spPr>
          <a:xfrm>
            <a:off x="582480" y="1595520"/>
            <a:ext cx="8304480" cy="26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unction of Quality Assurance is to focus on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ssuring process and product quality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ough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onal audits,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upplying of training,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arrying out of technical analysis, and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giving of advice on quality improvement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6840" y="418680"/>
            <a:ext cx="8304120" cy="87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Quality Assurance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5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DCF55-0895-41F7-97D3-E76906177B6D}" type="slidenum">
              <a:rPr b="0" lang="en-US" sz="14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itle 1"/>
          <p:cNvSpPr/>
          <p:nvPr/>
        </p:nvSpPr>
        <p:spPr>
          <a:xfrm>
            <a:off x="473040" y="1090440"/>
            <a:ext cx="8304120" cy="23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ole of Quality Assurance is to consult with the departments (design and production for example) where responsibility for quality actually rest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ounded Rectangle 1"/>
          <p:cNvSpPr/>
          <p:nvPr/>
        </p:nvSpPr>
        <p:spPr>
          <a:xfrm>
            <a:off x="2170080" y="3821040"/>
            <a:ext cx="1692360" cy="84636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ounded Rectangle 6"/>
          <p:cNvSpPr/>
          <p:nvPr/>
        </p:nvSpPr>
        <p:spPr>
          <a:xfrm>
            <a:off x="4230720" y="3821040"/>
            <a:ext cx="2374920" cy="84636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ufacturing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ounded Rectangle 7"/>
          <p:cNvSpPr/>
          <p:nvPr/>
        </p:nvSpPr>
        <p:spPr>
          <a:xfrm>
            <a:off x="6850080" y="3821040"/>
            <a:ext cx="1911240" cy="84636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el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Down Arrow 2"/>
          <p:cNvSpPr/>
          <p:nvPr/>
        </p:nvSpPr>
        <p:spPr>
          <a:xfrm>
            <a:off x="2968560" y="4791240"/>
            <a:ext cx="204840" cy="545760"/>
          </a:xfrm>
          <a:prstGeom prst="downArrow">
            <a:avLst>
              <a:gd name="adj1" fmla="val 50000"/>
              <a:gd name="adj2" fmla="val 49956"/>
            </a:avLst>
          </a:prstGeom>
          <a:solidFill>
            <a:srgbClr val="c0c0c0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Down Arrow 8"/>
          <p:cNvSpPr/>
          <p:nvPr/>
        </p:nvSpPr>
        <p:spPr>
          <a:xfrm>
            <a:off x="5316480" y="4819680"/>
            <a:ext cx="203400" cy="546120"/>
          </a:xfrm>
          <a:prstGeom prst="downArrow">
            <a:avLst>
              <a:gd name="adj1" fmla="val 50000"/>
              <a:gd name="adj2" fmla="val 50343"/>
            </a:avLst>
          </a:prstGeom>
          <a:solidFill>
            <a:srgbClr val="c0c0c0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Down Arrow 9"/>
          <p:cNvSpPr/>
          <p:nvPr/>
        </p:nvSpPr>
        <p:spPr>
          <a:xfrm>
            <a:off x="7805880" y="4807080"/>
            <a:ext cx="204480" cy="544320"/>
          </a:xfrm>
          <a:prstGeom prst="downArrow">
            <a:avLst>
              <a:gd name="adj1" fmla="val 50000"/>
              <a:gd name="adj2" fmla="val 49912"/>
            </a:avLst>
          </a:prstGeom>
          <a:solidFill>
            <a:srgbClr val="c0c0c0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ounded Rectangle 10"/>
          <p:cNvSpPr/>
          <p:nvPr/>
        </p:nvSpPr>
        <p:spPr>
          <a:xfrm>
            <a:off x="473040" y="5092560"/>
            <a:ext cx="1492200" cy="11034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r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Equal 3"/>
          <p:cNvSpPr/>
          <p:nvPr/>
        </p:nvSpPr>
        <p:spPr>
          <a:xfrm>
            <a:off x="1965240" y="5460840"/>
            <a:ext cx="409680" cy="368640"/>
          </a:xfrm>
          <a:custGeom>
            <a:avLst/>
            <a:gdLst/>
            <a:ahLst/>
            <a:rect l="l" t="t" r="r" b="b"/>
            <a:pathLst>
              <a:path w="409575" h="368300">
                <a:moveTo>
                  <a:pt x="54289" y="75870"/>
                </a:moveTo>
                <a:lnTo>
                  <a:pt x="355286" y="75870"/>
                </a:lnTo>
                <a:lnTo>
                  <a:pt x="355286" y="162494"/>
                </a:lnTo>
                <a:lnTo>
                  <a:pt x="54289" y="162494"/>
                </a:lnTo>
                <a:lnTo>
                  <a:pt x="54289" y="75870"/>
                </a:lnTo>
                <a:close/>
                <a:moveTo>
                  <a:pt x="54289" y="205806"/>
                </a:moveTo>
                <a:lnTo>
                  <a:pt x="355286" y="205806"/>
                </a:lnTo>
                <a:lnTo>
                  <a:pt x="355286" y="292430"/>
                </a:lnTo>
                <a:lnTo>
                  <a:pt x="54289" y="292430"/>
                </a:lnTo>
                <a:lnTo>
                  <a:pt x="54289" y="205806"/>
                </a:lnTo>
                <a:close/>
              </a:path>
            </a:pathLst>
          </a:custGeom>
          <a:solidFill>
            <a:srgbClr val="c0c0c0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ounded Rectangle 12"/>
          <p:cNvSpPr/>
          <p:nvPr/>
        </p:nvSpPr>
        <p:spPr>
          <a:xfrm>
            <a:off x="2374920" y="5351400"/>
            <a:ext cx="1596960" cy="84636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l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ounded Rectangle 13"/>
          <p:cNvSpPr/>
          <p:nvPr/>
        </p:nvSpPr>
        <p:spPr>
          <a:xfrm>
            <a:off x="4230720" y="5365800"/>
            <a:ext cx="2155680" cy="8460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lity of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ormanc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ounded Rectangle 14"/>
          <p:cNvSpPr/>
          <p:nvPr/>
        </p:nvSpPr>
        <p:spPr>
          <a:xfrm>
            <a:off x="6647040" y="5378400"/>
            <a:ext cx="2114280" cy="84636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lity of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us 4"/>
          <p:cNvSpPr/>
          <p:nvPr/>
        </p:nvSpPr>
        <p:spPr>
          <a:xfrm>
            <a:off x="3971880" y="5691240"/>
            <a:ext cx="258840" cy="272880"/>
          </a:xfrm>
          <a:custGeom>
            <a:avLst/>
            <a:gdLst/>
            <a:ahLst/>
            <a:rect l="l" t="t" r="r" b="b"/>
            <a:pathLst>
              <a:path w="258763" h="273050">
                <a:moveTo>
                  <a:pt x="34299" y="106094"/>
                </a:moveTo>
                <a:lnTo>
                  <a:pt x="98951" y="106094"/>
                </a:lnTo>
                <a:lnTo>
                  <a:pt x="98951" y="36193"/>
                </a:lnTo>
                <a:lnTo>
                  <a:pt x="159812" y="36193"/>
                </a:lnTo>
                <a:lnTo>
                  <a:pt x="159812" y="106094"/>
                </a:lnTo>
                <a:lnTo>
                  <a:pt x="224464" y="106094"/>
                </a:lnTo>
                <a:lnTo>
                  <a:pt x="224464" y="166956"/>
                </a:lnTo>
                <a:lnTo>
                  <a:pt x="159812" y="166956"/>
                </a:lnTo>
                <a:lnTo>
                  <a:pt x="159812" y="236857"/>
                </a:lnTo>
                <a:lnTo>
                  <a:pt x="98951" y="236857"/>
                </a:lnTo>
                <a:lnTo>
                  <a:pt x="98951" y="166956"/>
                </a:lnTo>
                <a:lnTo>
                  <a:pt x="34299" y="166956"/>
                </a:lnTo>
                <a:lnTo>
                  <a:pt x="34299" y="106094"/>
                </a:lnTo>
                <a:close/>
              </a:path>
            </a:pathLst>
          </a:custGeom>
          <a:solidFill>
            <a:srgbClr val="c0c0c0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us 16"/>
          <p:cNvSpPr/>
          <p:nvPr/>
        </p:nvSpPr>
        <p:spPr>
          <a:xfrm>
            <a:off x="6375240" y="5707080"/>
            <a:ext cx="260640" cy="272880"/>
          </a:xfrm>
          <a:custGeom>
            <a:avLst/>
            <a:gdLst/>
            <a:ahLst/>
            <a:rect l="l" t="t" r="r" b="b"/>
            <a:pathLst>
              <a:path w="260350" h="273050">
                <a:moveTo>
                  <a:pt x="34509" y="105908"/>
                </a:moveTo>
                <a:lnTo>
                  <a:pt x="99558" y="105908"/>
                </a:lnTo>
                <a:lnTo>
                  <a:pt x="99558" y="36193"/>
                </a:lnTo>
                <a:lnTo>
                  <a:pt x="160792" y="36193"/>
                </a:lnTo>
                <a:lnTo>
                  <a:pt x="160792" y="105908"/>
                </a:lnTo>
                <a:lnTo>
                  <a:pt x="225841" y="105908"/>
                </a:lnTo>
                <a:lnTo>
                  <a:pt x="225841" y="167142"/>
                </a:lnTo>
                <a:lnTo>
                  <a:pt x="160792" y="167142"/>
                </a:lnTo>
                <a:lnTo>
                  <a:pt x="160792" y="236857"/>
                </a:lnTo>
                <a:lnTo>
                  <a:pt x="99558" y="236857"/>
                </a:lnTo>
                <a:lnTo>
                  <a:pt x="99558" y="167142"/>
                </a:lnTo>
                <a:lnTo>
                  <a:pt x="34509" y="167142"/>
                </a:lnTo>
                <a:lnTo>
                  <a:pt x="34509" y="105908"/>
                </a:lnTo>
                <a:close/>
              </a:path>
            </a:pathLst>
          </a:custGeom>
          <a:solidFill>
            <a:srgbClr val="c0c0c0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6840" y="419040"/>
            <a:ext cx="8304120" cy="70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Quality Assurance Vs. Quality control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1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70F77-D232-436F-9BF5-C2AAE91FD6EC}" type="slidenum">
              <a:rPr b="0" lang="en-US" sz="14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2" name=""/>
          <p:cNvGraphicFramePr/>
          <p:nvPr/>
        </p:nvGraphicFramePr>
        <p:xfrm>
          <a:off x="492120" y="1044720"/>
          <a:ext cx="8215200" cy="5346720"/>
        </p:xfrm>
        <a:graphic>
          <a:graphicData uri="http://schemas.openxmlformats.org/drawingml/2006/table">
            <a:tbl>
              <a:tblPr/>
              <a:tblGrid>
                <a:gridCol w="4108320"/>
                <a:gridCol w="4106880"/>
              </a:tblGrid>
              <a:tr h="529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lity Assurance (QA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lity Control (QC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006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 is a procedure that focuses on providing assurance that quality request will be achieved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 is a procedure that focuses on fulfilling the quality reques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8"/>
                    </a:solidFill>
                  </a:tcPr>
                </a:tc>
              </a:tr>
              <a:tr h="412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A aims to prevent the defec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4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C aims to identify and fix defect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4f4"/>
                    </a:solidFill>
                  </a:tcPr>
                </a:tc>
              </a:tr>
              <a:tr h="762840">
                <a:tc>
                  <a:txBody>
                    <a:bodyPr lIns="76320" rIns="76320" tIns="76320" bIns="76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 does not involve executing the program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6320" marR="76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lIns="76320" rIns="76320" tIns="76320" bIns="76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 always involves executing a program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6320" marR="76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8"/>
                    </a:solidFill>
                  </a:tcPr>
                </a:tc>
              </a:tr>
              <a:tr h="436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's a Preventive techniqu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4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's a Corrective techniqu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4f4"/>
                    </a:solidFill>
                  </a:tcPr>
                </a:tc>
              </a:tr>
              <a:tr h="491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's a Proactive measur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's a Reactive measur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8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 is performed before Quality Control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4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 is performed only after QA activity is don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4f4"/>
                    </a:solidFill>
                  </a:tcPr>
                </a:tc>
              </a:tr>
              <a:tr h="1006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tistical technique applied on QA is known as SPC or Statistical Process Control (SPC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tistical technique applied on QC is known as SQC or Statistical Quality Control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Title 1"/>
          <p:cNvSpPr/>
          <p:nvPr/>
        </p:nvSpPr>
        <p:spPr>
          <a:xfrm>
            <a:off x="763560" y="419040"/>
            <a:ext cx="799776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Inspection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itle 1"/>
          <p:cNvSpPr/>
          <p:nvPr/>
        </p:nvSpPr>
        <p:spPr>
          <a:xfrm>
            <a:off x="473040" y="1090440"/>
            <a:ext cx="8304120" cy="14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cess of checking of material, products or components of product at various stages in manufacturing is called as inspection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itle 1"/>
          <p:cNvSpPr/>
          <p:nvPr/>
        </p:nvSpPr>
        <p:spPr>
          <a:xfrm>
            <a:off x="515880" y="2662200"/>
            <a:ext cx="8304120" cy="33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of Inspection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5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meet interchangeability of manufactur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5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ensure that the material, part or a component conforms to the established standard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5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maintain customer relation by ensuring that no faulty product reaches the customer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5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helps to eliminate or reduce the field complaint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Title 1"/>
          <p:cNvSpPr/>
          <p:nvPr/>
        </p:nvSpPr>
        <p:spPr>
          <a:xfrm>
            <a:off x="763560" y="419040"/>
            <a:ext cx="799776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Inspection stage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itle 1"/>
          <p:cNvSpPr/>
          <p:nvPr/>
        </p:nvSpPr>
        <p:spPr>
          <a:xfrm>
            <a:off x="457200" y="1378080"/>
            <a:ext cx="8304120" cy="19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oming inspection / Receiving Inspe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rocess Inspe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 inspe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Quality of design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9" name="Rectangle 3"/>
          <p:cNvSpPr/>
          <p:nvPr/>
        </p:nvSpPr>
        <p:spPr>
          <a:xfrm>
            <a:off x="58752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ing quality characteristics into a product or servi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ercedes and a Ford are equally “fit for use,” but with different design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Picture 4" descr=""/>
          <p:cNvPicPr/>
          <p:nvPr/>
        </p:nvPicPr>
        <p:blipFill>
          <a:blip r:embed="rId1"/>
          <a:stretch/>
        </p:blipFill>
        <p:spPr>
          <a:xfrm>
            <a:off x="4862520" y="2214720"/>
            <a:ext cx="3757680" cy="186984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5" descr=""/>
          <p:cNvPicPr/>
          <p:nvPr/>
        </p:nvPicPr>
        <p:blipFill>
          <a:blip r:embed="rId2"/>
          <a:stretch/>
        </p:blipFill>
        <p:spPr>
          <a:xfrm>
            <a:off x="4862520" y="4226040"/>
            <a:ext cx="3905280" cy="18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Quality of characteristics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3" name="Rectangle 3"/>
          <p:cNvSpPr/>
          <p:nvPr/>
        </p:nvSpPr>
        <p:spPr>
          <a:xfrm>
            <a:off x="457200" y="1897200"/>
            <a:ext cx="8209080" cy="45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hysical or chemical property, a dimension, temperature, pressure, taste, smell or any other requirements used to define the nature of the product or service is a quality characteristics.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FC988-5169-41F7-BE1A-78C775AF9DCA}" type="slidenum">
              <a:rPr b="0" lang="en-US" sz="14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Defining Quality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95360" y="1581120"/>
            <a:ext cx="8115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5f5f5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quality is a subjective term for which each person has his or her own definition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5f5f5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hat’s your definition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Quality of Conformance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5" name="Rectangle 3"/>
          <p:cNvSpPr/>
          <p:nvPr/>
        </p:nvSpPr>
        <p:spPr>
          <a:xfrm>
            <a:off x="457200" y="1373040"/>
            <a:ext cx="8209080" cy="50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king sure a product or service is produced according to design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new tires do not conform to specifications, they wobbl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 hotel room is not clean when a guest checks in, the hotel is not functioning according to  specifications of its desig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59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Quality Circle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7" name="Rectangle 27"/>
          <p:cNvSpPr/>
          <p:nvPr/>
        </p:nvSpPr>
        <p:spPr>
          <a:xfrm>
            <a:off x="658800" y="975240"/>
            <a:ext cx="772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a small group of members working together who meets each other with a view to analyzing &amp; resolving work related probl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27"/>
          <p:cNvSpPr/>
          <p:nvPr/>
        </p:nvSpPr>
        <p:spPr>
          <a:xfrm>
            <a:off x="360360" y="2451240"/>
            <a:ext cx="4029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“a way of capturing the creative and innovative power that lies within the work force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27"/>
          <p:cNvSpPr/>
          <p:nvPr/>
        </p:nvSpPr>
        <p:spPr>
          <a:xfrm rot="20840400">
            <a:off x="1019160" y="4523760"/>
            <a:ext cx="391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t is better for one hundred people to take one step than for one person to take a hundr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0" name="Picture 34" descr=""/>
          <p:cNvPicPr/>
          <p:nvPr/>
        </p:nvPicPr>
        <p:blipFill>
          <a:blip r:embed="rId1"/>
          <a:stretch/>
        </p:blipFill>
        <p:spPr>
          <a:xfrm>
            <a:off x="4780080" y="2644920"/>
            <a:ext cx="3701880" cy="34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7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Quality Circle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662" name="Group 32"/>
          <p:cNvGrpSpPr/>
          <p:nvPr/>
        </p:nvGrpSpPr>
        <p:grpSpPr>
          <a:xfrm>
            <a:off x="1744560" y="1119240"/>
            <a:ext cx="6332400" cy="5251320"/>
            <a:chOff x="1744560" y="1119240"/>
            <a:chExt cx="6332400" cy="5251320"/>
          </a:xfrm>
        </p:grpSpPr>
        <p:sp>
          <p:nvSpPr>
            <p:cNvPr id="663" name="Rectangle 31"/>
            <p:cNvSpPr/>
            <p:nvPr/>
          </p:nvSpPr>
          <p:spPr>
            <a:xfrm>
              <a:off x="1846080" y="1119240"/>
              <a:ext cx="6230520" cy="52513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4" name="Group 3"/>
            <p:cNvGrpSpPr/>
            <p:nvPr/>
          </p:nvGrpSpPr>
          <p:grpSpPr>
            <a:xfrm>
              <a:off x="2152800" y="1271160"/>
              <a:ext cx="5514840" cy="4954320"/>
              <a:chOff x="2152800" y="1271160"/>
              <a:chExt cx="5514840" cy="4954320"/>
            </a:xfrm>
          </p:grpSpPr>
          <p:sp>
            <p:nvSpPr>
              <p:cNvPr id="665" name="Freeform 4"/>
              <p:cNvSpPr/>
              <p:nvPr/>
            </p:nvSpPr>
            <p:spPr>
              <a:xfrm rot="325200">
                <a:off x="3430440" y="2238120"/>
                <a:ext cx="420480" cy="273960"/>
              </a:xfrm>
              <a:custGeom>
                <a:avLst/>
                <a:gdLst>
                  <a:gd name="textAreaLeft" fmla="*/ 0 w 420480"/>
                  <a:gd name="textAreaRight" fmla="*/ 420840 w 420480"/>
                  <a:gd name="textAreaTop" fmla="*/ 0 h 273960"/>
                  <a:gd name="textAreaBottom" fmla="*/ 274320 h 273960"/>
                </a:gdLst>
                <a:ahLst/>
                <a:rect l="textAreaLeft" t="textAreaTop" r="textAreaRight" b="textAreaBottom"/>
                <a:pathLst>
                  <a:path w="229" h="194">
                    <a:moveTo>
                      <a:pt x="0" y="194"/>
                    </a:moveTo>
                    <a:cubicBezTo>
                      <a:pt x="12" y="179"/>
                      <a:pt x="48" y="129"/>
                      <a:pt x="72" y="104"/>
                    </a:cubicBezTo>
                    <a:cubicBezTo>
                      <a:pt x="96" y="79"/>
                      <a:pt x="120" y="59"/>
                      <a:pt x="146" y="42"/>
                    </a:cubicBezTo>
                    <a:cubicBezTo>
                      <a:pt x="172" y="25"/>
                      <a:pt x="212" y="9"/>
                      <a:pt x="229" y="0"/>
                    </a:cubicBezTo>
                  </a:path>
                </a:pathLst>
              </a:custGeom>
              <a:solidFill>
                <a:srgbClr val="ff0000"/>
              </a:solidFill>
              <a:ln w="57240">
                <a:solidFill>
                  <a:srgbClr val="ff0000"/>
                </a:solidFill>
                <a:round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Freeform 5"/>
              <p:cNvSpPr/>
              <p:nvPr/>
            </p:nvSpPr>
            <p:spPr>
              <a:xfrm rot="15105000">
                <a:off x="3636000" y="5200560"/>
                <a:ext cx="323280" cy="356400"/>
              </a:xfrm>
              <a:custGeom>
                <a:avLst/>
                <a:gdLst>
                  <a:gd name="textAreaLeft" fmla="*/ 0 w 323280"/>
                  <a:gd name="textAreaRight" fmla="*/ 323640 w 323280"/>
                  <a:gd name="textAreaTop" fmla="*/ 0 h 356400"/>
                  <a:gd name="textAreaBottom" fmla="*/ 356400 h 356400"/>
                </a:gdLst>
                <a:ahLst/>
                <a:rect l="textAreaLeft" t="textAreaTop" r="textAreaRight" b="textAreaBottom"/>
                <a:pathLst>
                  <a:path w="229" h="194">
                    <a:moveTo>
                      <a:pt x="0" y="194"/>
                    </a:moveTo>
                    <a:cubicBezTo>
                      <a:pt x="12" y="179"/>
                      <a:pt x="48" y="129"/>
                      <a:pt x="72" y="104"/>
                    </a:cubicBezTo>
                    <a:cubicBezTo>
                      <a:pt x="96" y="79"/>
                      <a:pt x="120" y="59"/>
                      <a:pt x="146" y="42"/>
                    </a:cubicBezTo>
                    <a:cubicBezTo>
                      <a:pt x="172" y="25"/>
                      <a:pt x="212" y="9"/>
                      <a:pt x="229" y="0"/>
                    </a:cubicBezTo>
                  </a:path>
                </a:pathLst>
              </a:custGeom>
              <a:solidFill>
                <a:srgbClr val="ff0000"/>
              </a:solidFill>
              <a:ln w="57240">
                <a:solidFill>
                  <a:srgbClr val="ff0000"/>
                </a:solidFill>
                <a:round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Freeform 6"/>
              <p:cNvSpPr/>
              <p:nvPr/>
            </p:nvSpPr>
            <p:spPr>
              <a:xfrm rot="18624000">
                <a:off x="2449800" y="3684240"/>
                <a:ext cx="322920" cy="355680"/>
              </a:xfrm>
              <a:custGeom>
                <a:avLst/>
                <a:gdLst>
                  <a:gd name="textAreaLeft" fmla="*/ 0 w 322920"/>
                  <a:gd name="textAreaRight" fmla="*/ 323280 w 322920"/>
                  <a:gd name="textAreaTop" fmla="*/ 0 h 355680"/>
                  <a:gd name="textAreaBottom" fmla="*/ 355680 h 355680"/>
                </a:gdLst>
                <a:ahLst/>
                <a:rect l="textAreaLeft" t="textAreaTop" r="textAreaRight" b="textAreaBottom"/>
                <a:pathLst>
                  <a:path w="229" h="194">
                    <a:moveTo>
                      <a:pt x="0" y="194"/>
                    </a:moveTo>
                    <a:cubicBezTo>
                      <a:pt x="12" y="179"/>
                      <a:pt x="48" y="129"/>
                      <a:pt x="72" y="104"/>
                    </a:cubicBezTo>
                    <a:cubicBezTo>
                      <a:pt x="96" y="79"/>
                      <a:pt x="120" y="59"/>
                      <a:pt x="146" y="42"/>
                    </a:cubicBezTo>
                    <a:cubicBezTo>
                      <a:pt x="172" y="25"/>
                      <a:pt x="212" y="9"/>
                      <a:pt x="229" y="0"/>
                    </a:cubicBezTo>
                  </a:path>
                </a:pathLst>
              </a:custGeom>
              <a:solidFill>
                <a:srgbClr val="ff0000"/>
              </a:solidFill>
              <a:ln w="57240">
                <a:solidFill>
                  <a:srgbClr val="ff0000"/>
                </a:solidFill>
                <a:round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7"/>
              <p:cNvSpPr/>
              <p:nvPr/>
            </p:nvSpPr>
            <p:spPr>
              <a:xfrm rot="7730400">
                <a:off x="7026840" y="3665880"/>
                <a:ext cx="323280" cy="356400"/>
              </a:xfrm>
              <a:custGeom>
                <a:avLst/>
                <a:gdLst>
                  <a:gd name="textAreaLeft" fmla="*/ 0 w 323280"/>
                  <a:gd name="textAreaRight" fmla="*/ 323640 w 323280"/>
                  <a:gd name="textAreaTop" fmla="*/ 0 h 356400"/>
                  <a:gd name="textAreaBottom" fmla="*/ 356400 h 356400"/>
                </a:gdLst>
                <a:ahLst/>
                <a:rect l="textAreaLeft" t="textAreaTop" r="textAreaRight" b="textAreaBottom"/>
                <a:pathLst>
                  <a:path w="229" h="194">
                    <a:moveTo>
                      <a:pt x="0" y="194"/>
                    </a:moveTo>
                    <a:cubicBezTo>
                      <a:pt x="12" y="179"/>
                      <a:pt x="48" y="129"/>
                      <a:pt x="72" y="104"/>
                    </a:cubicBezTo>
                    <a:cubicBezTo>
                      <a:pt x="96" y="79"/>
                      <a:pt x="120" y="59"/>
                      <a:pt x="146" y="42"/>
                    </a:cubicBezTo>
                    <a:cubicBezTo>
                      <a:pt x="172" y="25"/>
                      <a:pt x="212" y="9"/>
                      <a:pt x="229" y="0"/>
                    </a:cubicBezTo>
                  </a:path>
                </a:pathLst>
              </a:custGeom>
              <a:solidFill>
                <a:srgbClr val="ff0000"/>
              </a:solidFill>
              <a:ln w="57240">
                <a:solidFill>
                  <a:srgbClr val="ff0000"/>
                </a:solidFill>
                <a:round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Freeform 8"/>
              <p:cNvSpPr/>
              <p:nvPr/>
            </p:nvSpPr>
            <p:spPr>
              <a:xfrm rot="4287600">
                <a:off x="5912640" y="2132280"/>
                <a:ext cx="323280" cy="356400"/>
              </a:xfrm>
              <a:custGeom>
                <a:avLst/>
                <a:gdLst>
                  <a:gd name="textAreaLeft" fmla="*/ 0 w 323280"/>
                  <a:gd name="textAreaRight" fmla="*/ 323640 w 323280"/>
                  <a:gd name="textAreaTop" fmla="*/ 0 h 356400"/>
                  <a:gd name="textAreaBottom" fmla="*/ 356400 h 356400"/>
                </a:gdLst>
                <a:ahLst/>
                <a:rect l="textAreaLeft" t="textAreaTop" r="textAreaRight" b="textAreaBottom"/>
                <a:pathLst>
                  <a:path w="229" h="194">
                    <a:moveTo>
                      <a:pt x="0" y="194"/>
                    </a:moveTo>
                    <a:cubicBezTo>
                      <a:pt x="12" y="179"/>
                      <a:pt x="48" y="129"/>
                      <a:pt x="72" y="104"/>
                    </a:cubicBezTo>
                    <a:cubicBezTo>
                      <a:pt x="96" y="79"/>
                      <a:pt x="120" y="59"/>
                      <a:pt x="146" y="42"/>
                    </a:cubicBezTo>
                    <a:cubicBezTo>
                      <a:pt x="172" y="25"/>
                      <a:pt x="212" y="9"/>
                      <a:pt x="229" y="0"/>
                    </a:cubicBezTo>
                  </a:path>
                </a:pathLst>
              </a:custGeom>
              <a:solidFill>
                <a:srgbClr val="ff0000"/>
              </a:solidFill>
              <a:ln w="57240">
                <a:solidFill>
                  <a:srgbClr val="ff0000"/>
                </a:solidFill>
                <a:round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Freeform 9"/>
              <p:cNvSpPr/>
              <p:nvPr/>
            </p:nvSpPr>
            <p:spPr>
              <a:xfrm flipH="1" flipV="1" rot="592800">
                <a:off x="5834880" y="5216400"/>
                <a:ext cx="420480" cy="273600"/>
              </a:xfrm>
              <a:custGeom>
                <a:avLst/>
                <a:gdLst>
                  <a:gd name="textAreaLeft" fmla="*/ 360 w 420480"/>
                  <a:gd name="textAreaRight" fmla="*/ 421200 w 420480"/>
                  <a:gd name="textAreaTop" fmla="*/ 360 h 273600"/>
                  <a:gd name="textAreaBottom" fmla="*/ 274320 h 273600"/>
                </a:gdLst>
                <a:ahLst/>
                <a:rect l="textAreaLeft" t="textAreaTop" r="textAreaRight" b="textAreaBottom"/>
                <a:pathLst>
                  <a:path w="229" h="194">
                    <a:moveTo>
                      <a:pt x="0" y="194"/>
                    </a:moveTo>
                    <a:cubicBezTo>
                      <a:pt x="12" y="179"/>
                      <a:pt x="48" y="129"/>
                      <a:pt x="72" y="104"/>
                    </a:cubicBezTo>
                    <a:cubicBezTo>
                      <a:pt x="96" y="79"/>
                      <a:pt x="120" y="59"/>
                      <a:pt x="146" y="42"/>
                    </a:cubicBezTo>
                    <a:cubicBezTo>
                      <a:pt x="172" y="25"/>
                      <a:pt x="212" y="9"/>
                      <a:pt x="229" y="0"/>
                    </a:cubicBezTo>
                  </a:path>
                </a:pathLst>
              </a:custGeom>
              <a:solidFill>
                <a:srgbClr val="ff0000"/>
              </a:solidFill>
              <a:ln w="57240">
                <a:solidFill>
                  <a:srgbClr val="ff0000"/>
                </a:solidFill>
                <a:round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1" name="Group 10"/>
              <p:cNvGrpSpPr/>
              <p:nvPr/>
            </p:nvGrpSpPr>
            <p:grpSpPr>
              <a:xfrm>
                <a:off x="2152800" y="2335320"/>
                <a:ext cx="1842840" cy="1417680"/>
                <a:chOff x="2152800" y="2335320"/>
                <a:chExt cx="1842840" cy="1417680"/>
              </a:xfrm>
            </p:grpSpPr>
            <p:sp>
              <p:nvSpPr>
                <p:cNvPr id="672" name="Oval 11"/>
                <p:cNvSpPr/>
                <p:nvPr/>
              </p:nvSpPr>
              <p:spPr>
                <a:xfrm>
                  <a:off x="2152800" y="2335320"/>
                  <a:ext cx="1842840" cy="1417680"/>
                </a:xfrm>
                <a:prstGeom prst="ellipse">
                  <a:avLst/>
                </a:prstGeom>
                <a:solidFill>
                  <a:srgbClr val="33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Rectangle 12"/>
                <p:cNvSpPr/>
                <p:nvPr/>
              </p:nvSpPr>
              <p:spPr>
                <a:xfrm>
                  <a:off x="2419920" y="2707560"/>
                  <a:ext cx="1308600" cy="67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resentation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Implementation</a:t>
                  </a: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Monitoring</a:t>
                  </a: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4" name="Group 13"/>
              <p:cNvGrpSpPr/>
              <p:nvPr/>
            </p:nvGrpSpPr>
            <p:grpSpPr>
              <a:xfrm>
                <a:off x="2154240" y="3971880"/>
                <a:ext cx="1843200" cy="1417680"/>
                <a:chOff x="2154240" y="3971880"/>
                <a:chExt cx="1843200" cy="1417680"/>
              </a:xfrm>
            </p:grpSpPr>
            <p:sp>
              <p:nvSpPr>
                <p:cNvPr id="675" name="Oval 14"/>
                <p:cNvSpPr/>
                <p:nvPr/>
              </p:nvSpPr>
              <p:spPr>
                <a:xfrm>
                  <a:off x="2154240" y="3971880"/>
                  <a:ext cx="1843200" cy="1417680"/>
                </a:xfrm>
                <a:prstGeom prst="ellipse">
                  <a:avLst/>
                </a:prstGeom>
                <a:solidFill>
                  <a:srgbClr val="e3cf95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" name="Rectangle 15"/>
                <p:cNvSpPr/>
                <p:nvPr/>
              </p:nvSpPr>
              <p:spPr>
                <a:xfrm>
                  <a:off x="2406600" y="4345920"/>
                  <a:ext cx="1335960" cy="48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olution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Problem results</a:t>
                  </a: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7" name="Group 16"/>
              <p:cNvGrpSpPr/>
              <p:nvPr/>
            </p:nvGrpSpPr>
            <p:grpSpPr>
              <a:xfrm>
                <a:off x="3979440" y="4808160"/>
                <a:ext cx="1842840" cy="1417320"/>
                <a:chOff x="3979440" y="4808160"/>
                <a:chExt cx="1842840" cy="1417320"/>
              </a:xfrm>
            </p:grpSpPr>
            <p:sp>
              <p:nvSpPr>
                <p:cNvPr id="678" name="Oval 17"/>
                <p:cNvSpPr/>
                <p:nvPr/>
              </p:nvSpPr>
              <p:spPr>
                <a:xfrm>
                  <a:off x="3979440" y="4808160"/>
                  <a:ext cx="1842840" cy="1417320"/>
                </a:xfrm>
                <a:prstGeom prst="ellipse">
                  <a:avLst/>
                </a:prstGeom>
                <a:solidFill>
                  <a:srgbClr val="cccc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Rectangle 18"/>
                <p:cNvSpPr/>
                <p:nvPr/>
              </p:nvSpPr>
              <p:spPr>
                <a:xfrm>
                  <a:off x="4078440" y="4980240"/>
                  <a:ext cx="1644840" cy="10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roblem Analysis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ause and effect</a:t>
                  </a: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ata collection and analysis</a:t>
                  </a: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0" name="Group 19"/>
              <p:cNvGrpSpPr/>
              <p:nvPr/>
            </p:nvGrpSpPr>
            <p:grpSpPr>
              <a:xfrm>
                <a:off x="5824440" y="3973680"/>
                <a:ext cx="1843200" cy="1417320"/>
                <a:chOff x="5824440" y="3973680"/>
                <a:chExt cx="1843200" cy="1417320"/>
              </a:xfrm>
            </p:grpSpPr>
            <p:sp>
              <p:nvSpPr>
                <p:cNvPr id="681" name="Oval 20"/>
                <p:cNvSpPr/>
                <p:nvPr/>
              </p:nvSpPr>
              <p:spPr>
                <a:xfrm>
                  <a:off x="5824440" y="3973680"/>
                  <a:ext cx="1843200" cy="1417320"/>
                </a:xfrm>
                <a:prstGeom prst="ellipse">
                  <a:avLst/>
                </a:prstGeom>
                <a:solidFill>
                  <a:srgbClr val="ffcc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Rectangle 21"/>
                <p:cNvSpPr/>
                <p:nvPr/>
              </p:nvSpPr>
              <p:spPr>
                <a:xfrm>
                  <a:off x="5961960" y="4145400"/>
                  <a:ext cx="1567800" cy="10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roblem Identification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List alternatives</a:t>
                  </a: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onsensus</a:t>
                  </a: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Brainstorming</a:t>
                  </a: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3" name="Group 22"/>
              <p:cNvGrpSpPr/>
              <p:nvPr/>
            </p:nvGrpSpPr>
            <p:grpSpPr>
              <a:xfrm>
                <a:off x="5823000" y="2334240"/>
                <a:ext cx="1842840" cy="1417320"/>
                <a:chOff x="5823000" y="2334240"/>
                <a:chExt cx="1842840" cy="1417320"/>
              </a:xfrm>
            </p:grpSpPr>
            <p:sp>
              <p:nvSpPr>
                <p:cNvPr id="684" name="Oval 23"/>
                <p:cNvSpPr/>
                <p:nvPr/>
              </p:nvSpPr>
              <p:spPr>
                <a:xfrm>
                  <a:off x="5823000" y="2334240"/>
                  <a:ext cx="1842840" cy="1417320"/>
                </a:xfrm>
                <a:prstGeom prst="ellipse">
                  <a:avLst/>
                </a:prstGeom>
                <a:solidFill>
                  <a:srgbClr val="ffff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Rectangle 24"/>
                <p:cNvSpPr/>
                <p:nvPr/>
              </p:nvSpPr>
              <p:spPr>
                <a:xfrm>
                  <a:off x="5912640" y="2563200"/>
                  <a:ext cx="1665360" cy="85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Training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Group processes</a:t>
                  </a: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ata collection</a:t>
                  </a: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Problem analysis</a:t>
                  </a: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6" name="Group 25"/>
              <p:cNvGrpSpPr/>
              <p:nvPr/>
            </p:nvGrpSpPr>
            <p:grpSpPr>
              <a:xfrm>
                <a:off x="3845520" y="1271160"/>
                <a:ext cx="2176920" cy="1630800"/>
                <a:chOff x="3845520" y="1271160"/>
                <a:chExt cx="2176920" cy="1630800"/>
              </a:xfrm>
            </p:grpSpPr>
            <p:sp>
              <p:nvSpPr>
                <p:cNvPr id="687" name="Oval 26"/>
                <p:cNvSpPr/>
                <p:nvPr/>
              </p:nvSpPr>
              <p:spPr>
                <a:xfrm>
                  <a:off x="3845520" y="1271160"/>
                  <a:ext cx="2120040" cy="1630800"/>
                </a:xfrm>
                <a:prstGeom prst="ellipse">
                  <a:avLst/>
                </a:prstGeom>
                <a:solidFill>
                  <a:srgbClr val="e2cd92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" name="Rectangle 27"/>
                <p:cNvSpPr/>
                <p:nvPr/>
              </p:nvSpPr>
              <p:spPr>
                <a:xfrm>
                  <a:off x="3935160" y="1542600"/>
                  <a:ext cx="2087280" cy="85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Organization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8-10 members</a:t>
                  </a: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Same area</a:t>
                  </a: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Supervisor/moderator</a:t>
                  </a: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89" name="Rectangle 30"/>
            <p:cNvSpPr/>
            <p:nvPr/>
          </p:nvSpPr>
          <p:spPr>
            <a:xfrm>
              <a:off x="1744560" y="1194840"/>
              <a:ext cx="6332400" cy="5099040"/>
            </a:xfrm>
            <a:prstGeom prst="rect">
              <a:avLst/>
            </a:prstGeom>
            <a:noFill/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7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Objectives of Quality Circle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1" name="Rectangle 27"/>
          <p:cNvSpPr/>
          <p:nvPr/>
        </p:nvSpPr>
        <p:spPr>
          <a:xfrm>
            <a:off x="630360" y="1725840"/>
            <a:ext cx="800892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o improve quality &amp; productivity of produc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o promote consciousness among workers about quality, safety &amp; cost of production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o give opportunity to the employees to learn new techniques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o improve employee motivation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o develop a proper problem solving methodology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o develop healthy relationship between supervisors &amp; subordinates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7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Quality Circle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93" name="Picture 2" descr=""/>
          <p:cNvPicPr/>
          <p:nvPr/>
        </p:nvPicPr>
        <p:blipFill>
          <a:blip r:embed="rId1"/>
          <a:stretch/>
        </p:blipFill>
        <p:spPr>
          <a:xfrm>
            <a:off x="376200" y="2181240"/>
            <a:ext cx="3922920" cy="3605040"/>
          </a:xfrm>
          <a:prstGeom prst="rect">
            <a:avLst/>
          </a:prstGeom>
          <a:ln w="0">
            <a:noFill/>
          </a:ln>
        </p:spPr>
      </p:pic>
      <p:sp>
        <p:nvSpPr>
          <p:cNvPr id="694" name="Rectangle 2"/>
          <p:cNvSpPr/>
          <p:nvPr/>
        </p:nvSpPr>
        <p:spPr>
          <a:xfrm>
            <a:off x="441360" y="1430280"/>
            <a:ext cx="31179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Advanta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2"/>
          <p:cNvSpPr/>
          <p:nvPr/>
        </p:nvSpPr>
        <p:spPr>
          <a:xfrm>
            <a:off x="4827600" y="1511280"/>
            <a:ext cx="31179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limita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6" name="Picture 4" descr=""/>
          <p:cNvPicPr/>
          <p:nvPr/>
        </p:nvPicPr>
        <p:blipFill>
          <a:blip r:embed="rId2"/>
          <a:stretch/>
        </p:blipFill>
        <p:spPr>
          <a:xfrm>
            <a:off x="4259160" y="2108160"/>
            <a:ext cx="4583160" cy="31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7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Quality Circle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8" name="Rectangle 2"/>
          <p:cNvSpPr/>
          <p:nvPr/>
        </p:nvSpPr>
        <p:spPr>
          <a:xfrm>
            <a:off x="441360" y="1430280"/>
            <a:ext cx="31179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Exampl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Picture 2" descr=""/>
          <p:cNvPicPr/>
          <p:nvPr/>
        </p:nvPicPr>
        <p:blipFill>
          <a:blip r:embed="rId1"/>
          <a:stretch/>
        </p:blipFill>
        <p:spPr>
          <a:xfrm>
            <a:off x="652320" y="2087640"/>
            <a:ext cx="8025120" cy="32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76080" y="456840"/>
            <a:ext cx="5105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Cost of Quality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701" name="Picture 2" descr="Image result for cost of quality diagram"/>
          <p:cNvPicPr/>
          <p:nvPr/>
        </p:nvPicPr>
        <p:blipFill>
          <a:blip r:embed="rId1"/>
          <a:stretch/>
        </p:blipFill>
        <p:spPr>
          <a:xfrm>
            <a:off x="1023840" y="1143000"/>
            <a:ext cx="7074000" cy="53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AutoShape 2"/>
          <p:cNvSpPr/>
          <p:nvPr/>
        </p:nvSpPr>
        <p:spPr>
          <a:xfrm>
            <a:off x="262080" y="-3650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AutoShape 4"/>
          <p:cNvSpPr/>
          <p:nvPr/>
        </p:nvSpPr>
        <p:spPr>
          <a:xfrm>
            <a:off x="262080" y="-3650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AutoShape 6"/>
          <p:cNvSpPr/>
          <p:nvPr/>
        </p:nvSpPr>
        <p:spPr>
          <a:xfrm>
            <a:off x="262080" y="-3650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45"/>
          <p:cNvSpPr/>
          <p:nvPr/>
        </p:nvSpPr>
        <p:spPr>
          <a:xfrm>
            <a:off x="687240" y="423720"/>
            <a:ext cx="5105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Cost of Quality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ctangle 45"/>
          <p:cNvSpPr/>
          <p:nvPr/>
        </p:nvSpPr>
        <p:spPr>
          <a:xfrm>
            <a:off x="685800" y="1168560"/>
            <a:ext cx="8028000" cy="50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ket research cos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 research &amp; developm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esign cos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 of manufactur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 of inspection and tes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 of defect preven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 of scrap, quality preven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 of quality assuranc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eld service cost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AutoShape 2"/>
          <p:cNvSpPr/>
          <p:nvPr/>
        </p:nvSpPr>
        <p:spPr>
          <a:xfrm>
            <a:off x="262080" y="-3650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AutoShape 4"/>
          <p:cNvSpPr/>
          <p:nvPr/>
        </p:nvSpPr>
        <p:spPr>
          <a:xfrm>
            <a:off x="262080" y="-3650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AutoShape 6"/>
          <p:cNvSpPr/>
          <p:nvPr/>
        </p:nvSpPr>
        <p:spPr>
          <a:xfrm>
            <a:off x="262080" y="-3650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Picture 2" descr="Image result for cost of quality diagram"/>
          <p:cNvPicPr/>
          <p:nvPr/>
        </p:nvPicPr>
        <p:blipFill>
          <a:blip r:embed="rId1"/>
          <a:stretch/>
        </p:blipFill>
        <p:spPr>
          <a:xfrm>
            <a:off x="471600" y="1143000"/>
            <a:ext cx="8126280" cy="5094360"/>
          </a:xfrm>
          <a:prstGeom prst="rect">
            <a:avLst/>
          </a:prstGeom>
          <a:ln w="0">
            <a:noFill/>
          </a:ln>
        </p:spPr>
      </p:pic>
      <p:sp>
        <p:nvSpPr>
          <p:cNvPr id="711" name="Rectangle 45"/>
          <p:cNvSpPr/>
          <p:nvPr/>
        </p:nvSpPr>
        <p:spPr>
          <a:xfrm>
            <a:off x="676440" y="457200"/>
            <a:ext cx="5105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Cost of Quality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AutoShape 2"/>
          <p:cNvSpPr/>
          <p:nvPr/>
        </p:nvSpPr>
        <p:spPr>
          <a:xfrm>
            <a:off x="262080" y="-3650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AutoShape 4"/>
          <p:cNvSpPr/>
          <p:nvPr/>
        </p:nvSpPr>
        <p:spPr>
          <a:xfrm>
            <a:off x="262080" y="-3650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AutoShape 6"/>
          <p:cNvSpPr/>
          <p:nvPr/>
        </p:nvSpPr>
        <p:spPr>
          <a:xfrm>
            <a:off x="262080" y="-3650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5" name="Picture 2" descr="Image result for cost of quality diagram"/>
          <p:cNvPicPr/>
          <p:nvPr/>
        </p:nvPicPr>
        <p:blipFill>
          <a:blip r:embed="rId1"/>
          <a:stretch/>
        </p:blipFill>
        <p:spPr>
          <a:xfrm>
            <a:off x="669960" y="1077840"/>
            <a:ext cx="7780320" cy="5186520"/>
          </a:xfrm>
          <a:prstGeom prst="rect">
            <a:avLst/>
          </a:prstGeom>
          <a:ln w="0">
            <a:noFill/>
          </a:ln>
        </p:spPr>
      </p:pic>
      <p:sp>
        <p:nvSpPr>
          <p:cNvPr id="716" name="Rectangle 45"/>
          <p:cNvSpPr/>
          <p:nvPr/>
        </p:nvSpPr>
        <p:spPr>
          <a:xfrm>
            <a:off x="457200" y="525600"/>
            <a:ext cx="5105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Cost of Quality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4C9FA-AD77-41F7-9A12-0FCFD74387DC}" type="slidenum">
              <a:rPr b="0" lang="en-US" sz="14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Defining Quality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95360" y="1581120"/>
            <a:ext cx="8115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5f5f5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n technical usage, quality can have following meanings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0000"/>
                </a:solidFill>
                <a:uFillTx/>
                <a:latin typeface="Arial"/>
              </a:rPr>
              <a:t>“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Arial"/>
              </a:rPr>
              <a:t>a product or service free of deficiencies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0000"/>
                </a:solidFill>
                <a:uFillTx/>
                <a:latin typeface="Arial"/>
              </a:rPr>
              <a:t>“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Arial"/>
              </a:rPr>
              <a:t>non-faulty systems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0000"/>
                </a:solidFill>
                <a:uFillTx/>
                <a:latin typeface="Arial"/>
              </a:rPr>
              <a:t>“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Arial"/>
              </a:rPr>
              <a:t>fitness for use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0000"/>
                </a:solidFill>
                <a:uFillTx/>
                <a:latin typeface="Arial"/>
              </a:rPr>
              <a:t>“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Arial"/>
              </a:rPr>
              <a:t>conformance to requirements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0000"/>
                </a:solidFill>
                <a:uFillTx/>
                <a:latin typeface="Arial"/>
              </a:rPr>
              <a:t>“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Arial"/>
              </a:rPr>
              <a:t>Customer satisfaction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AutoShape 2"/>
          <p:cNvSpPr/>
          <p:nvPr/>
        </p:nvSpPr>
        <p:spPr>
          <a:xfrm>
            <a:off x="262080" y="-3650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AutoShape 4"/>
          <p:cNvSpPr/>
          <p:nvPr/>
        </p:nvSpPr>
        <p:spPr>
          <a:xfrm>
            <a:off x="262080" y="-3650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AutoShape 6"/>
          <p:cNvSpPr/>
          <p:nvPr/>
        </p:nvSpPr>
        <p:spPr>
          <a:xfrm>
            <a:off x="262080" y="-3650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45"/>
          <p:cNvSpPr/>
          <p:nvPr/>
        </p:nvSpPr>
        <p:spPr>
          <a:xfrm>
            <a:off x="457200" y="525600"/>
            <a:ext cx="8307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Cost of Quality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45"/>
          <p:cNvSpPr/>
          <p:nvPr/>
        </p:nvSpPr>
        <p:spPr>
          <a:xfrm>
            <a:off x="422280" y="1322280"/>
            <a:ext cx="844056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93000"/>
          </a:bodyPr>
          <a:p>
            <a:pPr marL="850320" indent="-850320">
              <a:lnSpc>
                <a:spcPct val="7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1. Prevention Cos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50320" indent="-850320">
              <a:lnSpc>
                <a:spcPct val="70000"/>
              </a:lnSpc>
              <a:buClr>
                <a:srgbClr val="000000"/>
              </a:buClr>
              <a:buSzPct val="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alaries and developmental cos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0320" indent="-850320">
              <a:lnSpc>
                <a:spcPct val="70000"/>
              </a:lnSpc>
              <a:buClr>
                <a:srgbClr val="000000"/>
              </a:buClr>
              <a:buSzPct val="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ducation and trai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0320" indent="-850320">
              <a:lnSpc>
                <a:spcPct val="70000"/>
              </a:lnSpc>
              <a:buClr>
                <a:srgbClr val="000000"/>
              </a:buClr>
              <a:buSzPct val="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efect identification and remov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0320" indent="-850320">
              <a:lnSpc>
                <a:spcPct val="70000"/>
              </a:lnSpc>
              <a:buClr>
                <a:srgbClr val="000000"/>
              </a:buClr>
              <a:buSzPct val="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ost of a quality audi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0320" indent="-850320">
              <a:lnSpc>
                <a:spcPct val="7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2. External Failure Costs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50320" indent="-850320">
              <a:lnSpc>
                <a:spcPct val="70000"/>
              </a:lnSpc>
              <a:buClr>
                <a:srgbClr val="000000"/>
              </a:buClr>
              <a:buSzPct val="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ustomer complai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0320" indent="-850320">
              <a:lnSpc>
                <a:spcPct val="70000"/>
              </a:lnSpc>
              <a:buClr>
                <a:srgbClr val="000000"/>
              </a:buClr>
              <a:buSzPct val="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handling, repair and replacement of defective product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0320" indent="-850320">
              <a:lnSpc>
                <a:spcPct val="70000"/>
              </a:lnSpc>
              <a:buClr>
                <a:srgbClr val="000000"/>
              </a:buClr>
              <a:buSzPct val="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Warranty cos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0320" indent="-850320">
              <a:lnSpc>
                <a:spcPct val="7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3. Appraisal Cos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50320" indent="-850320">
              <a:lnSpc>
                <a:spcPct val="70000"/>
              </a:lnSpc>
              <a:buClr>
                <a:srgbClr val="000000"/>
              </a:buClr>
              <a:buSzPct val="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easuring, evaluating, or inspecting product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0320" indent="-850320">
              <a:lnSpc>
                <a:spcPct val="70000"/>
              </a:lnSpc>
              <a:buClr>
                <a:srgbClr val="000000"/>
              </a:buClr>
              <a:buSzPct val="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est of incoming material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0320" indent="-850320">
              <a:lnSpc>
                <a:spcPct val="70000"/>
              </a:lnSpc>
              <a:buClr>
                <a:srgbClr val="000000"/>
              </a:buClr>
              <a:buSzPct val="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roduct inspection and testing at various stag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0320" indent="-850320">
              <a:lnSpc>
                <a:spcPct val="7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4. Internal Failure Costs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50320" indent="-850320">
              <a:lnSpc>
                <a:spcPct val="70000"/>
              </a:lnSpc>
              <a:buClr>
                <a:srgbClr val="000000"/>
              </a:buClr>
              <a:buSzPct val="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nclude labor and overhead cost associated with any internal repai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0320" indent="-850320">
              <a:lnSpc>
                <a:spcPct val="7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AutoShape 2"/>
          <p:cNvSpPr/>
          <p:nvPr/>
        </p:nvSpPr>
        <p:spPr>
          <a:xfrm>
            <a:off x="262080" y="-3650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AutoShape 4"/>
          <p:cNvSpPr/>
          <p:nvPr/>
        </p:nvSpPr>
        <p:spPr>
          <a:xfrm>
            <a:off x="262080" y="-3650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AutoShape 6"/>
          <p:cNvSpPr/>
          <p:nvPr/>
        </p:nvSpPr>
        <p:spPr>
          <a:xfrm>
            <a:off x="262080" y="-3650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Picture 2" descr="Image result for value of quality"/>
          <p:cNvPicPr/>
          <p:nvPr/>
        </p:nvPicPr>
        <p:blipFill>
          <a:blip r:embed="rId1"/>
          <a:stretch/>
        </p:blipFill>
        <p:spPr>
          <a:xfrm>
            <a:off x="457200" y="1392120"/>
            <a:ext cx="7134120" cy="4584960"/>
          </a:xfrm>
          <a:prstGeom prst="rect">
            <a:avLst/>
          </a:prstGeom>
          <a:ln w="0">
            <a:noFill/>
          </a:ln>
        </p:spPr>
      </p:pic>
      <p:pic>
        <p:nvPicPr>
          <p:cNvPr id="726" name="Picture 6" descr="Image result for value of quality"/>
          <p:cNvPicPr/>
          <p:nvPr/>
        </p:nvPicPr>
        <p:blipFill>
          <a:blip r:embed="rId2"/>
          <a:stretch/>
        </p:blipFill>
        <p:spPr>
          <a:xfrm>
            <a:off x="5513400" y="388800"/>
            <a:ext cx="3262320" cy="2884680"/>
          </a:xfrm>
          <a:prstGeom prst="rect">
            <a:avLst/>
          </a:prstGeom>
          <a:ln w="0">
            <a:noFill/>
          </a:ln>
        </p:spPr>
      </p:pic>
      <p:sp>
        <p:nvSpPr>
          <p:cNvPr id="727" name="Rectangle 45"/>
          <p:cNvSpPr/>
          <p:nvPr/>
        </p:nvSpPr>
        <p:spPr>
          <a:xfrm>
            <a:off x="457200" y="525600"/>
            <a:ext cx="5105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Value of Quality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45"/>
          <p:cNvSpPr/>
          <p:nvPr/>
        </p:nvSpPr>
        <p:spPr>
          <a:xfrm>
            <a:off x="3421080" y="4730760"/>
            <a:ext cx="535464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turn direct or indirect gained by manufacturer due to mission QC is called as value of quality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AutoShape 2"/>
          <p:cNvSpPr/>
          <p:nvPr/>
        </p:nvSpPr>
        <p:spPr>
          <a:xfrm>
            <a:off x="262080" y="-3650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AutoShape 4"/>
          <p:cNvSpPr/>
          <p:nvPr/>
        </p:nvSpPr>
        <p:spPr>
          <a:xfrm>
            <a:off x="262080" y="-3650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AutoShape 6"/>
          <p:cNvSpPr/>
          <p:nvPr/>
        </p:nvSpPr>
        <p:spPr>
          <a:xfrm>
            <a:off x="262080" y="-3650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2" name="Picture 2" descr="Image result for cost of quality diagram"/>
          <p:cNvPicPr/>
          <p:nvPr/>
        </p:nvPicPr>
        <p:blipFill>
          <a:blip r:embed="rId1"/>
          <a:stretch/>
        </p:blipFill>
        <p:spPr>
          <a:xfrm>
            <a:off x="414360" y="1065240"/>
            <a:ext cx="7939080" cy="5459400"/>
          </a:xfrm>
          <a:prstGeom prst="rect">
            <a:avLst/>
          </a:prstGeom>
          <a:ln w="0">
            <a:noFill/>
          </a:ln>
        </p:spPr>
      </p:pic>
      <p:sp>
        <p:nvSpPr>
          <p:cNvPr id="733" name="Rectangle 45"/>
          <p:cNvSpPr/>
          <p:nvPr/>
        </p:nvSpPr>
        <p:spPr>
          <a:xfrm>
            <a:off x="457200" y="525600"/>
            <a:ext cx="8236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Cost of Quality Vs. Value of Quality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TQM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95360" y="1581120"/>
            <a:ext cx="8115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850"/>
              </a:spcBef>
              <a:buClr>
                <a:srgbClr val="5f5f5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otal - made up of the whol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850"/>
              </a:spcBef>
              <a:buClr>
                <a:srgbClr val="5f5f5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Quality - degree of excellence a product or service provid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850"/>
              </a:spcBef>
              <a:buClr>
                <a:srgbClr val="5f5f5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anagement - act, art or manner of planning, controlling, directing,…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Therefore, TQM is the art of managing the whole to achieve excellence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Why TQM?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95360" y="1581120"/>
            <a:ext cx="8115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rd Motor Company had operating losses of $3.3 billion between 1980 and 1982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Xerox market share dropped from 93% in 1971 to 40% in 1981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ttention to quality was seen as a way to combat the competition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Why TQM?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739" name="Picture 5" descr=""/>
          <p:cNvPicPr/>
          <p:nvPr/>
        </p:nvPicPr>
        <p:blipFill>
          <a:blip r:embed="rId1"/>
          <a:stretch/>
        </p:blipFill>
        <p:spPr>
          <a:xfrm>
            <a:off x="487440" y="1243080"/>
            <a:ext cx="7404120" cy="3902040"/>
          </a:xfrm>
          <a:prstGeom prst="rect">
            <a:avLst/>
          </a:prstGeom>
          <a:ln w="0">
            <a:noFill/>
          </a:ln>
        </p:spPr>
      </p:pic>
      <p:sp>
        <p:nvSpPr>
          <p:cNvPr id="740" name="Rectangle 3"/>
          <p:cNvSpPr/>
          <p:nvPr/>
        </p:nvSpPr>
        <p:spPr>
          <a:xfrm>
            <a:off x="480960" y="5219640"/>
            <a:ext cx="770580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the right things right the first time, every time.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577800"/>
          </a:xfrm>
          <a:prstGeom prst="rect">
            <a:avLst/>
          </a:prstGeom>
          <a:noFill/>
          <a:ln w="0">
            <a:noFill/>
          </a:ln>
          <a:effectLst>
            <a:outerShdw dist="56832" dir="3796358" blurRad="0" rotWithShape="0">
              <a:srgbClr val="cbcbcb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Objectives of TQM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77360" y="996840"/>
            <a:ext cx="811692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Total client satisfaction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through quality products and services; an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ontinuous improvements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</a:rPr>
              <a:t>processes, systems, people, suppliers, partners, products, and service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Picture 8" descr="Image result for continuous improvement"/>
          <p:cNvPicPr/>
          <p:nvPr/>
        </p:nvPicPr>
        <p:blipFill>
          <a:blip r:embed="rId1"/>
          <a:stretch/>
        </p:blipFill>
        <p:spPr>
          <a:xfrm>
            <a:off x="1568520" y="3699000"/>
            <a:ext cx="4711680" cy="27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cbc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2" dur="1" fill="hold"/>
                                  <p:tgtEl>
                                    <p:spTgt spid="74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cbc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566640" y="582480"/>
            <a:ext cx="7826400" cy="578160"/>
          </a:xfrm>
          <a:prstGeom prst="rect">
            <a:avLst/>
          </a:prstGeom>
          <a:noFill/>
          <a:ln w="0">
            <a:noFill/>
          </a:ln>
          <a:effectLst>
            <a:outerShdw dist="56832" dir="3796358" blurRad="0" rotWithShape="0">
              <a:srgbClr val="cbcbcb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Strategic Implications of TQM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5" name="Rectangle 3"/>
          <p:cNvSpPr/>
          <p:nvPr/>
        </p:nvSpPr>
        <p:spPr>
          <a:xfrm>
            <a:off x="657360" y="1603440"/>
            <a:ext cx="731520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5f5f5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Strong leadershi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5f5f5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Goal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visi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mis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5f5f5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Operational plans and polici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5f5f5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Mechanism for feedbac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7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7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7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2"/>
          <p:cNvSpPr/>
          <p:nvPr/>
        </p:nvSpPr>
        <p:spPr>
          <a:xfrm>
            <a:off x="2362320" y="380880"/>
            <a:ext cx="609588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cbc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Productivity and TQM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95360" y="1581120"/>
            <a:ext cx="8115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5f5f5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raditional view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uality cannot be improved without significant losses in productivit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5f5f5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QM view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proved quality leads to improved productivit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23640" y="419040"/>
            <a:ext cx="8515080" cy="79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TQM and Continuous Improvement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79080" y="990360"/>
            <a:ext cx="8413560" cy="284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QM is the management process used to make continuous improvements to all fun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QM represents an ongoing, continuous commitment to improv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1" name="Picture 1" descr=""/>
          <p:cNvPicPr/>
          <p:nvPr/>
        </p:nvPicPr>
        <p:blipFill>
          <a:blip r:embed="rId1"/>
          <a:stretch/>
        </p:blipFill>
        <p:spPr>
          <a:xfrm>
            <a:off x="3181320" y="3575160"/>
            <a:ext cx="545148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AB9D7-474D-42D4-93CB-0FB124682E13}" type="slidenum">
              <a:rPr b="0" lang="en-US" sz="14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6840" y="418680"/>
            <a:ext cx="8248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Defining Quality- Different Views 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95360" y="1581120"/>
            <a:ext cx="811512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5f5f5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ustomer’s view (more subjectiv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quality of the design (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look, feel, function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5f5f5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ducer’s vie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conformance to requiremen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costs of quality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(prevention, scrap, warranty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creasing conformance 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raises profi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5f5f5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vernment’s vie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roducts should be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saf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not harmful to environme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Continuous Improvement versus Traditional Approach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4162680" cy="428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5f5f5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arket-share focu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5f5f5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dividual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5f5f5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cus on ‘who” and “why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5f5f5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hort-term focu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5f5f5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tatus quo focu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5f5f5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roduct focu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5f5f5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nov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5f5f5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re fight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419360" y="2133360"/>
            <a:ext cx="4438440" cy="436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5f5f5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ustomer focu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5f5f5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ross-functional team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5f5f5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cus on “what” and “how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5f5f5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ong-term focu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5f5f5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tinuous improveme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5f5f5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rocess improvement focu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5f5f5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cremental improvemen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5f5f5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roblem solv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5"/>
          <p:cNvSpPr/>
          <p:nvPr/>
        </p:nvSpPr>
        <p:spPr>
          <a:xfrm>
            <a:off x="1209240" y="1693080"/>
            <a:ext cx="27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raditional Approac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5"/>
          <p:cNvSpPr/>
          <p:nvPr/>
        </p:nvSpPr>
        <p:spPr>
          <a:xfrm>
            <a:off x="4607640" y="1681560"/>
            <a:ext cx="32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tinuous Improv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9" dur="500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5" dur="500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0" dur="500"/>
                                        <p:tgtEl>
                                          <p:spTgt spid="7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5" dur="500"/>
                                        <p:tgtEl>
                                          <p:spTgt spid="7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0" dur="500"/>
                                        <p:tgtEl>
                                          <p:spTgt spid="7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5" dur="500"/>
                                        <p:tgtEl>
                                          <p:spTgt spid="7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0" dur="500"/>
                                        <p:tgtEl>
                                          <p:spTgt spid="7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5" dur="500"/>
                                        <p:tgtEl>
                                          <p:spTgt spid="7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768240" y="519120"/>
            <a:ext cx="5639040" cy="66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Six Sigma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758" name="Picture 2" descr=""/>
          <p:cNvPicPr/>
          <p:nvPr/>
        </p:nvPicPr>
        <p:blipFill>
          <a:blip r:embed="rId1"/>
          <a:stretch/>
        </p:blipFill>
        <p:spPr>
          <a:xfrm>
            <a:off x="493560" y="1392120"/>
            <a:ext cx="8209080" cy="4886280"/>
          </a:xfrm>
          <a:prstGeom prst="rect">
            <a:avLst/>
          </a:prstGeom>
          <a:ln w="0">
            <a:noFill/>
          </a:ln>
        </p:spPr>
      </p:pic>
      <p:pic>
        <p:nvPicPr>
          <p:cNvPr id="759" name="Picture 4" descr=""/>
          <p:cNvPicPr/>
          <p:nvPr/>
        </p:nvPicPr>
        <p:blipFill>
          <a:blip r:embed="rId2"/>
          <a:stretch/>
        </p:blipFill>
        <p:spPr>
          <a:xfrm>
            <a:off x="3408480" y="324000"/>
            <a:ext cx="119988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809280" y="487440"/>
            <a:ext cx="5638680" cy="66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Six Sigma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23360" y="993240"/>
            <a:ext cx="8339400" cy="529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 sigma is a set of techniques and tools for process improv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orola developed the six-sigma program in the late 1980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rocess for developing and delivering near perfect products and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 of how much a process deviates from perf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4 defects per million opportu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500"/>
                                        <p:tgtEl>
                                          <p:spTgt spid="7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7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7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7" dur="500"/>
                                        <p:tgtEl>
                                          <p:spTgt spid="7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500"/>
                                        <p:tgtEl>
                                          <p:spTgt spid="7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809280" y="487440"/>
            <a:ext cx="5638680" cy="66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Six Sigma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763" name="Picture 2" descr=""/>
          <p:cNvPicPr/>
          <p:nvPr/>
        </p:nvPicPr>
        <p:blipFill>
          <a:blip r:embed="rId1"/>
          <a:stretch/>
        </p:blipFill>
        <p:spPr>
          <a:xfrm>
            <a:off x="473040" y="1147680"/>
            <a:ext cx="8278920" cy="50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809280" y="487440"/>
            <a:ext cx="5638680" cy="66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Six Sigma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765" name="Picture 2" descr="https://upload.wikimedia.org/wikipedia/commons/thumb/a/a3/6_Sigma_Normal_distribution.svg/500px-6_Sigma_Normal_distribution.svg.png"/>
          <p:cNvPicPr/>
          <p:nvPr/>
        </p:nvPicPr>
        <p:blipFill>
          <a:blip r:embed="rId1"/>
          <a:stretch/>
        </p:blipFill>
        <p:spPr>
          <a:xfrm>
            <a:off x="487440" y="1452600"/>
            <a:ext cx="8291520" cy="44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809280" y="407880"/>
            <a:ext cx="5638680" cy="67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Six Sigma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767" name="Picture 2" descr=""/>
          <p:cNvPicPr/>
          <p:nvPr/>
        </p:nvPicPr>
        <p:blipFill>
          <a:blip r:embed="rId1"/>
          <a:stretch/>
        </p:blipFill>
        <p:spPr>
          <a:xfrm>
            <a:off x="1041480" y="1004760"/>
            <a:ext cx="7454880" cy="550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8" name="Picture 2" descr="Stages of six sigma process&#10;Define&#10;Measure&#10;Analyze&#10;Improvement&#10;Control&#10; "/>
          <p:cNvPicPr/>
          <p:nvPr/>
        </p:nvPicPr>
        <p:blipFill>
          <a:blip r:embed="rId1"/>
          <a:stretch/>
        </p:blipFill>
        <p:spPr>
          <a:xfrm>
            <a:off x="477720" y="358920"/>
            <a:ext cx="8047080" cy="60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9" name="Picture 2" descr="Companies Currently Implementing Six&#10;Sigma:&#10;• Motorola&#10;• 3M&#10;• Lockheed Martin&#10;• Texas Instruments&#10;• Bell Helicopter&#10;• Appl..."/>
          <p:cNvPicPr/>
          <p:nvPr/>
        </p:nvPicPr>
        <p:blipFill>
          <a:blip r:embed="rId1"/>
          <a:stretch/>
        </p:blipFill>
        <p:spPr>
          <a:xfrm>
            <a:off x="520560" y="363600"/>
            <a:ext cx="8033040" cy="60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0" name="Group 32"/>
          <p:cNvGrpSpPr/>
          <p:nvPr/>
        </p:nvGrpSpPr>
        <p:grpSpPr>
          <a:xfrm>
            <a:off x="380880" y="1219320"/>
            <a:ext cx="8534520" cy="5219640"/>
            <a:chOff x="380880" y="1219320"/>
            <a:chExt cx="8534520" cy="5219640"/>
          </a:xfrm>
        </p:grpSpPr>
        <p:sp>
          <p:nvSpPr>
            <p:cNvPr id="771" name="Rectangle 22"/>
            <p:cNvSpPr/>
            <p:nvPr/>
          </p:nvSpPr>
          <p:spPr>
            <a:xfrm>
              <a:off x="380880" y="1219320"/>
              <a:ext cx="8534520" cy="5219640"/>
            </a:xfrm>
            <a:prstGeom prst="rect">
              <a:avLst/>
            </a:prstGeom>
            <a:solidFill>
              <a:srgbClr val="dcc27a"/>
            </a:solidFill>
            <a:ln w="255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72" name="Object 7"/>
            <p:cNvGraphicFramePr/>
            <p:nvPr/>
          </p:nvGraphicFramePr>
          <p:xfrm>
            <a:off x="1066680" y="2286000"/>
            <a:ext cx="7239240" cy="3959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73" name="Object 7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66680" y="2286000"/>
                      <a:ext cx="7239240" cy="3959280"/>
                    </a:xfrm>
                    <a:prstGeom prst="rect">
                      <a:avLst/>
                    </a:prstGeom>
                    <a:ln w="12600">
                      <a:solidFill>
                        <a:srgbClr val="dddddd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774" name="Group 40"/>
          <p:cNvGrpSpPr/>
          <p:nvPr/>
        </p:nvGrpSpPr>
        <p:grpSpPr>
          <a:xfrm>
            <a:off x="762120" y="1600200"/>
            <a:ext cx="1447560" cy="2438280"/>
            <a:chOff x="762120" y="1600200"/>
            <a:chExt cx="1447560" cy="2438280"/>
          </a:xfrm>
        </p:grpSpPr>
        <p:sp>
          <p:nvSpPr>
            <p:cNvPr id="775" name="Rectangle 27"/>
            <p:cNvSpPr/>
            <p:nvPr/>
          </p:nvSpPr>
          <p:spPr>
            <a:xfrm>
              <a:off x="762120" y="1600200"/>
              <a:ext cx="1371600" cy="45720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FINE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Line 33"/>
            <p:cNvSpPr/>
            <p:nvPr/>
          </p:nvSpPr>
          <p:spPr>
            <a:xfrm>
              <a:off x="1447920" y="2057400"/>
              <a:ext cx="761760" cy="198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7" name="Group 44"/>
          <p:cNvGrpSpPr/>
          <p:nvPr/>
        </p:nvGrpSpPr>
        <p:grpSpPr>
          <a:xfrm>
            <a:off x="7086240" y="1600200"/>
            <a:ext cx="1448280" cy="2438280"/>
            <a:chOff x="7086240" y="1600200"/>
            <a:chExt cx="1448280" cy="2438280"/>
          </a:xfrm>
        </p:grpSpPr>
        <p:sp>
          <p:nvSpPr>
            <p:cNvPr id="778" name="Rectangle 31"/>
            <p:cNvSpPr/>
            <p:nvPr/>
          </p:nvSpPr>
          <p:spPr>
            <a:xfrm>
              <a:off x="7162920" y="1600200"/>
              <a:ext cx="1371600" cy="45720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Line 35"/>
            <p:cNvSpPr/>
            <p:nvPr/>
          </p:nvSpPr>
          <p:spPr>
            <a:xfrm flipH="1">
              <a:off x="7086240" y="2057400"/>
              <a:ext cx="685800" cy="198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0" name="Group 43"/>
          <p:cNvGrpSpPr/>
          <p:nvPr/>
        </p:nvGrpSpPr>
        <p:grpSpPr>
          <a:xfrm>
            <a:off x="5565600" y="1600200"/>
            <a:ext cx="1371600" cy="2362320"/>
            <a:chOff x="5565600" y="1600200"/>
            <a:chExt cx="1371600" cy="2362320"/>
          </a:xfrm>
        </p:grpSpPr>
        <p:sp>
          <p:nvSpPr>
            <p:cNvPr id="781" name="Rectangle 30"/>
            <p:cNvSpPr/>
            <p:nvPr/>
          </p:nvSpPr>
          <p:spPr>
            <a:xfrm>
              <a:off x="5565600" y="1600200"/>
              <a:ext cx="1371600" cy="45720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MPROVE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Line 36"/>
            <p:cNvSpPr/>
            <p:nvPr/>
          </p:nvSpPr>
          <p:spPr>
            <a:xfrm flipH="1">
              <a:off x="6095880" y="2057400"/>
              <a:ext cx="152640" cy="190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Group 42"/>
          <p:cNvGrpSpPr/>
          <p:nvPr/>
        </p:nvGrpSpPr>
        <p:grpSpPr>
          <a:xfrm>
            <a:off x="3971880" y="1600200"/>
            <a:ext cx="1371600" cy="2438280"/>
            <a:chOff x="3971880" y="1600200"/>
            <a:chExt cx="1371600" cy="2438280"/>
          </a:xfrm>
        </p:grpSpPr>
        <p:sp>
          <p:nvSpPr>
            <p:cNvPr id="784" name="Rectangle 29"/>
            <p:cNvSpPr/>
            <p:nvPr/>
          </p:nvSpPr>
          <p:spPr>
            <a:xfrm>
              <a:off x="3971880" y="1600200"/>
              <a:ext cx="1371600" cy="45720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NALYZE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Line 37"/>
            <p:cNvSpPr/>
            <p:nvPr/>
          </p:nvSpPr>
          <p:spPr>
            <a:xfrm>
              <a:off x="4267080" y="2057400"/>
              <a:ext cx="762120" cy="198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6" name="Group 41"/>
          <p:cNvGrpSpPr/>
          <p:nvPr/>
        </p:nvGrpSpPr>
        <p:grpSpPr>
          <a:xfrm>
            <a:off x="2362320" y="1600200"/>
            <a:ext cx="1371600" cy="2438280"/>
            <a:chOff x="2362320" y="1600200"/>
            <a:chExt cx="1371600" cy="2438280"/>
          </a:xfrm>
        </p:grpSpPr>
        <p:sp>
          <p:nvSpPr>
            <p:cNvPr id="787" name="Rectangle 28"/>
            <p:cNvSpPr/>
            <p:nvPr/>
          </p:nvSpPr>
          <p:spPr>
            <a:xfrm>
              <a:off x="2362320" y="1600200"/>
              <a:ext cx="1371600" cy="45720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EASURE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Line 38"/>
            <p:cNvSpPr/>
            <p:nvPr/>
          </p:nvSpPr>
          <p:spPr>
            <a:xfrm>
              <a:off x="2895480" y="2057400"/>
              <a:ext cx="762120" cy="198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51055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Six Sigma: DMAIC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9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9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4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809280" y="487440"/>
            <a:ext cx="5638680" cy="66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Six Sigma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23360" y="993240"/>
            <a:ext cx="8339400" cy="529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5f5f5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f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th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5f5f5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as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key aspects of the current process and collect relevant dat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5f5f5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alyz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the data to investigate and verify cause-and-effect relationshi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5f5f5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pro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or optimize the current process based upon data analysis - DOE, </a:t>
            </a:r>
            <a:r>
              <a:rPr b="0" lang="en-US" sz="2800" spc="-1" strike="noStrike" u="sng">
                <a:solidFill>
                  <a:srgbClr val="5f5f5f"/>
                </a:solidFill>
                <a:uFillTx/>
                <a:latin typeface="Arial"/>
                <a:hlinkClick r:id="rId1"/>
              </a:rPr>
              <a:t>poka yok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or mistake proof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5f5f5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ntro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the future state process to ensure that any deviations from the target are corr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1" dur="500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7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1" dur="500"/>
                                        <p:tgtEl>
                                          <p:spTgt spid="7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6" dur="500"/>
                                        <p:tgtEl>
                                          <p:spTgt spid="7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500"/>
                                        <p:tgtEl>
                                          <p:spTgt spid="7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9DA76-4B3B-4A7C-8D18-EEA19795B797}" type="slidenum">
              <a:rPr b="0" lang="en-US" sz="14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Stout’s View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95360" y="1581120"/>
            <a:ext cx="8115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Quality  =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1028"/>
          <p:cNvSpPr/>
          <p:nvPr/>
        </p:nvSpPr>
        <p:spPr>
          <a:xfrm>
            <a:off x="4075200" y="2763000"/>
            <a:ext cx="3290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pect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1029"/>
          <p:cNvSpPr/>
          <p:nvPr/>
        </p:nvSpPr>
        <p:spPr>
          <a:xfrm>
            <a:off x="4114800" y="3487680"/>
            <a:ext cx="3200400" cy="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Group 32"/>
          <p:cNvGrpSpPr/>
          <p:nvPr/>
        </p:nvGrpSpPr>
        <p:grpSpPr>
          <a:xfrm>
            <a:off x="380880" y="1219320"/>
            <a:ext cx="8534520" cy="5219640"/>
            <a:chOff x="380880" y="1219320"/>
            <a:chExt cx="8534520" cy="5219640"/>
          </a:xfrm>
        </p:grpSpPr>
        <p:sp>
          <p:nvSpPr>
            <p:cNvPr id="793" name="Rectangle 22"/>
            <p:cNvSpPr/>
            <p:nvPr/>
          </p:nvSpPr>
          <p:spPr>
            <a:xfrm>
              <a:off x="380880" y="1219320"/>
              <a:ext cx="8534520" cy="5219640"/>
            </a:xfrm>
            <a:prstGeom prst="rect">
              <a:avLst/>
            </a:prstGeom>
            <a:solidFill>
              <a:srgbClr val="dcc27a"/>
            </a:solidFill>
            <a:ln w="255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94" name="Object 7"/>
            <p:cNvGraphicFramePr/>
            <p:nvPr/>
          </p:nvGraphicFramePr>
          <p:xfrm>
            <a:off x="1066680" y="2286000"/>
            <a:ext cx="7239240" cy="3959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95" name="Object 7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66680" y="2286000"/>
                      <a:ext cx="7239240" cy="3959280"/>
                    </a:xfrm>
                    <a:prstGeom prst="rect">
                      <a:avLst/>
                    </a:prstGeom>
                    <a:ln w="12600">
                      <a:solidFill>
                        <a:srgbClr val="dddddd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796" name="Group 40"/>
          <p:cNvGrpSpPr/>
          <p:nvPr/>
        </p:nvGrpSpPr>
        <p:grpSpPr>
          <a:xfrm>
            <a:off x="762120" y="1600200"/>
            <a:ext cx="1447560" cy="2438280"/>
            <a:chOff x="762120" y="1600200"/>
            <a:chExt cx="1447560" cy="2438280"/>
          </a:xfrm>
        </p:grpSpPr>
        <p:sp>
          <p:nvSpPr>
            <p:cNvPr id="797" name="Rectangle 27"/>
            <p:cNvSpPr/>
            <p:nvPr/>
          </p:nvSpPr>
          <p:spPr>
            <a:xfrm>
              <a:off x="762120" y="1600200"/>
              <a:ext cx="1371600" cy="45720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FINE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Line 33"/>
            <p:cNvSpPr/>
            <p:nvPr/>
          </p:nvSpPr>
          <p:spPr>
            <a:xfrm>
              <a:off x="1447920" y="2057400"/>
              <a:ext cx="761760" cy="198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9" name="Group 44"/>
          <p:cNvGrpSpPr/>
          <p:nvPr/>
        </p:nvGrpSpPr>
        <p:grpSpPr>
          <a:xfrm>
            <a:off x="7086240" y="1600200"/>
            <a:ext cx="1448280" cy="2438280"/>
            <a:chOff x="7086240" y="1600200"/>
            <a:chExt cx="1448280" cy="2438280"/>
          </a:xfrm>
        </p:grpSpPr>
        <p:sp>
          <p:nvSpPr>
            <p:cNvPr id="800" name="Rectangle 31"/>
            <p:cNvSpPr/>
            <p:nvPr/>
          </p:nvSpPr>
          <p:spPr>
            <a:xfrm>
              <a:off x="7162920" y="1600200"/>
              <a:ext cx="1371600" cy="45720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ERIFY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Line 35"/>
            <p:cNvSpPr/>
            <p:nvPr/>
          </p:nvSpPr>
          <p:spPr>
            <a:xfrm flipH="1">
              <a:off x="7086240" y="2057400"/>
              <a:ext cx="685800" cy="198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2" name="Group 43"/>
          <p:cNvGrpSpPr/>
          <p:nvPr/>
        </p:nvGrpSpPr>
        <p:grpSpPr>
          <a:xfrm>
            <a:off x="5565600" y="1600200"/>
            <a:ext cx="1371600" cy="2362320"/>
            <a:chOff x="5565600" y="1600200"/>
            <a:chExt cx="1371600" cy="2362320"/>
          </a:xfrm>
        </p:grpSpPr>
        <p:sp>
          <p:nvSpPr>
            <p:cNvPr id="803" name="Rectangle 30"/>
            <p:cNvSpPr/>
            <p:nvPr/>
          </p:nvSpPr>
          <p:spPr>
            <a:xfrm>
              <a:off x="5565600" y="1600200"/>
              <a:ext cx="1371600" cy="45720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SIGN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36"/>
            <p:cNvSpPr/>
            <p:nvPr/>
          </p:nvSpPr>
          <p:spPr>
            <a:xfrm flipH="1">
              <a:off x="6095880" y="2057400"/>
              <a:ext cx="152640" cy="190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5" name="Group 42"/>
          <p:cNvGrpSpPr/>
          <p:nvPr/>
        </p:nvGrpSpPr>
        <p:grpSpPr>
          <a:xfrm>
            <a:off x="3971880" y="1600200"/>
            <a:ext cx="1371600" cy="2438280"/>
            <a:chOff x="3971880" y="1600200"/>
            <a:chExt cx="1371600" cy="2438280"/>
          </a:xfrm>
        </p:grpSpPr>
        <p:sp>
          <p:nvSpPr>
            <p:cNvPr id="806" name="Rectangle 29"/>
            <p:cNvSpPr/>
            <p:nvPr/>
          </p:nvSpPr>
          <p:spPr>
            <a:xfrm>
              <a:off x="3971880" y="1600200"/>
              <a:ext cx="1371600" cy="45720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NALYZE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Line 37"/>
            <p:cNvSpPr/>
            <p:nvPr/>
          </p:nvSpPr>
          <p:spPr>
            <a:xfrm>
              <a:off x="4267080" y="2057400"/>
              <a:ext cx="762120" cy="198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8" name="Group 41"/>
          <p:cNvGrpSpPr/>
          <p:nvPr/>
        </p:nvGrpSpPr>
        <p:grpSpPr>
          <a:xfrm>
            <a:off x="2362320" y="1600200"/>
            <a:ext cx="1371600" cy="2438280"/>
            <a:chOff x="2362320" y="1600200"/>
            <a:chExt cx="1371600" cy="2438280"/>
          </a:xfrm>
        </p:grpSpPr>
        <p:sp>
          <p:nvSpPr>
            <p:cNvPr id="809" name="Rectangle 28"/>
            <p:cNvSpPr/>
            <p:nvPr/>
          </p:nvSpPr>
          <p:spPr>
            <a:xfrm>
              <a:off x="2362320" y="1600200"/>
              <a:ext cx="1371600" cy="45720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EASURE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Line 38"/>
            <p:cNvSpPr/>
            <p:nvPr/>
          </p:nvSpPr>
          <p:spPr>
            <a:xfrm>
              <a:off x="2895480" y="2057400"/>
              <a:ext cx="762120" cy="198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51055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Six Sigma: DMADV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812" name="Picture 22" descr="https://upload.wikimedia.org/wikipedia/commons/thumb/e/ea/DMADVWebdingsI.png/400px-DMADVWebdingsI.png"/>
          <p:cNvPicPr/>
          <p:nvPr/>
        </p:nvPicPr>
        <p:blipFill>
          <a:blip r:embed="rId3"/>
          <a:stretch/>
        </p:blipFill>
        <p:spPr>
          <a:xfrm>
            <a:off x="993600" y="4633920"/>
            <a:ext cx="381024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8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3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8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8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3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809280" y="487440"/>
            <a:ext cx="5638680" cy="66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Six Sigma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23360" y="993600"/>
            <a:ext cx="8339400" cy="547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74"/>
              </a:spcBef>
              <a:buClr>
                <a:srgbClr val="5f5f5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efine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 design goal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5f5f5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easure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 and identify CTQs (characteristics that are 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itical 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 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ality), measure product capabilities, production process capability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5f5f5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nalyze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 to develop and design alternative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5f5f5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esign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 an improved alternative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5f5f5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erify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 the design, set up pilot runs, implement the production process and hand it over to the process owner(s)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0" dur="500"/>
                                        <p:tgtEl>
                                          <p:spTgt spid="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5" dur="500"/>
                                        <p:tgtEl>
                                          <p:spTgt spid="8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0" dur="500"/>
                                        <p:tgtEl>
                                          <p:spTgt spid="8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5" dur="500"/>
                                        <p:tgtEl>
                                          <p:spTgt spid="8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500"/>
                                        <p:tgtEl>
                                          <p:spTgt spid="8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Footer Placeholder 4"/>
          <p:cNvSpPr/>
          <p:nvPr/>
        </p:nvSpPr>
        <p:spPr>
          <a:xfrm>
            <a:off x="3219480" y="6583320"/>
            <a:ext cx="2895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Comic Sans MS"/>
              </a:rPr>
              <a:t>ISO 9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6" name="Group 20"/>
          <p:cNvGrpSpPr/>
          <p:nvPr/>
        </p:nvGrpSpPr>
        <p:grpSpPr>
          <a:xfrm>
            <a:off x="1730520" y="1752480"/>
            <a:ext cx="6693840" cy="4039560"/>
            <a:chOff x="1730520" y="1752480"/>
            <a:chExt cx="6693840" cy="4039560"/>
          </a:xfrm>
        </p:grpSpPr>
        <p:sp>
          <p:nvSpPr>
            <p:cNvPr id="817" name="Rectangle 2">
              <a:hlinkClick r:id="rId1" action="ppaction://hlinksldjump"/>
            </p:cNvPr>
            <p:cNvSpPr/>
            <p:nvPr/>
          </p:nvSpPr>
          <p:spPr>
            <a:xfrm>
              <a:off x="3519000" y="4114800"/>
              <a:ext cx="4659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Why is ISO 9000 so important?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Rectangle 3">
              <a:hlinkClick r:id="rId2" action="ppaction://hlinksldjump"/>
            </p:cNvPr>
            <p:cNvSpPr/>
            <p:nvPr/>
          </p:nvSpPr>
          <p:spPr>
            <a:xfrm>
              <a:off x="1730520" y="1752480"/>
              <a:ext cx="623268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hat do you need to know about ISO 9000?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Rectangle 4">
              <a:hlinkClick r:id="rId3" action="ppaction://hlinksldjump"/>
            </p:cNvPr>
            <p:cNvSpPr/>
            <p:nvPr/>
          </p:nvSpPr>
          <p:spPr>
            <a:xfrm>
              <a:off x="1991160" y="2895480"/>
              <a:ext cx="614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What are the ISO 9000 Series Standards?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Rectangle 5">
              <a:hlinkClick r:id="rId4" action="ppaction://hlinksldjump"/>
            </p:cNvPr>
            <p:cNvSpPr/>
            <p:nvPr/>
          </p:nvSpPr>
          <p:spPr>
            <a:xfrm>
              <a:off x="2049120" y="3504960"/>
              <a:ext cx="60980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What are the elements of the Standards?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Rectangle 6">
              <a:hlinkClick r:id="rId5" action="ppaction://hlinksldjump"/>
            </p:cNvPr>
            <p:cNvSpPr/>
            <p:nvPr/>
          </p:nvSpPr>
          <p:spPr>
            <a:xfrm>
              <a:off x="2725200" y="4724280"/>
              <a:ext cx="54230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What is quality system registration?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Rectangle 7">
              <a:hlinkClick r:id="rId6" action="ppaction://hlinksldjump"/>
            </p:cNvPr>
            <p:cNvSpPr/>
            <p:nvPr/>
          </p:nvSpPr>
          <p:spPr>
            <a:xfrm>
              <a:off x="3038400" y="5333760"/>
              <a:ext cx="51166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en steps to ISO 9000 registratio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11">
              <a:hlinkClick r:id="rId7" action="ppaction://hlinksldjump"/>
            </p:cNvPr>
            <p:cNvSpPr/>
            <p:nvPr/>
          </p:nvSpPr>
          <p:spPr>
            <a:xfrm>
              <a:off x="8274600" y="4182840"/>
              <a:ext cx="149760" cy="287280"/>
            </a:xfrm>
            <a:custGeom>
              <a:avLst/>
              <a:gdLst>
                <a:gd name="textAreaLeft" fmla="*/ 0 w 149760"/>
                <a:gd name="textAreaRight" fmla="*/ 150120 w 1497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90" h="181">
                  <a:moveTo>
                    <a:pt x="0" y="29"/>
                  </a:moveTo>
                  <a:lnTo>
                    <a:pt x="0" y="180"/>
                  </a:lnTo>
                  <a:lnTo>
                    <a:pt x="89" y="90"/>
                  </a:lnTo>
                  <a:lnTo>
                    <a:pt x="1" y="0"/>
                  </a:lnTo>
                  <a:lnTo>
                    <a:pt x="0" y="62"/>
                  </a:lnTo>
                </a:path>
              </a:pathLst>
            </a:custGeom>
            <a:solidFill>
              <a:srgbClr val="008000"/>
            </a:solidFill>
            <a:ln cap="sq" w="1260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12">
              <a:hlinkClick r:id="rId8" action="ppaction://hlinksldjump"/>
            </p:cNvPr>
            <p:cNvSpPr/>
            <p:nvPr/>
          </p:nvSpPr>
          <p:spPr>
            <a:xfrm>
              <a:off x="8274600" y="4806720"/>
              <a:ext cx="149760" cy="287280"/>
            </a:xfrm>
            <a:custGeom>
              <a:avLst/>
              <a:gdLst>
                <a:gd name="textAreaLeft" fmla="*/ 0 w 149760"/>
                <a:gd name="textAreaRight" fmla="*/ 150120 w 1497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90" h="181">
                  <a:moveTo>
                    <a:pt x="0" y="29"/>
                  </a:moveTo>
                  <a:lnTo>
                    <a:pt x="0" y="180"/>
                  </a:lnTo>
                  <a:lnTo>
                    <a:pt x="89" y="90"/>
                  </a:lnTo>
                  <a:lnTo>
                    <a:pt x="1" y="0"/>
                  </a:lnTo>
                  <a:lnTo>
                    <a:pt x="0" y="62"/>
                  </a:lnTo>
                </a:path>
              </a:pathLst>
            </a:custGeom>
            <a:solidFill>
              <a:srgbClr val="008000"/>
            </a:solidFill>
            <a:ln cap="sq" w="1260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13">
              <a:hlinkClick r:id="rId9" action="ppaction://hlinksldjump"/>
            </p:cNvPr>
            <p:cNvSpPr/>
            <p:nvPr/>
          </p:nvSpPr>
          <p:spPr>
            <a:xfrm>
              <a:off x="8274600" y="5416560"/>
              <a:ext cx="149760" cy="287280"/>
            </a:xfrm>
            <a:custGeom>
              <a:avLst/>
              <a:gdLst>
                <a:gd name="textAreaLeft" fmla="*/ 0 w 149760"/>
                <a:gd name="textAreaRight" fmla="*/ 150120 w 1497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90" h="181">
                  <a:moveTo>
                    <a:pt x="0" y="29"/>
                  </a:moveTo>
                  <a:lnTo>
                    <a:pt x="0" y="180"/>
                  </a:lnTo>
                  <a:lnTo>
                    <a:pt x="89" y="90"/>
                  </a:lnTo>
                  <a:lnTo>
                    <a:pt x="1" y="0"/>
                  </a:lnTo>
                  <a:lnTo>
                    <a:pt x="0" y="62"/>
                  </a:lnTo>
                </a:path>
              </a:pathLst>
            </a:custGeom>
            <a:solidFill>
              <a:srgbClr val="008000"/>
            </a:solidFill>
            <a:ln cap="sq" w="1260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15">
              <a:hlinkClick r:id="rId10" action="ppaction://hlinksldjump"/>
            </p:cNvPr>
            <p:cNvSpPr/>
            <p:nvPr/>
          </p:nvSpPr>
          <p:spPr>
            <a:xfrm>
              <a:off x="8274600" y="3587760"/>
              <a:ext cx="149760" cy="287280"/>
            </a:xfrm>
            <a:custGeom>
              <a:avLst/>
              <a:gdLst>
                <a:gd name="textAreaLeft" fmla="*/ 0 w 149760"/>
                <a:gd name="textAreaRight" fmla="*/ 150120 w 1497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90" h="181">
                  <a:moveTo>
                    <a:pt x="0" y="29"/>
                  </a:moveTo>
                  <a:lnTo>
                    <a:pt x="0" y="180"/>
                  </a:lnTo>
                  <a:lnTo>
                    <a:pt x="89" y="90"/>
                  </a:lnTo>
                  <a:lnTo>
                    <a:pt x="1" y="0"/>
                  </a:lnTo>
                  <a:lnTo>
                    <a:pt x="0" y="62"/>
                  </a:lnTo>
                </a:path>
              </a:pathLst>
            </a:custGeom>
            <a:solidFill>
              <a:srgbClr val="008000"/>
            </a:solidFill>
            <a:ln cap="sq" w="1260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16">
              <a:hlinkClick r:id="rId11" action="ppaction://hlinksldjump"/>
            </p:cNvPr>
            <p:cNvSpPr/>
            <p:nvPr/>
          </p:nvSpPr>
          <p:spPr>
            <a:xfrm>
              <a:off x="8274600" y="2977920"/>
              <a:ext cx="149760" cy="287280"/>
            </a:xfrm>
            <a:custGeom>
              <a:avLst/>
              <a:gdLst>
                <a:gd name="textAreaLeft" fmla="*/ 0 w 149760"/>
                <a:gd name="textAreaRight" fmla="*/ 150120 w 1497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90" h="181">
                  <a:moveTo>
                    <a:pt x="0" y="29"/>
                  </a:moveTo>
                  <a:lnTo>
                    <a:pt x="0" y="180"/>
                  </a:lnTo>
                  <a:lnTo>
                    <a:pt x="89" y="90"/>
                  </a:lnTo>
                  <a:lnTo>
                    <a:pt x="1" y="0"/>
                  </a:lnTo>
                  <a:lnTo>
                    <a:pt x="0" y="62"/>
                  </a:lnTo>
                </a:path>
              </a:pathLst>
            </a:custGeom>
            <a:solidFill>
              <a:srgbClr val="008000"/>
            </a:solidFill>
            <a:ln cap="sq" w="1260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66294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ISO 9000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Footer Placeholder 4"/>
          <p:cNvSpPr/>
          <p:nvPr/>
        </p:nvSpPr>
        <p:spPr>
          <a:xfrm>
            <a:off x="3219480" y="6583320"/>
            <a:ext cx="2895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Comic Sans MS"/>
              </a:rPr>
              <a:t>ISO 9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Rectangle 61"/>
          <p:cNvSpPr/>
          <p:nvPr/>
        </p:nvSpPr>
        <p:spPr>
          <a:xfrm>
            <a:off x="380880" y="1581120"/>
            <a:ext cx="8477280" cy="49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5f5f5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SO 9000 Standards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ine the required elements of an effective quality management syste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n be applied to any company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opted by the United States as the ANSI/ASQC Q90 series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5f5f5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Revised 2000 – wider applicability 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What are ISO 9000 Standards?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Footer Placeholder 4"/>
          <p:cNvSpPr/>
          <p:nvPr/>
        </p:nvSpPr>
        <p:spPr>
          <a:xfrm>
            <a:off x="3219480" y="6583320"/>
            <a:ext cx="2895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Comic Sans MS"/>
              </a:rPr>
              <a:t>ISO 9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Who created the standards?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28760" y="914040"/>
            <a:ext cx="8477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5f5f5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nternational Organization for Standardization - Genev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5f5f5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SO tech committe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5" name="Picture 2" descr=""/>
          <p:cNvPicPr/>
          <p:nvPr/>
        </p:nvPicPr>
        <p:blipFill>
          <a:blip r:embed="rId1"/>
          <a:stretch/>
        </p:blipFill>
        <p:spPr>
          <a:xfrm>
            <a:off x="2362320" y="2755800"/>
            <a:ext cx="6124320" cy="37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Footer Placeholder 4"/>
          <p:cNvSpPr/>
          <p:nvPr/>
        </p:nvSpPr>
        <p:spPr>
          <a:xfrm>
            <a:off x="3219480" y="6583320"/>
            <a:ext cx="2895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Comic Sans MS"/>
              </a:rPr>
              <a:t>ISO 9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Who created the standards?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477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5f5f5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tandards created in 1987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eliminate country to country differen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eliminate terminology confu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increase quality awaren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Footer Placeholder 4"/>
          <p:cNvSpPr/>
          <p:nvPr/>
        </p:nvSpPr>
        <p:spPr>
          <a:xfrm>
            <a:off x="3219480" y="6583320"/>
            <a:ext cx="2895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Comic Sans MS"/>
              </a:rPr>
              <a:t>ISO 9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6840" y="41868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What has ISO Accomplished?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95360" y="1581120"/>
            <a:ext cx="8115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5f5f5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andard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mat fo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telephone and banking car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f5f5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ISO 900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hich provides a framework for quality management and quality assur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f5f5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ISO 1400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ries provides a similar framework for environmental manag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f5f5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andardized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paper siz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f5f5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Automobile control symbo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f5f5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ISO international code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for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 country names, currencies and languag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Footer Placeholder 4"/>
          <p:cNvSpPr/>
          <p:nvPr/>
        </p:nvSpPr>
        <p:spPr>
          <a:xfrm>
            <a:off x="3219480" y="6583320"/>
            <a:ext cx="2895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Comic Sans MS"/>
              </a:rPr>
              <a:t>ISO 9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380520" y="418680"/>
            <a:ext cx="840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ISO 9000:2000 Consists of 3 Areas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95360" y="1581120"/>
            <a:ext cx="8115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5f5f5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ISO 9000:200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Quality Management Systems -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fundamentals and vocabul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f5f5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ISO 9001:200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Quality Management Systems –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Requirements (required for certificatio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f5f5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ISO 9004-200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Quality Management Systems –Guidelines for performance improv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Footer Placeholder 4"/>
          <p:cNvSpPr/>
          <p:nvPr/>
        </p:nvSpPr>
        <p:spPr>
          <a:xfrm>
            <a:off x="3219480" y="6583320"/>
            <a:ext cx="2895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Comic Sans MS"/>
              </a:rPr>
              <a:t>ISO 9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6840" y="41868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ISO 9000 Family of Standards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8359920" cy="511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5f5f5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O 8402 - QA and Quality management vocabul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5f5f5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O 9000-2 - Generic guidelines for applying ISO 9001, ISO 9002, and ISO 900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5f5f5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O 9000-3 - Guidelines for applying ISO 9001 to the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velopment, supply, and maintenance of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5f5f5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O 9000-4 Application for dependability manag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5f5f5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O 9004-2 Guidelines for serv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5f5f5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O 9004-3 Guidelines for processed mater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5f5f5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O 9004-4 Guidelines for quality improv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5f5f5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O 9004-5 Guidelines for quality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5f5f5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O 9004-6 Guidelines for configuration manag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Footer Placeholder 4"/>
          <p:cNvSpPr/>
          <p:nvPr/>
        </p:nvSpPr>
        <p:spPr>
          <a:xfrm>
            <a:off x="3219480" y="6583320"/>
            <a:ext cx="2895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Comic Sans MS"/>
              </a:rPr>
              <a:t>ISO 9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Why adopt ISO 9000?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95360" y="1581120"/>
            <a:ext cx="8115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5f5f5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omply with customers who require ISO 9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5f5f5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ell in the European Union 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5f5f5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ompete in domestic mar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5f5f5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improve the 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5f5f5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inimize repetitive auditing by similar and different custo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5f5f5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improve subcontractors’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D222A-DD56-4ABA-8999-CA85EDBFDD1E}" type="slidenum">
              <a:rPr b="0" lang="en-US" sz="14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Shift to Quality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1" name="Line 3"/>
          <p:cNvSpPr/>
          <p:nvPr/>
        </p:nvSpPr>
        <p:spPr>
          <a:xfrm flipV="1">
            <a:off x="914400" y="5211720"/>
            <a:ext cx="7794720" cy="46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4"/>
          <p:cNvSpPr/>
          <p:nvPr/>
        </p:nvSpPr>
        <p:spPr>
          <a:xfrm>
            <a:off x="914400" y="2590920"/>
            <a:ext cx="0" cy="266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5"/>
          <p:cNvSpPr/>
          <p:nvPr/>
        </p:nvSpPr>
        <p:spPr>
          <a:xfrm>
            <a:off x="3919680" y="2562120"/>
            <a:ext cx="0" cy="2667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6"/>
          <p:cNvSpPr/>
          <p:nvPr/>
        </p:nvSpPr>
        <p:spPr>
          <a:xfrm>
            <a:off x="6618240" y="2576520"/>
            <a:ext cx="0" cy="266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7"/>
          <p:cNvSpPr/>
          <p:nvPr/>
        </p:nvSpPr>
        <p:spPr>
          <a:xfrm>
            <a:off x="896400" y="5394240"/>
            <a:ext cx="2457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World War I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8"/>
          <p:cNvSpPr/>
          <p:nvPr/>
        </p:nvSpPr>
        <p:spPr>
          <a:xfrm>
            <a:off x="4781520" y="5452920"/>
            <a:ext cx="861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4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9"/>
          <p:cNvSpPr/>
          <p:nvPr/>
        </p:nvSpPr>
        <p:spPr>
          <a:xfrm>
            <a:off x="6904800" y="5408640"/>
            <a:ext cx="1081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90’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10"/>
          <p:cNvSpPr/>
          <p:nvPr/>
        </p:nvSpPr>
        <p:spPr>
          <a:xfrm>
            <a:off x="973080" y="3541680"/>
            <a:ext cx="30625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engineering requirements were met in final produc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11"/>
          <p:cNvSpPr/>
          <p:nvPr/>
        </p:nvSpPr>
        <p:spPr>
          <a:xfrm>
            <a:off x="1258920" y="2435400"/>
            <a:ext cx="1437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 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12"/>
          <p:cNvSpPr/>
          <p:nvPr/>
        </p:nvSpPr>
        <p:spPr>
          <a:xfrm>
            <a:off x="3933720" y="2585880"/>
            <a:ext cx="26416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iod of change from quantity t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13"/>
          <p:cNvSpPr/>
          <p:nvPr/>
        </p:nvSpPr>
        <p:spPr>
          <a:xfrm>
            <a:off x="6616800" y="2684520"/>
            <a:ext cx="1454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nom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14"/>
          <p:cNvSpPr/>
          <p:nvPr/>
        </p:nvSpPr>
        <p:spPr>
          <a:xfrm>
            <a:off x="6805800" y="3780000"/>
            <a:ext cx="1437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 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12"/>
          <p:cNvSpPr/>
          <p:nvPr/>
        </p:nvSpPr>
        <p:spPr>
          <a:xfrm>
            <a:off x="3970440" y="3929040"/>
            <a:ext cx="26413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ough quality assurance and quality aud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3-</a:t>
            </a:r>
            <a:fld id="{022FBCBE-5459-44E8-96B6-0F3BB5F241D5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90320" y="541440"/>
            <a:ext cx="8259480" cy="69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Implications of ISO 9000 for U.S. Companies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90680" y="1639800"/>
            <a:ext cx="4844880" cy="446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overseas companies will not do business with a supplier unless it has ISO 9000 cer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O 9000 accred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O registr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otal commitment to quality is required throughout an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4" name="Picture 4" descr=""/>
          <p:cNvPicPr/>
          <p:nvPr/>
        </p:nvPicPr>
        <p:blipFill>
          <a:blip r:embed="rId1"/>
          <a:stretch/>
        </p:blipFill>
        <p:spPr>
          <a:xfrm>
            <a:off x="5451480" y="1427040"/>
            <a:ext cx="3208320" cy="43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7" dur="500"/>
                                        <p:tgtEl>
                                          <p:spTgt spid="8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2" dur="500"/>
                                        <p:tgtEl>
                                          <p:spTgt spid="8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7" dur="500"/>
                                        <p:tgtEl>
                                          <p:spTgt spid="8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2" dur="500"/>
                                        <p:tgtEl>
                                          <p:spTgt spid="8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AutoShape 2"/>
          <p:cNvSpPr/>
          <p:nvPr/>
        </p:nvSpPr>
        <p:spPr>
          <a:xfrm>
            <a:off x="262080" y="-3650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AutoShape 4"/>
          <p:cNvSpPr/>
          <p:nvPr/>
        </p:nvSpPr>
        <p:spPr>
          <a:xfrm>
            <a:off x="262080" y="-3650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AutoShape 6"/>
          <p:cNvSpPr/>
          <p:nvPr/>
        </p:nvSpPr>
        <p:spPr>
          <a:xfrm>
            <a:off x="262080" y="-3650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45"/>
          <p:cNvSpPr/>
          <p:nvPr/>
        </p:nvSpPr>
        <p:spPr>
          <a:xfrm>
            <a:off x="457200" y="525600"/>
            <a:ext cx="5105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7 QC Tool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Rectangle 111"/>
          <p:cNvSpPr/>
          <p:nvPr/>
        </p:nvSpPr>
        <p:spPr>
          <a:xfrm>
            <a:off x="566640" y="2011320"/>
            <a:ext cx="3200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eto Analys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w Cha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Shee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Rectangle 112"/>
          <p:cNvSpPr/>
          <p:nvPr/>
        </p:nvSpPr>
        <p:spPr>
          <a:xfrm>
            <a:off x="4173480" y="2011320"/>
            <a:ext cx="43480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 Dia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C Cha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-and-Effect Dia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9" dur="500"/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4" dur="500"/>
                                        <p:tgtEl>
                                          <p:spTgt spid="8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9" dur="500"/>
                                        <p:tgtEl>
                                          <p:spTgt spid="8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4" dur="500"/>
                                        <p:tgtEl>
                                          <p:spTgt spid="8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9" dur="500"/>
                                        <p:tgtEl>
                                          <p:spTgt spid="8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4" dur="500"/>
                                        <p:tgtEl>
                                          <p:spTgt spid="8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9" dur="500"/>
                                        <p:tgtEl>
                                          <p:spTgt spid="8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8686800" cy="69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7 QC Tools- Pareto Analysis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2" name="AutoShape 2"/>
          <p:cNvSpPr/>
          <p:nvPr/>
        </p:nvSpPr>
        <p:spPr>
          <a:xfrm>
            <a:off x="262080" y="-3650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AutoShape 4"/>
          <p:cNvSpPr/>
          <p:nvPr/>
        </p:nvSpPr>
        <p:spPr>
          <a:xfrm>
            <a:off x="262080" y="-3650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AutoShape 6"/>
          <p:cNvSpPr/>
          <p:nvPr/>
        </p:nvSpPr>
        <p:spPr>
          <a:xfrm>
            <a:off x="262080" y="-3650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Group 11"/>
          <p:cNvGrpSpPr/>
          <p:nvPr/>
        </p:nvGrpSpPr>
        <p:grpSpPr>
          <a:xfrm>
            <a:off x="561960" y="2700360"/>
            <a:ext cx="8043480" cy="3528720"/>
            <a:chOff x="561960" y="2700360"/>
            <a:chExt cx="8043480" cy="3528720"/>
          </a:xfrm>
        </p:grpSpPr>
        <p:sp>
          <p:nvSpPr>
            <p:cNvPr id="866" name="Rectangle 9"/>
            <p:cNvSpPr/>
            <p:nvPr/>
          </p:nvSpPr>
          <p:spPr>
            <a:xfrm>
              <a:off x="561960" y="2700360"/>
              <a:ext cx="7998120" cy="345996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7" name="Group 3"/>
            <p:cNvGrpSpPr/>
            <p:nvPr/>
          </p:nvGrpSpPr>
          <p:grpSpPr>
            <a:xfrm>
              <a:off x="695520" y="2859480"/>
              <a:ext cx="7909920" cy="3369600"/>
              <a:chOff x="695520" y="2859480"/>
              <a:chExt cx="7909920" cy="3369600"/>
            </a:xfrm>
          </p:grpSpPr>
          <p:sp>
            <p:nvSpPr>
              <p:cNvPr id="868" name="Rectangle 4"/>
              <p:cNvSpPr/>
              <p:nvPr/>
            </p:nvSpPr>
            <p:spPr>
              <a:xfrm>
                <a:off x="1459080" y="2859480"/>
                <a:ext cx="6903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ctr" pos="3429000"/>
                    <a:tab algn="ctr" pos="58132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UMBER OF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ctr" pos="3429000"/>
                    <a:tab algn="ctr" pos="58132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AUSE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DEFECTS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PERCENTAGE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Rectangle 5"/>
              <p:cNvSpPr/>
              <p:nvPr/>
            </p:nvSpPr>
            <p:spPr>
              <a:xfrm>
                <a:off x="695520" y="3589200"/>
                <a:ext cx="7909920" cy="26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r" pos="4387680"/>
                    <a:tab algn="r" pos="6759720"/>
                    <a:tab algn="l" pos="68580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Poor desig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80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64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%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r" pos="4387680"/>
                    <a:tab algn="r" pos="6759720"/>
                    <a:tab algn="l" pos="68580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Wrong part dimensions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6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3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r" pos="4387680"/>
                    <a:tab algn="r" pos="6759720"/>
                    <a:tab algn="l" pos="68580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Defective parts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r" pos="4387680"/>
                    <a:tab algn="r" pos="6759720"/>
                    <a:tab algn="l" pos="68580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Incorrect machine calibr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r" pos="4387680"/>
                    <a:tab algn="r" pos="6759720"/>
                    <a:tab algn="l" pos="68580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perator errors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r" pos="4387680"/>
                    <a:tab algn="r" pos="6759720"/>
                    <a:tab algn="l" pos="68580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Defective material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r" pos="4387680"/>
                    <a:tab algn="r" pos="6759720"/>
                    <a:tab algn="l" pos="68580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urface abrasions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r" pos="4387680"/>
                    <a:tab algn="r" pos="6759720"/>
                    <a:tab algn="l" pos="68580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r" pos="4387680"/>
                    <a:tab algn="r" pos="6759720"/>
                    <a:tab algn="l" pos="68580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     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25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%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Line 6"/>
              <p:cNvSpPr/>
              <p:nvPr/>
            </p:nvSpPr>
            <p:spPr>
              <a:xfrm>
                <a:off x="728640" y="3520080"/>
                <a:ext cx="7558920" cy="0"/>
              </a:xfrm>
              <a:prstGeom prst="line">
                <a:avLst/>
              </a:prstGeom>
              <a:ln w="57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Line 7"/>
              <p:cNvSpPr/>
              <p:nvPr/>
            </p:nvSpPr>
            <p:spPr>
              <a:xfrm>
                <a:off x="4685040" y="5816880"/>
                <a:ext cx="754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Line 8"/>
              <p:cNvSpPr/>
              <p:nvPr/>
            </p:nvSpPr>
            <p:spPr>
              <a:xfrm>
                <a:off x="7141680" y="5843880"/>
                <a:ext cx="75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3" name="Rectangle 7"/>
          <p:cNvSpPr/>
          <p:nvPr/>
        </p:nvSpPr>
        <p:spPr>
          <a:xfrm>
            <a:off x="457200" y="1147680"/>
            <a:ext cx="8686800" cy="13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A Pareto chart is a type of chart that contains both bars and a line graph, where individual values are represented in descending order by bars, and the cumulative total is represented by the line.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0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6" dur="10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AutoShape 2"/>
          <p:cNvSpPr/>
          <p:nvPr/>
        </p:nvSpPr>
        <p:spPr>
          <a:xfrm>
            <a:off x="262080" y="-3650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AutoShape 4"/>
          <p:cNvSpPr/>
          <p:nvPr/>
        </p:nvSpPr>
        <p:spPr>
          <a:xfrm>
            <a:off x="262080" y="-3650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AutoShape 6"/>
          <p:cNvSpPr/>
          <p:nvPr/>
        </p:nvSpPr>
        <p:spPr>
          <a:xfrm>
            <a:off x="262080" y="-3650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7" name="Group 38"/>
          <p:cNvGrpSpPr/>
          <p:nvPr/>
        </p:nvGrpSpPr>
        <p:grpSpPr>
          <a:xfrm>
            <a:off x="1631880" y="1195560"/>
            <a:ext cx="5673960" cy="5082840"/>
            <a:chOff x="1631880" y="1195560"/>
            <a:chExt cx="5673960" cy="5082840"/>
          </a:xfrm>
        </p:grpSpPr>
        <p:sp>
          <p:nvSpPr>
            <p:cNvPr id="878" name="Rectangle 36"/>
            <p:cNvSpPr/>
            <p:nvPr/>
          </p:nvSpPr>
          <p:spPr>
            <a:xfrm>
              <a:off x="1631880" y="1195560"/>
              <a:ext cx="5673960" cy="5082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9" name="Group 37"/>
            <p:cNvGrpSpPr/>
            <p:nvPr/>
          </p:nvGrpSpPr>
          <p:grpSpPr>
            <a:xfrm>
              <a:off x="2099160" y="1195560"/>
              <a:ext cx="4624920" cy="5077800"/>
              <a:chOff x="2099160" y="1195560"/>
              <a:chExt cx="4624920" cy="5077800"/>
            </a:xfrm>
          </p:grpSpPr>
          <p:sp>
            <p:nvSpPr>
              <p:cNvPr id="880" name="Rectangle 4"/>
              <p:cNvSpPr/>
              <p:nvPr/>
            </p:nvSpPr>
            <p:spPr>
              <a:xfrm>
                <a:off x="2988000" y="1641600"/>
                <a:ext cx="500040" cy="307404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Rectangle 5"/>
              <p:cNvSpPr/>
              <p:nvPr/>
            </p:nvSpPr>
            <p:spPr>
              <a:xfrm>
                <a:off x="3486960" y="4099680"/>
                <a:ext cx="513000" cy="61560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Rectangle 6"/>
              <p:cNvSpPr/>
              <p:nvPr/>
            </p:nvSpPr>
            <p:spPr>
              <a:xfrm>
                <a:off x="3998520" y="4244400"/>
                <a:ext cx="513000" cy="471240"/>
              </a:xfrm>
              <a:prstGeom prst="rect">
                <a:avLst/>
              </a:prstGeom>
              <a:solidFill>
                <a:srgbClr val="dcc27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Rectangle 7"/>
              <p:cNvSpPr/>
              <p:nvPr/>
            </p:nvSpPr>
            <p:spPr>
              <a:xfrm>
                <a:off x="4522320" y="4437000"/>
                <a:ext cx="513000" cy="27828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Rectangle 8"/>
              <p:cNvSpPr/>
              <p:nvPr/>
            </p:nvSpPr>
            <p:spPr>
              <a:xfrm>
                <a:off x="5033880" y="4582080"/>
                <a:ext cx="500400" cy="13356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Rectangle 9"/>
              <p:cNvSpPr/>
              <p:nvPr/>
            </p:nvSpPr>
            <p:spPr>
              <a:xfrm>
                <a:off x="5545440" y="4629960"/>
                <a:ext cx="513000" cy="85320"/>
              </a:xfrm>
              <a:prstGeom prst="rect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Rectangle 10"/>
              <p:cNvSpPr/>
              <p:nvPr/>
            </p:nvSpPr>
            <p:spPr>
              <a:xfrm>
                <a:off x="6053040" y="4638240"/>
                <a:ext cx="513000" cy="85320"/>
              </a:xfrm>
              <a:prstGeom prst="rect">
                <a:avLst/>
              </a:prstGeom>
              <a:solidFill>
                <a:srgbClr val="8cfc6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Rectangle 11"/>
              <p:cNvSpPr/>
              <p:nvPr/>
            </p:nvSpPr>
            <p:spPr>
              <a:xfrm rot="16200000">
                <a:off x="838800" y="2977920"/>
                <a:ext cx="288360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ercent from each cause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Rectangle 12"/>
              <p:cNvSpPr/>
              <p:nvPr/>
            </p:nvSpPr>
            <p:spPr>
              <a:xfrm>
                <a:off x="3325680" y="5910120"/>
                <a:ext cx="26474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Causes of poor quality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Rectangle 13"/>
              <p:cNvSpPr/>
              <p:nvPr/>
            </p:nvSpPr>
            <p:spPr>
              <a:xfrm rot="18720000">
                <a:off x="3473640" y="5176800"/>
                <a:ext cx="194472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Machine calibrations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Rectangle 14"/>
              <p:cNvSpPr/>
              <p:nvPr/>
            </p:nvSpPr>
            <p:spPr>
              <a:xfrm rot="18720000">
                <a:off x="3133080" y="5118120"/>
                <a:ext cx="146016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Defective parts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Rectangle 15"/>
              <p:cNvSpPr/>
              <p:nvPr/>
            </p:nvSpPr>
            <p:spPr>
              <a:xfrm rot="18720000">
                <a:off x="2493720" y="5217120"/>
                <a:ext cx="178308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Wrong dimensions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Rectangle 16"/>
              <p:cNvSpPr/>
              <p:nvPr/>
            </p:nvSpPr>
            <p:spPr>
              <a:xfrm rot="18720000">
                <a:off x="2442600" y="5025240"/>
                <a:ext cx="123012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oor Design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Rectangle 17"/>
              <p:cNvSpPr/>
              <p:nvPr/>
            </p:nvSpPr>
            <p:spPr>
              <a:xfrm rot="18720000">
                <a:off x="4109400" y="5138640"/>
                <a:ext cx="15012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Operator errors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Rectangle 18"/>
              <p:cNvSpPr/>
              <p:nvPr/>
            </p:nvSpPr>
            <p:spPr>
              <a:xfrm rot="18720000">
                <a:off x="4583520" y="5185800"/>
                <a:ext cx="18090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Defective materials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Rectangle 19"/>
              <p:cNvSpPr/>
              <p:nvPr/>
            </p:nvSpPr>
            <p:spPr>
              <a:xfrm rot="18720000">
                <a:off x="5091480" y="5205240"/>
                <a:ext cx="172692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Surface abrasions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Rectangle 20"/>
              <p:cNvSpPr/>
              <p:nvPr/>
            </p:nvSpPr>
            <p:spPr>
              <a:xfrm>
                <a:off x="2610720" y="4560480"/>
                <a:ext cx="30780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Rectangle 21"/>
              <p:cNvSpPr/>
              <p:nvPr/>
            </p:nvSpPr>
            <p:spPr>
              <a:xfrm>
                <a:off x="2490480" y="4079520"/>
                <a:ext cx="4345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Rectangle 22"/>
              <p:cNvSpPr/>
              <p:nvPr/>
            </p:nvSpPr>
            <p:spPr>
              <a:xfrm>
                <a:off x="2490480" y="3598920"/>
                <a:ext cx="4345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Rectangle 23"/>
              <p:cNvSpPr/>
              <p:nvPr/>
            </p:nvSpPr>
            <p:spPr>
              <a:xfrm>
                <a:off x="2490480" y="3121200"/>
                <a:ext cx="4345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Rectangle 24"/>
              <p:cNvSpPr/>
              <p:nvPr/>
            </p:nvSpPr>
            <p:spPr>
              <a:xfrm>
                <a:off x="2490480" y="2640240"/>
                <a:ext cx="4345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Rectangle 25"/>
              <p:cNvSpPr/>
              <p:nvPr/>
            </p:nvSpPr>
            <p:spPr>
              <a:xfrm>
                <a:off x="2490480" y="2157120"/>
                <a:ext cx="4345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50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Rectangle 26"/>
              <p:cNvSpPr/>
              <p:nvPr/>
            </p:nvSpPr>
            <p:spPr>
              <a:xfrm>
                <a:off x="2490480" y="1676160"/>
                <a:ext cx="4345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60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Rectangle 27"/>
              <p:cNvSpPr/>
              <p:nvPr/>
            </p:nvSpPr>
            <p:spPr>
              <a:xfrm>
                <a:off x="2490480" y="1195560"/>
                <a:ext cx="4345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70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Rectangle 28"/>
              <p:cNvSpPr/>
              <p:nvPr/>
            </p:nvSpPr>
            <p:spPr>
              <a:xfrm>
                <a:off x="2947680" y="1324080"/>
                <a:ext cx="58680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(64)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Rectangle 29"/>
              <p:cNvSpPr/>
              <p:nvPr/>
            </p:nvSpPr>
            <p:spPr>
              <a:xfrm>
                <a:off x="3463560" y="3783600"/>
                <a:ext cx="58680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(13)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Rectangle 30"/>
              <p:cNvSpPr/>
              <p:nvPr/>
            </p:nvSpPr>
            <p:spPr>
              <a:xfrm>
                <a:off x="3971880" y="3925800"/>
                <a:ext cx="58680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(10)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Rectangle 31"/>
              <p:cNvSpPr/>
              <p:nvPr/>
            </p:nvSpPr>
            <p:spPr>
              <a:xfrm>
                <a:off x="4561200" y="4119840"/>
                <a:ext cx="4604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(6)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Rectangle 32"/>
              <p:cNvSpPr/>
              <p:nvPr/>
            </p:nvSpPr>
            <p:spPr>
              <a:xfrm>
                <a:off x="5086080" y="4266000"/>
                <a:ext cx="4604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(3)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Rectangle 33"/>
              <p:cNvSpPr/>
              <p:nvPr/>
            </p:nvSpPr>
            <p:spPr>
              <a:xfrm>
                <a:off x="5596920" y="4312440"/>
                <a:ext cx="4604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(2)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Rectangle 34"/>
              <p:cNvSpPr/>
              <p:nvPr/>
            </p:nvSpPr>
            <p:spPr>
              <a:xfrm>
                <a:off x="6097320" y="4312440"/>
                <a:ext cx="4604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(2)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Freeform 35"/>
              <p:cNvSpPr/>
              <p:nvPr/>
            </p:nvSpPr>
            <p:spPr>
              <a:xfrm>
                <a:off x="2989080" y="1279800"/>
                <a:ext cx="3735000" cy="3438360"/>
              </a:xfrm>
              <a:custGeom>
                <a:avLst/>
                <a:gdLst>
                  <a:gd name="textAreaLeft" fmla="*/ 0 w 3735000"/>
                  <a:gd name="textAreaRight" fmla="*/ 3735360 w 3735000"/>
                  <a:gd name="textAreaTop" fmla="*/ 0 h 3438360"/>
                  <a:gd name="textAreaBottom" fmla="*/ 3438720 h 3438360"/>
                </a:gdLst>
                <a:ahLst/>
                <a:rect l="textAreaLeft" t="textAreaTop" r="textAreaRight" b="textAreaBottom"/>
                <a:pathLst>
                  <a:path w="2694" h="2568">
                    <a:moveTo>
                      <a:pt x="0" y="0"/>
                    </a:moveTo>
                    <a:lnTo>
                      <a:pt x="0" y="2568"/>
                    </a:lnTo>
                    <a:lnTo>
                      <a:pt x="2694" y="2568"/>
                    </a:lnTo>
                  </a:path>
                </a:pathLst>
              </a:custGeom>
              <a:noFill/>
              <a:ln w="57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8686800" cy="79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7 QC Tools- Pareto Analysis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0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3" dur="20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AutoShape 2"/>
          <p:cNvSpPr/>
          <p:nvPr/>
        </p:nvSpPr>
        <p:spPr>
          <a:xfrm>
            <a:off x="262080" y="-3650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AutoShape 4"/>
          <p:cNvSpPr/>
          <p:nvPr/>
        </p:nvSpPr>
        <p:spPr>
          <a:xfrm>
            <a:off x="262080" y="-3650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AutoShape 6"/>
          <p:cNvSpPr/>
          <p:nvPr/>
        </p:nvSpPr>
        <p:spPr>
          <a:xfrm>
            <a:off x="262080" y="-3650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8686800" cy="79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7 QC Tools- Pareto Analysis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917" name="Object 5"/>
          <p:cNvGraphicFramePr/>
          <p:nvPr/>
        </p:nvGraphicFramePr>
        <p:xfrm>
          <a:off x="723960" y="1390680"/>
          <a:ext cx="8420040" cy="466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960" y="1390680"/>
                    <a:ext cx="8420040" cy="466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7 QC Tools- Flow Chart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0" name="AutoShape 2"/>
          <p:cNvSpPr/>
          <p:nvPr/>
        </p:nvSpPr>
        <p:spPr>
          <a:xfrm>
            <a:off x="262080" y="-3650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AutoShape 4"/>
          <p:cNvSpPr/>
          <p:nvPr/>
        </p:nvSpPr>
        <p:spPr>
          <a:xfrm>
            <a:off x="262080" y="-3650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AutoShape 6"/>
          <p:cNvSpPr/>
          <p:nvPr/>
        </p:nvSpPr>
        <p:spPr>
          <a:xfrm>
            <a:off x="262080" y="-3650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3" name="Picture 1" descr=""/>
          <p:cNvPicPr/>
          <p:nvPr/>
        </p:nvPicPr>
        <p:blipFill>
          <a:blip r:embed="rId1"/>
          <a:stretch/>
        </p:blipFill>
        <p:spPr>
          <a:xfrm>
            <a:off x="566640" y="1562040"/>
            <a:ext cx="8115480" cy="42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7 QC Tools- Flow Chart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5" name="AutoShape 2"/>
          <p:cNvSpPr/>
          <p:nvPr/>
        </p:nvSpPr>
        <p:spPr>
          <a:xfrm>
            <a:off x="262080" y="-3650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AutoShape 4"/>
          <p:cNvSpPr/>
          <p:nvPr/>
        </p:nvSpPr>
        <p:spPr>
          <a:xfrm>
            <a:off x="262080" y="-3650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AutoShape 6"/>
          <p:cNvSpPr/>
          <p:nvPr/>
        </p:nvSpPr>
        <p:spPr>
          <a:xfrm>
            <a:off x="262080" y="-3650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8" name="Group 3"/>
          <p:cNvGrpSpPr/>
          <p:nvPr/>
        </p:nvGrpSpPr>
        <p:grpSpPr>
          <a:xfrm>
            <a:off x="1295280" y="1224000"/>
            <a:ext cx="6694200" cy="5189040"/>
            <a:chOff x="1295280" y="1224000"/>
            <a:chExt cx="6694200" cy="5189040"/>
          </a:xfrm>
        </p:grpSpPr>
        <p:sp>
          <p:nvSpPr>
            <p:cNvPr id="929" name="Rectangle 4"/>
            <p:cNvSpPr/>
            <p:nvPr/>
          </p:nvSpPr>
          <p:spPr>
            <a:xfrm>
              <a:off x="1295280" y="1224000"/>
              <a:ext cx="6690960" cy="51890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Line 5"/>
            <p:cNvSpPr/>
            <p:nvPr/>
          </p:nvSpPr>
          <p:spPr>
            <a:xfrm>
              <a:off x="1306800" y="1796760"/>
              <a:ext cx="6682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Rectangle 6"/>
            <p:cNvSpPr/>
            <p:nvPr/>
          </p:nvSpPr>
          <p:spPr>
            <a:xfrm rot="16200000">
              <a:off x="1668960" y="1617480"/>
              <a:ext cx="983880" cy="1615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800" rIns="82800" tIns="40680" bIns="40680" anchor="t">
              <a:spAutoFit/>
            </a:bodyPr>
            <a:p>
              <a:pPr>
                <a:tabLst>
                  <a:tab algn="l" pos="0"/>
                  <a:tab algn="l" pos="836640"/>
                  <a:tab algn="l" pos="1673280"/>
                  <a:tab algn="l" pos="2509920"/>
                  <a:tab algn="l" pos="3346560"/>
                  <a:tab algn="l" pos="4183200"/>
                  <a:tab algn="l" pos="5019840"/>
                  <a:tab algn="l" pos="5856120"/>
                  <a:tab algn="l" pos="6692760"/>
                  <a:tab algn="l" pos="7529400"/>
                  <a:tab algn="l" pos="8366040"/>
                  <a:tab algn="l" pos="9202680"/>
                  <a:tab algn="l" pos="10039320"/>
                  <a:tab algn="l" pos="108759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tep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836640"/>
                  <a:tab algn="l" pos="1673280"/>
                  <a:tab algn="l" pos="2509920"/>
                  <a:tab algn="l" pos="3346560"/>
                  <a:tab algn="l" pos="4183200"/>
                  <a:tab algn="l" pos="5019840"/>
                  <a:tab algn="l" pos="5856120"/>
                  <a:tab algn="l" pos="6692760"/>
                  <a:tab algn="l" pos="7529400"/>
                  <a:tab algn="l" pos="8366040"/>
                  <a:tab algn="l" pos="9202680"/>
                  <a:tab algn="l" pos="10039320"/>
                  <a:tab algn="l" pos="10875960"/>
                </a:tabLst>
              </a:pP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5000"/>
                </a:lnSpc>
                <a:tabLst>
                  <a:tab algn="l" pos="0"/>
                  <a:tab algn="l" pos="836640"/>
                  <a:tab algn="l" pos="1673280"/>
                  <a:tab algn="l" pos="2509920"/>
                  <a:tab algn="l" pos="3346560"/>
                  <a:tab algn="l" pos="4183200"/>
                  <a:tab algn="l" pos="5019840"/>
                  <a:tab algn="l" pos="5856120"/>
                  <a:tab algn="l" pos="6692760"/>
                  <a:tab algn="l" pos="7529400"/>
                  <a:tab algn="l" pos="8366040"/>
                  <a:tab algn="l" pos="9202680"/>
                  <a:tab algn="l" pos="10039320"/>
                  <a:tab algn="l" pos="108759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Operation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5000"/>
                </a:lnSpc>
                <a:tabLst>
                  <a:tab algn="l" pos="0"/>
                  <a:tab algn="l" pos="836640"/>
                  <a:tab algn="l" pos="1673280"/>
                  <a:tab algn="l" pos="2509920"/>
                  <a:tab algn="l" pos="3346560"/>
                  <a:tab algn="l" pos="4183200"/>
                  <a:tab algn="l" pos="5019840"/>
                  <a:tab algn="l" pos="5856120"/>
                  <a:tab algn="l" pos="6692760"/>
                  <a:tab algn="l" pos="7529400"/>
                  <a:tab algn="l" pos="8366040"/>
                  <a:tab algn="l" pos="9202680"/>
                  <a:tab algn="l" pos="10039320"/>
                  <a:tab algn="l" pos="108759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5000"/>
                </a:lnSpc>
                <a:tabLst>
                  <a:tab algn="l" pos="0"/>
                  <a:tab algn="l" pos="836640"/>
                  <a:tab algn="l" pos="1673280"/>
                  <a:tab algn="l" pos="2509920"/>
                  <a:tab algn="l" pos="3346560"/>
                  <a:tab algn="l" pos="4183200"/>
                  <a:tab algn="l" pos="5019840"/>
                  <a:tab algn="l" pos="5856120"/>
                  <a:tab algn="l" pos="6692760"/>
                  <a:tab algn="l" pos="7529400"/>
                  <a:tab algn="l" pos="8366040"/>
                  <a:tab algn="l" pos="9202680"/>
                  <a:tab algn="l" pos="10039320"/>
                  <a:tab algn="l" pos="108759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spect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5000"/>
                </a:lnSpc>
                <a:tabLst>
                  <a:tab algn="l" pos="0"/>
                  <a:tab algn="l" pos="836640"/>
                  <a:tab algn="l" pos="1673280"/>
                  <a:tab algn="l" pos="2509920"/>
                  <a:tab algn="l" pos="3346560"/>
                  <a:tab algn="l" pos="4183200"/>
                  <a:tab algn="l" pos="5019840"/>
                  <a:tab algn="l" pos="5856120"/>
                  <a:tab algn="l" pos="6692760"/>
                  <a:tab algn="l" pos="7529400"/>
                  <a:tab algn="l" pos="8366040"/>
                  <a:tab algn="l" pos="9202680"/>
                  <a:tab algn="l" pos="10039320"/>
                  <a:tab algn="l" pos="108759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lay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5000"/>
                </a:lnSpc>
                <a:tabLst>
                  <a:tab algn="l" pos="0"/>
                  <a:tab algn="l" pos="836640"/>
                  <a:tab algn="l" pos="1673280"/>
                  <a:tab algn="l" pos="2509920"/>
                  <a:tab algn="l" pos="3346560"/>
                  <a:tab algn="l" pos="4183200"/>
                  <a:tab algn="l" pos="5019840"/>
                  <a:tab algn="l" pos="5856120"/>
                  <a:tab algn="l" pos="6692760"/>
                  <a:tab algn="l" pos="7529400"/>
                  <a:tab algn="l" pos="8366040"/>
                  <a:tab algn="l" pos="9202680"/>
                  <a:tab algn="l" pos="10039320"/>
                  <a:tab algn="l" pos="108759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torage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Rectangle 7"/>
            <p:cNvSpPr/>
            <p:nvPr/>
          </p:nvSpPr>
          <p:spPr>
            <a:xfrm rot="16200000">
              <a:off x="5978880" y="2119680"/>
              <a:ext cx="852120" cy="477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0680" bIns="40680" anchor="t">
              <a:spAutoFit/>
            </a:bodyPr>
            <a:p>
              <a:pPr>
                <a:tabLst>
                  <a:tab algn="l" pos="0"/>
                  <a:tab algn="l" pos="836640"/>
                  <a:tab algn="l" pos="1673280"/>
                  <a:tab algn="l" pos="2509920"/>
                  <a:tab algn="l" pos="3346560"/>
                  <a:tab algn="l" pos="4183200"/>
                  <a:tab algn="l" pos="5019840"/>
                  <a:tab algn="l" pos="5856120"/>
                  <a:tab algn="l" pos="6692760"/>
                  <a:tab algn="l" pos="7529400"/>
                  <a:tab algn="l" pos="8366040"/>
                  <a:tab algn="l" pos="9202680"/>
                  <a:tab algn="l" pos="10039320"/>
                  <a:tab algn="l" pos="108759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istance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836640"/>
                  <a:tab algn="l" pos="1673280"/>
                  <a:tab algn="l" pos="2509920"/>
                  <a:tab algn="l" pos="3346560"/>
                  <a:tab algn="l" pos="4183200"/>
                  <a:tab algn="l" pos="5019840"/>
                  <a:tab algn="l" pos="5856120"/>
                  <a:tab algn="l" pos="6692760"/>
                  <a:tab algn="l" pos="7529400"/>
                  <a:tab algn="l" pos="8366040"/>
                  <a:tab algn="l" pos="9202680"/>
                  <a:tab algn="l" pos="10039320"/>
                  <a:tab algn="l" pos="108759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(feet)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Line 8"/>
            <p:cNvSpPr/>
            <p:nvPr/>
          </p:nvSpPr>
          <p:spPr>
            <a:xfrm>
              <a:off x="1333440" y="2953440"/>
              <a:ext cx="6621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Rectangle 9"/>
            <p:cNvSpPr/>
            <p:nvPr/>
          </p:nvSpPr>
          <p:spPr>
            <a:xfrm rot="16200000">
              <a:off x="5535360" y="2121120"/>
              <a:ext cx="568800" cy="477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0680" bIns="40680" anchor="t">
              <a:spAutoFit/>
            </a:bodyPr>
            <a:p>
              <a:pPr>
                <a:tabLst>
                  <a:tab algn="l" pos="0"/>
                  <a:tab algn="l" pos="836640"/>
                  <a:tab algn="l" pos="1673280"/>
                  <a:tab algn="l" pos="2509920"/>
                  <a:tab algn="l" pos="3346560"/>
                  <a:tab algn="l" pos="4183200"/>
                  <a:tab algn="l" pos="5019840"/>
                  <a:tab algn="l" pos="5856120"/>
                  <a:tab algn="l" pos="6692760"/>
                  <a:tab algn="l" pos="7529400"/>
                  <a:tab algn="l" pos="8366040"/>
                  <a:tab algn="l" pos="9202680"/>
                  <a:tab algn="l" pos="10039320"/>
                  <a:tab algn="l" pos="108759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836640"/>
                  <a:tab algn="l" pos="1673280"/>
                  <a:tab algn="l" pos="2509920"/>
                  <a:tab algn="l" pos="3346560"/>
                  <a:tab algn="l" pos="4183200"/>
                  <a:tab algn="l" pos="5019840"/>
                  <a:tab algn="l" pos="5856120"/>
                  <a:tab algn="l" pos="6692760"/>
                  <a:tab algn="l" pos="7529400"/>
                  <a:tab algn="l" pos="8366040"/>
                  <a:tab algn="l" pos="9202680"/>
                  <a:tab algn="l" pos="10039320"/>
                  <a:tab algn="l" pos="108759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(min)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Rectangle 10"/>
            <p:cNvSpPr/>
            <p:nvPr/>
          </p:nvSpPr>
          <p:spPr>
            <a:xfrm>
              <a:off x="3678480" y="2021760"/>
              <a:ext cx="1071720" cy="675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0680" bIns="40680" anchor="t">
              <a:spAutoFit/>
            </a:bodyPr>
            <a:p>
              <a:pPr>
                <a:tabLst>
                  <a:tab algn="l" pos="0"/>
                  <a:tab algn="l" pos="836640"/>
                  <a:tab algn="l" pos="1673280"/>
                  <a:tab algn="l" pos="2509920"/>
                  <a:tab algn="l" pos="3346560"/>
                  <a:tab algn="l" pos="4183200"/>
                  <a:tab algn="l" pos="5019840"/>
                  <a:tab algn="l" pos="5856120"/>
                  <a:tab algn="l" pos="6692760"/>
                  <a:tab algn="l" pos="7529400"/>
                  <a:tab algn="l" pos="8366040"/>
                  <a:tab algn="l" pos="9202680"/>
                  <a:tab algn="l" pos="10039320"/>
                  <a:tab algn="l" pos="108759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836640"/>
                  <a:tab algn="l" pos="1673280"/>
                  <a:tab algn="l" pos="2509920"/>
                  <a:tab algn="l" pos="3346560"/>
                  <a:tab algn="l" pos="4183200"/>
                  <a:tab algn="l" pos="5019840"/>
                  <a:tab algn="l" pos="5856120"/>
                  <a:tab algn="l" pos="6692760"/>
                  <a:tab algn="l" pos="7529400"/>
                  <a:tab algn="l" pos="8366040"/>
                  <a:tab algn="l" pos="9202680"/>
                  <a:tab algn="l" pos="10039320"/>
                  <a:tab algn="l" pos="108759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of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836640"/>
                  <a:tab algn="l" pos="1673280"/>
                  <a:tab algn="l" pos="2509920"/>
                  <a:tab algn="l" pos="3346560"/>
                  <a:tab algn="l" pos="4183200"/>
                  <a:tab algn="l" pos="5019840"/>
                  <a:tab algn="l" pos="5856120"/>
                  <a:tab algn="l" pos="6692760"/>
                  <a:tab algn="l" pos="7529400"/>
                  <a:tab algn="l" pos="8366040"/>
                  <a:tab algn="l" pos="9202680"/>
                  <a:tab algn="l" pos="10039320"/>
                  <a:tab algn="l" pos="108759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Line 11"/>
            <p:cNvSpPr/>
            <p:nvPr/>
          </p:nvSpPr>
          <p:spPr>
            <a:xfrm>
              <a:off x="1333440" y="3235680"/>
              <a:ext cx="6621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Line 12"/>
            <p:cNvSpPr/>
            <p:nvPr/>
          </p:nvSpPr>
          <p:spPr>
            <a:xfrm>
              <a:off x="1333440" y="3518280"/>
              <a:ext cx="6621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Line 13"/>
            <p:cNvSpPr/>
            <p:nvPr/>
          </p:nvSpPr>
          <p:spPr>
            <a:xfrm>
              <a:off x="1333440" y="3801960"/>
              <a:ext cx="6621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Line 14"/>
            <p:cNvSpPr/>
            <p:nvPr/>
          </p:nvSpPr>
          <p:spPr>
            <a:xfrm>
              <a:off x="1333440" y="4084560"/>
              <a:ext cx="6621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Line 15"/>
            <p:cNvSpPr/>
            <p:nvPr/>
          </p:nvSpPr>
          <p:spPr>
            <a:xfrm>
              <a:off x="1333440" y="4366800"/>
              <a:ext cx="6621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Line 16"/>
            <p:cNvSpPr/>
            <p:nvPr/>
          </p:nvSpPr>
          <p:spPr>
            <a:xfrm>
              <a:off x="1333440" y="4649040"/>
              <a:ext cx="6621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Line 17"/>
            <p:cNvSpPr/>
            <p:nvPr/>
          </p:nvSpPr>
          <p:spPr>
            <a:xfrm>
              <a:off x="1333440" y="4933080"/>
              <a:ext cx="6621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Line 18"/>
            <p:cNvSpPr/>
            <p:nvPr/>
          </p:nvSpPr>
          <p:spPr>
            <a:xfrm>
              <a:off x="1333440" y="5215320"/>
              <a:ext cx="6621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Line 19"/>
            <p:cNvSpPr/>
            <p:nvPr/>
          </p:nvSpPr>
          <p:spPr>
            <a:xfrm>
              <a:off x="1333440" y="5497560"/>
              <a:ext cx="6621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Line 20"/>
            <p:cNvSpPr/>
            <p:nvPr/>
          </p:nvSpPr>
          <p:spPr>
            <a:xfrm>
              <a:off x="1333440" y="5780160"/>
              <a:ext cx="6621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Line 21"/>
            <p:cNvSpPr/>
            <p:nvPr/>
          </p:nvSpPr>
          <p:spPr>
            <a:xfrm>
              <a:off x="1333440" y="6063840"/>
              <a:ext cx="6621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Line 22"/>
            <p:cNvSpPr/>
            <p:nvPr/>
          </p:nvSpPr>
          <p:spPr>
            <a:xfrm>
              <a:off x="1731960" y="1793520"/>
              <a:ext cx="1800" cy="458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Line 23"/>
            <p:cNvSpPr/>
            <p:nvPr/>
          </p:nvSpPr>
          <p:spPr>
            <a:xfrm>
              <a:off x="2027520" y="1793520"/>
              <a:ext cx="1440" cy="426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Line 24"/>
            <p:cNvSpPr/>
            <p:nvPr/>
          </p:nvSpPr>
          <p:spPr>
            <a:xfrm>
              <a:off x="2307960" y="1793520"/>
              <a:ext cx="1440" cy="426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Line 25"/>
            <p:cNvSpPr/>
            <p:nvPr/>
          </p:nvSpPr>
          <p:spPr>
            <a:xfrm>
              <a:off x="2838240" y="1793520"/>
              <a:ext cx="3240" cy="426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Line 26"/>
            <p:cNvSpPr/>
            <p:nvPr/>
          </p:nvSpPr>
          <p:spPr>
            <a:xfrm>
              <a:off x="2576520" y="1772280"/>
              <a:ext cx="1440" cy="426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Line 27"/>
            <p:cNvSpPr/>
            <p:nvPr/>
          </p:nvSpPr>
          <p:spPr>
            <a:xfrm>
              <a:off x="3105360" y="1793520"/>
              <a:ext cx="1440" cy="458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AutoShape 28"/>
            <p:cNvSpPr/>
            <p:nvPr/>
          </p:nvSpPr>
          <p:spPr>
            <a:xfrm>
              <a:off x="2077560" y="3002760"/>
              <a:ext cx="216720" cy="169200"/>
            </a:xfrm>
            <a:prstGeom prst="rightArrow">
              <a:avLst>
                <a:gd name="adj1" fmla="val 50000"/>
                <a:gd name="adj2" fmla="val 64096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Rectangle 29"/>
            <p:cNvSpPr/>
            <p:nvPr/>
          </p:nvSpPr>
          <p:spPr>
            <a:xfrm>
              <a:off x="2362680" y="3018960"/>
              <a:ext cx="188640" cy="148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AutoShape 30"/>
            <p:cNvSpPr/>
            <p:nvPr/>
          </p:nvSpPr>
          <p:spPr>
            <a:xfrm flipH="1" rot="10800000">
              <a:off x="2873880" y="3028320"/>
              <a:ext cx="199800" cy="158040"/>
            </a:xfrm>
            <a:prstGeom prst="triangle">
              <a:avLst>
                <a:gd name="adj" fmla="val 49958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31"/>
            <p:cNvSpPr/>
            <p:nvPr/>
          </p:nvSpPr>
          <p:spPr>
            <a:xfrm>
              <a:off x="2656080" y="3038760"/>
              <a:ext cx="115200" cy="12384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58" h="79">
                  <a:moveTo>
                    <a:pt x="0" y="3"/>
                  </a:moveTo>
                  <a:lnTo>
                    <a:pt x="0" y="75"/>
                  </a:lnTo>
                  <a:lnTo>
                    <a:pt x="33" y="78"/>
                  </a:lnTo>
                  <a:lnTo>
                    <a:pt x="42" y="69"/>
                  </a:lnTo>
                  <a:lnTo>
                    <a:pt x="57" y="54"/>
                  </a:lnTo>
                  <a:lnTo>
                    <a:pt x="57" y="33"/>
                  </a:lnTo>
                  <a:lnTo>
                    <a:pt x="51" y="18"/>
                  </a:lnTo>
                  <a:lnTo>
                    <a:pt x="42" y="9"/>
                  </a:lnTo>
                  <a:lnTo>
                    <a:pt x="30" y="0"/>
                  </a:lnTo>
                  <a:lnTo>
                    <a:pt x="0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Rectangle 32"/>
            <p:cNvSpPr/>
            <p:nvPr/>
          </p:nvSpPr>
          <p:spPr>
            <a:xfrm>
              <a:off x="1357920" y="2941920"/>
              <a:ext cx="257760" cy="27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0680" bIns="40680" anchor="t">
              <a:spAutoFit/>
            </a:bodyPr>
            <a:p>
              <a:pPr>
                <a:tabLst>
                  <a:tab algn="l" pos="0"/>
                  <a:tab algn="l" pos="836640"/>
                  <a:tab algn="l" pos="1673280"/>
                  <a:tab algn="l" pos="2509920"/>
                  <a:tab algn="l" pos="3346560"/>
                  <a:tab algn="l" pos="4183200"/>
                  <a:tab algn="l" pos="5019840"/>
                  <a:tab algn="l" pos="5856120"/>
                  <a:tab algn="l" pos="6692760"/>
                  <a:tab algn="l" pos="7529400"/>
                  <a:tab algn="l" pos="8366040"/>
                  <a:tab algn="l" pos="9202680"/>
                  <a:tab algn="l" pos="10039320"/>
                  <a:tab algn="l" pos="108759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Rectangle 33"/>
            <p:cNvSpPr/>
            <p:nvPr/>
          </p:nvSpPr>
          <p:spPr>
            <a:xfrm>
              <a:off x="1357920" y="3211560"/>
              <a:ext cx="257760" cy="27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0680" bIns="40680" anchor="t">
              <a:spAutoFit/>
            </a:bodyPr>
            <a:p>
              <a:pPr>
                <a:tabLst>
                  <a:tab algn="l" pos="0"/>
                  <a:tab algn="l" pos="836640"/>
                  <a:tab algn="l" pos="1673280"/>
                  <a:tab algn="l" pos="2509920"/>
                  <a:tab algn="l" pos="3346560"/>
                  <a:tab algn="l" pos="4183200"/>
                  <a:tab algn="l" pos="5019840"/>
                  <a:tab algn="l" pos="5856120"/>
                  <a:tab algn="l" pos="6692760"/>
                  <a:tab algn="l" pos="7529400"/>
                  <a:tab algn="l" pos="8366040"/>
                  <a:tab algn="l" pos="9202680"/>
                  <a:tab algn="l" pos="10039320"/>
                  <a:tab algn="l" pos="108759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Rectangle 34"/>
            <p:cNvSpPr/>
            <p:nvPr/>
          </p:nvSpPr>
          <p:spPr>
            <a:xfrm>
              <a:off x="1357920" y="3506760"/>
              <a:ext cx="257760" cy="27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0680" bIns="40680" anchor="t">
              <a:spAutoFit/>
            </a:bodyPr>
            <a:p>
              <a:pPr>
                <a:tabLst>
                  <a:tab algn="l" pos="0"/>
                  <a:tab algn="l" pos="836640"/>
                  <a:tab algn="l" pos="1673280"/>
                  <a:tab algn="l" pos="2509920"/>
                  <a:tab algn="l" pos="3346560"/>
                  <a:tab algn="l" pos="4183200"/>
                  <a:tab algn="l" pos="5019840"/>
                  <a:tab algn="l" pos="5856120"/>
                  <a:tab algn="l" pos="6692760"/>
                  <a:tab algn="l" pos="7529400"/>
                  <a:tab algn="l" pos="8366040"/>
                  <a:tab algn="l" pos="9202680"/>
                  <a:tab algn="l" pos="10039320"/>
                  <a:tab algn="l" pos="108759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Rectangle 35"/>
            <p:cNvSpPr/>
            <p:nvPr/>
          </p:nvSpPr>
          <p:spPr>
            <a:xfrm>
              <a:off x="1357920" y="3789000"/>
              <a:ext cx="257760" cy="27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0680" bIns="40680" anchor="t">
              <a:spAutoFit/>
            </a:bodyPr>
            <a:p>
              <a:pPr>
                <a:tabLst>
                  <a:tab algn="l" pos="0"/>
                  <a:tab algn="l" pos="836640"/>
                  <a:tab algn="l" pos="1673280"/>
                  <a:tab algn="l" pos="2509920"/>
                  <a:tab algn="l" pos="3346560"/>
                  <a:tab algn="l" pos="4183200"/>
                  <a:tab algn="l" pos="5019840"/>
                  <a:tab algn="l" pos="5856120"/>
                  <a:tab algn="l" pos="6692760"/>
                  <a:tab algn="l" pos="7529400"/>
                  <a:tab algn="l" pos="8366040"/>
                  <a:tab algn="l" pos="9202680"/>
                  <a:tab algn="l" pos="10039320"/>
                  <a:tab algn="l" pos="108759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Rectangle 36"/>
            <p:cNvSpPr/>
            <p:nvPr/>
          </p:nvSpPr>
          <p:spPr>
            <a:xfrm>
              <a:off x="1357920" y="4073040"/>
              <a:ext cx="257760" cy="27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0680" bIns="40680" anchor="t">
              <a:spAutoFit/>
            </a:bodyPr>
            <a:p>
              <a:pPr>
                <a:tabLst>
                  <a:tab algn="l" pos="0"/>
                  <a:tab algn="l" pos="836640"/>
                  <a:tab algn="l" pos="1673280"/>
                  <a:tab algn="l" pos="2509920"/>
                  <a:tab algn="l" pos="3346560"/>
                  <a:tab algn="l" pos="4183200"/>
                  <a:tab algn="l" pos="5019840"/>
                  <a:tab algn="l" pos="5856120"/>
                  <a:tab algn="l" pos="6692760"/>
                  <a:tab algn="l" pos="7529400"/>
                  <a:tab algn="l" pos="8366040"/>
                  <a:tab algn="l" pos="9202680"/>
                  <a:tab algn="l" pos="10039320"/>
                  <a:tab algn="l" pos="108759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Rectangle 37"/>
            <p:cNvSpPr/>
            <p:nvPr/>
          </p:nvSpPr>
          <p:spPr>
            <a:xfrm>
              <a:off x="1357920" y="4368600"/>
              <a:ext cx="257760" cy="27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0680" bIns="40680" anchor="t">
              <a:spAutoFit/>
            </a:bodyPr>
            <a:p>
              <a:pPr>
                <a:tabLst>
                  <a:tab algn="l" pos="0"/>
                  <a:tab algn="l" pos="836640"/>
                  <a:tab algn="l" pos="1673280"/>
                  <a:tab algn="l" pos="2509920"/>
                  <a:tab algn="l" pos="3346560"/>
                  <a:tab algn="l" pos="4183200"/>
                  <a:tab algn="l" pos="5019840"/>
                  <a:tab algn="l" pos="5856120"/>
                  <a:tab algn="l" pos="6692760"/>
                  <a:tab algn="l" pos="7529400"/>
                  <a:tab algn="l" pos="8366040"/>
                  <a:tab algn="l" pos="9202680"/>
                  <a:tab algn="l" pos="10039320"/>
                  <a:tab algn="l" pos="108759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Rectangle 38"/>
            <p:cNvSpPr/>
            <p:nvPr/>
          </p:nvSpPr>
          <p:spPr>
            <a:xfrm>
              <a:off x="1357920" y="4637520"/>
              <a:ext cx="257760" cy="27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0680" bIns="40680" anchor="t">
              <a:spAutoFit/>
            </a:bodyPr>
            <a:p>
              <a:pPr>
                <a:tabLst>
                  <a:tab algn="l" pos="0"/>
                  <a:tab algn="l" pos="836640"/>
                  <a:tab algn="l" pos="1673280"/>
                  <a:tab algn="l" pos="2509920"/>
                  <a:tab algn="l" pos="3346560"/>
                  <a:tab algn="l" pos="4183200"/>
                  <a:tab algn="l" pos="5019840"/>
                  <a:tab algn="l" pos="5856120"/>
                  <a:tab algn="l" pos="6692760"/>
                  <a:tab algn="l" pos="7529400"/>
                  <a:tab algn="l" pos="8366040"/>
                  <a:tab algn="l" pos="9202680"/>
                  <a:tab algn="l" pos="10039320"/>
                  <a:tab algn="l" pos="108759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Rectangle 39"/>
            <p:cNvSpPr/>
            <p:nvPr/>
          </p:nvSpPr>
          <p:spPr>
            <a:xfrm>
              <a:off x="1357920" y="4907160"/>
              <a:ext cx="257760" cy="27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0680" bIns="40680" anchor="t">
              <a:spAutoFit/>
            </a:bodyPr>
            <a:p>
              <a:pPr>
                <a:tabLst>
                  <a:tab algn="l" pos="0"/>
                  <a:tab algn="l" pos="836640"/>
                  <a:tab algn="l" pos="1673280"/>
                  <a:tab algn="l" pos="2509920"/>
                  <a:tab algn="l" pos="3346560"/>
                  <a:tab algn="l" pos="4183200"/>
                  <a:tab algn="l" pos="5019840"/>
                  <a:tab algn="l" pos="5856120"/>
                  <a:tab algn="l" pos="6692760"/>
                  <a:tab algn="l" pos="7529400"/>
                  <a:tab algn="l" pos="8366040"/>
                  <a:tab algn="l" pos="9202680"/>
                  <a:tab algn="l" pos="10039320"/>
                  <a:tab algn="l" pos="108759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Rectangle 40"/>
            <p:cNvSpPr/>
            <p:nvPr/>
          </p:nvSpPr>
          <p:spPr>
            <a:xfrm>
              <a:off x="1357920" y="5203800"/>
              <a:ext cx="257760" cy="27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0680" bIns="40680" anchor="t">
              <a:spAutoFit/>
            </a:bodyPr>
            <a:p>
              <a:pPr>
                <a:tabLst>
                  <a:tab algn="l" pos="0"/>
                  <a:tab algn="l" pos="836640"/>
                  <a:tab algn="l" pos="1673280"/>
                  <a:tab algn="l" pos="2509920"/>
                  <a:tab algn="l" pos="3346560"/>
                  <a:tab algn="l" pos="4183200"/>
                  <a:tab algn="l" pos="5019840"/>
                  <a:tab algn="l" pos="5856120"/>
                  <a:tab algn="l" pos="6692760"/>
                  <a:tab algn="l" pos="7529400"/>
                  <a:tab algn="l" pos="8366040"/>
                  <a:tab algn="l" pos="9202680"/>
                  <a:tab algn="l" pos="10039320"/>
                  <a:tab algn="l" pos="108759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Rectangle 41"/>
            <p:cNvSpPr/>
            <p:nvPr/>
          </p:nvSpPr>
          <p:spPr>
            <a:xfrm>
              <a:off x="1308960" y="5486040"/>
              <a:ext cx="349200" cy="27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0680" bIns="40680" anchor="t">
              <a:spAutoFit/>
            </a:bodyPr>
            <a:p>
              <a:pPr>
                <a:tabLst>
                  <a:tab algn="l" pos="0"/>
                  <a:tab algn="l" pos="836640"/>
                  <a:tab algn="l" pos="1673280"/>
                  <a:tab algn="l" pos="2509920"/>
                  <a:tab algn="l" pos="3346560"/>
                  <a:tab algn="l" pos="4183200"/>
                  <a:tab algn="l" pos="5019840"/>
                  <a:tab algn="l" pos="5856120"/>
                  <a:tab algn="l" pos="6692760"/>
                  <a:tab algn="l" pos="7529400"/>
                  <a:tab algn="l" pos="8366040"/>
                  <a:tab algn="l" pos="9202680"/>
                  <a:tab algn="l" pos="10039320"/>
                  <a:tab algn="l" pos="108759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Rectangle 42"/>
            <p:cNvSpPr/>
            <p:nvPr/>
          </p:nvSpPr>
          <p:spPr>
            <a:xfrm>
              <a:off x="1308960" y="5768640"/>
              <a:ext cx="349200" cy="27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0680" bIns="40680" anchor="t">
              <a:spAutoFit/>
            </a:bodyPr>
            <a:p>
              <a:pPr>
                <a:tabLst>
                  <a:tab algn="l" pos="0"/>
                  <a:tab algn="l" pos="836640"/>
                  <a:tab algn="l" pos="1673280"/>
                  <a:tab algn="l" pos="2509920"/>
                  <a:tab algn="l" pos="3346560"/>
                  <a:tab algn="l" pos="4183200"/>
                  <a:tab algn="l" pos="5019840"/>
                  <a:tab algn="l" pos="5856120"/>
                  <a:tab algn="l" pos="6692760"/>
                  <a:tab algn="l" pos="7529400"/>
                  <a:tab algn="l" pos="8366040"/>
                  <a:tab algn="l" pos="9202680"/>
                  <a:tab algn="l" pos="10039320"/>
                  <a:tab algn="l" pos="108759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Oval 43"/>
            <p:cNvSpPr/>
            <p:nvPr/>
          </p:nvSpPr>
          <p:spPr>
            <a:xfrm>
              <a:off x="1788840" y="3287880"/>
              <a:ext cx="223560" cy="176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Rectangle 44"/>
            <p:cNvSpPr/>
            <p:nvPr/>
          </p:nvSpPr>
          <p:spPr>
            <a:xfrm>
              <a:off x="2362680" y="3301200"/>
              <a:ext cx="188640" cy="148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AutoShape 45"/>
            <p:cNvSpPr/>
            <p:nvPr/>
          </p:nvSpPr>
          <p:spPr>
            <a:xfrm flipH="1" rot="10800000">
              <a:off x="2873880" y="3312000"/>
              <a:ext cx="199800" cy="158040"/>
            </a:xfrm>
            <a:prstGeom prst="triangle">
              <a:avLst>
                <a:gd name="adj" fmla="val 49958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46"/>
            <p:cNvSpPr/>
            <p:nvPr/>
          </p:nvSpPr>
          <p:spPr>
            <a:xfrm>
              <a:off x="2656080" y="3320640"/>
              <a:ext cx="115200" cy="12420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124200"/>
                <a:gd name="textAreaBottom" fmla="*/ 124560 h 124200"/>
              </a:gdLst>
              <a:ahLst/>
              <a:rect l="textAreaLeft" t="textAreaTop" r="textAreaRight" b="textAreaBottom"/>
              <a:pathLst>
                <a:path w="58" h="79">
                  <a:moveTo>
                    <a:pt x="0" y="3"/>
                  </a:moveTo>
                  <a:lnTo>
                    <a:pt x="0" y="75"/>
                  </a:lnTo>
                  <a:lnTo>
                    <a:pt x="33" y="78"/>
                  </a:lnTo>
                  <a:lnTo>
                    <a:pt x="42" y="69"/>
                  </a:lnTo>
                  <a:lnTo>
                    <a:pt x="57" y="54"/>
                  </a:lnTo>
                  <a:lnTo>
                    <a:pt x="57" y="33"/>
                  </a:lnTo>
                  <a:lnTo>
                    <a:pt x="51" y="18"/>
                  </a:lnTo>
                  <a:lnTo>
                    <a:pt x="42" y="9"/>
                  </a:lnTo>
                  <a:lnTo>
                    <a:pt x="30" y="0"/>
                  </a:lnTo>
                  <a:lnTo>
                    <a:pt x="0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Oval 47"/>
            <p:cNvSpPr/>
            <p:nvPr/>
          </p:nvSpPr>
          <p:spPr>
            <a:xfrm>
              <a:off x="1788840" y="3570480"/>
              <a:ext cx="223560" cy="177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AutoShape 48"/>
            <p:cNvSpPr/>
            <p:nvPr/>
          </p:nvSpPr>
          <p:spPr>
            <a:xfrm>
              <a:off x="2077560" y="3566880"/>
              <a:ext cx="216720" cy="171000"/>
            </a:xfrm>
            <a:prstGeom prst="rightArrow">
              <a:avLst>
                <a:gd name="adj1" fmla="val 50000"/>
                <a:gd name="adj2" fmla="val 63421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AutoShape 49"/>
            <p:cNvSpPr/>
            <p:nvPr/>
          </p:nvSpPr>
          <p:spPr>
            <a:xfrm flipH="1" rot="10800000">
              <a:off x="2873880" y="3594600"/>
              <a:ext cx="199800" cy="158040"/>
            </a:xfrm>
            <a:prstGeom prst="triangle">
              <a:avLst>
                <a:gd name="adj" fmla="val 49958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50"/>
            <p:cNvSpPr/>
            <p:nvPr/>
          </p:nvSpPr>
          <p:spPr>
            <a:xfrm>
              <a:off x="2656080" y="3602880"/>
              <a:ext cx="115200" cy="12420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124200"/>
                <a:gd name="textAreaBottom" fmla="*/ 124560 h 124200"/>
              </a:gdLst>
              <a:ahLst/>
              <a:rect l="textAreaLeft" t="textAreaTop" r="textAreaRight" b="textAreaBottom"/>
              <a:pathLst>
                <a:path w="58" h="79">
                  <a:moveTo>
                    <a:pt x="0" y="3"/>
                  </a:moveTo>
                  <a:lnTo>
                    <a:pt x="0" y="75"/>
                  </a:lnTo>
                  <a:lnTo>
                    <a:pt x="33" y="78"/>
                  </a:lnTo>
                  <a:lnTo>
                    <a:pt x="42" y="69"/>
                  </a:lnTo>
                  <a:lnTo>
                    <a:pt x="57" y="54"/>
                  </a:lnTo>
                  <a:lnTo>
                    <a:pt x="57" y="33"/>
                  </a:lnTo>
                  <a:lnTo>
                    <a:pt x="51" y="18"/>
                  </a:lnTo>
                  <a:lnTo>
                    <a:pt x="42" y="9"/>
                  </a:lnTo>
                  <a:lnTo>
                    <a:pt x="30" y="0"/>
                  </a:lnTo>
                  <a:lnTo>
                    <a:pt x="0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Oval 51"/>
            <p:cNvSpPr/>
            <p:nvPr/>
          </p:nvSpPr>
          <p:spPr>
            <a:xfrm>
              <a:off x="1774080" y="3839760"/>
              <a:ext cx="223200" cy="176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Rectangle 52"/>
            <p:cNvSpPr/>
            <p:nvPr/>
          </p:nvSpPr>
          <p:spPr>
            <a:xfrm>
              <a:off x="2347920" y="3852720"/>
              <a:ext cx="188280" cy="148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AutoShape 53"/>
            <p:cNvSpPr/>
            <p:nvPr/>
          </p:nvSpPr>
          <p:spPr>
            <a:xfrm flipH="1" rot="10800000">
              <a:off x="2860560" y="3864240"/>
              <a:ext cx="199800" cy="156240"/>
            </a:xfrm>
            <a:prstGeom prst="triangle">
              <a:avLst>
                <a:gd name="adj" fmla="val 49958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54"/>
            <p:cNvSpPr/>
            <p:nvPr/>
          </p:nvSpPr>
          <p:spPr>
            <a:xfrm>
              <a:off x="2643120" y="3872520"/>
              <a:ext cx="113400" cy="12240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58" h="79">
                  <a:moveTo>
                    <a:pt x="0" y="3"/>
                  </a:moveTo>
                  <a:lnTo>
                    <a:pt x="0" y="75"/>
                  </a:lnTo>
                  <a:lnTo>
                    <a:pt x="33" y="78"/>
                  </a:lnTo>
                  <a:lnTo>
                    <a:pt x="42" y="69"/>
                  </a:lnTo>
                  <a:lnTo>
                    <a:pt x="57" y="54"/>
                  </a:lnTo>
                  <a:lnTo>
                    <a:pt x="57" y="33"/>
                  </a:lnTo>
                  <a:lnTo>
                    <a:pt x="51" y="18"/>
                  </a:lnTo>
                  <a:lnTo>
                    <a:pt x="42" y="9"/>
                  </a:lnTo>
                  <a:lnTo>
                    <a:pt x="30" y="0"/>
                  </a:lnTo>
                  <a:lnTo>
                    <a:pt x="0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Oval 55"/>
            <p:cNvSpPr/>
            <p:nvPr/>
          </p:nvSpPr>
          <p:spPr>
            <a:xfrm>
              <a:off x="1774080" y="4136760"/>
              <a:ext cx="223200" cy="176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AutoShape 56"/>
            <p:cNvSpPr/>
            <p:nvPr/>
          </p:nvSpPr>
          <p:spPr>
            <a:xfrm>
              <a:off x="2064240" y="4133520"/>
              <a:ext cx="214920" cy="169200"/>
            </a:xfrm>
            <a:prstGeom prst="rightArrow">
              <a:avLst>
                <a:gd name="adj1" fmla="val 50000"/>
                <a:gd name="adj2" fmla="val 63563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Rectangle 57"/>
            <p:cNvSpPr/>
            <p:nvPr/>
          </p:nvSpPr>
          <p:spPr>
            <a:xfrm>
              <a:off x="2347920" y="4150080"/>
              <a:ext cx="188280" cy="148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58"/>
            <p:cNvSpPr/>
            <p:nvPr/>
          </p:nvSpPr>
          <p:spPr>
            <a:xfrm>
              <a:off x="2643120" y="4167720"/>
              <a:ext cx="113400" cy="12564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125640"/>
                <a:gd name="textAreaBottom" fmla="*/ 125640 h 125640"/>
              </a:gdLst>
              <a:ahLst/>
              <a:rect l="textAreaLeft" t="textAreaTop" r="textAreaRight" b="textAreaBottom"/>
              <a:pathLst>
                <a:path w="58" h="79">
                  <a:moveTo>
                    <a:pt x="0" y="3"/>
                  </a:moveTo>
                  <a:lnTo>
                    <a:pt x="0" y="75"/>
                  </a:lnTo>
                  <a:lnTo>
                    <a:pt x="33" y="78"/>
                  </a:lnTo>
                  <a:lnTo>
                    <a:pt x="42" y="69"/>
                  </a:lnTo>
                  <a:lnTo>
                    <a:pt x="57" y="54"/>
                  </a:lnTo>
                  <a:lnTo>
                    <a:pt x="57" y="33"/>
                  </a:lnTo>
                  <a:lnTo>
                    <a:pt x="51" y="18"/>
                  </a:lnTo>
                  <a:lnTo>
                    <a:pt x="42" y="9"/>
                  </a:lnTo>
                  <a:lnTo>
                    <a:pt x="30" y="0"/>
                  </a:lnTo>
                  <a:lnTo>
                    <a:pt x="0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Oval 59"/>
            <p:cNvSpPr/>
            <p:nvPr/>
          </p:nvSpPr>
          <p:spPr>
            <a:xfrm>
              <a:off x="1788840" y="4433760"/>
              <a:ext cx="223560" cy="176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Rectangle 60"/>
            <p:cNvSpPr/>
            <p:nvPr/>
          </p:nvSpPr>
          <p:spPr>
            <a:xfrm>
              <a:off x="2362680" y="4446720"/>
              <a:ext cx="188640" cy="148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AutoShape 61"/>
            <p:cNvSpPr/>
            <p:nvPr/>
          </p:nvSpPr>
          <p:spPr>
            <a:xfrm flipH="1" rot="10800000">
              <a:off x="2873880" y="4458240"/>
              <a:ext cx="199800" cy="156240"/>
            </a:xfrm>
            <a:prstGeom prst="triangle">
              <a:avLst>
                <a:gd name="adj" fmla="val 49958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62"/>
            <p:cNvSpPr/>
            <p:nvPr/>
          </p:nvSpPr>
          <p:spPr>
            <a:xfrm>
              <a:off x="2656080" y="4464720"/>
              <a:ext cx="115200" cy="12384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58" h="79">
                  <a:moveTo>
                    <a:pt x="0" y="3"/>
                  </a:moveTo>
                  <a:lnTo>
                    <a:pt x="0" y="75"/>
                  </a:lnTo>
                  <a:lnTo>
                    <a:pt x="33" y="78"/>
                  </a:lnTo>
                  <a:lnTo>
                    <a:pt x="42" y="69"/>
                  </a:lnTo>
                  <a:lnTo>
                    <a:pt x="57" y="54"/>
                  </a:lnTo>
                  <a:lnTo>
                    <a:pt x="57" y="33"/>
                  </a:lnTo>
                  <a:lnTo>
                    <a:pt x="51" y="18"/>
                  </a:lnTo>
                  <a:lnTo>
                    <a:pt x="42" y="9"/>
                  </a:lnTo>
                  <a:lnTo>
                    <a:pt x="30" y="0"/>
                  </a:lnTo>
                  <a:lnTo>
                    <a:pt x="0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AutoShape 63"/>
            <p:cNvSpPr/>
            <p:nvPr/>
          </p:nvSpPr>
          <p:spPr>
            <a:xfrm>
              <a:off x="2077560" y="4683600"/>
              <a:ext cx="216720" cy="171000"/>
            </a:xfrm>
            <a:prstGeom prst="rightArrow">
              <a:avLst>
                <a:gd name="adj1" fmla="val 50000"/>
                <a:gd name="adj2" fmla="val 63421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Rectangle 64"/>
            <p:cNvSpPr/>
            <p:nvPr/>
          </p:nvSpPr>
          <p:spPr>
            <a:xfrm>
              <a:off x="2362680" y="4699800"/>
              <a:ext cx="188640" cy="149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AutoShape 65"/>
            <p:cNvSpPr/>
            <p:nvPr/>
          </p:nvSpPr>
          <p:spPr>
            <a:xfrm flipH="1" rot="10800000">
              <a:off x="2873880" y="4712760"/>
              <a:ext cx="199800" cy="154800"/>
            </a:xfrm>
            <a:prstGeom prst="triangle">
              <a:avLst>
                <a:gd name="adj" fmla="val 49958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66"/>
            <p:cNvSpPr/>
            <p:nvPr/>
          </p:nvSpPr>
          <p:spPr>
            <a:xfrm>
              <a:off x="2656080" y="4721040"/>
              <a:ext cx="115200" cy="12240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58" h="79">
                  <a:moveTo>
                    <a:pt x="0" y="3"/>
                  </a:moveTo>
                  <a:lnTo>
                    <a:pt x="0" y="75"/>
                  </a:lnTo>
                  <a:lnTo>
                    <a:pt x="33" y="78"/>
                  </a:lnTo>
                  <a:lnTo>
                    <a:pt x="42" y="69"/>
                  </a:lnTo>
                  <a:lnTo>
                    <a:pt x="57" y="54"/>
                  </a:lnTo>
                  <a:lnTo>
                    <a:pt x="57" y="33"/>
                  </a:lnTo>
                  <a:lnTo>
                    <a:pt x="51" y="18"/>
                  </a:lnTo>
                  <a:lnTo>
                    <a:pt x="42" y="9"/>
                  </a:lnTo>
                  <a:lnTo>
                    <a:pt x="30" y="0"/>
                  </a:lnTo>
                  <a:lnTo>
                    <a:pt x="0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Oval 67"/>
            <p:cNvSpPr/>
            <p:nvPr/>
          </p:nvSpPr>
          <p:spPr>
            <a:xfrm>
              <a:off x="1788840" y="4985280"/>
              <a:ext cx="223560" cy="176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AutoShape 68"/>
            <p:cNvSpPr/>
            <p:nvPr/>
          </p:nvSpPr>
          <p:spPr>
            <a:xfrm>
              <a:off x="2077560" y="4982040"/>
              <a:ext cx="216720" cy="169200"/>
            </a:xfrm>
            <a:prstGeom prst="rightArrow">
              <a:avLst>
                <a:gd name="adj1" fmla="val 50000"/>
                <a:gd name="adj2" fmla="val 64096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Rectangle 69"/>
            <p:cNvSpPr/>
            <p:nvPr/>
          </p:nvSpPr>
          <p:spPr>
            <a:xfrm>
              <a:off x="2362680" y="4998600"/>
              <a:ext cx="188640" cy="148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70"/>
            <p:cNvSpPr/>
            <p:nvPr/>
          </p:nvSpPr>
          <p:spPr>
            <a:xfrm>
              <a:off x="2656080" y="5016240"/>
              <a:ext cx="115200" cy="12384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58" h="79">
                  <a:moveTo>
                    <a:pt x="0" y="3"/>
                  </a:moveTo>
                  <a:lnTo>
                    <a:pt x="0" y="75"/>
                  </a:lnTo>
                  <a:lnTo>
                    <a:pt x="33" y="78"/>
                  </a:lnTo>
                  <a:lnTo>
                    <a:pt x="42" y="69"/>
                  </a:lnTo>
                  <a:lnTo>
                    <a:pt x="57" y="54"/>
                  </a:lnTo>
                  <a:lnTo>
                    <a:pt x="57" y="33"/>
                  </a:lnTo>
                  <a:lnTo>
                    <a:pt x="51" y="18"/>
                  </a:lnTo>
                  <a:lnTo>
                    <a:pt x="42" y="9"/>
                  </a:lnTo>
                  <a:lnTo>
                    <a:pt x="30" y="0"/>
                  </a:lnTo>
                  <a:lnTo>
                    <a:pt x="0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AutoShape 71"/>
            <p:cNvSpPr/>
            <p:nvPr/>
          </p:nvSpPr>
          <p:spPr>
            <a:xfrm>
              <a:off x="2077560" y="5264280"/>
              <a:ext cx="216720" cy="169560"/>
            </a:xfrm>
            <a:prstGeom prst="rightArrow">
              <a:avLst>
                <a:gd name="adj1" fmla="val 50000"/>
                <a:gd name="adj2" fmla="val 63960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Rectangle 72"/>
            <p:cNvSpPr/>
            <p:nvPr/>
          </p:nvSpPr>
          <p:spPr>
            <a:xfrm>
              <a:off x="2362680" y="5280840"/>
              <a:ext cx="188640" cy="148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AutoShape 73"/>
            <p:cNvSpPr/>
            <p:nvPr/>
          </p:nvSpPr>
          <p:spPr>
            <a:xfrm flipH="1" rot="10800000">
              <a:off x="2873880" y="5290200"/>
              <a:ext cx="199800" cy="158040"/>
            </a:xfrm>
            <a:prstGeom prst="triangle">
              <a:avLst>
                <a:gd name="adj" fmla="val 49958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74"/>
            <p:cNvSpPr/>
            <p:nvPr/>
          </p:nvSpPr>
          <p:spPr>
            <a:xfrm>
              <a:off x="2656080" y="5298480"/>
              <a:ext cx="115200" cy="12564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125640"/>
                <a:gd name="textAreaBottom" fmla="*/ 125640 h 125640"/>
              </a:gdLst>
              <a:ahLst/>
              <a:rect l="textAreaLeft" t="textAreaTop" r="textAreaRight" b="textAreaBottom"/>
              <a:pathLst>
                <a:path w="58" h="79">
                  <a:moveTo>
                    <a:pt x="0" y="3"/>
                  </a:moveTo>
                  <a:lnTo>
                    <a:pt x="0" y="75"/>
                  </a:lnTo>
                  <a:lnTo>
                    <a:pt x="33" y="78"/>
                  </a:lnTo>
                  <a:lnTo>
                    <a:pt x="42" y="69"/>
                  </a:lnTo>
                  <a:lnTo>
                    <a:pt x="57" y="54"/>
                  </a:lnTo>
                  <a:lnTo>
                    <a:pt x="57" y="33"/>
                  </a:lnTo>
                  <a:lnTo>
                    <a:pt x="51" y="18"/>
                  </a:lnTo>
                  <a:lnTo>
                    <a:pt x="42" y="9"/>
                  </a:lnTo>
                  <a:lnTo>
                    <a:pt x="30" y="0"/>
                  </a:lnTo>
                  <a:lnTo>
                    <a:pt x="0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Oval 75"/>
            <p:cNvSpPr/>
            <p:nvPr/>
          </p:nvSpPr>
          <p:spPr>
            <a:xfrm>
              <a:off x="1774080" y="5536800"/>
              <a:ext cx="223200" cy="174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Rectangle 76"/>
            <p:cNvSpPr/>
            <p:nvPr/>
          </p:nvSpPr>
          <p:spPr>
            <a:xfrm>
              <a:off x="2347920" y="5548320"/>
              <a:ext cx="188280" cy="149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AutoShape 77"/>
            <p:cNvSpPr/>
            <p:nvPr/>
          </p:nvSpPr>
          <p:spPr>
            <a:xfrm flipH="1" rot="10800000">
              <a:off x="2860560" y="5559840"/>
              <a:ext cx="199800" cy="156240"/>
            </a:xfrm>
            <a:prstGeom prst="triangle">
              <a:avLst>
                <a:gd name="adj" fmla="val 49958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78"/>
            <p:cNvSpPr/>
            <p:nvPr/>
          </p:nvSpPr>
          <p:spPr>
            <a:xfrm>
              <a:off x="2643120" y="5568120"/>
              <a:ext cx="113400" cy="12384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58" h="79">
                  <a:moveTo>
                    <a:pt x="0" y="3"/>
                  </a:moveTo>
                  <a:lnTo>
                    <a:pt x="0" y="75"/>
                  </a:lnTo>
                  <a:lnTo>
                    <a:pt x="33" y="78"/>
                  </a:lnTo>
                  <a:lnTo>
                    <a:pt x="42" y="69"/>
                  </a:lnTo>
                  <a:lnTo>
                    <a:pt x="57" y="54"/>
                  </a:lnTo>
                  <a:lnTo>
                    <a:pt x="57" y="33"/>
                  </a:lnTo>
                  <a:lnTo>
                    <a:pt x="51" y="18"/>
                  </a:lnTo>
                  <a:lnTo>
                    <a:pt x="42" y="9"/>
                  </a:lnTo>
                  <a:lnTo>
                    <a:pt x="30" y="0"/>
                  </a:lnTo>
                  <a:lnTo>
                    <a:pt x="0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Oval 79"/>
            <p:cNvSpPr/>
            <p:nvPr/>
          </p:nvSpPr>
          <p:spPr>
            <a:xfrm>
              <a:off x="1774080" y="5832360"/>
              <a:ext cx="223200" cy="177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AutoShape 80"/>
            <p:cNvSpPr/>
            <p:nvPr/>
          </p:nvSpPr>
          <p:spPr>
            <a:xfrm>
              <a:off x="2064240" y="5828760"/>
              <a:ext cx="214920" cy="169560"/>
            </a:xfrm>
            <a:prstGeom prst="rightArrow">
              <a:avLst>
                <a:gd name="adj1" fmla="val 50000"/>
                <a:gd name="adj2" fmla="val 63428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AutoShape 81"/>
            <p:cNvSpPr/>
            <p:nvPr/>
          </p:nvSpPr>
          <p:spPr>
            <a:xfrm flipH="1" rot="10800000">
              <a:off x="2860560" y="5856120"/>
              <a:ext cx="199800" cy="158040"/>
            </a:xfrm>
            <a:prstGeom prst="triangle">
              <a:avLst>
                <a:gd name="adj" fmla="val 49958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82"/>
            <p:cNvSpPr/>
            <p:nvPr/>
          </p:nvSpPr>
          <p:spPr>
            <a:xfrm>
              <a:off x="2643120" y="5864760"/>
              <a:ext cx="113400" cy="12384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58" h="79">
                  <a:moveTo>
                    <a:pt x="0" y="3"/>
                  </a:moveTo>
                  <a:lnTo>
                    <a:pt x="0" y="75"/>
                  </a:lnTo>
                  <a:lnTo>
                    <a:pt x="33" y="78"/>
                  </a:lnTo>
                  <a:lnTo>
                    <a:pt x="42" y="69"/>
                  </a:lnTo>
                  <a:lnTo>
                    <a:pt x="57" y="54"/>
                  </a:lnTo>
                  <a:lnTo>
                    <a:pt x="57" y="33"/>
                  </a:lnTo>
                  <a:lnTo>
                    <a:pt x="51" y="18"/>
                  </a:lnTo>
                  <a:lnTo>
                    <a:pt x="42" y="9"/>
                  </a:lnTo>
                  <a:lnTo>
                    <a:pt x="30" y="0"/>
                  </a:lnTo>
                  <a:lnTo>
                    <a:pt x="0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83"/>
            <p:cNvSpPr/>
            <p:nvPr/>
          </p:nvSpPr>
          <p:spPr>
            <a:xfrm>
              <a:off x="1865520" y="3108600"/>
              <a:ext cx="1159200" cy="2814840"/>
            </a:xfrm>
            <a:custGeom>
              <a:avLst/>
              <a:gdLst>
                <a:gd name="textAreaLeft" fmla="*/ 0 w 1159200"/>
                <a:gd name="textAreaRight" fmla="*/ 1159200 w 1159200"/>
                <a:gd name="textAreaTop" fmla="*/ 0 h 2814840"/>
                <a:gd name="textAreaBottom" fmla="*/ 2815200 h 2814840"/>
              </a:gdLst>
              <a:ahLst/>
              <a:rect l="textAreaLeft" t="textAreaTop" r="textAreaRight" b="textAreaBottom"/>
              <a:pathLst>
                <a:path w="667" h="1792">
                  <a:moveTo>
                    <a:pt x="18" y="0"/>
                  </a:moveTo>
                  <a:lnTo>
                    <a:pt x="189" y="180"/>
                  </a:lnTo>
                  <a:lnTo>
                    <a:pt x="360" y="360"/>
                  </a:lnTo>
                  <a:lnTo>
                    <a:pt x="171" y="522"/>
                  </a:lnTo>
                  <a:lnTo>
                    <a:pt x="666" y="711"/>
                  </a:lnTo>
                  <a:lnTo>
                    <a:pt x="198" y="891"/>
                  </a:lnTo>
                  <a:lnTo>
                    <a:pt x="27" y="1062"/>
                  </a:lnTo>
                  <a:lnTo>
                    <a:pt x="666" y="1233"/>
                  </a:lnTo>
                  <a:lnTo>
                    <a:pt x="0" y="1431"/>
                  </a:lnTo>
                  <a:lnTo>
                    <a:pt x="171" y="1602"/>
                  </a:lnTo>
                  <a:lnTo>
                    <a:pt x="333" y="1791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Oval 84"/>
            <p:cNvSpPr/>
            <p:nvPr/>
          </p:nvSpPr>
          <p:spPr>
            <a:xfrm>
              <a:off x="1788840" y="3005640"/>
              <a:ext cx="223560" cy="176400"/>
            </a:xfrm>
            <a:prstGeom prst="ellipse">
              <a:avLst/>
            </a:prstGeom>
            <a:solidFill>
              <a:srgbClr val="5f5f5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AutoShape 85"/>
            <p:cNvSpPr/>
            <p:nvPr/>
          </p:nvSpPr>
          <p:spPr>
            <a:xfrm>
              <a:off x="2077560" y="3284640"/>
              <a:ext cx="216720" cy="169560"/>
            </a:xfrm>
            <a:prstGeom prst="rightArrow">
              <a:avLst>
                <a:gd name="adj1" fmla="val 50000"/>
                <a:gd name="adj2" fmla="val 63960"/>
              </a:avLst>
            </a:prstGeom>
            <a:solidFill>
              <a:srgbClr val="5f5f5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Rectangle 86"/>
            <p:cNvSpPr/>
            <p:nvPr/>
          </p:nvSpPr>
          <p:spPr>
            <a:xfrm>
              <a:off x="2362680" y="3585240"/>
              <a:ext cx="188640" cy="146880"/>
            </a:xfrm>
            <a:prstGeom prst="rect">
              <a:avLst/>
            </a:prstGeom>
            <a:solidFill>
              <a:srgbClr val="5f5f5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AutoShape 87"/>
            <p:cNvSpPr/>
            <p:nvPr/>
          </p:nvSpPr>
          <p:spPr>
            <a:xfrm>
              <a:off x="2064240" y="3835080"/>
              <a:ext cx="214920" cy="171000"/>
            </a:xfrm>
            <a:prstGeom prst="rightArrow">
              <a:avLst>
                <a:gd name="adj1" fmla="val 50000"/>
                <a:gd name="adj2" fmla="val 62894"/>
              </a:avLst>
            </a:prstGeom>
            <a:solidFill>
              <a:srgbClr val="5f5f5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AutoShape 88"/>
            <p:cNvSpPr/>
            <p:nvPr/>
          </p:nvSpPr>
          <p:spPr>
            <a:xfrm flipH="1" rot="10800000">
              <a:off x="2860560" y="4159080"/>
              <a:ext cx="199800" cy="158040"/>
            </a:xfrm>
            <a:prstGeom prst="triangle">
              <a:avLst>
                <a:gd name="adj" fmla="val 49958"/>
              </a:avLst>
            </a:prstGeom>
            <a:solidFill>
              <a:srgbClr val="5f5f5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AutoShape 89"/>
            <p:cNvSpPr/>
            <p:nvPr/>
          </p:nvSpPr>
          <p:spPr>
            <a:xfrm>
              <a:off x="2077560" y="4429080"/>
              <a:ext cx="216720" cy="171000"/>
            </a:xfrm>
            <a:prstGeom prst="rightArrow">
              <a:avLst>
                <a:gd name="adj1" fmla="val 50000"/>
                <a:gd name="adj2" fmla="val 63421"/>
              </a:avLst>
            </a:prstGeom>
            <a:solidFill>
              <a:srgbClr val="5f5f5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Oval 90"/>
            <p:cNvSpPr/>
            <p:nvPr/>
          </p:nvSpPr>
          <p:spPr>
            <a:xfrm>
              <a:off x="1788840" y="4688280"/>
              <a:ext cx="223560" cy="174600"/>
            </a:xfrm>
            <a:prstGeom prst="ellipse">
              <a:avLst/>
            </a:prstGeom>
            <a:solidFill>
              <a:srgbClr val="5f5f5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AutoShape 91"/>
            <p:cNvSpPr/>
            <p:nvPr/>
          </p:nvSpPr>
          <p:spPr>
            <a:xfrm flipH="1" rot="10800000">
              <a:off x="2873880" y="5007600"/>
              <a:ext cx="199800" cy="158040"/>
            </a:xfrm>
            <a:prstGeom prst="triangle">
              <a:avLst>
                <a:gd name="adj" fmla="val 49958"/>
              </a:avLst>
            </a:prstGeom>
            <a:solidFill>
              <a:srgbClr val="5f5f5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Oval 92"/>
            <p:cNvSpPr/>
            <p:nvPr/>
          </p:nvSpPr>
          <p:spPr>
            <a:xfrm>
              <a:off x="1788840" y="5267520"/>
              <a:ext cx="223560" cy="176400"/>
            </a:xfrm>
            <a:prstGeom prst="ellipse">
              <a:avLst/>
            </a:prstGeom>
            <a:solidFill>
              <a:srgbClr val="5f5f5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AutoShape 93"/>
            <p:cNvSpPr/>
            <p:nvPr/>
          </p:nvSpPr>
          <p:spPr>
            <a:xfrm>
              <a:off x="2064240" y="5532120"/>
              <a:ext cx="214920" cy="171000"/>
            </a:xfrm>
            <a:prstGeom prst="rightArrow">
              <a:avLst>
                <a:gd name="adj1" fmla="val 50000"/>
                <a:gd name="adj2" fmla="val 62894"/>
              </a:avLst>
            </a:prstGeom>
            <a:solidFill>
              <a:srgbClr val="5f5f5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Rectangle 94"/>
            <p:cNvSpPr/>
            <p:nvPr/>
          </p:nvSpPr>
          <p:spPr>
            <a:xfrm>
              <a:off x="2347920" y="5847120"/>
              <a:ext cx="188280" cy="146880"/>
            </a:xfrm>
            <a:prstGeom prst="rect">
              <a:avLst/>
            </a:prstGeom>
            <a:solidFill>
              <a:srgbClr val="5f5f5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Rectangle 95"/>
            <p:cNvSpPr/>
            <p:nvPr/>
          </p:nvSpPr>
          <p:spPr>
            <a:xfrm>
              <a:off x="3165480" y="2955240"/>
              <a:ext cx="2150640" cy="27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0680" bIns="40680" anchor="t">
              <a:spAutoFit/>
            </a:bodyPr>
            <a:p>
              <a:pPr>
                <a:tabLst>
                  <a:tab algn="l" pos="0"/>
                  <a:tab algn="l" pos="836640"/>
                  <a:tab algn="l" pos="1673280"/>
                  <a:tab algn="l" pos="2509920"/>
                  <a:tab algn="l" pos="3346560"/>
                  <a:tab algn="l" pos="4183200"/>
                  <a:tab algn="l" pos="5019840"/>
                  <a:tab algn="l" pos="5856120"/>
                  <a:tab algn="l" pos="6692760"/>
                  <a:tab algn="l" pos="7529400"/>
                  <a:tab algn="l" pos="8366040"/>
                  <a:tab algn="l" pos="9202680"/>
                  <a:tab algn="l" pos="10039320"/>
                  <a:tab algn="l" pos="108759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Unload apples from truck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Rectangle 96"/>
            <p:cNvSpPr/>
            <p:nvPr/>
          </p:nvSpPr>
          <p:spPr>
            <a:xfrm>
              <a:off x="3170880" y="3224520"/>
              <a:ext cx="2242080" cy="27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0680" bIns="40680" anchor="t">
              <a:spAutoFit/>
            </a:bodyPr>
            <a:p>
              <a:pPr>
                <a:tabLst>
                  <a:tab algn="l" pos="0"/>
                  <a:tab algn="l" pos="836640"/>
                  <a:tab algn="l" pos="1673280"/>
                  <a:tab algn="l" pos="2509920"/>
                  <a:tab algn="l" pos="3346560"/>
                  <a:tab algn="l" pos="4183200"/>
                  <a:tab algn="l" pos="5019840"/>
                  <a:tab algn="l" pos="5856120"/>
                  <a:tab algn="l" pos="6692760"/>
                  <a:tab algn="l" pos="7529400"/>
                  <a:tab algn="l" pos="8366040"/>
                  <a:tab algn="l" pos="9202680"/>
                  <a:tab algn="l" pos="10039320"/>
                  <a:tab algn="l" pos="108759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Move to inspection station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Rectangle 97"/>
            <p:cNvSpPr/>
            <p:nvPr/>
          </p:nvSpPr>
          <p:spPr>
            <a:xfrm>
              <a:off x="3154320" y="3506760"/>
              <a:ext cx="1729800" cy="27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0680" bIns="40680" anchor="t">
              <a:spAutoFit/>
            </a:bodyPr>
            <a:p>
              <a:pPr>
                <a:tabLst>
                  <a:tab algn="l" pos="0"/>
                  <a:tab algn="l" pos="836640"/>
                  <a:tab algn="l" pos="1673280"/>
                  <a:tab algn="l" pos="2509920"/>
                  <a:tab algn="l" pos="3346560"/>
                  <a:tab algn="l" pos="4183200"/>
                  <a:tab algn="l" pos="5019840"/>
                  <a:tab algn="l" pos="5856120"/>
                  <a:tab algn="l" pos="6692760"/>
                  <a:tab algn="l" pos="7529400"/>
                  <a:tab algn="l" pos="8366040"/>
                  <a:tab algn="l" pos="9202680"/>
                  <a:tab algn="l" pos="10039320"/>
                  <a:tab algn="l" pos="108759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Weigh, inspect, sort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Rectangle 98"/>
            <p:cNvSpPr/>
            <p:nvPr/>
          </p:nvSpPr>
          <p:spPr>
            <a:xfrm>
              <a:off x="3145680" y="3789000"/>
              <a:ext cx="1428120" cy="27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0680" bIns="40680" anchor="t">
              <a:spAutoFit/>
            </a:bodyPr>
            <a:p>
              <a:pPr>
                <a:tabLst>
                  <a:tab algn="l" pos="0"/>
                  <a:tab algn="l" pos="836640"/>
                  <a:tab algn="l" pos="1673280"/>
                  <a:tab algn="l" pos="2509920"/>
                  <a:tab algn="l" pos="3346560"/>
                  <a:tab algn="l" pos="4183200"/>
                  <a:tab algn="l" pos="5019840"/>
                  <a:tab algn="l" pos="5856120"/>
                  <a:tab algn="l" pos="6692760"/>
                  <a:tab algn="l" pos="7529400"/>
                  <a:tab algn="l" pos="8366040"/>
                  <a:tab algn="l" pos="9202680"/>
                  <a:tab algn="l" pos="10039320"/>
                  <a:tab algn="l" pos="108759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Move to storage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Rectangle 99"/>
            <p:cNvSpPr/>
            <p:nvPr/>
          </p:nvSpPr>
          <p:spPr>
            <a:xfrm>
              <a:off x="3148560" y="4086360"/>
              <a:ext cx="1528920" cy="27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0680" bIns="40680" anchor="t">
              <a:spAutoFit/>
            </a:bodyPr>
            <a:p>
              <a:pPr>
                <a:tabLst>
                  <a:tab algn="l" pos="0"/>
                  <a:tab algn="l" pos="836640"/>
                  <a:tab algn="l" pos="1673280"/>
                  <a:tab algn="l" pos="2509920"/>
                  <a:tab algn="l" pos="3346560"/>
                  <a:tab algn="l" pos="4183200"/>
                  <a:tab algn="l" pos="5019840"/>
                  <a:tab algn="l" pos="5856120"/>
                  <a:tab algn="l" pos="6692760"/>
                  <a:tab algn="l" pos="7529400"/>
                  <a:tab algn="l" pos="8366040"/>
                  <a:tab algn="l" pos="9202680"/>
                  <a:tab algn="l" pos="10039320"/>
                  <a:tab algn="l" pos="108759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Wait until needed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Rectangle 100"/>
            <p:cNvSpPr/>
            <p:nvPr/>
          </p:nvSpPr>
          <p:spPr>
            <a:xfrm>
              <a:off x="3142080" y="4355280"/>
              <a:ext cx="1318320" cy="27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0680" bIns="40680" anchor="t">
              <a:spAutoFit/>
            </a:bodyPr>
            <a:p>
              <a:pPr>
                <a:tabLst>
                  <a:tab algn="l" pos="0"/>
                  <a:tab algn="l" pos="836640"/>
                  <a:tab algn="l" pos="1673280"/>
                  <a:tab algn="l" pos="2509920"/>
                  <a:tab algn="l" pos="3346560"/>
                  <a:tab algn="l" pos="4183200"/>
                  <a:tab algn="l" pos="5019840"/>
                  <a:tab algn="l" pos="5856120"/>
                  <a:tab algn="l" pos="6692760"/>
                  <a:tab algn="l" pos="7529400"/>
                  <a:tab algn="l" pos="8366040"/>
                  <a:tab algn="l" pos="9202680"/>
                  <a:tab algn="l" pos="10039320"/>
                  <a:tab algn="l" pos="108759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Move to peeler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Rectangle 101"/>
            <p:cNvSpPr/>
            <p:nvPr/>
          </p:nvSpPr>
          <p:spPr>
            <a:xfrm>
              <a:off x="3165480" y="4637520"/>
              <a:ext cx="2113920" cy="27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0680" bIns="40680" anchor="t">
              <a:spAutoFit/>
            </a:bodyPr>
            <a:p>
              <a:pPr>
                <a:tabLst>
                  <a:tab algn="l" pos="0"/>
                  <a:tab algn="l" pos="836640"/>
                  <a:tab algn="l" pos="1673280"/>
                  <a:tab algn="l" pos="2509920"/>
                  <a:tab algn="l" pos="3346560"/>
                  <a:tab algn="l" pos="4183200"/>
                  <a:tab algn="l" pos="5019840"/>
                  <a:tab algn="l" pos="5856120"/>
                  <a:tab algn="l" pos="6692760"/>
                  <a:tab algn="l" pos="7529400"/>
                  <a:tab algn="l" pos="8366040"/>
                  <a:tab algn="l" pos="9202680"/>
                  <a:tab algn="l" pos="10039320"/>
                  <a:tab algn="l" pos="108759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Apples peeled and cored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Rectangle 102"/>
            <p:cNvSpPr/>
            <p:nvPr/>
          </p:nvSpPr>
          <p:spPr>
            <a:xfrm>
              <a:off x="3169080" y="4920120"/>
              <a:ext cx="2242080" cy="27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0680" bIns="40680" anchor="t">
              <a:spAutoFit/>
            </a:bodyPr>
            <a:p>
              <a:pPr>
                <a:tabLst>
                  <a:tab algn="l" pos="0"/>
                  <a:tab algn="l" pos="836640"/>
                  <a:tab algn="l" pos="1673280"/>
                  <a:tab algn="l" pos="2509920"/>
                  <a:tab algn="l" pos="3346560"/>
                  <a:tab algn="l" pos="4183200"/>
                  <a:tab algn="l" pos="5019840"/>
                  <a:tab algn="l" pos="5856120"/>
                  <a:tab algn="l" pos="6692760"/>
                  <a:tab algn="l" pos="7529400"/>
                  <a:tab algn="l" pos="8366040"/>
                  <a:tab algn="l" pos="9202680"/>
                  <a:tab algn="l" pos="10039320"/>
                  <a:tab algn="l" pos="108759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oak in water until needed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Rectangle 103"/>
            <p:cNvSpPr/>
            <p:nvPr/>
          </p:nvSpPr>
          <p:spPr>
            <a:xfrm>
              <a:off x="3148920" y="5217120"/>
              <a:ext cx="1565280" cy="27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0680" bIns="40680" anchor="t">
              <a:spAutoFit/>
            </a:bodyPr>
            <a:p>
              <a:pPr>
                <a:tabLst>
                  <a:tab algn="l" pos="0"/>
                  <a:tab algn="l" pos="836640"/>
                  <a:tab algn="l" pos="1673280"/>
                  <a:tab algn="l" pos="2509920"/>
                  <a:tab algn="l" pos="3346560"/>
                  <a:tab algn="l" pos="4183200"/>
                  <a:tab algn="l" pos="5019840"/>
                  <a:tab algn="l" pos="5856120"/>
                  <a:tab algn="l" pos="6692760"/>
                  <a:tab algn="l" pos="7529400"/>
                  <a:tab algn="l" pos="8366040"/>
                  <a:tab algn="l" pos="9202680"/>
                  <a:tab algn="l" pos="10039320"/>
                  <a:tab algn="l" pos="108759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lace in conveyor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Rectangle 104"/>
            <p:cNvSpPr/>
            <p:nvPr/>
          </p:nvSpPr>
          <p:spPr>
            <a:xfrm>
              <a:off x="3153960" y="5499000"/>
              <a:ext cx="1748160" cy="27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0680" bIns="40680" anchor="t">
              <a:spAutoFit/>
            </a:bodyPr>
            <a:p>
              <a:pPr>
                <a:tabLst>
                  <a:tab algn="l" pos="0"/>
                  <a:tab algn="l" pos="836640"/>
                  <a:tab algn="l" pos="1673280"/>
                  <a:tab algn="l" pos="2509920"/>
                  <a:tab algn="l" pos="3346560"/>
                  <a:tab algn="l" pos="4183200"/>
                  <a:tab algn="l" pos="5019840"/>
                  <a:tab algn="l" pos="5856120"/>
                  <a:tab algn="l" pos="6692760"/>
                  <a:tab algn="l" pos="7529400"/>
                  <a:tab algn="l" pos="8366040"/>
                  <a:tab algn="l" pos="9202680"/>
                  <a:tab algn="l" pos="10039320"/>
                  <a:tab algn="l" pos="108759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Move to mixing area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Rectangle 105"/>
            <p:cNvSpPr/>
            <p:nvPr/>
          </p:nvSpPr>
          <p:spPr>
            <a:xfrm>
              <a:off x="3154320" y="5781600"/>
              <a:ext cx="1729800" cy="27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0680" bIns="40680" anchor="t">
              <a:spAutoFit/>
            </a:bodyPr>
            <a:p>
              <a:pPr>
                <a:tabLst>
                  <a:tab algn="l" pos="0"/>
                  <a:tab algn="l" pos="836640"/>
                  <a:tab algn="l" pos="1673280"/>
                  <a:tab algn="l" pos="2509920"/>
                  <a:tab algn="l" pos="3346560"/>
                  <a:tab algn="l" pos="4183200"/>
                  <a:tab algn="l" pos="5019840"/>
                  <a:tab algn="l" pos="5856120"/>
                  <a:tab algn="l" pos="6692760"/>
                  <a:tab algn="l" pos="7529400"/>
                  <a:tab algn="l" pos="8366040"/>
                  <a:tab algn="l" pos="9202680"/>
                  <a:tab algn="l" pos="10039320"/>
                  <a:tab algn="l" pos="108759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Weigh, inspect, sort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Rectangle 106"/>
            <p:cNvSpPr/>
            <p:nvPr/>
          </p:nvSpPr>
          <p:spPr>
            <a:xfrm>
              <a:off x="4343400" y="6081840"/>
              <a:ext cx="559440" cy="27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0680" bIns="40680" anchor="t">
              <a:spAutoFit/>
            </a:bodyPr>
            <a:p>
              <a:pPr>
                <a:tabLst>
                  <a:tab algn="l" pos="0"/>
                  <a:tab algn="l" pos="836640"/>
                  <a:tab algn="l" pos="1673280"/>
                  <a:tab algn="l" pos="2509920"/>
                  <a:tab algn="l" pos="3346560"/>
                  <a:tab algn="l" pos="4183200"/>
                  <a:tab algn="l" pos="5019840"/>
                  <a:tab algn="l" pos="5856120"/>
                  <a:tab algn="l" pos="6692760"/>
                  <a:tab algn="l" pos="7529400"/>
                  <a:tab algn="l" pos="8366040"/>
                  <a:tab algn="l" pos="9202680"/>
                  <a:tab algn="l" pos="10039320"/>
                  <a:tab algn="l" pos="108759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Total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Rectangle 107"/>
            <p:cNvSpPr/>
            <p:nvPr/>
          </p:nvSpPr>
          <p:spPr>
            <a:xfrm>
              <a:off x="1865520" y="6081840"/>
              <a:ext cx="1026000" cy="27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0680" bIns="40680" anchor="t">
              <a:spAutoFit/>
            </a:bodyPr>
            <a:p>
              <a:pPr>
                <a:tabLst>
                  <a:tab algn="l" pos="0"/>
                  <a:tab algn="l" pos="836640"/>
                  <a:tab algn="l" pos="1673280"/>
                  <a:tab algn="l" pos="2509920"/>
                  <a:tab algn="l" pos="3346560"/>
                  <a:tab algn="l" pos="4183200"/>
                  <a:tab algn="l" pos="5019840"/>
                  <a:tab algn="l" pos="5856120"/>
                  <a:tab algn="l" pos="6692760"/>
                  <a:tab algn="l" pos="7529400"/>
                  <a:tab algn="l" pos="8366040"/>
                  <a:tab algn="l" pos="9202680"/>
                  <a:tab algn="l" pos="10039320"/>
                  <a:tab algn="l" pos="108759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age 1 0f 3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Line 108"/>
            <p:cNvSpPr/>
            <p:nvPr/>
          </p:nvSpPr>
          <p:spPr>
            <a:xfrm>
              <a:off x="5581080" y="1793520"/>
              <a:ext cx="1440" cy="458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Line 109"/>
            <p:cNvSpPr/>
            <p:nvPr/>
          </p:nvSpPr>
          <p:spPr>
            <a:xfrm>
              <a:off x="6171480" y="1793520"/>
              <a:ext cx="1440" cy="458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Rectangle 110"/>
            <p:cNvSpPr/>
            <p:nvPr/>
          </p:nvSpPr>
          <p:spPr>
            <a:xfrm>
              <a:off x="5708880" y="6081840"/>
              <a:ext cx="440640" cy="27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0680" bIns="40680" anchor="t">
              <a:spAutoFit/>
            </a:bodyPr>
            <a:p>
              <a:pPr>
                <a:tabLst>
                  <a:tab algn="l" pos="0"/>
                  <a:tab algn="l" pos="836640"/>
                  <a:tab algn="l" pos="1673280"/>
                  <a:tab algn="l" pos="2509920"/>
                  <a:tab algn="l" pos="3346560"/>
                  <a:tab algn="l" pos="4183200"/>
                  <a:tab algn="l" pos="5019840"/>
                  <a:tab algn="l" pos="5856120"/>
                  <a:tab algn="l" pos="6692760"/>
                  <a:tab algn="l" pos="7529400"/>
                  <a:tab algn="l" pos="8366040"/>
                  <a:tab algn="l" pos="9202680"/>
                  <a:tab algn="l" pos="10039320"/>
                  <a:tab algn="l" pos="108759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480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Rectangle 111"/>
            <p:cNvSpPr/>
            <p:nvPr/>
          </p:nvSpPr>
          <p:spPr>
            <a:xfrm>
              <a:off x="5744520" y="5770080"/>
              <a:ext cx="349200" cy="27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0680" bIns="40680" anchor="t">
              <a:spAutoFit/>
            </a:bodyPr>
            <a:p>
              <a:pPr>
                <a:tabLst>
                  <a:tab algn="l" pos="0"/>
                  <a:tab algn="l" pos="836640"/>
                  <a:tab algn="l" pos="1673280"/>
                  <a:tab algn="l" pos="2509920"/>
                  <a:tab algn="l" pos="3346560"/>
                  <a:tab algn="l" pos="4183200"/>
                  <a:tab algn="l" pos="5019840"/>
                  <a:tab algn="l" pos="5856120"/>
                  <a:tab algn="l" pos="6692760"/>
                  <a:tab algn="l" pos="7529400"/>
                  <a:tab algn="l" pos="8366040"/>
                  <a:tab algn="l" pos="9202680"/>
                  <a:tab algn="l" pos="10039320"/>
                  <a:tab algn="l" pos="108759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Rectangle 112"/>
            <p:cNvSpPr/>
            <p:nvPr/>
          </p:nvSpPr>
          <p:spPr>
            <a:xfrm>
              <a:off x="5778720" y="5205600"/>
              <a:ext cx="257760" cy="27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0680" bIns="40680" anchor="t">
              <a:spAutoFit/>
            </a:bodyPr>
            <a:p>
              <a:pPr>
                <a:tabLst>
                  <a:tab algn="l" pos="0"/>
                  <a:tab algn="l" pos="836640"/>
                  <a:tab algn="l" pos="1673280"/>
                  <a:tab algn="l" pos="2509920"/>
                  <a:tab algn="l" pos="3346560"/>
                  <a:tab algn="l" pos="4183200"/>
                  <a:tab algn="l" pos="5019840"/>
                  <a:tab algn="l" pos="5856120"/>
                  <a:tab algn="l" pos="6692760"/>
                  <a:tab algn="l" pos="7529400"/>
                  <a:tab algn="l" pos="8366040"/>
                  <a:tab algn="l" pos="9202680"/>
                  <a:tab algn="l" pos="10039320"/>
                  <a:tab algn="l" pos="108759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Rectangle 113"/>
            <p:cNvSpPr/>
            <p:nvPr/>
          </p:nvSpPr>
          <p:spPr>
            <a:xfrm>
              <a:off x="5744520" y="4921560"/>
              <a:ext cx="349200" cy="27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0680" bIns="40680" anchor="t">
              <a:spAutoFit/>
            </a:bodyPr>
            <a:p>
              <a:pPr>
                <a:tabLst>
                  <a:tab algn="l" pos="0"/>
                  <a:tab algn="l" pos="836640"/>
                  <a:tab algn="l" pos="1673280"/>
                  <a:tab algn="l" pos="2509920"/>
                  <a:tab algn="l" pos="3346560"/>
                  <a:tab algn="l" pos="4183200"/>
                  <a:tab algn="l" pos="5019840"/>
                  <a:tab algn="l" pos="5856120"/>
                  <a:tab algn="l" pos="6692760"/>
                  <a:tab algn="l" pos="7529400"/>
                  <a:tab algn="l" pos="8366040"/>
                  <a:tab algn="l" pos="9202680"/>
                  <a:tab algn="l" pos="10039320"/>
                  <a:tab algn="l" pos="108759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Rectangle 114"/>
            <p:cNvSpPr/>
            <p:nvPr/>
          </p:nvSpPr>
          <p:spPr>
            <a:xfrm>
              <a:off x="5744520" y="4639320"/>
              <a:ext cx="349200" cy="27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0680" bIns="40680" anchor="t">
              <a:spAutoFit/>
            </a:bodyPr>
            <a:p>
              <a:pPr>
                <a:tabLst>
                  <a:tab algn="l" pos="0"/>
                  <a:tab algn="l" pos="836640"/>
                  <a:tab algn="l" pos="1673280"/>
                  <a:tab algn="l" pos="2509920"/>
                  <a:tab algn="l" pos="3346560"/>
                  <a:tab algn="l" pos="4183200"/>
                  <a:tab algn="l" pos="5019840"/>
                  <a:tab algn="l" pos="5856120"/>
                  <a:tab algn="l" pos="6692760"/>
                  <a:tab algn="l" pos="7529400"/>
                  <a:tab algn="l" pos="8366040"/>
                  <a:tab algn="l" pos="9202680"/>
                  <a:tab algn="l" pos="10039320"/>
                  <a:tab algn="l" pos="108759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Rectangle 115"/>
            <p:cNvSpPr/>
            <p:nvPr/>
          </p:nvSpPr>
          <p:spPr>
            <a:xfrm>
              <a:off x="5708880" y="4074840"/>
              <a:ext cx="440640" cy="27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0680" bIns="40680" anchor="t">
              <a:spAutoFit/>
            </a:bodyPr>
            <a:p>
              <a:pPr>
                <a:tabLst>
                  <a:tab algn="l" pos="0"/>
                  <a:tab algn="l" pos="836640"/>
                  <a:tab algn="l" pos="1673280"/>
                  <a:tab algn="l" pos="2509920"/>
                  <a:tab algn="l" pos="3346560"/>
                  <a:tab algn="l" pos="4183200"/>
                  <a:tab algn="l" pos="5019840"/>
                  <a:tab algn="l" pos="5856120"/>
                  <a:tab algn="l" pos="6692760"/>
                  <a:tab algn="l" pos="7529400"/>
                  <a:tab algn="l" pos="8366040"/>
                  <a:tab algn="l" pos="9202680"/>
                  <a:tab algn="l" pos="10039320"/>
                  <a:tab algn="l" pos="108759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60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Rectangle 116"/>
            <p:cNvSpPr/>
            <p:nvPr/>
          </p:nvSpPr>
          <p:spPr>
            <a:xfrm>
              <a:off x="5744520" y="3508560"/>
              <a:ext cx="349200" cy="27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0680" bIns="40680" anchor="t">
              <a:spAutoFit/>
            </a:bodyPr>
            <a:p>
              <a:pPr>
                <a:tabLst>
                  <a:tab algn="l" pos="0"/>
                  <a:tab algn="l" pos="836640"/>
                  <a:tab algn="l" pos="1673280"/>
                  <a:tab algn="l" pos="2509920"/>
                  <a:tab algn="l" pos="3346560"/>
                  <a:tab algn="l" pos="4183200"/>
                  <a:tab algn="l" pos="5019840"/>
                  <a:tab algn="l" pos="5856120"/>
                  <a:tab algn="l" pos="6692760"/>
                  <a:tab algn="l" pos="7529400"/>
                  <a:tab algn="l" pos="8366040"/>
                  <a:tab algn="l" pos="9202680"/>
                  <a:tab algn="l" pos="10039320"/>
                  <a:tab algn="l" pos="108759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Rectangle 117"/>
            <p:cNvSpPr/>
            <p:nvPr/>
          </p:nvSpPr>
          <p:spPr>
            <a:xfrm>
              <a:off x="5744520" y="2971800"/>
              <a:ext cx="349200" cy="27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0680" bIns="40680" anchor="t">
              <a:spAutoFit/>
            </a:bodyPr>
            <a:p>
              <a:pPr>
                <a:tabLst>
                  <a:tab algn="l" pos="0"/>
                  <a:tab algn="l" pos="836640"/>
                  <a:tab algn="l" pos="1673280"/>
                  <a:tab algn="l" pos="2509920"/>
                  <a:tab algn="l" pos="3346560"/>
                  <a:tab algn="l" pos="4183200"/>
                  <a:tab algn="l" pos="5019840"/>
                  <a:tab algn="l" pos="5856120"/>
                  <a:tab algn="l" pos="6692760"/>
                  <a:tab algn="l" pos="7529400"/>
                  <a:tab algn="l" pos="8366040"/>
                  <a:tab algn="l" pos="9202680"/>
                  <a:tab algn="l" pos="10039320"/>
                  <a:tab algn="l" pos="108759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Rectangle 118"/>
            <p:cNvSpPr/>
            <p:nvPr/>
          </p:nvSpPr>
          <p:spPr>
            <a:xfrm>
              <a:off x="6267240" y="6081840"/>
              <a:ext cx="562680" cy="27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0680" bIns="40680" anchor="t">
              <a:spAutoFit/>
            </a:bodyPr>
            <a:p>
              <a:pPr>
                <a:tabLst>
                  <a:tab algn="l" pos="0"/>
                  <a:tab algn="l" pos="836640"/>
                  <a:tab algn="l" pos="1673280"/>
                  <a:tab algn="l" pos="2509920"/>
                  <a:tab algn="l" pos="3346560"/>
                  <a:tab algn="l" pos="4183200"/>
                  <a:tab algn="l" pos="5019840"/>
                  <a:tab algn="l" pos="5856120"/>
                  <a:tab algn="l" pos="6692760"/>
                  <a:tab algn="l" pos="7529400"/>
                  <a:tab algn="l" pos="8366040"/>
                  <a:tab algn="l" pos="9202680"/>
                  <a:tab algn="l" pos="10039320"/>
                  <a:tab algn="l" pos="108759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90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ft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Rectangle 119"/>
            <p:cNvSpPr/>
            <p:nvPr/>
          </p:nvSpPr>
          <p:spPr>
            <a:xfrm>
              <a:off x="6303240" y="5501160"/>
              <a:ext cx="471240" cy="27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0680" bIns="40680" anchor="t">
              <a:spAutoFit/>
            </a:bodyPr>
            <a:p>
              <a:pPr>
                <a:tabLst>
                  <a:tab algn="l" pos="0"/>
                  <a:tab algn="l" pos="836640"/>
                  <a:tab algn="l" pos="1673280"/>
                  <a:tab algn="l" pos="2509920"/>
                  <a:tab algn="l" pos="3346560"/>
                  <a:tab algn="l" pos="4183200"/>
                  <a:tab algn="l" pos="5019840"/>
                  <a:tab algn="l" pos="5856120"/>
                  <a:tab algn="l" pos="6692760"/>
                  <a:tab algn="l" pos="7529400"/>
                  <a:tab algn="l" pos="8366040"/>
                  <a:tab algn="l" pos="9202680"/>
                  <a:tab algn="l" pos="10039320"/>
                  <a:tab algn="l" pos="108759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0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ft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Rectangle 120"/>
            <p:cNvSpPr/>
            <p:nvPr/>
          </p:nvSpPr>
          <p:spPr>
            <a:xfrm>
              <a:off x="6303240" y="4370040"/>
              <a:ext cx="471240" cy="27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0680" bIns="40680" anchor="t">
              <a:spAutoFit/>
            </a:bodyPr>
            <a:p>
              <a:pPr>
                <a:tabLst>
                  <a:tab algn="l" pos="0"/>
                  <a:tab algn="l" pos="836640"/>
                  <a:tab algn="l" pos="1673280"/>
                  <a:tab algn="l" pos="2509920"/>
                  <a:tab algn="l" pos="3346560"/>
                  <a:tab algn="l" pos="4183200"/>
                  <a:tab algn="l" pos="5019840"/>
                  <a:tab algn="l" pos="5856120"/>
                  <a:tab algn="l" pos="6692760"/>
                  <a:tab algn="l" pos="7529400"/>
                  <a:tab algn="l" pos="8366040"/>
                  <a:tab algn="l" pos="9202680"/>
                  <a:tab algn="l" pos="10039320"/>
                  <a:tab algn="l" pos="108759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0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ft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Rectangle 121"/>
            <p:cNvSpPr/>
            <p:nvPr/>
          </p:nvSpPr>
          <p:spPr>
            <a:xfrm>
              <a:off x="6303240" y="3805200"/>
              <a:ext cx="471240" cy="27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0680" bIns="40680" anchor="t">
              <a:spAutoFit/>
            </a:bodyPr>
            <a:p>
              <a:pPr>
                <a:tabLst>
                  <a:tab algn="l" pos="0"/>
                  <a:tab algn="l" pos="836640"/>
                  <a:tab algn="l" pos="1673280"/>
                  <a:tab algn="l" pos="2509920"/>
                  <a:tab algn="l" pos="3346560"/>
                  <a:tab algn="l" pos="4183200"/>
                  <a:tab algn="l" pos="5019840"/>
                  <a:tab algn="l" pos="5856120"/>
                  <a:tab algn="l" pos="6692760"/>
                  <a:tab algn="l" pos="7529400"/>
                  <a:tab algn="l" pos="8366040"/>
                  <a:tab algn="l" pos="9202680"/>
                  <a:tab algn="l" pos="10039320"/>
                  <a:tab algn="l" pos="108759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50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ft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Rectangle 122"/>
            <p:cNvSpPr/>
            <p:nvPr/>
          </p:nvSpPr>
          <p:spPr>
            <a:xfrm>
              <a:off x="6267240" y="3239280"/>
              <a:ext cx="562680" cy="27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0680" bIns="40680" anchor="t">
              <a:spAutoFit/>
            </a:bodyPr>
            <a:p>
              <a:pPr>
                <a:tabLst>
                  <a:tab algn="l" pos="0"/>
                  <a:tab algn="l" pos="836640"/>
                  <a:tab algn="l" pos="1673280"/>
                  <a:tab algn="l" pos="2509920"/>
                  <a:tab algn="l" pos="3346560"/>
                  <a:tab algn="l" pos="4183200"/>
                  <a:tab algn="l" pos="5019840"/>
                  <a:tab algn="l" pos="5856120"/>
                  <a:tab algn="l" pos="6692760"/>
                  <a:tab algn="l" pos="7529400"/>
                  <a:tab algn="l" pos="8366040"/>
                  <a:tab algn="l" pos="9202680"/>
                  <a:tab algn="l" pos="10039320"/>
                  <a:tab algn="l" pos="108759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00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ft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Rectangle 123"/>
            <p:cNvSpPr/>
            <p:nvPr/>
          </p:nvSpPr>
          <p:spPr>
            <a:xfrm>
              <a:off x="1487160" y="1246680"/>
              <a:ext cx="1190520" cy="27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0680" bIns="40680" anchor="t">
              <a:spAutoFit/>
            </a:bodyPr>
            <a:p>
              <a:pPr>
                <a:tabLst>
                  <a:tab algn="l" pos="0"/>
                  <a:tab algn="l" pos="836640"/>
                  <a:tab algn="l" pos="1673280"/>
                  <a:tab algn="l" pos="2509920"/>
                  <a:tab algn="l" pos="3346560"/>
                  <a:tab algn="l" pos="4183200"/>
                  <a:tab algn="l" pos="5019840"/>
                  <a:tab algn="l" pos="5856120"/>
                  <a:tab algn="l" pos="6692760"/>
                  <a:tab algn="l" pos="7529400"/>
                  <a:tab algn="l" pos="8366040"/>
                  <a:tab algn="l" pos="9202680"/>
                  <a:tab algn="l" pos="10039320"/>
                  <a:tab algn="l" pos="108759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ate: 9-30-00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Rectangle 124"/>
            <p:cNvSpPr/>
            <p:nvPr/>
          </p:nvSpPr>
          <p:spPr>
            <a:xfrm>
              <a:off x="1486800" y="1519200"/>
              <a:ext cx="1181160" cy="27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0680" bIns="40680" anchor="t">
              <a:spAutoFit/>
            </a:bodyPr>
            <a:p>
              <a:pPr>
                <a:tabLst>
                  <a:tab algn="l" pos="0"/>
                  <a:tab algn="l" pos="836640"/>
                  <a:tab algn="l" pos="1673280"/>
                  <a:tab algn="l" pos="2509920"/>
                  <a:tab algn="l" pos="3346560"/>
                  <a:tab algn="l" pos="4183200"/>
                  <a:tab algn="l" pos="5019840"/>
                  <a:tab algn="l" pos="5856120"/>
                  <a:tab algn="l" pos="6692760"/>
                  <a:tab algn="l" pos="7529400"/>
                  <a:tab algn="l" pos="8366040"/>
                  <a:tab algn="l" pos="9202680"/>
                  <a:tab algn="l" pos="10039320"/>
                  <a:tab algn="l" pos="108759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Analyst: TLR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Rectangle 125"/>
            <p:cNvSpPr/>
            <p:nvPr/>
          </p:nvSpPr>
          <p:spPr>
            <a:xfrm>
              <a:off x="3732120" y="1246680"/>
              <a:ext cx="2287800" cy="27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0680" bIns="40680" anchor="t">
              <a:spAutoFit/>
            </a:bodyPr>
            <a:p>
              <a:pPr>
                <a:tabLst>
                  <a:tab algn="l" pos="0"/>
                  <a:tab algn="l" pos="836640"/>
                  <a:tab algn="l" pos="1673280"/>
                  <a:tab algn="l" pos="2509920"/>
                  <a:tab algn="l" pos="3346560"/>
                  <a:tab algn="l" pos="4183200"/>
                  <a:tab algn="l" pos="5019840"/>
                  <a:tab algn="l" pos="5856120"/>
                  <a:tab algn="l" pos="6692760"/>
                  <a:tab algn="l" pos="7529400"/>
                  <a:tab algn="l" pos="8366040"/>
                  <a:tab algn="l" pos="9202680"/>
                  <a:tab algn="l" pos="10039320"/>
                  <a:tab algn="l" pos="108759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Location: Graves Mountain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Rectangle 126"/>
            <p:cNvSpPr/>
            <p:nvPr/>
          </p:nvSpPr>
          <p:spPr>
            <a:xfrm>
              <a:off x="3708000" y="1519200"/>
              <a:ext cx="1940400" cy="27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0680" bIns="40680" anchor="t">
              <a:spAutoFit/>
            </a:bodyPr>
            <a:p>
              <a:pPr>
                <a:tabLst>
                  <a:tab algn="l" pos="0"/>
                  <a:tab algn="l" pos="836640"/>
                  <a:tab algn="l" pos="1673280"/>
                  <a:tab algn="l" pos="2509920"/>
                  <a:tab algn="l" pos="3346560"/>
                  <a:tab algn="l" pos="4183200"/>
                  <a:tab algn="l" pos="5019840"/>
                  <a:tab algn="l" pos="5856120"/>
                  <a:tab algn="l" pos="6692760"/>
                  <a:tab algn="l" pos="7529400"/>
                  <a:tab algn="l" pos="8366040"/>
                  <a:tab algn="l" pos="9202680"/>
                  <a:tab algn="l" pos="10039320"/>
                  <a:tab algn="l" pos="108759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:  Apple Sauce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7 QC Tools- Check Sheet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3" name="AutoShape 2"/>
          <p:cNvSpPr/>
          <p:nvPr/>
        </p:nvSpPr>
        <p:spPr>
          <a:xfrm>
            <a:off x="262080" y="-3650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AutoShape 4"/>
          <p:cNvSpPr/>
          <p:nvPr/>
        </p:nvSpPr>
        <p:spPr>
          <a:xfrm>
            <a:off x="262080" y="-3650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AutoShape 6"/>
          <p:cNvSpPr/>
          <p:nvPr/>
        </p:nvSpPr>
        <p:spPr>
          <a:xfrm>
            <a:off x="262080" y="-3650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6" name="Group 16"/>
          <p:cNvGrpSpPr/>
          <p:nvPr/>
        </p:nvGrpSpPr>
        <p:grpSpPr>
          <a:xfrm>
            <a:off x="1523880" y="1677960"/>
            <a:ext cx="6616800" cy="4559400"/>
            <a:chOff x="1523880" y="1677960"/>
            <a:chExt cx="6616800" cy="4559400"/>
          </a:xfrm>
        </p:grpSpPr>
        <p:sp>
          <p:nvSpPr>
            <p:cNvPr id="1057" name="Rectangle 4"/>
            <p:cNvSpPr/>
            <p:nvPr/>
          </p:nvSpPr>
          <p:spPr>
            <a:xfrm>
              <a:off x="1523880" y="1677960"/>
              <a:ext cx="6616800" cy="4559400"/>
            </a:xfrm>
            <a:prstGeom prst="rect">
              <a:avLst/>
            </a:prstGeom>
            <a:solidFill>
              <a:srgbClr val="dcc27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Rectangle 5"/>
            <p:cNvSpPr/>
            <p:nvPr/>
          </p:nvSpPr>
          <p:spPr>
            <a:xfrm>
              <a:off x="1752480" y="1906560"/>
              <a:ext cx="6083280" cy="11304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Rectangle 6"/>
            <p:cNvSpPr/>
            <p:nvPr/>
          </p:nvSpPr>
          <p:spPr>
            <a:xfrm>
              <a:off x="1752480" y="3278160"/>
              <a:ext cx="6083280" cy="27306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Rectangle 7"/>
            <p:cNvSpPr/>
            <p:nvPr/>
          </p:nvSpPr>
          <p:spPr>
            <a:xfrm>
              <a:off x="1684800" y="1903320"/>
              <a:ext cx="482976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MPONENTS REPLACED BY LAB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IME PERIOD:  22 Feb  to  27 Feb 2002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EPAIR TECHNICIAN:    Bob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Rectangle 8"/>
            <p:cNvSpPr/>
            <p:nvPr/>
          </p:nvSpPr>
          <p:spPr>
            <a:xfrm>
              <a:off x="2057400" y="3274920"/>
              <a:ext cx="5519880" cy="234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V SET MODEL 1013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ntegrated Circuits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||||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apacitors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||||  ||||  ||||  ||||  ||||  ||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esistors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||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ransformers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||||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mmands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RT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Line 9"/>
            <p:cNvSpPr/>
            <p:nvPr/>
          </p:nvSpPr>
          <p:spPr>
            <a:xfrm flipV="1">
              <a:off x="4876920" y="4192560"/>
              <a:ext cx="252360" cy="1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Line 10"/>
            <p:cNvSpPr/>
            <p:nvPr/>
          </p:nvSpPr>
          <p:spPr>
            <a:xfrm flipV="1">
              <a:off x="5257800" y="4116240"/>
              <a:ext cx="223920" cy="177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Line 11"/>
            <p:cNvSpPr/>
            <p:nvPr/>
          </p:nvSpPr>
          <p:spPr>
            <a:xfrm flipV="1">
              <a:off x="5638680" y="4115880"/>
              <a:ext cx="252360" cy="241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Line 12"/>
            <p:cNvSpPr/>
            <p:nvPr/>
          </p:nvSpPr>
          <p:spPr>
            <a:xfrm flipV="1">
              <a:off x="6019920" y="4115880"/>
              <a:ext cx="237960" cy="241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Line 13"/>
            <p:cNvSpPr/>
            <p:nvPr/>
          </p:nvSpPr>
          <p:spPr>
            <a:xfrm flipV="1">
              <a:off x="6424560" y="4116240"/>
              <a:ext cx="195480" cy="21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Line 14"/>
            <p:cNvSpPr/>
            <p:nvPr/>
          </p:nvSpPr>
          <p:spPr>
            <a:xfrm flipV="1">
              <a:off x="4876920" y="3811320"/>
              <a:ext cx="237960" cy="174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Line 15"/>
            <p:cNvSpPr/>
            <p:nvPr/>
          </p:nvSpPr>
          <p:spPr>
            <a:xfrm flipV="1">
              <a:off x="4876920" y="4725720"/>
              <a:ext cx="223560" cy="220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0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0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Histogram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0" name="AutoShape 2"/>
          <p:cNvSpPr/>
          <p:nvPr/>
        </p:nvSpPr>
        <p:spPr>
          <a:xfrm>
            <a:off x="262080" y="-3650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AutoShape 4"/>
          <p:cNvSpPr/>
          <p:nvPr/>
        </p:nvSpPr>
        <p:spPr>
          <a:xfrm>
            <a:off x="262080" y="-3650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AutoShape 6"/>
          <p:cNvSpPr/>
          <p:nvPr/>
        </p:nvSpPr>
        <p:spPr>
          <a:xfrm>
            <a:off x="262080" y="-3650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3" name="Group 36"/>
          <p:cNvGrpSpPr/>
          <p:nvPr/>
        </p:nvGrpSpPr>
        <p:grpSpPr>
          <a:xfrm>
            <a:off x="1444680" y="1703520"/>
            <a:ext cx="6404040" cy="4572000"/>
            <a:chOff x="1444680" y="1703520"/>
            <a:chExt cx="6404040" cy="4572000"/>
          </a:xfrm>
        </p:grpSpPr>
        <p:sp>
          <p:nvSpPr>
            <p:cNvPr id="1074" name="Rectangle 35"/>
            <p:cNvSpPr/>
            <p:nvPr/>
          </p:nvSpPr>
          <p:spPr>
            <a:xfrm>
              <a:off x="1447920" y="1703520"/>
              <a:ext cx="6172200" cy="4572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Rectangle 5"/>
            <p:cNvSpPr/>
            <p:nvPr/>
          </p:nvSpPr>
          <p:spPr>
            <a:xfrm>
              <a:off x="6269040" y="4822920"/>
              <a:ext cx="273240" cy="768240"/>
            </a:xfrm>
            <a:prstGeom prst="rect">
              <a:avLst/>
            </a:prstGeom>
            <a:solidFill>
              <a:srgbClr val="dcc27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Rectangle 6"/>
            <p:cNvSpPr/>
            <p:nvPr/>
          </p:nvSpPr>
          <p:spPr>
            <a:xfrm>
              <a:off x="5953320" y="4027680"/>
              <a:ext cx="271440" cy="1563480"/>
            </a:xfrm>
            <a:prstGeom prst="rect">
              <a:avLst/>
            </a:prstGeom>
            <a:solidFill>
              <a:srgbClr val="dcc27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Rectangle 7"/>
            <p:cNvSpPr/>
            <p:nvPr/>
          </p:nvSpPr>
          <p:spPr>
            <a:xfrm>
              <a:off x="5635800" y="3711600"/>
              <a:ext cx="271440" cy="1879560"/>
            </a:xfrm>
            <a:prstGeom prst="rect">
              <a:avLst/>
            </a:prstGeom>
            <a:solidFill>
              <a:srgbClr val="dcc27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Rectangle 8"/>
            <p:cNvSpPr/>
            <p:nvPr/>
          </p:nvSpPr>
          <p:spPr>
            <a:xfrm>
              <a:off x="5318280" y="2440080"/>
              <a:ext cx="272880" cy="3151080"/>
            </a:xfrm>
            <a:prstGeom prst="rect">
              <a:avLst/>
            </a:prstGeom>
            <a:solidFill>
              <a:srgbClr val="dcc27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Rectangle 9"/>
            <p:cNvSpPr/>
            <p:nvPr/>
          </p:nvSpPr>
          <p:spPr>
            <a:xfrm>
              <a:off x="5000760" y="3075120"/>
              <a:ext cx="272880" cy="2516040"/>
            </a:xfrm>
            <a:prstGeom prst="rect">
              <a:avLst/>
            </a:prstGeom>
            <a:solidFill>
              <a:srgbClr val="dcc27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Rectangle 10"/>
            <p:cNvSpPr/>
            <p:nvPr/>
          </p:nvSpPr>
          <p:spPr>
            <a:xfrm>
              <a:off x="4684680" y="3870360"/>
              <a:ext cx="271440" cy="1720800"/>
            </a:xfrm>
            <a:prstGeom prst="rect">
              <a:avLst/>
            </a:prstGeom>
            <a:solidFill>
              <a:srgbClr val="dcc27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Rectangle 11"/>
            <p:cNvSpPr/>
            <p:nvPr/>
          </p:nvSpPr>
          <p:spPr>
            <a:xfrm>
              <a:off x="4367160" y="2759040"/>
              <a:ext cx="273240" cy="2832120"/>
            </a:xfrm>
            <a:prstGeom prst="rect">
              <a:avLst/>
            </a:prstGeom>
            <a:solidFill>
              <a:srgbClr val="dcc27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Rectangle 12"/>
            <p:cNvSpPr/>
            <p:nvPr/>
          </p:nvSpPr>
          <p:spPr>
            <a:xfrm>
              <a:off x="4050000" y="2598840"/>
              <a:ext cx="272880" cy="2992320"/>
            </a:xfrm>
            <a:prstGeom prst="rect">
              <a:avLst/>
            </a:prstGeom>
            <a:solidFill>
              <a:srgbClr val="dcc27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Rectangle 13"/>
            <p:cNvSpPr/>
            <p:nvPr/>
          </p:nvSpPr>
          <p:spPr>
            <a:xfrm>
              <a:off x="3733920" y="3075120"/>
              <a:ext cx="271440" cy="2516040"/>
            </a:xfrm>
            <a:prstGeom prst="rect">
              <a:avLst/>
            </a:prstGeom>
            <a:solidFill>
              <a:srgbClr val="dcc27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Rectangle 14"/>
            <p:cNvSpPr/>
            <p:nvPr/>
          </p:nvSpPr>
          <p:spPr>
            <a:xfrm>
              <a:off x="3416400" y="4027680"/>
              <a:ext cx="271440" cy="1563480"/>
            </a:xfrm>
            <a:prstGeom prst="rect">
              <a:avLst/>
            </a:prstGeom>
            <a:solidFill>
              <a:srgbClr val="dcc27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Rectangle 15"/>
            <p:cNvSpPr/>
            <p:nvPr/>
          </p:nvSpPr>
          <p:spPr>
            <a:xfrm>
              <a:off x="3098880" y="3711600"/>
              <a:ext cx="273240" cy="1879560"/>
            </a:xfrm>
            <a:prstGeom prst="rect">
              <a:avLst/>
            </a:prstGeom>
            <a:solidFill>
              <a:srgbClr val="dcc27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Rectangle 16"/>
            <p:cNvSpPr/>
            <p:nvPr/>
          </p:nvSpPr>
          <p:spPr>
            <a:xfrm>
              <a:off x="2781360" y="4664160"/>
              <a:ext cx="273240" cy="927000"/>
            </a:xfrm>
            <a:prstGeom prst="rect">
              <a:avLst/>
            </a:prstGeom>
            <a:solidFill>
              <a:srgbClr val="dcc27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Rectangle 17"/>
            <p:cNvSpPr/>
            <p:nvPr/>
          </p:nvSpPr>
          <p:spPr>
            <a:xfrm>
              <a:off x="2465640" y="5299200"/>
              <a:ext cx="271440" cy="291960"/>
            </a:xfrm>
            <a:prstGeom prst="rect">
              <a:avLst/>
            </a:prstGeom>
            <a:solidFill>
              <a:srgbClr val="dcc27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Rectangle 18"/>
            <p:cNvSpPr/>
            <p:nvPr/>
          </p:nvSpPr>
          <p:spPr>
            <a:xfrm>
              <a:off x="2148120" y="5459400"/>
              <a:ext cx="272880" cy="131760"/>
            </a:xfrm>
            <a:prstGeom prst="rect">
              <a:avLst/>
            </a:prstGeom>
            <a:solidFill>
              <a:srgbClr val="dcc27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Rectangle 19"/>
            <p:cNvSpPr/>
            <p:nvPr/>
          </p:nvSpPr>
          <p:spPr>
            <a:xfrm>
              <a:off x="7220160" y="5459400"/>
              <a:ext cx="272880" cy="131760"/>
            </a:xfrm>
            <a:prstGeom prst="rect">
              <a:avLst/>
            </a:prstGeom>
            <a:solidFill>
              <a:srgbClr val="dcc27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Rectangle 20"/>
            <p:cNvSpPr/>
            <p:nvPr/>
          </p:nvSpPr>
          <p:spPr>
            <a:xfrm>
              <a:off x="6904080" y="5299200"/>
              <a:ext cx="271440" cy="291960"/>
            </a:xfrm>
            <a:prstGeom prst="rect">
              <a:avLst/>
            </a:prstGeom>
            <a:solidFill>
              <a:srgbClr val="dcc27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Rectangle 21"/>
            <p:cNvSpPr/>
            <p:nvPr/>
          </p:nvSpPr>
          <p:spPr>
            <a:xfrm>
              <a:off x="6586560" y="4664160"/>
              <a:ext cx="273240" cy="927000"/>
            </a:xfrm>
            <a:prstGeom prst="rect">
              <a:avLst/>
            </a:prstGeom>
            <a:solidFill>
              <a:srgbClr val="dcc27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Rectangle 22"/>
            <p:cNvSpPr/>
            <p:nvPr/>
          </p:nvSpPr>
          <p:spPr>
            <a:xfrm>
              <a:off x="1524240" y="543744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Rectangle 23"/>
            <p:cNvSpPr/>
            <p:nvPr/>
          </p:nvSpPr>
          <p:spPr>
            <a:xfrm>
              <a:off x="1524240" y="467532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Rectangle 24"/>
            <p:cNvSpPr/>
            <p:nvPr/>
          </p:nvSpPr>
          <p:spPr>
            <a:xfrm>
              <a:off x="1444680" y="3837240"/>
              <a:ext cx="514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Rectangle 25"/>
            <p:cNvSpPr/>
            <p:nvPr/>
          </p:nvSpPr>
          <p:spPr>
            <a:xfrm>
              <a:off x="1524240" y="2998800"/>
              <a:ext cx="43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Rectangle 26"/>
            <p:cNvSpPr/>
            <p:nvPr/>
          </p:nvSpPr>
          <p:spPr>
            <a:xfrm>
              <a:off x="1524240" y="2237040"/>
              <a:ext cx="43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Rectangle 28"/>
            <p:cNvSpPr/>
            <p:nvPr/>
          </p:nvSpPr>
          <p:spPr>
            <a:xfrm>
              <a:off x="2017800" y="5781960"/>
              <a:ext cx="5830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   2    6  13  10 16 19 17 12 16 2017 13  5   6   2  1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29"/>
            <p:cNvSpPr/>
            <p:nvPr/>
          </p:nvSpPr>
          <p:spPr>
            <a:xfrm>
              <a:off x="2114640" y="1752840"/>
              <a:ext cx="5508720" cy="3860640"/>
            </a:xfrm>
            <a:custGeom>
              <a:avLst/>
              <a:gdLst>
                <a:gd name="textAreaLeft" fmla="*/ 0 w 5508720"/>
                <a:gd name="textAreaRight" fmla="*/ 5509080 w 5508720"/>
                <a:gd name="textAreaTop" fmla="*/ 0 h 3860640"/>
                <a:gd name="textAreaBottom" fmla="*/ 3861000 h 3860640"/>
              </a:gdLst>
              <a:ahLst/>
              <a:rect l="textAreaLeft" t="textAreaTop" r="textAreaRight" b="textAreaBottom"/>
              <a:pathLst>
                <a:path w="2737" h="2113">
                  <a:moveTo>
                    <a:pt x="0" y="0"/>
                  </a:moveTo>
                  <a:lnTo>
                    <a:pt x="0" y="2112"/>
                  </a:lnTo>
                  <a:lnTo>
                    <a:pt x="2736" y="2112"/>
                  </a:lnTo>
                </a:path>
              </a:pathLst>
            </a:custGeom>
            <a:noFill/>
            <a:ln cap="rnd" w="57240">
              <a:solidFill>
                <a:srgbClr val="eeeee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Line 30"/>
            <p:cNvSpPr/>
            <p:nvPr/>
          </p:nvSpPr>
          <p:spPr>
            <a:xfrm>
              <a:off x="1933560" y="1754280"/>
              <a:ext cx="189000" cy="1800"/>
            </a:xfrm>
            <a:prstGeom prst="line">
              <a:avLst/>
            </a:prstGeom>
            <a:ln w="5724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Line 31"/>
            <p:cNvSpPr/>
            <p:nvPr/>
          </p:nvSpPr>
          <p:spPr>
            <a:xfrm>
              <a:off x="1905120" y="2419560"/>
              <a:ext cx="189000" cy="1440"/>
            </a:xfrm>
            <a:prstGeom prst="line">
              <a:avLst/>
            </a:prstGeom>
            <a:ln w="5724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Line 32"/>
            <p:cNvSpPr/>
            <p:nvPr/>
          </p:nvSpPr>
          <p:spPr>
            <a:xfrm>
              <a:off x="1905120" y="3243240"/>
              <a:ext cx="189000" cy="1800"/>
            </a:xfrm>
            <a:prstGeom prst="line">
              <a:avLst/>
            </a:prstGeom>
            <a:ln w="5724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Line 33"/>
            <p:cNvSpPr/>
            <p:nvPr/>
          </p:nvSpPr>
          <p:spPr>
            <a:xfrm>
              <a:off x="1905120" y="4065840"/>
              <a:ext cx="189000" cy="1440"/>
            </a:xfrm>
            <a:prstGeom prst="line">
              <a:avLst/>
            </a:prstGeom>
            <a:ln w="5724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Line 34"/>
            <p:cNvSpPr/>
            <p:nvPr/>
          </p:nvSpPr>
          <p:spPr>
            <a:xfrm>
              <a:off x="1905120" y="4889520"/>
              <a:ext cx="189000" cy="1800"/>
            </a:xfrm>
            <a:prstGeom prst="line">
              <a:avLst/>
            </a:prstGeom>
            <a:ln w="5724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0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7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7 QC Tools- Scatter Diagram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5" name="AutoShape 2"/>
          <p:cNvSpPr/>
          <p:nvPr/>
        </p:nvSpPr>
        <p:spPr>
          <a:xfrm>
            <a:off x="262080" y="-3650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AutoShape 4"/>
          <p:cNvSpPr/>
          <p:nvPr/>
        </p:nvSpPr>
        <p:spPr>
          <a:xfrm>
            <a:off x="262080" y="-3650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AutoShape 6"/>
          <p:cNvSpPr/>
          <p:nvPr/>
        </p:nvSpPr>
        <p:spPr>
          <a:xfrm>
            <a:off x="262080" y="-3650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8" name="Picture 1" descr=""/>
          <p:cNvPicPr/>
          <p:nvPr/>
        </p:nvPicPr>
        <p:blipFill>
          <a:blip r:embed="rId1"/>
          <a:stretch/>
        </p:blipFill>
        <p:spPr>
          <a:xfrm>
            <a:off x="835200" y="1301760"/>
            <a:ext cx="773244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98130-F6CE-4EA9-9D48-6C9D1DFE4BD8}" type="slidenum">
              <a:rPr b="0" lang="en-US" sz="14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Why Quality Improvement?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95360" y="1581120"/>
            <a:ext cx="8115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5f5f5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Global Competi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conomic and political boundaries are slowly vanish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1950’s slogan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“Built by Americans for Americans”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s very far from reality in the 2000’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" dur="1" fill="hold"/>
                                  <p:tgtEl>
                                    <p:spTgt spid="58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  <p:animClr clrSpc="rgb">
                                <p:cBhvr>
                                  <p:cTn id="20" dur="1" fill="hold"/>
                                  <p:tgtEl>
                                    <p:spTgt spid="58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  <p:animClr clrSpc="rgb">
                                <p:cBhvr>
                                  <p:cTn id="21" dur="1" fill="hold"/>
                                  <p:tgtEl>
                                    <p:spTgt spid="58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7 QC Tools- </a:t>
            </a: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Control Chart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0" name="AutoShape 2"/>
          <p:cNvSpPr/>
          <p:nvPr/>
        </p:nvSpPr>
        <p:spPr>
          <a:xfrm>
            <a:off x="262080" y="-3650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AutoShape 4"/>
          <p:cNvSpPr/>
          <p:nvPr/>
        </p:nvSpPr>
        <p:spPr>
          <a:xfrm>
            <a:off x="262080" y="-3650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AutoShape 6"/>
          <p:cNvSpPr/>
          <p:nvPr/>
        </p:nvSpPr>
        <p:spPr>
          <a:xfrm>
            <a:off x="262080" y="-3650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3" name="Picture 1" descr=""/>
          <p:cNvPicPr/>
          <p:nvPr/>
        </p:nvPicPr>
        <p:blipFill>
          <a:blip r:embed="rId1"/>
          <a:stretch/>
        </p:blipFill>
        <p:spPr>
          <a:xfrm>
            <a:off x="1160640" y="1257480"/>
            <a:ext cx="6804000" cy="49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320760" y="4186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7 QC Tools- </a:t>
            </a: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Cause-and-Effect Diagram 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5" name="AutoShape 2"/>
          <p:cNvSpPr/>
          <p:nvPr/>
        </p:nvSpPr>
        <p:spPr>
          <a:xfrm>
            <a:off x="262080" y="-3650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AutoShape 4"/>
          <p:cNvSpPr/>
          <p:nvPr/>
        </p:nvSpPr>
        <p:spPr>
          <a:xfrm>
            <a:off x="262080" y="-3650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AutoShape 6"/>
          <p:cNvSpPr/>
          <p:nvPr/>
        </p:nvSpPr>
        <p:spPr>
          <a:xfrm>
            <a:off x="262080" y="-3650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8" name="Picture 1" descr=""/>
          <p:cNvPicPr/>
          <p:nvPr/>
        </p:nvPicPr>
        <p:blipFill>
          <a:blip r:embed="rId1"/>
          <a:stretch/>
        </p:blipFill>
        <p:spPr>
          <a:xfrm>
            <a:off x="566640" y="1371600"/>
            <a:ext cx="8096400" cy="49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SQC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0" name="AutoShape 2"/>
          <p:cNvSpPr/>
          <p:nvPr/>
        </p:nvSpPr>
        <p:spPr>
          <a:xfrm>
            <a:off x="262080" y="-3650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AutoShape 4"/>
          <p:cNvSpPr/>
          <p:nvPr/>
        </p:nvSpPr>
        <p:spPr>
          <a:xfrm>
            <a:off x="262080" y="-3650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AutoShape 6"/>
          <p:cNvSpPr/>
          <p:nvPr/>
        </p:nvSpPr>
        <p:spPr>
          <a:xfrm>
            <a:off x="262080" y="-3650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3" name="Picture 2" descr="Image result for statistical quality control"/>
          <p:cNvPicPr/>
          <p:nvPr/>
        </p:nvPicPr>
        <p:blipFill>
          <a:blip r:embed="rId1"/>
          <a:stretch/>
        </p:blipFill>
        <p:spPr>
          <a:xfrm>
            <a:off x="1168560" y="1219320"/>
            <a:ext cx="6878520" cy="51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SQC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5" name="AutoShape 2"/>
          <p:cNvSpPr/>
          <p:nvPr/>
        </p:nvSpPr>
        <p:spPr>
          <a:xfrm>
            <a:off x="262080" y="-3650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AutoShape 4"/>
          <p:cNvSpPr/>
          <p:nvPr/>
        </p:nvSpPr>
        <p:spPr>
          <a:xfrm>
            <a:off x="262080" y="-3650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AutoShape 6"/>
          <p:cNvSpPr/>
          <p:nvPr/>
        </p:nvSpPr>
        <p:spPr>
          <a:xfrm>
            <a:off x="262080" y="-3650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8" name="Picture 4" descr="Image result for statistical quality control"/>
          <p:cNvPicPr/>
          <p:nvPr/>
        </p:nvPicPr>
        <p:blipFill>
          <a:blip r:embed="rId1"/>
          <a:stretch/>
        </p:blipFill>
        <p:spPr>
          <a:xfrm>
            <a:off x="3352680" y="407880"/>
            <a:ext cx="5408640" cy="360072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6" descr="Image result for statistical quality control"/>
          <p:cNvPicPr/>
          <p:nvPr/>
        </p:nvPicPr>
        <p:blipFill>
          <a:blip r:embed="rId2"/>
          <a:stretch/>
        </p:blipFill>
        <p:spPr>
          <a:xfrm>
            <a:off x="458640" y="3432240"/>
            <a:ext cx="378468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SQC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1" name="AutoShape 2"/>
          <p:cNvSpPr/>
          <p:nvPr/>
        </p:nvSpPr>
        <p:spPr>
          <a:xfrm>
            <a:off x="262080" y="-3650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AutoShape 4"/>
          <p:cNvSpPr/>
          <p:nvPr/>
        </p:nvSpPr>
        <p:spPr>
          <a:xfrm>
            <a:off x="262080" y="-3650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AutoShape 6"/>
          <p:cNvSpPr/>
          <p:nvPr/>
        </p:nvSpPr>
        <p:spPr>
          <a:xfrm>
            <a:off x="262080" y="-3650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4" name="Picture 2" descr="Image result for statistical quality control"/>
          <p:cNvPicPr/>
          <p:nvPr/>
        </p:nvPicPr>
        <p:blipFill>
          <a:blip r:embed="rId1"/>
          <a:stretch/>
        </p:blipFill>
        <p:spPr>
          <a:xfrm>
            <a:off x="1725480" y="1023840"/>
            <a:ext cx="69436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AutoShape 2"/>
          <p:cNvSpPr/>
          <p:nvPr/>
        </p:nvSpPr>
        <p:spPr>
          <a:xfrm>
            <a:off x="262080" y="-3650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AutoShape 4"/>
          <p:cNvSpPr/>
          <p:nvPr/>
        </p:nvSpPr>
        <p:spPr>
          <a:xfrm>
            <a:off x="262080" y="-3650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AutoShape 6"/>
          <p:cNvSpPr/>
          <p:nvPr/>
        </p:nvSpPr>
        <p:spPr>
          <a:xfrm>
            <a:off x="262080" y="-3650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8" name="Picture 2" descr="Image result for statistical quality control"/>
          <p:cNvPicPr/>
          <p:nvPr/>
        </p:nvPicPr>
        <p:blipFill>
          <a:blip r:embed="rId1"/>
          <a:stretch/>
        </p:blipFill>
        <p:spPr>
          <a:xfrm>
            <a:off x="1068480" y="1225440"/>
            <a:ext cx="6931080" cy="52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CP &amp; CPK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0" name="AutoShape 2"/>
          <p:cNvSpPr/>
          <p:nvPr/>
        </p:nvSpPr>
        <p:spPr>
          <a:xfrm>
            <a:off x="262080" y="-3650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AutoShape 4"/>
          <p:cNvSpPr/>
          <p:nvPr/>
        </p:nvSpPr>
        <p:spPr>
          <a:xfrm>
            <a:off x="262080" y="-3650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AutoShape 6"/>
          <p:cNvSpPr/>
          <p:nvPr/>
        </p:nvSpPr>
        <p:spPr>
          <a:xfrm>
            <a:off x="262080" y="-3650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3" name="Picture 2" descr="Related image"/>
          <p:cNvPicPr/>
          <p:nvPr/>
        </p:nvPicPr>
        <p:blipFill>
          <a:blip r:embed="rId1"/>
          <a:stretch/>
        </p:blipFill>
        <p:spPr>
          <a:xfrm>
            <a:off x="2054160" y="1266840"/>
            <a:ext cx="59976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Curve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5" name="AutoShape 2"/>
          <p:cNvSpPr/>
          <p:nvPr/>
        </p:nvSpPr>
        <p:spPr>
          <a:xfrm>
            <a:off x="262080" y="-3650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AutoShape 4"/>
          <p:cNvSpPr/>
          <p:nvPr/>
        </p:nvSpPr>
        <p:spPr>
          <a:xfrm>
            <a:off x="262080" y="-3650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AutoShape 6"/>
          <p:cNvSpPr/>
          <p:nvPr/>
        </p:nvSpPr>
        <p:spPr>
          <a:xfrm>
            <a:off x="262080" y="-3650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8" name="Picture 2" descr="Image result for Tolerance Limits and Specifications"/>
          <p:cNvPicPr/>
          <p:nvPr/>
        </p:nvPicPr>
        <p:blipFill>
          <a:blip r:embed="rId1"/>
          <a:stretch/>
        </p:blipFill>
        <p:spPr>
          <a:xfrm>
            <a:off x="971640" y="1730520"/>
            <a:ext cx="7199280" cy="45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Curve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0" name="AutoShape 2"/>
          <p:cNvSpPr/>
          <p:nvPr/>
        </p:nvSpPr>
        <p:spPr>
          <a:xfrm>
            <a:off x="262080" y="-3650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AutoShape 4"/>
          <p:cNvSpPr/>
          <p:nvPr/>
        </p:nvSpPr>
        <p:spPr>
          <a:xfrm>
            <a:off x="262080" y="-3650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AutoShape 6"/>
          <p:cNvSpPr/>
          <p:nvPr/>
        </p:nvSpPr>
        <p:spPr>
          <a:xfrm>
            <a:off x="262080" y="-3650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3" name="Picture 2" descr="Image result for Tolerance Limits and Specifications"/>
          <p:cNvPicPr/>
          <p:nvPr/>
        </p:nvPicPr>
        <p:blipFill>
          <a:blip r:embed="rId1"/>
          <a:stretch/>
        </p:blipFill>
        <p:spPr>
          <a:xfrm>
            <a:off x="1434960" y="1189080"/>
            <a:ext cx="6864480" cy="51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Curve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5" name="AutoShape 2"/>
          <p:cNvSpPr/>
          <p:nvPr/>
        </p:nvSpPr>
        <p:spPr>
          <a:xfrm>
            <a:off x="262080" y="-3650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AutoShape 4"/>
          <p:cNvSpPr/>
          <p:nvPr/>
        </p:nvSpPr>
        <p:spPr>
          <a:xfrm>
            <a:off x="262080" y="-3650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AutoShape 6"/>
          <p:cNvSpPr/>
          <p:nvPr/>
        </p:nvSpPr>
        <p:spPr>
          <a:xfrm>
            <a:off x="262080" y="-3650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8" name="Picture 2" descr="Image result for nd curve"/>
          <p:cNvPicPr/>
          <p:nvPr/>
        </p:nvPicPr>
        <p:blipFill>
          <a:blip r:embed="rId1"/>
          <a:stretch/>
        </p:blipFill>
        <p:spPr>
          <a:xfrm>
            <a:off x="1606680" y="1255680"/>
            <a:ext cx="6605280" cy="50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10372-4E04-4B3D-9012-CFEA4F198FF2}" type="slidenum">
              <a:rPr b="0" lang="en-US" sz="14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Why Quality Improvement?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95360" y="1581120"/>
            <a:ext cx="8324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5f5f5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On the stroke of midnight on December 31, 1992, the United States will become the second-largest economy in the world for the first time in a century”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5f5f5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ore than corporate profits are at risk; the challenge is to the American standard of living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Curve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0" name="AutoShape 2"/>
          <p:cNvSpPr/>
          <p:nvPr/>
        </p:nvSpPr>
        <p:spPr>
          <a:xfrm>
            <a:off x="262080" y="-3650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AutoShape 4"/>
          <p:cNvSpPr/>
          <p:nvPr/>
        </p:nvSpPr>
        <p:spPr>
          <a:xfrm>
            <a:off x="262080" y="-3650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AutoShape 6"/>
          <p:cNvSpPr/>
          <p:nvPr/>
        </p:nvSpPr>
        <p:spPr>
          <a:xfrm>
            <a:off x="262080" y="-3650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3" name="Picture 2" descr="Image result for normal distribution curve"/>
          <p:cNvPicPr/>
          <p:nvPr/>
        </p:nvPicPr>
        <p:blipFill>
          <a:blip r:embed="rId1"/>
          <a:stretch/>
        </p:blipFill>
        <p:spPr>
          <a:xfrm>
            <a:off x="560520" y="1569960"/>
            <a:ext cx="807876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Curve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5" name="AutoShape 2"/>
          <p:cNvSpPr/>
          <p:nvPr/>
        </p:nvSpPr>
        <p:spPr>
          <a:xfrm>
            <a:off x="262080" y="-3650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AutoShape 4"/>
          <p:cNvSpPr/>
          <p:nvPr/>
        </p:nvSpPr>
        <p:spPr>
          <a:xfrm>
            <a:off x="262080" y="-3650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AutoShape 6"/>
          <p:cNvSpPr/>
          <p:nvPr/>
        </p:nvSpPr>
        <p:spPr>
          <a:xfrm>
            <a:off x="262080" y="-3650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8" name="Picture 2" descr="Image result for normal distribution curve"/>
          <p:cNvPicPr/>
          <p:nvPr/>
        </p:nvPicPr>
        <p:blipFill>
          <a:blip r:embed="rId1"/>
          <a:stretch/>
        </p:blipFill>
        <p:spPr>
          <a:xfrm>
            <a:off x="1614600" y="2523960"/>
            <a:ext cx="6127560" cy="32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Curve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0" name="AutoShape 2"/>
          <p:cNvSpPr/>
          <p:nvPr/>
        </p:nvSpPr>
        <p:spPr>
          <a:xfrm>
            <a:off x="262080" y="-3650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AutoShape 4"/>
          <p:cNvSpPr/>
          <p:nvPr/>
        </p:nvSpPr>
        <p:spPr>
          <a:xfrm>
            <a:off x="262080" y="-3650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AutoShape 6"/>
          <p:cNvSpPr/>
          <p:nvPr/>
        </p:nvSpPr>
        <p:spPr>
          <a:xfrm>
            <a:off x="262080" y="-3650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AutoShape 2"/>
          <p:cNvSpPr/>
          <p:nvPr/>
        </p:nvSpPr>
        <p:spPr>
          <a:xfrm>
            <a:off x="262080" y="-3650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4" name="Picture 6" descr="Image result for different types of control charts"/>
          <p:cNvPicPr/>
          <p:nvPr/>
        </p:nvPicPr>
        <p:blipFill>
          <a:blip r:embed="rId1"/>
          <a:stretch/>
        </p:blipFill>
        <p:spPr>
          <a:xfrm>
            <a:off x="1733400" y="1293840"/>
            <a:ext cx="65646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Curve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6" name="AutoShape 2"/>
          <p:cNvSpPr/>
          <p:nvPr/>
        </p:nvSpPr>
        <p:spPr>
          <a:xfrm>
            <a:off x="262080" y="-3650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AutoShape 4"/>
          <p:cNvSpPr/>
          <p:nvPr/>
        </p:nvSpPr>
        <p:spPr>
          <a:xfrm>
            <a:off x="262080" y="-3650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AutoShape 6"/>
          <p:cNvSpPr/>
          <p:nvPr/>
        </p:nvSpPr>
        <p:spPr>
          <a:xfrm>
            <a:off x="262080" y="-3650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9" name="Picture 2" descr="Image result for different types of control charts"/>
          <p:cNvPicPr/>
          <p:nvPr/>
        </p:nvPicPr>
        <p:blipFill>
          <a:blip r:embed="rId1"/>
          <a:stretch/>
        </p:blipFill>
        <p:spPr>
          <a:xfrm>
            <a:off x="573120" y="1650960"/>
            <a:ext cx="8096040" cy="41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Curve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1" name="AutoShape 2"/>
          <p:cNvSpPr/>
          <p:nvPr/>
        </p:nvSpPr>
        <p:spPr>
          <a:xfrm>
            <a:off x="262080" y="-3650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AutoShape 4"/>
          <p:cNvSpPr/>
          <p:nvPr/>
        </p:nvSpPr>
        <p:spPr>
          <a:xfrm>
            <a:off x="262080" y="-3650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AutoShape 6"/>
          <p:cNvSpPr/>
          <p:nvPr/>
        </p:nvSpPr>
        <p:spPr>
          <a:xfrm>
            <a:off x="262080" y="-3650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4" name="Picture 2" descr="Related image"/>
          <p:cNvPicPr/>
          <p:nvPr/>
        </p:nvPicPr>
        <p:blipFill>
          <a:blip r:embed="rId1"/>
          <a:stretch/>
        </p:blipFill>
        <p:spPr>
          <a:xfrm>
            <a:off x="2155680" y="1168560"/>
            <a:ext cx="5934240" cy="49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Shift and trend in control chart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6" name="AutoShape 2"/>
          <p:cNvSpPr/>
          <p:nvPr/>
        </p:nvSpPr>
        <p:spPr>
          <a:xfrm>
            <a:off x="262080" y="-3650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AutoShape 4"/>
          <p:cNvSpPr/>
          <p:nvPr/>
        </p:nvSpPr>
        <p:spPr>
          <a:xfrm>
            <a:off x="262080" y="-3650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AutoShape 6"/>
          <p:cNvSpPr/>
          <p:nvPr/>
        </p:nvSpPr>
        <p:spPr>
          <a:xfrm>
            <a:off x="262080" y="-3650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9" name="Picture 2" descr="Image result for shift and trend in control charts"/>
          <p:cNvPicPr/>
          <p:nvPr/>
        </p:nvPicPr>
        <p:blipFill>
          <a:blip r:embed="rId1"/>
          <a:stretch/>
        </p:blipFill>
        <p:spPr>
          <a:xfrm>
            <a:off x="1719360" y="2084400"/>
            <a:ext cx="6418080" cy="33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OC Curve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1" name="AutoShape 2"/>
          <p:cNvSpPr/>
          <p:nvPr/>
        </p:nvSpPr>
        <p:spPr>
          <a:xfrm>
            <a:off x="262080" y="-3650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AutoShape 4"/>
          <p:cNvSpPr/>
          <p:nvPr/>
        </p:nvSpPr>
        <p:spPr>
          <a:xfrm>
            <a:off x="262080" y="-3650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AutoShape 6"/>
          <p:cNvSpPr/>
          <p:nvPr/>
        </p:nvSpPr>
        <p:spPr>
          <a:xfrm>
            <a:off x="262080" y="-3650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4" name="Picture 2" descr="Image result for oc curves"/>
          <p:cNvPicPr/>
          <p:nvPr/>
        </p:nvPicPr>
        <p:blipFill>
          <a:blip r:embed="rId1"/>
          <a:stretch/>
        </p:blipFill>
        <p:spPr>
          <a:xfrm>
            <a:off x="1951200" y="2019240"/>
            <a:ext cx="586728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OC Curve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6" name="AutoShape 2"/>
          <p:cNvSpPr/>
          <p:nvPr/>
        </p:nvSpPr>
        <p:spPr>
          <a:xfrm>
            <a:off x="262080" y="-3650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AutoShape 4"/>
          <p:cNvSpPr/>
          <p:nvPr/>
        </p:nvSpPr>
        <p:spPr>
          <a:xfrm>
            <a:off x="262080" y="-3650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AutoShape 6"/>
          <p:cNvSpPr/>
          <p:nvPr/>
        </p:nvSpPr>
        <p:spPr>
          <a:xfrm>
            <a:off x="262080" y="-3650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9" name="Picture 2" descr="Image result for oc curves"/>
          <p:cNvPicPr/>
          <p:nvPr/>
        </p:nvPicPr>
        <p:blipFill>
          <a:blip r:embed="rId1"/>
          <a:stretch/>
        </p:blipFill>
        <p:spPr>
          <a:xfrm>
            <a:off x="2075040" y="1538280"/>
            <a:ext cx="6188040" cy="42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Curve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1" name="AutoShape 2"/>
          <p:cNvSpPr/>
          <p:nvPr/>
        </p:nvSpPr>
        <p:spPr>
          <a:xfrm>
            <a:off x="262080" y="-3650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AutoShape 4"/>
          <p:cNvSpPr/>
          <p:nvPr/>
        </p:nvSpPr>
        <p:spPr>
          <a:xfrm>
            <a:off x="262080" y="-3650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AutoShape 6"/>
          <p:cNvSpPr/>
          <p:nvPr/>
        </p:nvSpPr>
        <p:spPr>
          <a:xfrm>
            <a:off x="262080" y="-3650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4" name="Picture 2" descr="Image result for oc curves"/>
          <p:cNvPicPr/>
          <p:nvPr/>
        </p:nvPicPr>
        <p:blipFill>
          <a:blip r:embed="rId1"/>
          <a:stretch/>
        </p:blipFill>
        <p:spPr>
          <a:xfrm>
            <a:off x="1298520" y="1758960"/>
            <a:ext cx="5743800" cy="43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Curve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6" name="AutoShape 2"/>
          <p:cNvSpPr/>
          <p:nvPr/>
        </p:nvSpPr>
        <p:spPr>
          <a:xfrm>
            <a:off x="262080" y="-3650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AutoShape 4"/>
          <p:cNvSpPr/>
          <p:nvPr/>
        </p:nvSpPr>
        <p:spPr>
          <a:xfrm>
            <a:off x="262080" y="-3650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AutoShape 6"/>
          <p:cNvSpPr/>
          <p:nvPr/>
        </p:nvSpPr>
        <p:spPr>
          <a:xfrm>
            <a:off x="262080" y="-3650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9" name="Picture 2" descr="Image result for oc curves"/>
          <p:cNvPicPr/>
          <p:nvPr/>
        </p:nvPicPr>
        <p:blipFill>
          <a:blip r:embed="rId1"/>
          <a:stretch/>
        </p:blipFill>
        <p:spPr>
          <a:xfrm>
            <a:off x="3030480" y="822240"/>
            <a:ext cx="468144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E971D-C8FD-4BBF-9957-C713494529FC}" type="slidenum">
              <a:rPr b="0" lang="en-US" sz="14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Why Quality Improvement?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95360" y="1581120"/>
            <a:ext cx="8115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5f5f5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t pay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ess rework, fewer mistakes, fewer delays, and better use of time and material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n United States today, 15 to 20% of the production costs are incurred in finding and correcting mistake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0" dur="1" fill="hold"/>
                                  <p:tgtEl>
                                    <p:spTgt spid="5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  <p:animClr clrSpc="rgb">
                                <p:cBhvr>
                                  <p:cTn id="41" dur="1" fill="hold"/>
                                  <p:tgtEl>
                                    <p:spTgt spid="59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  <p:animClr clrSpc="rgb">
                                <p:cBhvr>
                                  <p:cTn id="42" dur="1" fill="hold"/>
                                  <p:tgtEl>
                                    <p:spTgt spid="59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Curve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1" name="AutoShape 2"/>
          <p:cNvSpPr/>
          <p:nvPr/>
        </p:nvSpPr>
        <p:spPr>
          <a:xfrm>
            <a:off x="262080" y="-3650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AutoShape 4"/>
          <p:cNvSpPr/>
          <p:nvPr/>
        </p:nvSpPr>
        <p:spPr>
          <a:xfrm>
            <a:off x="262080" y="-3650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AutoShape 6"/>
          <p:cNvSpPr/>
          <p:nvPr/>
        </p:nvSpPr>
        <p:spPr>
          <a:xfrm>
            <a:off x="262080" y="-3650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4" name="Picture 2" descr="Image result for sampling inspection"/>
          <p:cNvPicPr/>
          <p:nvPr/>
        </p:nvPicPr>
        <p:blipFill>
          <a:blip r:embed="rId1"/>
          <a:stretch/>
        </p:blipFill>
        <p:spPr>
          <a:xfrm>
            <a:off x="1787400" y="1528920"/>
            <a:ext cx="6059520" cy="45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Curve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6" name="AutoShape 2"/>
          <p:cNvSpPr/>
          <p:nvPr/>
        </p:nvSpPr>
        <p:spPr>
          <a:xfrm>
            <a:off x="262080" y="-3650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AutoShape 4"/>
          <p:cNvSpPr/>
          <p:nvPr/>
        </p:nvSpPr>
        <p:spPr>
          <a:xfrm>
            <a:off x="262080" y="-3650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AutoShape 6"/>
          <p:cNvSpPr/>
          <p:nvPr/>
        </p:nvSpPr>
        <p:spPr>
          <a:xfrm>
            <a:off x="262080" y="-3650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AutoShape 2"/>
          <p:cNvSpPr/>
          <p:nvPr/>
        </p:nvSpPr>
        <p:spPr>
          <a:xfrm>
            <a:off x="262080" y="-3650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0" name="Picture 4" descr="Image result for sampling inspection of rice"/>
          <p:cNvPicPr/>
          <p:nvPr/>
        </p:nvPicPr>
        <p:blipFill>
          <a:blip r:embed="rId1"/>
          <a:stretch/>
        </p:blipFill>
        <p:spPr>
          <a:xfrm>
            <a:off x="982800" y="627120"/>
            <a:ext cx="6311880" cy="54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Curve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2" name="AutoShape 2"/>
          <p:cNvSpPr/>
          <p:nvPr/>
        </p:nvSpPr>
        <p:spPr>
          <a:xfrm>
            <a:off x="262080" y="-3650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AutoShape 4"/>
          <p:cNvSpPr/>
          <p:nvPr/>
        </p:nvSpPr>
        <p:spPr>
          <a:xfrm>
            <a:off x="262080" y="-3650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AutoShape 6"/>
          <p:cNvSpPr/>
          <p:nvPr/>
        </p:nvSpPr>
        <p:spPr>
          <a:xfrm>
            <a:off x="262080" y="-3650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5" name="Picture 6" descr="Image result for sampling inspection of rice"/>
          <p:cNvPicPr/>
          <p:nvPr/>
        </p:nvPicPr>
        <p:blipFill>
          <a:blip r:embed="rId1"/>
          <a:stretch/>
        </p:blipFill>
        <p:spPr>
          <a:xfrm>
            <a:off x="1162080" y="1719360"/>
            <a:ext cx="5265720" cy="34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703440" y="43308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Sampling inspection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7" name="AutoShape 2"/>
          <p:cNvSpPr/>
          <p:nvPr/>
        </p:nvSpPr>
        <p:spPr>
          <a:xfrm>
            <a:off x="262080" y="-3650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AutoShape 4"/>
          <p:cNvSpPr/>
          <p:nvPr/>
        </p:nvSpPr>
        <p:spPr>
          <a:xfrm>
            <a:off x="262080" y="-3650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AutoShape 6"/>
          <p:cNvSpPr/>
          <p:nvPr/>
        </p:nvSpPr>
        <p:spPr>
          <a:xfrm>
            <a:off x="262080" y="-3650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0" name="Picture 2" descr="Image result for sampling inspection"/>
          <p:cNvPicPr/>
          <p:nvPr/>
        </p:nvPicPr>
        <p:blipFill>
          <a:blip r:embed="rId1"/>
          <a:stretch/>
        </p:blipFill>
        <p:spPr>
          <a:xfrm>
            <a:off x="3114720" y="1355760"/>
            <a:ext cx="4762440" cy="49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Curve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2" name="AutoShape 2"/>
          <p:cNvSpPr/>
          <p:nvPr/>
        </p:nvSpPr>
        <p:spPr>
          <a:xfrm>
            <a:off x="262080" y="-3650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AutoShape 4"/>
          <p:cNvSpPr/>
          <p:nvPr/>
        </p:nvSpPr>
        <p:spPr>
          <a:xfrm>
            <a:off x="262080" y="-3650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AutoShape 6"/>
          <p:cNvSpPr/>
          <p:nvPr/>
        </p:nvSpPr>
        <p:spPr>
          <a:xfrm>
            <a:off x="262080" y="-3650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5" name="Picture 2" descr="Image result for single and double sampling plans"/>
          <p:cNvPicPr/>
          <p:nvPr/>
        </p:nvPicPr>
        <p:blipFill>
          <a:blip r:embed="rId1"/>
          <a:stretch/>
        </p:blipFill>
        <p:spPr>
          <a:xfrm>
            <a:off x="1630440" y="1746360"/>
            <a:ext cx="6629400" cy="42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Curve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AutoShape 2"/>
          <p:cNvSpPr/>
          <p:nvPr/>
        </p:nvSpPr>
        <p:spPr>
          <a:xfrm>
            <a:off x="262080" y="-3650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AutoShape 4"/>
          <p:cNvSpPr/>
          <p:nvPr/>
        </p:nvSpPr>
        <p:spPr>
          <a:xfrm>
            <a:off x="262080" y="-3650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AutoShape 6"/>
          <p:cNvSpPr/>
          <p:nvPr/>
        </p:nvSpPr>
        <p:spPr>
          <a:xfrm>
            <a:off x="262080" y="-3650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0" name="Picture 2" descr="Related image"/>
          <p:cNvPicPr/>
          <p:nvPr/>
        </p:nvPicPr>
        <p:blipFill>
          <a:blip r:embed="rId1"/>
          <a:stretch/>
        </p:blipFill>
        <p:spPr>
          <a:xfrm>
            <a:off x="2514600" y="1023840"/>
            <a:ext cx="5797440" cy="50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Curve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2" name="AutoShape 2"/>
          <p:cNvSpPr/>
          <p:nvPr/>
        </p:nvSpPr>
        <p:spPr>
          <a:xfrm>
            <a:off x="262080" y="-3650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AutoShape 4"/>
          <p:cNvSpPr/>
          <p:nvPr/>
        </p:nvSpPr>
        <p:spPr>
          <a:xfrm>
            <a:off x="262080" y="-3650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AutoShape 6"/>
          <p:cNvSpPr/>
          <p:nvPr/>
        </p:nvSpPr>
        <p:spPr>
          <a:xfrm>
            <a:off x="262080" y="-3650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5" name="Picture 2" descr="Image result for single and double sampling plans"/>
          <p:cNvPicPr/>
          <p:nvPr/>
        </p:nvPicPr>
        <p:blipFill>
          <a:blip r:embed="rId1"/>
          <a:stretch/>
        </p:blipFill>
        <p:spPr>
          <a:xfrm>
            <a:off x="1666800" y="1389240"/>
            <a:ext cx="6077160" cy="45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26T16:25:30Z</dcterms:created>
  <dc:creator>Donald E. Stout, Jr</dc:creator>
  <dc:description/>
  <dc:language>en-US</dc:language>
  <cp:lastModifiedBy>Utkarsh Kumar Patil</cp:lastModifiedBy>
  <cp:lastPrinted>1999-01-24T07:18:05Z</cp:lastPrinted>
  <dcterms:modified xsi:type="dcterms:W3CDTF">2018-02-09T02:20:25Z</dcterms:modified>
  <cp:revision>259</cp:revision>
  <dc:subject/>
  <dc:title>Quality Basics</dc:title>
</cp:coreProperties>
</file>