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8D4-8BBF-4211-B1A8-DA261547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D74-E730-4696-BC7F-5AAC808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997-DDB4-4A2F-B564-B62C838B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ECF-AEAE-43FA-ABAB-C740CD6E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16CC-E80D-4F19-B16A-1CF1F34D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6F5-AC0A-4C52-92B2-6D59B78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DE9A-26B5-46CE-8C97-C9AB138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F0B7-D990-4487-A39C-3A81A23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825-39A2-4DC3-8E2A-40572EA3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6F43-CF00-4CC7-A49D-9830D928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38B-B427-4C7E-A338-CAF7992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FA7-0B06-43B1-BB64-ECEF8C9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A1AA-5B99-4B08-AB9E-3204A07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5E3C-AE58-4061-B38D-57C5B43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7A98-C714-4922-8024-DF64C64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1137-51D9-4591-A845-9197958A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FC55-9E74-4E80-9A17-B96B0719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B649-5A40-4206-AD3D-91987C52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F00A-0C81-444E-B966-557392D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2AC9-EFC4-4697-8DF0-BADE3525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5A9E-25D1-4469-9742-B42822F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194C-5EAF-4EFD-81F8-E0762AA5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4EE-F02A-4E12-B7C4-DAF2B7E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20B2-24C5-40D4-8011-97D9FA2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9608-DB23-48F7-B6D1-DD03937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2228-7670-49C7-B524-6280B25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8528-598A-4BA4-82EF-97E8914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8291-D729-471B-A537-B119C33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6B4E-AF02-4845-AC30-3EF8648D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BE76-F705-4035-B928-84C0B985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3453-0149-4FA5-B673-1051BF61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6BA4-1786-4718-8E0A-1F55AB8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4730-F651-4FAE-9CFC-DE9B24F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C97-76D4-4D8D-8FF9-7A6D70C7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C8B3-35E3-40BD-BF37-F2CD4245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A230-FD17-418E-94C0-B317ADF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B819-7A13-4FB1-A1AC-88E2E20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74B0-1242-4039-8BBC-2704EB4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2053-A204-4F7F-AAE3-33CE83F1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C064-95DF-4D44-BC9B-E82BF38E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CCDF-0C31-4E6B-97A5-E49F0AB5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1838-422B-49CC-A589-C75D5265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8DB3-3F50-4A9E-B059-9FC0E6FE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3A7E-6105-4F4D-A1AF-D9DDEC22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A36-7DBD-4CD5-9E1E-CAFC237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D8C5-7D4A-4BE4-A73E-18328F4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5B76-C90D-4585-9DEF-CE034362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075A-5922-4F2B-BD02-7B07DF4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39C94-F5F0-4E44-8B69-DC678230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84FB3-37D6-4B9E-B9AA-183668D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6C88-4021-44B8-9206-8B37166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5DEE-84ED-4E86-9AD5-1476328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B696-1047-41CF-9B3A-FC9C673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FE98-A355-4766-B702-D4F51E84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35ED-A7B9-41E8-99F9-47D5D7A5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6BA-09BB-4989-84FA-D009372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8524-EA83-4DA9-86CB-CED9C6EE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BCD4-55A7-48AC-8BD8-CED57EA9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03C7-04B1-4718-819E-828C03A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1F3F-B419-450E-975F-8AFEC96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139B-E6CA-44D0-B948-1B18730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CDF6-F5A5-4431-ADFD-5E9CDF4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7230-4188-4A61-AAB0-78CBF957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ED56-EE75-414B-9FDB-7E105E6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B364-ACCA-4123-A9FC-CC3DF6E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50386-0CB5-4DC6-8AF9-08788EB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040-F944-48C4-B9CA-27A28819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A035-92A0-4C6C-8B05-2AEEA7B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E08F-F3DC-477C-94E7-392DAD13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AFA24-90E0-4329-89A7-639F6294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4439-7A18-4BF3-810B-A227E43B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50F6-6E73-4FDC-AE23-B7460318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BD56-0C08-4F1E-867D-847922F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3B4A7-50AE-416A-83D0-12983874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16F8F-8F82-444C-AD36-2D6B979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DC43-F1B3-43BF-A737-D794D34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BA53-C4CF-416D-8134-F2D4F41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DEC-8950-464E-A1DF-3F1285FF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A842-48C0-44A8-BAA8-8838579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43B3-678A-4D10-8A40-5DE73C6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2171-507A-4865-B0EB-104FEB3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48DF9-5FD2-4D26-89EC-71FAFA23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7857-770E-43DA-86E2-F13B8B23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80AD8-28A8-4F85-9A88-CA72ADA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B9C1-700B-4508-A15E-9EA3A272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EAEC-F134-41B6-8C92-EFE8F13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2C9B-9A70-41F4-93B6-599EAB44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0D4F-342E-42D7-9B91-42B1E11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C40-09F9-44B8-BE17-DF03DCE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4BE3-6D83-4708-AD8E-E5548BD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BF37F-C22A-46CE-9C3A-001EFE2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5CABC-562B-4D2F-B870-9FF49B4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D66F6-AF0B-420E-8486-1F2F4E0B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6C17-35A2-4AB5-9288-9C6861C3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B39E-4C3C-425A-9CDB-F8276899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A5F4-AF79-478B-A163-CA087100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66D1-C854-4B30-AF5F-01876EE7B2C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D0E-D8CA-4119-B472-414DC83C4E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D10-AF13-4D5A-B735-170679AC3F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B3E5-E90E-443A-BC8E-357C9C6ABC3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226-9129-43EF-90E7-C1212DF63AC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ED86-2B6D-4DB6-B25F-980982B46BA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79C-324C-4C5A-B633-10B5418AE7F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EFED-47EC-450C-9460-D1879EB8190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6439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starting a new fac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case of existing factory expa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ximity to marke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ly of raw materi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ransport facil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frastructure availabi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bour &amp; wag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w &amp; Tax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itability of land &amp; clima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orting industries &amp; servic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munit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+ attitud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cial infrastruc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324000" y="-648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1.jpg"/>
          <p:cNvPicPr/>
          <p:nvPr/>
        </p:nvPicPr>
        <p:blipFill>
          <a:blip r:embed="rId2"/>
          <a:stretch/>
        </p:blipFill>
        <p:spPr>
          <a:xfrm>
            <a:off x="0" y="10666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:\plant location\3.jpg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129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2.jpg"/>
          <p:cNvPicPr/>
          <p:nvPr/>
        </p:nvPicPr>
        <p:blipFill>
          <a:blip r:embed="rId2"/>
          <a:stretch/>
        </p:blipFill>
        <p:spPr>
          <a:xfrm>
            <a:off x="228600" y="1371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hysical arrangement of production facili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ctimum arrangement of equipment; storage spae; material handling; all depart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t relationship between output;space &amp; manufacturing c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Stremline the flow of materi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Minimize the material hand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Effective utilisation of men;Equipment &amp; sp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Effective utilisation of cubic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Provide safety &amp; cmf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TO worker- Reduce effort; minimizes acci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To manufacturing- minimize cycle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To production- Incre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To management- reduce labour cost, enhance plant productivity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5:40:13Z</dcterms:created>
  <dc:creator>Ganesh</dc:creator>
  <dc:description/>
  <dc:language>en-US</dc:language>
  <cp:lastModifiedBy>user</cp:lastModifiedBy>
  <dcterms:modified xsi:type="dcterms:W3CDTF">2017-03-13T04:44:49Z</dcterms:modified>
  <cp:revision>17</cp:revision>
  <dc:subject/>
  <dc:title>Slide 1</dc:title>
</cp:coreProperties>
</file>