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M 313  Work Stud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ssue 9: Motion Stud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opyright 2001 by Sajee Sirikrai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1134-4AEC-4B9F-81AF-038E541AF72C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M 313  Work Stud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ssue 9: Motion Stud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opyright 2001 by Sajee Sirikrai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2E57-3157-4F0A-8268-DE746F2FACE3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ngsana New"/>
              <a:ea typeface="Cord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547-D3C7-4875-AF16-953F8C44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5C1-C676-49FC-91B2-6876412A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DE9-12CE-4396-9C64-7959DE4D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E4A-0EF6-404F-845D-4FB4CBF9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7E5-2012-4293-A0BD-2A15351D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82A-0D86-45B4-AF0F-34ADE32C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864-D8D7-4EE1-A7DA-F4F7C548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9358-FD2C-4566-8CA7-574B2578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FD4-AC78-462A-B9C5-0467196C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21B-9820-4620-B9C7-325A6D74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931-E4A5-45C5-94C6-2C080ECE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BDAE-EC51-48B4-8D38-1B35393E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F984-7651-4D24-B8A8-69DDDC42F1EB}" type="slidenum"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6629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ccff"/>
                </a:solidFill>
                <a:latin typeface="Arial"/>
              </a:rPr>
              <a:t>Process Analysi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ccff"/>
                </a:solidFill>
                <a:latin typeface="Arial"/>
              </a:rPr>
              <a:t>Operation Analysi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(Micro) Motion Stud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Time Stud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Work Instruction Establishing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" name="WordArt 1027"/>
          <p:cNvSpPr txBox="1"/>
          <p:nvPr/>
        </p:nvSpPr>
        <p:spPr>
          <a:xfrm rot="21571200">
            <a:off x="685800" y="53316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5430000"/>
                </a:gradFill>
                <a:effectLst>
                  <a:outerShdw dist="77353" dir="21037522" blurRad="0" rotWithShape="0">
                    <a:srgbClr val="9900ff"/>
                  </a:outerShdw>
                </a:effectLst>
                <a:latin typeface="Browallia New"/>
              </a:rPr>
              <a:t>Work Study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5430000"/>
              </a:gradFill>
              <a:effectLst>
                <a:outerShdw dist="77353" dir="21037522" blurRad="0" rotWithShape="0">
                  <a:srgbClr val="9900ff"/>
                </a:outerShdw>
              </a:effectLst>
              <a:latin typeface="Browallia New"/>
              <a:ea typeface="Browallia New"/>
            </a:endParaRPr>
          </a:p>
        </p:txBody>
      </p:sp>
      <p:pic>
        <p:nvPicPr>
          <p:cNvPr id="50" name="Object 1028" descr=""/>
          <p:cNvPicPr/>
          <p:nvPr/>
        </p:nvPicPr>
        <p:blipFill>
          <a:blip r:embed="rId1"/>
          <a:stretch/>
        </p:blipFill>
        <p:spPr>
          <a:xfrm>
            <a:off x="6066000" y="3809880"/>
            <a:ext cx="30780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505320" y="236196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Hol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Unavoidable delay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Avoidable delay (standby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" name="WordArt 3"/>
          <p:cNvSpPr txBox="1"/>
          <p:nvPr/>
        </p:nvSpPr>
        <p:spPr>
          <a:xfrm rot="21571200">
            <a:off x="455400" y="597960"/>
            <a:ext cx="3963960" cy="16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30000"/>
                </a:gradFill>
                <a:effectLst>
                  <a:outerShdw dist="77353" dir="21037522" blurRad="0" rotWithShape="0">
                    <a:srgbClr val="996633"/>
                  </a:outerShdw>
                </a:effectLst>
                <a:latin typeface="Browallia New"/>
              </a:rPr>
              <a:t>Type 3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30000"/>
              </a:gradFill>
              <a:effectLst>
                <a:outerShdw dist="77353" dir="21037522" blurRad="0" rotWithShape="0">
                  <a:srgbClr val="996633"/>
                </a:outerShdw>
              </a:effectLst>
              <a:latin typeface="Browallia New"/>
              <a:ea typeface="Browallia New"/>
            </a:endParaRPr>
          </a:p>
        </p:txBody>
      </p:sp>
      <p:pic>
        <p:nvPicPr>
          <p:cNvPr id="111" name="Object 5" descr=""/>
          <p:cNvPicPr/>
          <p:nvPr/>
        </p:nvPicPr>
        <p:blipFill>
          <a:blip r:embed="rId1"/>
          <a:stretch/>
        </p:blipFill>
        <p:spPr>
          <a:xfrm>
            <a:off x="1066680" y="2610000"/>
            <a:ext cx="25718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erblig Symbols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 rot="21571200">
            <a:off x="452160" y="372600"/>
            <a:ext cx="800424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30000"/>
                </a:gradFill>
                <a:effectLst>
                  <a:outerShdw dist="38160" dir="0" blurRad="0" rotWithShape="0">
                    <a:srgbClr val="0033cc"/>
                  </a:outerShdw>
                </a:effectLst>
                <a:latin typeface="Arial"/>
              </a:rPr>
              <a:t>Therblig Analysis Steps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30000"/>
              </a:gradFill>
              <a:effectLst>
                <a:outerShdw dist="38160" dir="0" blurRad="0" rotWithShape="0">
                  <a:srgbClr val="0033cc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819520" y="1752480"/>
            <a:ext cx="6324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time to carefully observe the overall opera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y to picture the operation in your min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e down the steps in the operation, starting with just one hand’s mo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observe the operation and correct the written description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the motions in more detail and fill out the therblig symbol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380880" y="2057400"/>
            <a:ext cx="2514600" cy="1219320"/>
          </a:xfrm>
          <a:prstGeom prst="cloudCallout">
            <a:avLst>
              <a:gd name="adj1" fmla="val 7638"/>
              <a:gd name="adj2" fmla="val 9245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scrip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16" name="Group 14"/>
          <p:cNvGrpSpPr/>
          <p:nvPr/>
        </p:nvGrpSpPr>
        <p:grpSpPr>
          <a:xfrm>
            <a:off x="376200" y="3500280"/>
            <a:ext cx="1066680" cy="2977200"/>
            <a:chOff x="376200" y="3500280"/>
            <a:chExt cx="1066680" cy="2977200"/>
          </a:xfrm>
        </p:grpSpPr>
        <p:sp>
          <p:nvSpPr>
            <p:cNvPr id="117" name="Freeform 8"/>
            <p:cNvSpPr/>
            <p:nvPr/>
          </p:nvSpPr>
          <p:spPr>
            <a:xfrm rot="21578400">
              <a:off x="459720" y="4026240"/>
              <a:ext cx="441360" cy="590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rot="21578400">
              <a:off x="860400" y="3501720"/>
              <a:ext cx="578880" cy="102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 rot="21578400">
              <a:off x="379080" y="4707000"/>
              <a:ext cx="340560" cy="920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 rot="21578400">
              <a:off x="728640" y="4631400"/>
              <a:ext cx="356400" cy="822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 rot="21578400">
              <a:off x="938880" y="5287320"/>
              <a:ext cx="464400" cy="1054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 rot="21578400">
              <a:off x="519480" y="5347800"/>
              <a:ext cx="390600" cy="1128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Impact"/>
              </a:rPr>
              <a:t>Therblig Analysis Chart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1026"/>
          <p:cNvSpPr txBox="1"/>
          <p:nvPr/>
        </p:nvSpPr>
        <p:spPr>
          <a:xfrm>
            <a:off x="609480" y="45720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cc00cc"/>
                  </a:solidFill>
                  <a:miter/>
                </a:ln>
                <a:solidFill>
                  <a:srgbClr val="ff99ff"/>
                </a:solidFill>
                <a:effectLst>
                  <a:outerShdw dist="89808" dir="483908" blurRad="0" rotWithShape="0">
                    <a:srgbClr val="cc00cc"/>
                  </a:outerShdw>
                </a:effectLst>
                <a:latin typeface="Browallia New"/>
              </a:rPr>
              <a:t>Micromotion Study: A Trial </a:t>
            </a:r>
            <a:endParaRPr b="1" lang="en-US" sz="4800" spc="1" strike="noStrike">
              <a:ln w="12600">
                <a:solidFill>
                  <a:srgbClr val="cc00cc"/>
                </a:solidFill>
                <a:miter/>
              </a:ln>
              <a:solidFill>
                <a:srgbClr val="ff99ff"/>
              </a:solidFill>
              <a:effectLst>
                <a:outerShdw dist="89808" dir="483908" blurRad="0" rotWithShape="0">
                  <a:srgbClr val="cc00cc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125" name="Text Box 1027"/>
          <p:cNvSpPr/>
          <p:nvPr/>
        </p:nvSpPr>
        <p:spPr>
          <a:xfrm>
            <a:off x="609480" y="1825560"/>
            <a:ext cx="8001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  Participant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 I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" name="AutoShape 1028"/>
          <p:cNvSpPr/>
          <p:nvPr/>
        </p:nvSpPr>
        <p:spPr>
          <a:xfrm>
            <a:off x="2666880" y="2514600"/>
            <a:ext cx="4343400" cy="1752480"/>
          </a:xfrm>
          <a:prstGeom prst="cloudCallout">
            <a:avLst>
              <a:gd name="adj1" fmla="val -72041"/>
              <a:gd name="adj2" fmla="val -49726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ke 12 sets of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itation letter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" name="AutoShape 1029"/>
          <p:cNvSpPr/>
          <p:nvPr/>
        </p:nvSpPr>
        <p:spPr>
          <a:xfrm>
            <a:off x="1219320" y="4876920"/>
            <a:ext cx="5105160" cy="1676160"/>
          </a:xfrm>
          <a:prstGeom prst="cloudCallout">
            <a:avLst>
              <a:gd name="adj1" fmla="val 82245"/>
              <a:gd name="adj2" fmla="val -38921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eration / Therblig char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orkplace setting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7AC7-2BD0-4E3E-AB08-A58FA444235F}" type="slidenum"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9" name="WordArt 2"/>
          <p:cNvSpPr txBox="1"/>
          <p:nvPr/>
        </p:nvSpPr>
        <p:spPr>
          <a:xfrm>
            <a:off x="609480" y="457200"/>
            <a:ext cx="5867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latin typeface="Browallia New"/>
              </a:rPr>
              <a:t>A Trial: What's up?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/>
              </a:solidFill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64767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7880" indent="0">
              <a:lnSpc>
                <a:spcPct val="10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 related to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677880" indent="-677880">
              <a:lnSpc>
                <a:spcPct val="100000"/>
              </a:lnSpc>
              <a:spcBef>
                <a:spcPts val="24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es of the human body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677880" indent="-677880">
              <a:lnSpc>
                <a:spcPct val="100000"/>
              </a:lnSpc>
              <a:spcBef>
                <a:spcPts val="24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rangement of the work plac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677880" indent="-677880">
              <a:lnSpc>
                <a:spcPct val="100000"/>
              </a:lnSpc>
              <a:spcBef>
                <a:spcPts val="24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sign of tools and equipment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685800" y="533520"/>
            <a:ext cx="7924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ffcc"/>
                    </a:gs>
                    <a:gs pos="100000">
                      <a:srgbClr val="ff6699"/>
                    </a:gs>
                  </a:gsLst>
                  <a:lin ang="5400000"/>
                </a:gradFill>
                <a:latin typeface="Browallia New"/>
              </a:rPr>
              <a:t>Principles of Motion Ec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ffcc"/>
                  </a:gs>
                  <a:gs pos="100000">
                    <a:srgbClr val="ff6699"/>
                  </a:gs>
                </a:gsLst>
                <a:lin ang="5400000"/>
              </a:gradFill>
              <a:latin typeface="Browallia New"/>
              <a:ea typeface="Browallia New"/>
            </a:endParaRPr>
          </a:p>
        </p:txBody>
      </p:sp>
      <p:pic>
        <p:nvPicPr>
          <p:cNvPr id="132" name="Object 0" descr=""/>
          <p:cNvPicPr/>
          <p:nvPr/>
        </p:nvPicPr>
        <p:blipFill>
          <a:blip r:embed="rId1"/>
          <a:stretch/>
        </p:blipFill>
        <p:spPr>
          <a:xfrm>
            <a:off x="6600960" y="1905120"/>
            <a:ext cx="2543040" cy="25905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1"/>
          <p:cNvSpPr/>
          <p:nvPr/>
        </p:nvSpPr>
        <p:spPr>
          <a:xfrm>
            <a:off x="3429000" y="5486400"/>
            <a:ext cx="4800600" cy="1066680"/>
          </a:xfrm>
          <a:prstGeom prst="cloudCallout">
            <a:avLst>
              <a:gd name="adj1" fmla="val 40509"/>
              <a:gd name="adj2" fmla="val -13660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ou need a good checklist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" name="AutoShape 12">
            <a:hlinkClick r:id="rId2" action="ppaction://hlinksldjump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4003" h="21600">
                <a:moveTo>
                  <a:pt x="6474" y="3985"/>
                </a:moveTo>
                <a:lnTo>
                  <a:pt x="13472" y="3985"/>
                </a:lnTo>
                <a:lnTo>
                  <a:pt x="17528" y="7484"/>
                </a:lnTo>
                <a:lnTo>
                  <a:pt x="17528" y="17615"/>
                </a:lnTo>
                <a:lnTo>
                  <a:pt x="6474" y="17615"/>
                </a:lnTo>
                <a:close/>
              </a:path>
              <a:path fill="darken" w="24003" h="21600">
                <a:moveTo>
                  <a:pt x="13472" y="3985"/>
                </a:moveTo>
                <a:lnTo>
                  <a:pt x="17528" y="7484"/>
                </a:lnTo>
                <a:lnTo>
                  <a:pt x="13472" y="7484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50000">
                <a:srgbClr val="dddddd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s related to the uses of the human bod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04920" y="1898640"/>
            <a:ext cx="88390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wo hands should begin and complete their motions at the same tim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2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wo hands should not be idle at the same tim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2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otions of the arms should be made in opposite and symmetrical direction and should be made simultaneously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2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and and body motions should be confined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 the lowest classification with which it is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ssible to perform the work satisfactorily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37" name="Group 47"/>
          <p:cNvGrpSpPr/>
          <p:nvPr/>
        </p:nvGrpSpPr>
        <p:grpSpPr>
          <a:xfrm>
            <a:off x="7060680" y="5196960"/>
            <a:ext cx="2187720" cy="1584360"/>
            <a:chOff x="7060680" y="5196960"/>
            <a:chExt cx="2187720" cy="1584360"/>
          </a:xfrm>
        </p:grpSpPr>
        <p:sp>
          <p:nvSpPr>
            <p:cNvPr id="138" name="Rectangle 8"/>
            <p:cNvSpPr/>
            <p:nvPr/>
          </p:nvSpPr>
          <p:spPr>
            <a:xfrm rot="20282400">
              <a:off x="7822440" y="5859720"/>
              <a:ext cx="1073160" cy="460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39" name="Group 28"/>
            <p:cNvGrpSpPr/>
            <p:nvPr/>
          </p:nvGrpSpPr>
          <p:grpSpPr>
            <a:xfrm>
              <a:off x="8038800" y="5196960"/>
              <a:ext cx="1209600" cy="1309320"/>
              <a:chOff x="8038800" y="5196960"/>
              <a:chExt cx="1209600" cy="1309320"/>
            </a:xfrm>
          </p:grpSpPr>
          <p:sp>
            <p:nvSpPr>
              <p:cNvPr id="140" name="Freeform 9"/>
              <p:cNvSpPr/>
              <p:nvPr/>
            </p:nvSpPr>
            <p:spPr>
              <a:xfrm rot="8708400">
                <a:off x="8291160" y="5298840"/>
                <a:ext cx="704520" cy="1104840"/>
              </a:xfrm>
              <a:prstGeom prst="pie">
                <a:avLst/>
              </a:prstGeom>
              <a:solidFill>
                <a:srgbClr val="ff9f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1" name="Freeform 10"/>
              <p:cNvSpPr/>
              <p:nvPr/>
            </p:nvSpPr>
            <p:spPr>
              <a:xfrm rot="8708400">
                <a:off x="8660520" y="6445080"/>
                <a:ext cx="63000" cy="3852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142" name="Group 27"/>
              <p:cNvGrpSpPr/>
              <p:nvPr/>
            </p:nvGrpSpPr>
            <p:grpSpPr>
              <a:xfrm>
                <a:off x="8156520" y="5356440"/>
                <a:ext cx="930600" cy="1025640"/>
                <a:chOff x="8156520" y="5356440"/>
                <a:chExt cx="930600" cy="1025640"/>
              </a:xfrm>
            </p:grpSpPr>
            <p:sp>
              <p:nvSpPr>
                <p:cNvPr id="143" name="Freeform 11"/>
                <p:cNvSpPr/>
                <p:nvPr/>
              </p:nvSpPr>
              <p:spPr>
                <a:xfrm rot="8708400">
                  <a:off x="8493120" y="5672880"/>
                  <a:ext cx="260280" cy="4334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4" name="Freeform 12"/>
                <p:cNvSpPr/>
                <p:nvPr/>
              </p:nvSpPr>
              <p:spPr>
                <a:xfrm rot="8708400">
                  <a:off x="8485920" y="5592600"/>
                  <a:ext cx="243000" cy="348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5" name="Freeform 13"/>
                <p:cNvSpPr/>
                <p:nvPr/>
              </p:nvSpPr>
              <p:spPr>
                <a:xfrm rot="8708400">
                  <a:off x="8595720" y="5584320"/>
                  <a:ext cx="119880" cy="234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6" name="Freeform 14"/>
                <p:cNvSpPr/>
                <p:nvPr/>
              </p:nvSpPr>
              <p:spPr>
                <a:xfrm rot="8708400">
                  <a:off x="8741160" y="6346440"/>
                  <a:ext cx="3960" cy="37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7" name="Freeform 15"/>
                <p:cNvSpPr/>
                <p:nvPr/>
              </p:nvSpPr>
              <p:spPr>
                <a:xfrm rot="8708400">
                  <a:off x="8745840" y="6343560"/>
                  <a:ext cx="4320" cy="37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8" name="Freeform 16"/>
                <p:cNvSpPr/>
                <p:nvPr/>
              </p:nvSpPr>
              <p:spPr>
                <a:xfrm rot="8708400">
                  <a:off x="8733960" y="6184800"/>
                  <a:ext cx="50760" cy="45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9" name="Freeform 17"/>
                <p:cNvSpPr/>
                <p:nvPr/>
              </p:nvSpPr>
              <p:spPr>
                <a:xfrm rot="8708400">
                  <a:off x="9018360" y="6095520"/>
                  <a:ext cx="73080" cy="7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0" name="Freeform 18"/>
                <p:cNvSpPr/>
                <p:nvPr/>
              </p:nvSpPr>
              <p:spPr>
                <a:xfrm rot="8708400">
                  <a:off x="8510400" y="5896800"/>
                  <a:ext cx="21600" cy="27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1" name="Freeform 19"/>
                <p:cNvSpPr/>
                <p:nvPr/>
              </p:nvSpPr>
              <p:spPr>
                <a:xfrm rot="8708400">
                  <a:off x="8641440" y="6008400"/>
                  <a:ext cx="18000" cy="28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2" name="Freeform 20"/>
                <p:cNvSpPr/>
                <p:nvPr/>
              </p:nvSpPr>
              <p:spPr>
                <a:xfrm rot="8708400">
                  <a:off x="8813160" y="5739120"/>
                  <a:ext cx="51840" cy="118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3" name="Freeform 21"/>
                <p:cNvSpPr/>
                <p:nvPr/>
              </p:nvSpPr>
              <p:spPr>
                <a:xfrm rot="8708400">
                  <a:off x="8547480" y="5547240"/>
                  <a:ext cx="31680" cy="12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4" name="Freeform 22"/>
                <p:cNvSpPr/>
                <p:nvPr/>
              </p:nvSpPr>
              <p:spPr>
                <a:xfrm rot="8708400">
                  <a:off x="8391600" y="5360400"/>
                  <a:ext cx="39600" cy="83160"/>
                </a:xfrm>
                <a:prstGeom prst="pie">
                  <a:avLst/>
                </a:prstGeom>
                <a:solidFill>
                  <a:srgbClr val="ffb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5" name="Freeform 23"/>
                <p:cNvSpPr/>
                <p:nvPr/>
              </p:nvSpPr>
              <p:spPr>
                <a:xfrm rot="8708400">
                  <a:off x="8200080" y="5491440"/>
                  <a:ext cx="66600" cy="67680"/>
                </a:xfrm>
                <a:prstGeom prst="pie">
                  <a:avLst/>
                </a:prstGeom>
                <a:solidFill>
                  <a:srgbClr val="ffb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6" name="Freeform 24"/>
                <p:cNvSpPr/>
                <p:nvPr/>
              </p:nvSpPr>
              <p:spPr>
                <a:xfrm rot="8708400">
                  <a:off x="8479440" y="5626800"/>
                  <a:ext cx="37800" cy="29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7" name="Freeform 25"/>
                <p:cNvSpPr/>
                <p:nvPr/>
              </p:nvSpPr>
              <p:spPr>
                <a:xfrm rot="8708400">
                  <a:off x="8166240" y="5714280"/>
                  <a:ext cx="81000" cy="59760"/>
                </a:xfrm>
                <a:prstGeom prst="pie">
                  <a:avLst/>
                </a:prstGeom>
                <a:solidFill>
                  <a:srgbClr val="ffb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8" name="Freeform 26"/>
                <p:cNvSpPr/>
                <p:nvPr/>
              </p:nvSpPr>
              <p:spPr>
                <a:xfrm rot="8708400">
                  <a:off x="8440200" y="5752080"/>
                  <a:ext cx="47520" cy="77760"/>
                </a:xfrm>
                <a:prstGeom prst="pie">
                  <a:avLst/>
                </a:prstGeom>
                <a:solidFill>
                  <a:srgbClr val="ffb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  <p:grpSp>
          <p:nvGrpSpPr>
            <p:cNvPr id="159" name="Group 46"/>
            <p:cNvGrpSpPr/>
            <p:nvPr/>
          </p:nvGrpSpPr>
          <p:grpSpPr>
            <a:xfrm>
              <a:off x="7060680" y="5621040"/>
              <a:ext cx="1212120" cy="1160280"/>
              <a:chOff x="7060680" y="5621040"/>
              <a:chExt cx="1212120" cy="1160280"/>
            </a:xfrm>
          </p:grpSpPr>
          <p:sp>
            <p:nvSpPr>
              <p:cNvPr id="160" name="Freeform 29"/>
              <p:cNvSpPr/>
              <p:nvPr/>
            </p:nvSpPr>
            <p:spPr>
              <a:xfrm rot="9001200">
                <a:off x="7196760" y="5802120"/>
                <a:ext cx="939240" cy="797760"/>
              </a:xfrm>
              <a:prstGeom prst="pie">
                <a:avLst/>
              </a:prstGeom>
              <a:solidFill>
                <a:srgbClr val="ff9f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1" name="Freeform 30"/>
              <p:cNvSpPr/>
              <p:nvPr/>
            </p:nvSpPr>
            <p:spPr>
              <a:xfrm rot="9001200">
                <a:off x="7506360" y="6044040"/>
                <a:ext cx="310680" cy="333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2" name="Freeform 31"/>
              <p:cNvSpPr/>
              <p:nvPr/>
            </p:nvSpPr>
            <p:spPr>
              <a:xfrm rot="9001200">
                <a:off x="7464600" y="6088680"/>
                <a:ext cx="265320" cy="227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3" name="Freeform 32"/>
              <p:cNvSpPr/>
              <p:nvPr/>
            </p:nvSpPr>
            <p:spPr>
              <a:xfrm rot="9001200">
                <a:off x="7435440" y="6077880"/>
                <a:ext cx="169920" cy="236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4" name="Freeform 33"/>
              <p:cNvSpPr/>
              <p:nvPr/>
            </p:nvSpPr>
            <p:spPr>
              <a:xfrm rot="9001200">
                <a:off x="8169480" y="6314400"/>
                <a:ext cx="83160" cy="1872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5" name="Freeform 34"/>
              <p:cNvSpPr/>
              <p:nvPr/>
            </p:nvSpPr>
            <p:spPr>
              <a:xfrm rot="9001200">
                <a:off x="7769520" y="5874480"/>
                <a:ext cx="9000" cy="29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6" name="Freeform 35"/>
              <p:cNvSpPr/>
              <p:nvPr/>
            </p:nvSpPr>
            <p:spPr>
              <a:xfrm rot="9001200">
                <a:off x="7822080" y="5781960"/>
                <a:ext cx="87480" cy="4572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7" name="Freeform 36"/>
              <p:cNvSpPr/>
              <p:nvPr/>
            </p:nvSpPr>
            <p:spPr>
              <a:xfrm rot="9001200">
                <a:off x="7654320" y="5763960"/>
                <a:ext cx="69480" cy="4824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8" name="Freeform 37"/>
              <p:cNvSpPr/>
              <p:nvPr/>
            </p:nvSpPr>
            <p:spPr>
              <a:xfrm rot="9001200">
                <a:off x="7451640" y="5857560"/>
                <a:ext cx="50760" cy="4392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9" name="Freeform 38"/>
              <p:cNvSpPr/>
              <p:nvPr/>
            </p:nvSpPr>
            <p:spPr>
              <a:xfrm rot="9001200">
                <a:off x="7653960" y="6012000"/>
                <a:ext cx="61920" cy="5580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0" name="Freeform 39"/>
              <p:cNvSpPr/>
              <p:nvPr/>
            </p:nvSpPr>
            <p:spPr>
              <a:xfrm rot="9001200">
                <a:off x="7646400" y="6124680"/>
                <a:ext cx="37800" cy="1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1" name="Freeform 40"/>
              <p:cNvSpPr/>
              <p:nvPr/>
            </p:nvSpPr>
            <p:spPr>
              <a:xfrm rot="9001200">
                <a:off x="7627680" y="6201360"/>
                <a:ext cx="36720" cy="1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2" name="Freeform 41"/>
              <p:cNvSpPr/>
              <p:nvPr/>
            </p:nvSpPr>
            <p:spPr>
              <a:xfrm rot="9001200">
                <a:off x="7629480" y="6210000"/>
                <a:ext cx="20160" cy="22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3" name="Freeform 42"/>
              <p:cNvSpPr/>
              <p:nvPr/>
            </p:nvSpPr>
            <p:spPr>
              <a:xfrm rot="9001200">
                <a:off x="7451640" y="6536160"/>
                <a:ext cx="69840" cy="42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4" name="Freeform 43"/>
              <p:cNvSpPr/>
              <p:nvPr/>
            </p:nvSpPr>
            <p:spPr>
              <a:xfrm rot="9001200">
                <a:off x="7458120" y="5955120"/>
                <a:ext cx="20880" cy="13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5" name="Freeform 44"/>
              <p:cNvSpPr/>
              <p:nvPr/>
            </p:nvSpPr>
            <p:spPr>
              <a:xfrm rot="9001200">
                <a:off x="7542000" y="6043320"/>
                <a:ext cx="29880" cy="22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6" name="Freeform 45"/>
              <p:cNvSpPr/>
              <p:nvPr/>
            </p:nvSpPr>
            <p:spPr>
              <a:xfrm rot="9001200">
                <a:off x="7606440" y="5878440"/>
                <a:ext cx="22320" cy="1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s related to the uses of the human bod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1822320"/>
            <a:ext cx="89154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omentum should be employed to assist the worker wherever possible, and it should be reduced to a minimum if it must be overcome by muscular effort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allistic movement are faster, easier and more accurate than restricted or controlled movements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ork should be arranged to permit an easy and natural rhythm wherever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ye fixations should be as few and as close as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79" name="Object 4" descr=""/>
          <p:cNvPicPr/>
          <p:nvPr/>
        </p:nvPicPr>
        <p:blipFill>
          <a:blip r:embed="rId1"/>
          <a:stretch/>
        </p:blipFill>
        <p:spPr>
          <a:xfrm>
            <a:off x="6005520" y="6019920"/>
            <a:ext cx="31384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related to the workplace arrangemen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52280" y="1822320"/>
            <a:ext cx="8763120" cy="48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should be a definite and fixed place for all tools and materials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, materials and controls should be located close to the point of uses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vity feed bins and containers should be used to deliver material close to the point of us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op deliveries should be used wherever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s and tools should be located to permit the best sequence of motions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85640">
              <a:lnSpc>
                <a:spcPct val="14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iminate unnecessary operation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485640">
              <a:lnSpc>
                <a:spcPct val="14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se the necessary operation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485640">
              <a:lnSpc>
                <a:spcPct val="14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lance the uses of bod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485640">
              <a:lnSpc>
                <a:spcPct val="14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 cycle tim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52" name="Object 0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2057400" y="685800"/>
            <a:ext cx="5791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To improve Work Method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related to the workplace arrangemen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1752480"/>
            <a:ext cx="89154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sions should be made for adequate conditions for seeing. Good illumination is the first requirement for satisfactory visual perception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eight of the work place and the chair should be  preferably arranged so that alternate sitting and standing at work are easily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hair of the type and height to permi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od posture should be provid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every worker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84" name="Group 139"/>
          <p:cNvGrpSpPr/>
          <p:nvPr/>
        </p:nvGrpSpPr>
        <p:grpSpPr>
          <a:xfrm>
            <a:off x="6698160" y="4487040"/>
            <a:ext cx="2355120" cy="2287800"/>
            <a:chOff x="6698160" y="4487040"/>
            <a:chExt cx="2355120" cy="2287800"/>
          </a:xfrm>
        </p:grpSpPr>
        <p:sp>
          <p:nvSpPr>
            <p:cNvPr id="185" name="Freeform 6"/>
            <p:cNvSpPr/>
            <p:nvPr/>
          </p:nvSpPr>
          <p:spPr>
            <a:xfrm rot="610800">
              <a:off x="7040520" y="4760280"/>
              <a:ext cx="1851120" cy="1851120"/>
            </a:xfrm>
            <a:prstGeom prst="pie">
              <a:avLst/>
            </a:prstGeom>
            <a:solidFill>
              <a:srgbClr val="931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6" name="Freeform 7"/>
            <p:cNvSpPr/>
            <p:nvPr/>
          </p:nvSpPr>
          <p:spPr>
            <a:xfrm rot="610800">
              <a:off x="8492400" y="6504840"/>
              <a:ext cx="25092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7" name="Freeform 8"/>
            <p:cNvSpPr/>
            <p:nvPr/>
          </p:nvSpPr>
          <p:spPr>
            <a:xfrm rot="610800">
              <a:off x="7107120" y="6588360"/>
              <a:ext cx="138420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8" name="Freeform 9"/>
            <p:cNvSpPr/>
            <p:nvPr/>
          </p:nvSpPr>
          <p:spPr>
            <a:xfrm rot="610800">
              <a:off x="6902280" y="6210720"/>
              <a:ext cx="244440" cy="25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9" name="Freeform 10"/>
            <p:cNvSpPr/>
            <p:nvPr/>
          </p:nvSpPr>
          <p:spPr>
            <a:xfrm rot="610800">
              <a:off x="7047720" y="4824000"/>
              <a:ext cx="15840" cy="138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0" name="Freeform 11"/>
            <p:cNvSpPr/>
            <p:nvPr/>
          </p:nvSpPr>
          <p:spPr>
            <a:xfrm rot="610800">
              <a:off x="7188480" y="4622400"/>
              <a:ext cx="252720" cy="2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1" name="Freeform 12"/>
            <p:cNvSpPr/>
            <p:nvPr/>
          </p:nvSpPr>
          <p:spPr>
            <a:xfrm rot="610800">
              <a:off x="7440120" y="4767480"/>
              <a:ext cx="138600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2" name="Freeform 13"/>
            <p:cNvSpPr/>
            <p:nvPr/>
          </p:nvSpPr>
          <p:spPr>
            <a:xfrm rot="610800">
              <a:off x="8785080" y="4908600"/>
              <a:ext cx="244440" cy="24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3" name="Freeform 14"/>
            <p:cNvSpPr/>
            <p:nvPr/>
          </p:nvSpPr>
          <p:spPr>
            <a:xfrm rot="610800">
              <a:off x="8868600" y="5158800"/>
              <a:ext cx="15840" cy="138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4" name="Freeform 15"/>
            <p:cNvSpPr/>
            <p:nvPr/>
          </p:nvSpPr>
          <p:spPr>
            <a:xfrm rot="610800">
              <a:off x="8487360" y="6504840"/>
              <a:ext cx="258840" cy="24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5" name="Freeform 16"/>
            <p:cNvSpPr/>
            <p:nvPr/>
          </p:nvSpPr>
          <p:spPr>
            <a:xfrm rot="610800">
              <a:off x="7102080" y="6584760"/>
              <a:ext cx="13888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6" name="Freeform 17"/>
            <p:cNvSpPr/>
            <p:nvPr/>
          </p:nvSpPr>
          <p:spPr>
            <a:xfrm rot="610800">
              <a:off x="6899400" y="6207480"/>
              <a:ext cx="247320" cy="26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7" name="Freeform 18"/>
            <p:cNvSpPr/>
            <p:nvPr/>
          </p:nvSpPr>
          <p:spPr>
            <a:xfrm rot="610800">
              <a:off x="7045200" y="4820400"/>
              <a:ext cx="21960" cy="139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8" name="Freeform 19"/>
            <p:cNvSpPr/>
            <p:nvPr/>
          </p:nvSpPr>
          <p:spPr>
            <a:xfrm rot="610800">
              <a:off x="7185960" y="4619520"/>
              <a:ext cx="258480" cy="24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9" name="Freeform 20"/>
            <p:cNvSpPr/>
            <p:nvPr/>
          </p:nvSpPr>
          <p:spPr>
            <a:xfrm rot="610800">
              <a:off x="7440480" y="4764600"/>
              <a:ext cx="138924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0" name="Freeform 21"/>
            <p:cNvSpPr/>
            <p:nvPr/>
          </p:nvSpPr>
          <p:spPr>
            <a:xfrm rot="610800">
              <a:off x="8784720" y="4905720"/>
              <a:ext cx="247680" cy="25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 rot="610800">
              <a:off x="8865000" y="5159160"/>
              <a:ext cx="22320" cy="139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2" name="Freeform 23"/>
            <p:cNvSpPr/>
            <p:nvPr/>
          </p:nvSpPr>
          <p:spPr>
            <a:xfrm rot="610800">
              <a:off x="6843960" y="4845960"/>
              <a:ext cx="2041560" cy="174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3" name="Freeform 24"/>
            <p:cNvSpPr/>
            <p:nvPr/>
          </p:nvSpPr>
          <p:spPr>
            <a:xfrm rot="610800">
              <a:off x="7805520" y="6285240"/>
              <a:ext cx="959040" cy="40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4" name="Freeform 25"/>
            <p:cNvSpPr/>
            <p:nvPr/>
          </p:nvSpPr>
          <p:spPr>
            <a:xfrm rot="610800">
              <a:off x="8844480" y="5585040"/>
              <a:ext cx="17640" cy="79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5" name="Freeform 26"/>
            <p:cNvSpPr/>
            <p:nvPr/>
          </p:nvSpPr>
          <p:spPr>
            <a:xfrm rot="610800">
              <a:off x="8663760" y="5002200"/>
              <a:ext cx="317520" cy="57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6" name="Freeform 27"/>
            <p:cNvSpPr/>
            <p:nvPr/>
          </p:nvSpPr>
          <p:spPr>
            <a:xfrm rot="610800">
              <a:off x="6931800" y="4820760"/>
              <a:ext cx="1744560" cy="72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7" name="Freeform 28"/>
            <p:cNvSpPr/>
            <p:nvPr/>
          </p:nvSpPr>
          <p:spPr>
            <a:xfrm rot="610800">
              <a:off x="6786000" y="5416920"/>
              <a:ext cx="568440" cy="104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8" name="Freeform 29"/>
            <p:cNvSpPr/>
            <p:nvPr/>
          </p:nvSpPr>
          <p:spPr>
            <a:xfrm rot="610800">
              <a:off x="7248240" y="6538320"/>
              <a:ext cx="54468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9" name="Freeform 30"/>
            <p:cNvSpPr/>
            <p:nvPr/>
          </p:nvSpPr>
          <p:spPr>
            <a:xfrm rot="610800">
              <a:off x="7390080" y="5350320"/>
              <a:ext cx="1090800" cy="47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0" name="Freeform 31"/>
            <p:cNvSpPr/>
            <p:nvPr/>
          </p:nvSpPr>
          <p:spPr>
            <a:xfrm rot="610800">
              <a:off x="7389000" y="5283360"/>
              <a:ext cx="419040" cy="492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1" name="Freeform 32"/>
            <p:cNvSpPr/>
            <p:nvPr/>
          </p:nvSpPr>
          <p:spPr>
            <a:xfrm rot="610800">
              <a:off x="7385760" y="5377320"/>
              <a:ext cx="1098720" cy="4590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2" name="Freeform 33"/>
            <p:cNvSpPr/>
            <p:nvPr/>
          </p:nvSpPr>
          <p:spPr>
            <a:xfrm rot="610800">
              <a:off x="7826760" y="5381280"/>
              <a:ext cx="690480" cy="475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3" name="Freeform 34"/>
            <p:cNvSpPr/>
            <p:nvPr/>
          </p:nvSpPr>
          <p:spPr>
            <a:xfrm rot="610800">
              <a:off x="7423200" y="5425560"/>
              <a:ext cx="1138320" cy="74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4" name="Freeform 35"/>
            <p:cNvSpPr/>
            <p:nvPr/>
          </p:nvSpPr>
          <p:spPr>
            <a:xfrm rot="610800">
              <a:off x="8394840" y="5506200"/>
              <a:ext cx="201600" cy="3603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5" name="Freeform 36"/>
            <p:cNvSpPr/>
            <p:nvPr/>
          </p:nvSpPr>
          <p:spPr>
            <a:xfrm rot="610800">
              <a:off x="7449120" y="5404680"/>
              <a:ext cx="960480" cy="4017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6" name="Freeform 37"/>
            <p:cNvSpPr/>
            <p:nvPr/>
          </p:nvSpPr>
          <p:spPr>
            <a:xfrm rot="610800">
              <a:off x="7389000" y="5724720"/>
              <a:ext cx="203400" cy="361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7" name="Freeform 38"/>
            <p:cNvSpPr/>
            <p:nvPr/>
          </p:nvSpPr>
          <p:spPr>
            <a:xfrm rot="610800">
              <a:off x="7577640" y="5784480"/>
              <a:ext cx="959040" cy="4032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8" name="Freeform 39"/>
            <p:cNvSpPr/>
            <p:nvPr/>
          </p:nvSpPr>
          <p:spPr>
            <a:xfrm rot="610800">
              <a:off x="7534080" y="5659560"/>
              <a:ext cx="317520" cy="40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9" name="Freeform 40"/>
            <p:cNvSpPr/>
            <p:nvPr/>
          </p:nvSpPr>
          <p:spPr>
            <a:xfrm rot="610800">
              <a:off x="7661520" y="5664960"/>
              <a:ext cx="199800" cy="358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0" name="Freeform 41"/>
            <p:cNvSpPr/>
            <p:nvPr/>
          </p:nvSpPr>
          <p:spPr>
            <a:xfrm rot="610800">
              <a:off x="7560000" y="5638680"/>
              <a:ext cx="138240" cy="63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1" name="Freeform 42"/>
            <p:cNvSpPr/>
            <p:nvPr/>
          </p:nvSpPr>
          <p:spPr>
            <a:xfrm rot="610800">
              <a:off x="7523640" y="5695200"/>
              <a:ext cx="200160" cy="362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2" name="Freeform 43"/>
            <p:cNvSpPr/>
            <p:nvPr/>
          </p:nvSpPr>
          <p:spPr>
            <a:xfrm rot="610800">
              <a:off x="7687080" y="6016320"/>
              <a:ext cx="137880" cy="669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3" name="Freeform 44"/>
            <p:cNvSpPr/>
            <p:nvPr/>
          </p:nvSpPr>
          <p:spPr>
            <a:xfrm rot="610800">
              <a:off x="7809120" y="5600160"/>
              <a:ext cx="314280" cy="40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4" name="Freeform 45"/>
            <p:cNvSpPr/>
            <p:nvPr/>
          </p:nvSpPr>
          <p:spPr>
            <a:xfrm rot="610800">
              <a:off x="7933320" y="5605920"/>
              <a:ext cx="200160" cy="3585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5" name="Freeform 46"/>
            <p:cNvSpPr/>
            <p:nvPr/>
          </p:nvSpPr>
          <p:spPr>
            <a:xfrm rot="610800">
              <a:off x="7833240" y="5580000"/>
              <a:ext cx="136440" cy="666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6" name="Freeform 47"/>
            <p:cNvSpPr/>
            <p:nvPr/>
          </p:nvSpPr>
          <p:spPr>
            <a:xfrm rot="610800">
              <a:off x="7796880" y="5639400"/>
              <a:ext cx="201600" cy="3585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7" name="Freeform 48"/>
            <p:cNvSpPr/>
            <p:nvPr/>
          </p:nvSpPr>
          <p:spPr>
            <a:xfrm rot="610800">
              <a:off x="7960680" y="5957640"/>
              <a:ext cx="136440" cy="666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8" name="Freeform 49"/>
            <p:cNvSpPr/>
            <p:nvPr/>
          </p:nvSpPr>
          <p:spPr>
            <a:xfrm rot="610800">
              <a:off x="7941240" y="5572800"/>
              <a:ext cx="317520" cy="40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9" name="Freeform 50"/>
            <p:cNvSpPr/>
            <p:nvPr/>
          </p:nvSpPr>
          <p:spPr>
            <a:xfrm rot="610800">
              <a:off x="8069400" y="5576760"/>
              <a:ext cx="200160" cy="3603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0" name="Freeform 51"/>
            <p:cNvSpPr/>
            <p:nvPr/>
          </p:nvSpPr>
          <p:spPr>
            <a:xfrm rot="610800">
              <a:off x="7967520" y="5550480"/>
              <a:ext cx="137880" cy="666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1" name="Freeform 52"/>
            <p:cNvSpPr/>
            <p:nvPr/>
          </p:nvSpPr>
          <p:spPr>
            <a:xfrm rot="610800">
              <a:off x="7931160" y="5610240"/>
              <a:ext cx="201600" cy="358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2" name="Freeform 53"/>
            <p:cNvSpPr/>
            <p:nvPr/>
          </p:nvSpPr>
          <p:spPr>
            <a:xfrm rot="610800">
              <a:off x="8096400" y="5930280"/>
              <a:ext cx="136440" cy="65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3" name="Freeform 54"/>
            <p:cNvSpPr/>
            <p:nvPr/>
          </p:nvSpPr>
          <p:spPr>
            <a:xfrm rot="610800">
              <a:off x="8076960" y="5545800"/>
              <a:ext cx="318960" cy="40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4" name="Freeform 55"/>
            <p:cNvSpPr/>
            <p:nvPr/>
          </p:nvSpPr>
          <p:spPr>
            <a:xfrm rot="610800">
              <a:off x="8205120" y="5549760"/>
              <a:ext cx="201600" cy="3603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5" name="Freeform 56"/>
            <p:cNvSpPr/>
            <p:nvPr/>
          </p:nvSpPr>
          <p:spPr>
            <a:xfrm rot="610800">
              <a:off x="8102880" y="5523480"/>
              <a:ext cx="138240" cy="666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6" name="Freeform 57"/>
            <p:cNvSpPr/>
            <p:nvPr/>
          </p:nvSpPr>
          <p:spPr>
            <a:xfrm rot="610800">
              <a:off x="8066520" y="5582880"/>
              <a:ext cx="201600" cy="3585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7" name="Freeform 58"/>
            <p:cNvSpPr/>
            <p:nvPr/>
          </p:nvSpPr>
          <p:spPr>
            <a:xfrm rot="610800">
              <a:off x="8232120" y="5902920"/>
              <a:ext cx="138240" cy="64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8" name="Freeform 59"/>
            <p:cNvSpPr/>
            <p:nvPr/>
          </p:nvSpPr>
          <p:spPr>
            <a:xfrm rot="610800">
              <a:off x="7179120" y="5690880"/>
              <a:ext cx="1614600" cy="774720"/>
            </a:xfrm>
            <a:prstGeom prst="pie">
              <a:avLst/>
            </a:prstGeom>
            <a:solidFill>
              <a:srgbClr val="ffb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9" name="Freeform 60"/>
            <p:cNvSpPr/>
            <p:nvPr/>
          </p:nvSpPr>
          <p:spPr>
            <a:xfrm rot="610800">
              <a:off x="8757000" y="5825880"/>
              <a:ext cx="8892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0" name="Freeform 61"/>
            <p:cNvSpPr/>
            <p:nvPr/>
          </p:nvSpPr>
          <p:spPr>
            <a:xfrm rot="610800">
              <a:off x="7185960" y="5678640"/>
              <a:ext cx="1548000" cy="64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1" name="Freeform 62"/>
            <p:cNvSpPr/>
            <p:nvPr/>
          </p:nvSpPr>
          <p:spPr>
            <a:xfrm rot="610800">
              <a:off x="7128360" y="6181920"/>
              <a:ext cx="8748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2" name="Freeform 63"/>
            <p:cNvSpPr/>
            <p:nvPr/>
          </p:nvSpPr>
          <p:spPr>
            <a:xfrm rot="610800">
              <a:off x="7239240" y="5829120"/>
              <a:ext cx="1549440" cy="64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3" name="Freeform 64"/>
            <p:cNvSpPr/>
            <p:nvPr/>
          </p:nvSpPr>
          <p:spPr>
            <a:xfrm rot="610800">
              <a:off x="6948360" y="5928120"/>
              <a:ext cx="399960" cy="64800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4" name="Freeform 65"/>
            <p:cNvSpPr/>
            <p:nvPr/>
          </p:nvSpPr>
          <p:spPr>
            <a:xfrm rot="610800">
              <a:off x="6968160" y="5893920"/>
              <a:ext cx="92160" cy="39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5" name="Freeform 66"/>
            <p:cNvSpPr/>
            <p:nvPr/>
          </p:nvSpPr>
          <p:spPr>
            <a:xfrm rot="610800">
              <a:off x="6986160" y="6311160"/>
              <a:ext cx="333360" cy="27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6" name="Freeform 67"/>
            <p:cNvSpPr/>
            <p:nvPr/>
          </p:nvSpPr>
          <p:spPr>
            <a:xfrm rot="610800">
              <a:off x="6994800" y="5924880"/>
              <a:ext cx="360360" cy="65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7" name="Freeform 68"/>
            <p:cNvSpPr/>
            <p:nvPr/>
          </p:nvSpPr>
          <p:spPr>
            <a:xfrm rot="610800">
              <a:off x="7509240" y="4811040"/>
              <a:ext cx="189000" cy="405000"/>
            </a:xfrm>
            <a:prstGeom prst="pie">
              <a:avLst/>
            </a:prstGeom>
            <a:solidFill>
              <a:srgbClr val="b24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8" name="Freeform 69"/>
            <p:cNvSpPr/>
            <p:nvPr/>
          </p:nvSpPr>
          <p:spPr>
            <a:xfrm rot="610800">
              <a:off x="7616160" y="5203800"/>
              <a:ext cx="540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9" name="Freeform 70"/>
            <p:cNvSpPr/>
            <p:nvPr/>
          </p:nvSpPr>
          <p:spPr>
            <a:xfrm rot="610800">
              <a:off x="7548840" y="4807440"/>
              <a:ext cx="158760" cy="39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0" name="Freeform 71"/>
            <p:cNvSpPr/>
            <p:nvPr/>
          </p:nvSpPr>
          <p:spPr>
            <a:xfrm rot="610800">
              <a:off x="7538760" y="4793040"/>
              <a:ext cx="5220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1" name="Freeform 72"/>
            <p:cNvSpPr/>
            <p:nvPr/>
          </p:nvSpPr>
          <p:spPr>
            <a:xfrm rot="610800">
              <a:off x="7501680" y="4821480"/>
              <a:ext cx="158760" cy="39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2" name="Freeform 73"/>
            <p:cNvSpPr/>
            <p:nvPr/>
          </p:nvSpPr>
          <p:spPr>
            <a:xfrm rot="610800">
              <a:off x="7405920" y="4829760"/>
              <a:ext cx="189000" cy="406440"/>
            </a:xfrm>
            <a:prstGeom prst="pie">
              <a:avLst/>
            </a:prstGeom>
            <a:solidFill>
              <a:srgbClr val="b24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3" name="Freeform 74"/>
            <p:cNvSpPr/>
            <p:nvPr/>
          </p:nvSpPr>
          <p:spPr>
            <a:xfrm rot="610800">
              <a:off x="7511400" y="5222520"/>
              <a:ext cx="5580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4" name="Freeform 75"/>
            <p:cNvSpPr/>
            <p:nvPr/>
          </p:nvSpPr>
          <p:spPr>
            <a:xfrm rot="610800">
              <a:off x="7445160" y="4827600"/>
              <a:ext cx="158760" cy="39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5" name="Freeform 76"/>
            <p:cNvSpPr/>
            <p:nvPr/>
          </p:nvSpPr>
          <p:spPr>
            <a:xfrm rot="610800">
              <a:off x="7434720" y="4813200"/>
              <a:ext cx="525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6" name="Freeform 77"/>
            <p:cNvSpPr/>
            <p:nvPr/>
          </p:nvSpPr>
          <p:spPr>
            <a:xfrm rot="610800">
              <a:off x="7397640" y="4841280"/>
              <a:ext cx="157320" cy="39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7" name="Freeform 78"/>
            <p:cNvSpPr/>
            <p:nvPr/>
          </p:nvSpPr>
          <p:spPr>
            <a:xfrm rot="610800">
              <a:off x="7565040" y="4552920"/>
              <a:ext cx="685800" cy="212760"/>
            </a:xfrm>
            <a:prstGeom prst="pie">
              <a:avLst/>
            </a:prstGeom>
            <a:solidFill>
              <a:srgbClr val="b24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8" name="Freeform 79"/>
            <p:cNvSpPr/>
            <p:nvPr/>
          </p:nvSpPr>
          <p:spPr>
            <a:xfrm rot="610800">
              <a:off x="8243640" y="4607640"/>
              <a:ext cx="2376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9" name="Freeform 80"/>
            <p:cNvSpPr/>
            <p:nvPr/>
          </p:nvSpPr>
          <p:spPr>
            <a:xfrm rot="610800">
              <a:off x="7563600" y="4545720"/>
              <a:ext cx="6825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0" name="Freeform 81"/>
            <p:cNvSpPr/>
            <p:nvPr/>
          </p:nvSpPr>
          <p:spPr>
            <a:xfrm rot="610800">
              <a:off x="7549200" y="4655520"/>
              <a:ext cx="2520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1" name="Freeform 82"/>
            <p:cNvSpPr/>
            <p:nvPr/>
          </p:nvSpPr>
          <p:spPr>
            <a:xfrm rot="610800">
              <a:off x="7570800" y="4595400"/>
              <a:ext cx="6825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2" name="Freeform 83"/>
            <p:cNvSpPr/>
            <p:nvPr/>
          </p:nvSpPr>
          <p:spPr>
            <a:xfrm rot="610800">
              <a:off x="7572240" y="4659120"/>
              <a:ext cx="685800" cy="212760"/>
            </a:xfrm>
            <a:prstGeom prst="pie">
              <a:avLst/>
            </a:prstGeom>
            <a:solidFill>
              <a:srgbClr val="b24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3" name="Freeform 84"/>
            <p:cNvSpPr/>
            <p:nvPr/>
          </p:nvSpPr>
          <p:spPr>
            <a:xfrm rot="610800">
              <a:off x="8250480" y="4713480"/>
              <a:ext cx="2412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4" name="Freeform 85"/>
            <p:cNvSpPr/>
            <p:nvPr/>
          </p:nvSpPr>
          <p:spPr>
            <a:xfrm rot="610800">
              <a:off x="7570080" y="4651560"/>
              <a:ext cx="6825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5" name="Freeform 86"/>
            <p:cNvSpPr/>
            <p:nvPr/>
          </p:nvSpPr>
          <p:spPr>
            <a:xfrm rot="610800">
              <a:off x="7556040" y="4761360"/>
              <a:ext cx="2376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6" name="Freeform 87"/>
            <p:cNvSpPr/>
            <p:nvPr/>
          </p:nvSpPr>
          <p:spPr>
            <a:xfrm rot="610800">
              <a:off x="7577280" y="4699440"/>
              <a:ext cx="682920" cy="17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7" name="Freeform 88"/>
            <p:cNvSpPr/>
            <p:nvPr/>
          </p:nvSpPr>
          <p:spPr>
            <a:xfrm rot="610800">
              <a:off x="7390080" y="4630680"/>
              <a:ext cx="230040" cy="230400"/>
            </a:xfrm>
            <a:prstGeom prst="pie">
              <a:avLst/>
            </a:prstGeom>
            <a:solidFill>
              <a:srgbClr val="c17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8" name="Freeform 89"/>
            <p:cNvSpPr/>
            <p:nvPr/>
          </p:nvSpPr>
          <p:spPr>
            <a:xfrm rot="610800">
              <a:off x="7492320" y="4756320"/>
              <a:ext cx="12384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9" name="Freeform 90"/>
            <p:cNvSpPr/>
            <p:nvPr/>
          </p:nvSpPr>
          <p:spPr>
            <a:xfrm rot="610800">
              <a:off x="7513920" y="4634280"/>
              <a:ext cx="12384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0" name="Freeform 91"/>
            <p:cNvSpPr/>
            <p:nvPr/>
          </p:nvSpPr>
          <p:spPr>
            <a:xfrm rot="610800">
              <a:off x="7393680" y="4612680"/>
              <a:ext cx="12204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1" name="Freeform 92"/>
            <p:cNvSpPr/>
            <p:nvPr/>
          </p:nvSpPr>
          <p:spPr>
            <a:xfrm rot="610800">
              <a:off x="7372080" y="4734720"/>
              <a:ext cx="12204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2" name="Freeform 93"/>
            <p:cNvSpPr/>
            <p:nvPr/>
          </p:nvSpPr>
          <p:spPr>
            <a:xfrm rot="610800">
              <a:off x="8222400" y="4588560"/>
              <a:ext cx="128880" cy="227160"/>
            </a:xfrm>
            <a:prstGeom prst="pie">
              <a:avLst/>
            </a:prstGeom>
            <a:solidFill>
              <a:srgbClr val="c17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3" name="Freeform 94"/>
            <p:cNvSpPr/>
            <p:nvPr/>
          </p:nvSpPr>
          <p:spPr>
            <a:xfrm rot="610800">
              <a:off x="8242920" y="4689720"/>
              <a:ext cx="10476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4" name="Freeform 95"/>
            <p:cNvSpPr/>
            <p:nvPr/>
          </p:nvSpPr>
          <p:spPr>
            <a:xfrm rot="610800">
              <a:off x="8228160" y="4583880"/>
              <a:ext cx="14112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5" name="Freeform 96"/>
            <p:cNvSpPr/>
            <p:nvPr/>
          </p:nvSpPr>
          <p:spPr>
            <a:xfrm rot="610800">
              <a:off x="8216280" y="4579920"/>
              <a:ext cx="4284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6" name="Freeform 97"/>
            <p:cNvSpPr/>
            <p:nvPr/>
          </p:nvSpPr>
          <p:spPr>
            <a:xfrm rot="610800">
              <a:off x="8057880" y="4626720"/>
              <a:ext cx="565200" cy="549000"/>
            </a:xfrm>
            <a:prstGeom prst="pie">
              <a:avLst/>
            </a:prstGeom>
            <a:solidFill>
              <a:srgbClr val="d19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7" name="Freeform 98"/>
            <p:cNvSpPr/>
            <p:nvPr/>
          </p:nvSpPr>
          <p:spPr>
            <a:xfrm rot="610800">
              <a:off x="8281080" y="5144040"/>
              <a:ext cx="30168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8" name="Freeform 99"/>
            <p:cNvSpPr/>
            <p:nvPr/>
          </p:nvSpPr>
          <p:spPr>
            <a:xfrm rot="610800">
              <a:off x="8473680" y="4886640"/>
              <a:ext cx="136440" cy="28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9" name="Freeform 100"/>
            <p:cNvSpPr/>
            <p:nvPr/>
          </p:nvSpPr>
          <p:spPr>
            <a:xfrm rot="610800">
              <a:off x="8515080" y="4701960"/>
              <a:ext cx="17640" cy="18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0" name="Freeform 101"/>
            <p:cNvSpPr/>
            <p:nvPr/>
          </p:nvSpPr>
          <p:spPr>
            <a:xfrm rot="610800">
              <a:off x="8448480" y="4648320"/>
              <a:ext cx="10296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1" name="Freeform 102"/>
            <p:cNvSpPr/>
            <p:nvPr/>
          </p:nvSpPr>
          <p:spPr>
            <a:xfrm rot="610800">
              <a:off x="8350200" y="4626360"/>
              <a:ext cx="10800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2" name="Freeform 103"/>
            <p:cNvSpPr/>
            <p:nvPr/>
          </p:nvSpPr>
          <p:spPr>
            <a:xfrm rot="610800">
              <a:off x="8280360" y="4640040"/>
              <a:ext cx="6696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3" name="Freeform 104"/>
            <p:cNvSpPr/>
            <p:nvPr/>
          </p:nvSpPr>
          <p:spPr>
            <a:xfrm rot="610800">
              <a:off x="8048880" y="4779720"/>
              <a:ext cx="211320" cy="23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4" name="Freeform 105"/>
            <p:cNvSpPr/>
            <p:nvPr/>
          </p:nvSpPr>
          <p:spPr>
            <a:xfrm rot="610800">
              <a:off x="8017560" y="5014800"/>
              <a:ext cx="28260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5" name="Freeform 106"/>
            <p:cNvSpPr/>
            <p:nvPr/>
          </p:nvSpPr>
          <p:spPr>
            <a:xfrm rot="610800">
              <a:off x="7448400" y="4691160"/>
              <a:ext cx="112680" cy="1112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6" name="Freeform 107"/>
            <p:cNvSpPr/>
            <p:nvPr/>
          </p:nvSpPr>
          <p:spPr>
            <a:xfrm rot="610800">
              <a:off x="7497720" y="4751640"/>
              <a:ext cx="651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7" name="Freeform 108"/>
            <p:cNvSpPr/>
            <p:nvPr/>
          </p:nvSpPr>
          <p:spPr>
            <a:xfrm rot="610800">
              <a:off x="7509240" y="4689000"/>
              <a:ext cx="6516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8" name="Freeform 109"/>
            <p:cNvSpPr/>
            <p:nvPr/>
          </p:nvSpPr>
          <p:spPr>
            <a:xfrm rot="610800">
              <a:off x="7446960" y="4677840"/>
              <a:ext cx="6336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9" name="Freeform 110"/>
            <p:cNvSpPr/>
            <p:nvPr/>
          </p:nvSpPr>
          <p:spPr>
            <a:xfrm rot="610800">
              <a:off x="7435440" y="4740480"/>
              <a:ext cx="633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0" name="Freeform 111"/>
            <p:cNvSpPr/>
            <p:nvPr/>
          </p:nvSpPr>
          <p:spPr>
            <a:xfrm rot="610800">
              <a:off x="8430480" y="4600800"/>
              <a:ext cx="54000" cy="889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1" name="Freeform 112"/>
            <p:cNvSpPr/>
            <p:nvPr/>
          </p:nvSpPr>
          <p:spPr>
            <a:xfrm rot="610800">
              <a:off x="8465400" y="4604400"/>
              <a:ext cx="270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2" name="Freeform 113"/>
            <p:cNvSpPr/>
            <p:nvPr/>
          </p:nvSpPr>
          <p:spPr>
            <a:xfrm rot="610800">
              <a:off x="8444160" y="4595400"/>
              <a:ext cx="4788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3" name="Freeform 114"/>
            <p:cNvSpPr/>
            <p:nvPr/>
          </p:nvSpPr>
          <p:spPr>
            <a:xfrm rot="610800">
              <a:off x="8424360" y="4597200"/>
              <a:ext cx="270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4" name="Freeform 115"/>
            <p:cNvSpPr/>
            <p:nvPr/>
          </p:nvSpPr>
          <p:spPr>
            <a:xfrm rot="610800">
              <a:off x="8423640" y="4675680"/>
              <a:ext cx="4752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5" name="Freeform 116"/>
            <p:cNvSpPr/>
            <p:nvPr/>
          </p:nvSpPr>
          <p:spPr>
            <a:xfrm rot="610800">
              <a:off x="7857360" y="5477760"/>
              <a:ext cx="684360" cy="806400"/>
            </a:xfrm>
            <a:prstGeom prst="pie">
              <a:avLst/>
            </a:prstGeom>
            <a:solidFill>
              <a:srgbClr val="7f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6" name="Freeform 117"/>
            <p:cNvSpPr/>
            <p:nvPr/>
          </p:nvSpPr>
          <p:spPr>
            <a:xfrm rot="610800">
              <a:off x="8304120" y="5911560"/>
              <a:ext cx="206280" cy="40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7" name="Freeform 118"/>
            <p:cNvSpPr/>
            <p:nvPr/>
          </p:nvSpPr>
          <p:spPr>
            <a:xfrm rot="610800">
              <a:off x="7889760" y="6066360"/>
              <a:ext cx="40176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8" name="Freeform 119"/>
            <p:cNvSpPr/>
            <p:nvPr/>
          </p:nvSpPr>
          <p:spPr>
            <a:xfrm rot="610800">
              <a:off x="7855560" y="5832000"/>
              <a:ext cx="8604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9" name="Freeform 120"/>
            <p:cNvSpPr/>
            <p:nvPr/>
          </p:nvSpPr>
          <p:spPr>
            <a:xfrm rot="610800">
              <a:off x="7888320" y="5450040"/>
              <a:ext cx="204480" cy="40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0" name="Freeform 121"/>
            <p:cNvSpPr/>
            <p:nvPr/>
          </p:nvSpPr>
          <p:spPr>
            <a:xfrm rot="610800">
              <a:off x="8105760" y="5485680"/>
              <a:ext cx="399960" cy="21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1" name="Freeform 122"/>
            <p:cNvSpPr/>
            <p:nvPr/>
          </p:nvSpPr>
          <p:spPr>
            <a:xfrm rot="610800">
              <a:off x="8453880" y="5726880"/>
              <a:ext cx="88920" cy="20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2" name="Freeform 123"/>
            <p:cNvSpPr/>
            <p:nvPr/>
          </p:nvSpPr>
          <p:spPr>
            <a:xfrm rot="610800">
              <a:off x="7366680" y="6034320"/>
              <a:ext cx="347400" cy="281160"/>
            </a:xfrm>
            <a:prstGeom prst="pie">
              <a:avLst/>
            </a:prstGeom>
            <a:solidFill>
              <a:srgbClr val="7f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3" name="Freeform 124"/>
            <p:cNvSpPr/>
            <p:nvPr/>
          </p:nvSpPr>
          <p:spPr>
            <a:xfrm rot="610800">
              <a:off x="7527600" y="6042960"/>
              <a:ext cx="193680" cy="28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4" name="Freeform 125"/>
            <p:cNvSpPr/>
            <p:nvPr/>
          </p:nvSpPr>
          <p:spPr>
            <a:xfrm rot="610800">
              <a:off x="7359840" y="6010920"/>
              <a:ext cx="169560" cy="29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5" name="Freeform 126"/>
            <p:cNvSpPr/>
            <p:nvPr/>
          </p:nvSpPr>
          <p:spPr>
            <a:xfrm rot="610800">
              <a:off x="7341480" y="6305760"/>
              <a:ext cx="35532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6" name="Freeform 127"/>
            <p:cNvSpPr/>
            <p:nvPr/>
          </p:nvSpPr>
          <p:spPr>
            <a:xfrm rot="610800">
              <a:off x="7697880" y="6198480"/>
              <a:ext cx="1065240" cy="471600"/>
            </a:xfrm>
            <a:prstGeom prst="pie">
              <a:avLst/>
            </a:prstGeom>
            <a:solidFill>
              <a:srgbClr val="66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7" name="Freeform 128"/>
            <p:cNvSpPr/>
            <p:nvPr/>
          </p:nvSpPr>
          <p:spPr>
            <a:xfrm rot="610800">
              <a:off x="7657920" y="6638400"/>
              <a:ext cx="83664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8" name="Freeform 129"/>
            <p:cNvSpPr/>
            <p:nvPr/>
          </p:nvSpPr>
          <p:spPr>
            <a:xfrm rot="610800">
              <a:off x="8499240" y="6497640"/>
              <a:ext cx="244440" cy="25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9" name="Freeform 130"/>
            <p:cNvSpPr/>
            <p:nvPr/>
          </p:nvSpPr>
          <p:spPr>
            <a:xfrm rot="610800">
              <a:off x="8755560" y="6432840"/>
              <a:ext cx="1584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0" name="Freeform 131"/>
            <p:cNvSpPr/>
            <p:nvPr/>
          </p:nvSpPr>
          <p:spPr>
            <a:xfrm rot="610800">
              <a:off x="8396280" y="6253560"/>
              <a:ext cx="39708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1" name="Freeform 132"/>
            <p:cNvSpPr/>
            <p:nvPr/>
          </p:nvSpPr>
          <p:spPr>
            <a:xfrm rot="610800">
              <a:off x="7915680" y="6198840"/>
              <a:ext cx="48420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2" name="Freeform 133"/>
            <p:cNvSpPr/>
            <p:nvPr/>
          </p:nvSpPr>
          <p:spPr>
            <a:xfrm rot="610800">
              <a:off x="7679520" y="6308640"/>
              <a:ext cx="208080" cy="29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3" name="Freeform 134"/>
            <p:cNvSpPr/>
            <p:nvPr/>
          </p:nvSpPr>
          <p:spPr>
            <a:xfrm rot="610800">
              <a:off x="7321680" y="6311160"/>
              <a:ext cx="347400" cy="228600"/>
            </a:xfrm>
            <a:prstGeom prst="pie">
              <a:avLst/>
            </a:prstGeom>
            <a:solidFill>
              <a:srgbClr val="66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4" name="Freeform 135"/>
            <p:cNvSpPr/>
            <p:nvPr/>
          </p:nvSpPr>
          <p:spPr>
            <a:xfrm rot="610800">
              <a:off x="7315560" y="6280560"/>
              <a:ext cx="15840" cy="23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5" name="Freeform 136"/>
            <p:cNvSpPr/>
            <p:nvPr/>
          </p:nvSpPr>
          <p:spPr>
            <a:xfrm rot="610800">
              <a:off x="7301160" y="6530760"/>
              <a:ext cx="35532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6" name="Freeform 137"/>
            <p:cNvSpPr/>
            <p:nvPr/>
          </p:nvSpPr>
          <p:spPr>
            <a:xfrm rot="610800">
              <a:off x="7659000" y="6333840"/>
              <a:ext cx="15840" cy="23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7" name="Freeform 138"/>
            <p:cNvSpPr/>
            <p:nvPr/>
          </p:nvSpPr>
          <p:spPr>
            <a:xfrm rot="610800">
              <a:off x="7333560" y="6304320"/>
              <a:ext cx="35532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s related to the equipment design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971800" y="1905120"/>
            <a:ext cx="61722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40000"/>
              </a:lnSpc>
              <a:spcBef>
                <a:spcPts val="16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hands should be relieved of all work that can be done more advantageously by a jig, a fixture,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 a foot-operated devic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40000"/>
              </a:lnSpc>
              <a:spcBef>
                <a:spcPts val="16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wo or more tools should b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bined whenever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40000"/>
              </a:lnSpc>
              <a:spcBef>
                <a:spcPts val="16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ols and materials should be pre-positioned whenever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320" name="Object 4" descr=""/>
          <p:cNvPicPr/>
          <p:nvPr/>
        </p:nvPicPr>
        <p:blipFill>
          <a:blip r:embed="rId1"/>
          <a:stretch/>
        </p:blipFill>
        <p:spPr>
          <a:xfrm>
            <a:off x="838080" y="4208400"/>
            <a:ext cx="1752840" cy="1735200"/>
          </a:xfrm>
          <a:prstGeom prst="rect">
            <a:avLst/>
          </a:prstGeom>
          <a:ln w="0">
            <a:noFill/>
          </a:ln>
        </p:spPr>
      </p:pic>
      <p:pic>
        <p:nvPicPr>
          <p:cNvPr id="321" name="Object 5" descr=""/>
          <p:cNvPicPr/>
          <p:nvPr/>
        </p:nvPicPr>
        <p:blipFill>
          <a:blip r:embed="rId2"/>
          <a:stretch/>
        </p:blipFill>
        <p:spPr>
          <a:xfrm>
            <a:off x="533520" y="2306520"/>
            <a:ext cx="160020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s related to the equipment design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600200"/>
            <a:ext cx="7010280" cy="46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30000"/>
              </a:lnSpc>
              <a:spcBef>
                <a:spcPts val="22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ere each finger performs some specific movement, such as in typewriting, the load should be distributed in accordance with the inherent capacities of the fingers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22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vers, hand wheels, and other controls should be located in such positions that the operator can manipulate them with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least change in body position and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ith the greatest speed and eas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324" name="Object 4" descr=""/>
          <p:cNvPicPr/>
          <p:nvPr/>
        </p:nvPicPr>
        <p:blipFill>
          <a:blip r:embed="rId1"/>
          <a:stretch/>
        </p:blipFill>
        <p:spPr>
          <a:xfrm>
            <a:off x="7216920" y="4648320"/>
            <a:ext cx="1788840" cy="1904760"/>
          </a:xfrm>
          <a:prstGeom prst="rect">
            <a:avLst/>
          </a:prstGeom>
          <a:ln w="0">
            <a:noFill/>
          </a:ln>
        </p:spPr>
      </p:pic>
      <p:pic>
        <p:nvPicPr>
          <p:cNvPr id="325" name="Object 5" descr=""/>
          <p:cNvPicPr/>
          <p:nvPr/>
        </p:nvPicPr>
        <p:blipFill>
          <a:blip r:embed="rId2"/>
          <a:stretch/>
        </p:blipFill>
        <p:spPr>
          <a:xfrm>
            <a:off x="7086600" y="1981080"/>
            <a:ext cx="1919160" cy="189252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6">
            <a:hlinkClick r:id="rId3" action="ppaction://hlinksldjump"/>
          </p:cNvPr>
          <p:cNvSpPr/>
          <p:nvPr/>
        </p:nvSpPr>
        <p:spPr>
          <a:xfrm>
            <a:off x="76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Impact"/>
              </a:rPr>
              <a:t>Therbilg Analysis Checkpoints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8" name="AutoShape 3">
            <a:hlinkClick r:id="rId1" action="ppaction://hlinksldjump"/>
          </p:cNvPr>
          <p:cNvSpPr/>
          <p:nvPr/>
        </p:nvSpPr>
        <p:spPr>
          <a:xfrm>
            <a:off x="8229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2"/>
          <p:cNvSpPr txBox="1"/>
          <p:nvPr/>
        </p:nvSpPr>
        <p:spPr>
          <a:xfrm rot="21571200">
            <a:off x="609120" y="533520"/>
            <a:ext cx="8155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30000"/>
                </a:gradFill>
                <a:latin typeface="Arial"/>
              </a:rPr>
              <a:t>Proposed Method Implementation</a:t>
            </a:r>
            <a:endParaRPr b="1" lang="en-US" sz="4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30000"/>
              </a:gradFill>
              <a:latin typeface="Arial"/>
              <a:ea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533520" y="205740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- Benefit Ratio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er involvement in method chang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5867280" y="4495680"/>
            <a:ext cx="2895840" cy="1295640"/>
          </a:xfrm>
          <a:prstGeom prst="cloudCallout">
            <a:avLst>
              <a:gd name="adj1" fmla="val -52629"/>
              <a:gd name="adj2" fmla="val -92157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Change Resistanc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AutoShape 6"/>
          <p:cNvSpPr/>
          <p:nvPr/>
        </p:nvSpPr>
        <p:spPr>
          <a:xfrm>
            <a:off x="1371600" y="4800600"/>
            <a:ext cx="2895480" cy="1295280"/>
          </a:xfrm>
          <a:prstGeom prst="cloudCallout">
            <a:avLst>
              <a:gd name="adj1" fmla="val 35032"/>
              <a:gd name="adj2" fmla="val -111763"/>
            </a:avLst>
          </a:prstGeom>
          <a:gradFill rotWithShape="0">
            <a:gsLst>
              <a:gs pos="0">
                <a:srgbClr val="ff6699"/>
              </a:gs>
              <a:gs pos="50000">
                <a:srgbClr val="ffffff"/>
              </a:gs>
              <a:gs pos="100000">
                <a:srgbClr val="ff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Hawthorne effec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2100"/>
              </a:spcBef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Cross functional Cooperation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5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Planning and Control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5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5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Quality Inspec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15000"/>
              </a:lnSpc>
              <a:spcBef>
                <a:spcPts val="2100"/>
              </a:spcBef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Laws and Regulation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55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55000"/>
              </a:lnSpc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Labor Relation</a:t>
            </a: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15000"/>
              </a:lnSpc>
              <a:spcBef>
                <a:spcPts val="2100"/>
              </a:spcBef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Quality/Productivity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4" name="WordArt 1027"/>
          <p:cNvSpPr txBox="1"/>
          <p:nvPr/>
        </p:nvSpPr>
        <p:spPr>
          <a:xfrm rot="21571200">
            <a:off x="533520" y="456840"/>
            <a:ext cx="518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30000"/>
                </a:gradFill>
                <a:effectLst>
                  <a:outerShdw dist="77353" dir="21037522" blurRad="0" rotWithShape="0">
                    <a:srgbClr val="996633"/>
                  </a:outerShdw>
                </a:effectLst>
                <a:latin typeface="Browallia New"/>
              </a:rPr>
              <a:t>Precautions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30000"/>
              </a:gradFill>
              <a:effectLst>
                <a:outerShdw dist="77353" dir="21037522" blurRad="0" rotWithShape="0">
                  <a:srgbClr val="996633"/>
                </a:outerShdw>
              </a:effectLst>
              <a:latin typeface="Browallia New"/>
              <a:ea typeface="Browallia New"/>
            </a:endParaRPr>
          </a:p>
        </p:txBody>
      </p:sp>
      <p:pic>
        <p:nvPicPr>
          <p:cNvPr id="335" name="Object 1028" descr=""/>
          <p:cNvPicPr/>
          <p:nvPr/>
        </p:nvPicPr>
        <p:blipFill>
          <a:blip r:embed="rId1"/>
          <a:stretch/>
        </p:blipFill>
        <p:spPr>
          <a:xfrm>
            <a:off x="5410080" y="4800600"/>
            <a:ext cx="3467160" cy="185580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029"/>
          <p:cNvGrpSpPr/>
          <p:nvPr/>
        </p:nvGrpSpPr>
        <p:grpSpPr>
          <a:xfrm>
            <a:off x="6705720" y="609480"/>
            <a:ext cx="1828800" cy="2077920"/>
            <a:chOff x="6705720" y="609480"/>
            <a:chExt cx="1828800" cy="2077920"/>
          </a:xfrm>
        </p:grpSpPr>
        <p:sp>
          <p:nvSpPr>
            <p:cNvPr id="337" name="Freeform 1030"/>
            <p:cNvSpPr/>
            <p:nvPr/>
          </p:nvSpPr>
          <p:spPr>
            <a:xfrm>
              <a:off x="7347240" y="625320"/>
              <a:ext cx="915840" cy="236520"/>
            </a:xfrm>
            <a:prstGeom prst="pie">
              <a:avLst/>
            </a:prstGeom>
            <a:solidFill>
              <a:srgbClr val="ffe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8" name="Freeform 1031"/>
            <p:cNvSpPr/>
            <p:nvPr/>
          </p:nvSpPr>
          <p:spPr>
            <a:xfrm>
              <a:off x="7544160" y="610920"/>
              <a:ext cx="34740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9" name="Freeform 1032"/>
            <p:cNvSpPr/>
            <p:nvPr/>
          </p:nvSpPr>
          <p:spPr>
            <a:xfrm>
              <a:off x="7888680" y="620640"/>
              <a:ext cx="5076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0" name="Freeform 1033"/>
            <p:cNvSpPr/>
            <p:nvPr/>
          </p:nvSpPr>
          <p:spPr>
            <a:xfrm>
              <a:off x="7893360" y="623520"/>
              <a:ext cx="4932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1" name="Freeform 1034"/>
            <p:cNvSpPr/>
            <p:nvPr/>
          </p:nvSpPr>
          <p:spPr>
            <a:xfrm>
              <a:off x="7923600" y="609480"/>
              <a:ext cx="355320" cy="5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2" name="Freeform 1035"/>
            <p:cNvSpPr/>
            <p:nvPr/>
          </p:nvSpPr>
          <p:spPr>
            <a:xfrm>
              <a:off x="8028360" y="639360"/>
              <a:ext cx="244440" cy="20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3" name="Freeform 1036"/>
            <p:cNvSpPr/>
            <p:nvPr/>
          </p:nvSpPr>
          <p:spPr>
            <a:xfrm>
              <a:off x="7479000" y="812520"/>
              <a:ext cx="56340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4" name="Freeform 1037"/>
            <p:cNvSpPr/>
            <p:nvPr/>
          </p:nvSpPr>
          <p:spPr>
            <a:xfrm>
              <a:off x="7371000" y="715680"/>
              <a:ext cx="131760" cy="15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5" name="Freeform 1038"/>
            <p:cNvSpPr/>
            <p:nvPr/>
          </p:nvSpPr>
          <p:spPr>
            <a:xfrm>
              <a:off x="7332840" y="655560"/>
              <a:ext cx="6840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6" name="Freeform 1039"/>
            <p:cNvSpPr/>
            <p:nvPr/>
          </p:nvSpPr>
          <p:spPr>
            <a:xfrm>
              <a:off x="7344000" y="636480"/>
              <a:ext cx="20160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7" name="Freeform 1040"/>
            <p:cNvSpPr/>
            <p:nvPr/>
          </p:nvSpPr>
          <p:spPr>
            <a:xfrm>
              <a:off x="7517160" y="653760"/>
              <a:ext cx="6984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8" name="Freeform 1041"/>
            <p:cNvSpPr/>
            <p:nvPr/>
          </p:nvSpPr>
          <p:spPr>
            <a:xfrm>
              <a:off x="7533000" y="695160"/>
              <a:ext cx="54000" cy="9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9" name="Freeform 1042"/>
            <p:cNvSpPr/>
            <p:nvPr/>
          </p:nvSpPr>
          <p:spPr>
            <a:xfrm>
              <a:off x="7529760" y="644400"/>
              <a:ext cx="38160" cy="5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0" name="Freeform 1043"/>
            <p:cNvSpPr/>
            <p:nvPr/>
          </p:nvSpPr>
          <p:spPr>
            <a:xfrm>
              <a:off x="7223400" y="806040"/>
              <a:ext cx="912600" cy="588960"/>
            </a:xfrm>
            <a:prstGeom prst="pie">
              <a:avLst/>
            </a:prstGeom>
            <a:solidFill>
              <a:srgbClr val="ad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1" name="Freeform 1044"/>
            <p:cNvSpPr/>
            <p:nvPr/>
          </p:nvSpPr>
          <p:spPr>
            <a:xfrm>
              <a:off x="8047440" y="917280"/>
              <a:ext cx="3780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2" name="Freeform 1045"/>
            <p:cNvSpPr/>
            <p:nvPr/>
          </p:nvSpPr>
          <p:spPr>
            <a:xfrm>
              <a:off x="8047440" y="933120"/>
              <a:ext cx="37800" cy="41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3" name="Freeform 1046"/>
            <p:cNvSpPr/>
            <p:nvPr/>
          </p:nvSpPr>
          <p:spPr>
            <a:xfrm>
              <a:off x="7826760" y="1317240"/>
              <a:ext cx="247680" cy="8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4" name="Freeform 1047"/>
            <p:cNvSpPr/>
            <p:nvPr/>
          </p:nvSpPr>
          <p:spPr>
            <a:xfrm>
              <a:off x="7467840" y="1319040"/>
              <a:ext cx="378000" cy="9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5" name="Freeform 1048"/>
            <p:cNvSpPr/>
            <p:nvPr/>
          </p:nvSpPr>
          <p:spPr>
            <a:xfrm>
              <a:off x="7216920" y="1319040"/>
              <a:ext cx="26676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6" name="Freeform 1049"/>
            <p:cNvSpPr/>
            <p:nvPr/>
          </p:nvSpPr>
          <p:spPr>
            <a:xfrm>
              <a:off x="7207560" y="822240"/>
              <a:ext cx="42840" cy="51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7" name="Freeform 1050"/>
            <p:cNvSpPr/>
            <p:nvPr/>
          </p:nvSpPr>
          <p:spPr>
            <a:xfrm>
              <a:off x="7223400" y="790200"/>
              <a:ext cx="85392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8" name="Freeform 1051"/>
            <p:cNvSpPr/>
            <p:nvPr/>
          </p:nvSpPr>
          <p:spPr>
            <a:xfrm>
              <a:off x="8066160" y="792000"/>
              <a:ext cx="82800" cy="15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9" name="Freeform 1052"/>
            <p:cNvSpPr/>
            <p:nvPr/>
          </p:nvSpPr>
          <p:spPr>
            <a:xfrm>
              <a:off x="8050320" y="919080"/>
              <a:ext cx="1584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0" name="Freeform 1053"/>
            <p:cNvSpPr/>
            <p:nvPr/>
          </p:nvSpPr>
          <p:spPr>
            <a:xfrm>
              <a:off x="7742520" y="928440"/>
              <a:ext cx="412560" cy="46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1" name="Freeform 1054"/>
            <p:cNvSpPr/>
            <p:nvPr/>
          </p:nvSpPr>
          <p:spPr>
            <a:xfrm>
              <a:off x="8060040" y="914040"/>
              <a:ext cx="2700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2" name="Freeform 1055"/>
            <p:cNvSpPr/>
            <p:nvPr/>
          </p:nvSpPr>
          <p:spPr>
            <a:xfrm>
              <a:off x="8066160" y="917280"/>
              <a:ext cx="7488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3" name="Freeform 1056"/>
            <p:cNvSpPr/>
            <p:nvPr/>
          </p:nvSpPr>
          <p:spPr>
            <a:xfrm>
              <a:off x="8093160" y="1034640"/>
              <a:ext cx="7812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4" name="Freeform 1057"/>
            <p:cNvSpPr/>
            <p:nvPr/>
          </p:nvSpPr>
          <p:spPr>
            <a:xfrm>
              <a:off x="8050320" y="1161720"/>
              <a:ext cx="10188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5" name="Freeform 1058"/>
            <p:cNvSpPr/>
            <p:nvPr/>
          </p:nvSpPr>
          <p:spPr>
            <a:xfrm>
              <a:off x="8023320" y="1284120"/>
              <a:ext cx="81000" cy="12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6" name="Freeform 1059"/>
            <p:cNvSpPr/>
            <p:nvPr/>
          </p:nvSpPr>
          <p:spPr>
            <a:xfrm>
              <a:off x="7853760" y="1379160"/>
              <a:ext cx="1886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7" name="Freeform 1060"/>
            <p:cNvSpPr/>
            <p:nvPr/>
          </p:nvSpPr>
          <p:spPr>
            <a:xfrm>
              <a:off x="7834680" y="1374480"/>
              <a:ext cx="46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8" name="Freeform 1061"/>
            <p:cNvSpPr/>
            <p:nvPr/>
          </p:nvSpPr>
          <p:spPr>
            <a:xfrm>
              <a:off x="7807680" y="1277640"/>
              <a:ext cx="6660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9" name="Freeform 1062"/>
            <p:cNvSpPr/>
            <p:nvPr/>
          </p:nvSpPr>
          <p:spPr>
            <a:xfrm>
              <a:off x="7785360" y="1277640"/>
              <a:ext cx="73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0" name="Freeform 1063"/>
            <p:cNvSpPr/>
            <p:nvPr/>
          </p:nvSpPr>
          <p:spPr>
            <a:xfrm>
              <a:off x="7745760" y="1161720"/>
              <a:ext cx="73080" cy="14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1" name="Freeform 1064"/>
            <p:cNvSpPr/>
            <p:nvPr/>
          </p:nvSpPr>
          <p:spPr>
            <a:xfrm>
              <a:off x="7745760" y="1161720"/>
              <a:ext cx="666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2" name="Freeform 1065"/>
            <p:cNvSpPr/>
            <p:nvPr/>
          </p:nvSpPr>
          <p:spPr>
            <a:xfrm>
              <a:off x="7723440" y="1036440"/>
              <a:ext cx="10008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3" name="Freeform 1066"/>
            <p:cNvSpPr/>
            <p:nvPr/>
          </p:nvSpPr>
          <p:spPr>
            <a:xfrm>
              <a:off x="7764840" y="917280"/>
              <a:ext cx="63360" cy="14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4" name="Freeform 1067"/>
            <p:cNvSpPr/>
            <p:nvPr/>
          </p:nvSpPr>
          <p:spPr>
            <a:xfrm>
              <a:off x="7828200" y="912600"/>
              <a:ext cx="24912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5" name="Freeform 1068"/>
            <p:cNvSpPr/>
            <p:nvPr/>
          </p:nvSpPr>
          <p:spPr>
            <a:xfrm>
              <a:off x="8077320" y="912600"/>
              <a:ext cx="158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6" name="Rectangle 1069"/>
            <p:cNvSpPr/>
            <p:nvPr/>
          </p:nvSpPr>
          <p:spPr>
            <a:xfrm>
              <a:off x="7064640" y="742680"/>
              <a:ext cx="2062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7" name="Freeform 1070"/>
            <p:cNvSpPr/>
            <p:nvPr/>
          </p:nvSpPr>
          <p:spPr>
            <a:xfrm>
              <a:off x="7251840" y="726840"/>
              <a:ext cx="38160" cy="66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8" name="Freeform 1071"/>
            <p:cNvSpPr/>
            <p:nvPr/>
          </p:nvSpPr>
          <p:spPr>
            <a:xfrm>
              <a:off x="7047000" y="726840"/>
              <a:ext cx="22392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9" name="Freeform 1072"/>
            <p:cNvSpPr/>
            <p:nvPr/>
          </p:nvSpPr>
          <p:spPr>
            <a:xfrm>
              <a:off x="7047000" y="742680"/>
              <a:ext cx="36720" cy="66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0" name="Freeform 1073"/>
            <p:cNvSpPr/>
            <p:nvPr/>
          </p:nvSpPr>
          <p:spPr>
            <a:xfrm>
              <a:off x="7064640" y="1374480"/>
              <a:ext cx="2253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1" name="Rectangle 1074"/>
            <p:cNvSpPr/>
            <p:nvPr/>
          </p:nvSpPr>
          <p:spPr>
            <a:xfrm>
              <a:off x="6724800" y="717480"/>
              <a:ext cx="371520" cy="688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2" name="Freeform 1075"/>
            <p:cNvSpPr/>
            <p:nvPr/>
          </p:nvSpPr>
          <p:spPr>
            <a:xfrm>
              <a:off x="7077240" y="701280"/>
              <a:ext cx="34920" cy="70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3" name="Freeform 1076"/>
            <p:cNvSpPr/>
            <p:nvPr/>
          </p:nvSpPr>
          <p:spPr>
            <a:xfrm>
              <a:off x="6705720" y="701280"/>
              <a:ext cx="39060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4" name="Freeform 1077"/>
            <p:cNvSpPr/>
            <p:nvPr/>
          </p:nvSpPr>
          <p:spPr>
            <a:xfrm>
              <a:off x="6705720" y="717480"/>
              <a:ext cx="38160" cy="70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5" name="Freeform 1078"/>
            <p:cNvSpPr/>
            <p:nvPr/>
          </p:nvSpPr>
          <p:spPr>
            <a:xfrm>
              <a:off x="6724800" y="1393560"/>
              <a:ext cx="3873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6" name="Freeform 1079"/>
            <p:cNvSpPr/>
            <p:nvPr/>
          </p:nvSpPr>
          <p:spPr>
            <a:xfrm>
              <a:off x="7544160" y="1095120"/>
              <a:ext cx="158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7" name="Freeform 1080"/>
            <p:cNvSpPr/>
            <p:nvPr/>
          </p:nvSpPr>
          <p:spPr>
            <a:xfrm>
              <a:off x="7560000" y="1095120"/>
              <a:ext cx="10152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8" name="Freeform 1081"/>
            <p:cNvSpPr/>
            <p:nvPr/>
          </p:nvSpPr>
          <p:spPr>
            <a:xfrm>
              <a:off x="7661520" y="1095120"/>
              <a:ext cx="1908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9" name="Freeform 1082"/>
            <p:cNvSpPr/>
            <p:nvPr/>
          </p:nvSpPr>
          <p:spPr>
            <a:xfrm>
              <a:off x="7058160" y="990360"/>
              <a:ext cx="1457280" cy="1508040"/>
            </a:xfrm>
            <a:prstGeom prst="pie">
              <a:avLst/>
            </a:prstGeom>
            <a:solidFill>
              <a:srgbClr val="ffe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0" name="Freeform 1083"/>
            <p:cNvSpPr/>
            <p:nvPr/>
          </p:nvSpPr>
          <p:spPr>
            <a:xfrm>
              <a:off x="7047000" y="1958760"/>
              <a:ext cx="722520" cy="55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1" name="Freeform 1084"/>
            <p:cNvSpPr/>
            <p:nvPr/>
          </p:nvSpPr>
          <p:spPr>
            <a:xfrm>
              <a:off x="7769520" y="2142720"/>
              <a:ext cx="708120" cy="37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2" name="Freeform 1085"/>
            <p:cNvSpPr/>
            <p:nvPr/>
          </p:nvSpPr>
          <p:spPr>
            <a:xfrm>
              <a:off x="8087040" y="1404720"/>
              <a:ext cx="447480" cy="75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3" name="Freeform 1086"/>
            <p:cNvSpPr/>
            <p:nvPr/>
          </p:nvSpPr>
          <p:spPr>
            <a:xfrm>
              <a:off x="8020440" y="1339560"/>
              <a:ext cx="806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4" name="Freeform 1087"/>
            <p:cNvSpPr/>
            <p:nvPr/>
          </p:nvSpPr>
          <p:spPr>
            <a:xfrm>
              <a:off x="7758360" y="979200"/>
              <a:ext cx="289080" cy="37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5" name="Freeform 1088"/>
            <p:cNvSpPr/>
            <p:nvPr/>
          </p:nvSpPr>
          <p:spPr>
            <a:xfrm>
              <a:off x="7661520" y="981000"/>
              <a:ext cx="12708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6" name="Freeform 1089"/>
            <p:cNvSpPr/>
            <p:nvPr/>
          </p:nvSpPr>
          <p:spPr>
            <a:xfrm>
              <a:off x="7656840" y="1099800"/>
              <a:ext cx="381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7" name="Freeform 1090"/>
            <p:cNvSpPr/>
            <p:nvPr/>
          </p:nvSpPr>
          <p:spPr>
            <a:xfrm>
              <a:off x="7494840" y="1130040"/>
              <a:ext cx="196920" cy="2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8" name="Freeform 1091"/>
            <p:cNvSpPr/>
            <p:nvPr/>
          </p:nvSpPr>
          <p:spPr>
            <a:xfrm>
              <a:off x="7045560" y="1349280"/>
              <a:ext cx="476280" cy="60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9" name="Freeform 1092"/>
            <p:cNvSpPr/>
            <p:nvPr/>
          </p:nvSpPr>
          <p:spPr>
            <a:xfrm>
              <a:off x="7742520" y="928440"/>
              <a:ext cx="412560" cy="465120"/>
            </a:xfrm>
            <a:prstGeom prst="pie">
              <a:avLst/>
            </a:prstGeom>
            <a:solidFill>
              <a:srgbClr val="ad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0" name="Freeform 1093"/>
            <p:cNvSpPr/>
            <p:nvPr/>
          </p:nvSpPr>
          <p:spPr>
            <a:xfrm>
              <a:off x="8060040" y="914040"/>
              <a:ext cx="2700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1" name="Freeform 1094"/>
            <p:cNvSpPr/>
            <p:nvPr/>
          </p:nvSpPr>
          <p:spPr>
            <a:xfrm>
              <a:off x="8066160" y="917280"/>
              <a:ext cx="7488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2" name="Freeform 1095"/>
            <p:cNvSpPr/>
            <p:nvPr/>
          </p:nvSpPr>
          <p:spPr>
            <a:xfrm>
              <a:off x="8093160" y="1034640"/>
              <a:ext cx="7812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3" name="Freeform 1096"/>
            <p:cNvSpPr/>
            <p:nvPr/>
          </p:nvSpPr>
          <p:spPr>
            <a:xfrm>
              <a:off x="8050320" y="1161720"/>
              <a:ext cx="10188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4" name="Freeform 1097"/>
            <p:cNvSpPr/>
            <p:nvPr/>
          </p:nvSpPr>
          <p:spPr>
            <a:xfrm>
              <a:off x="8023320" y="1284120"/>
              <a:ext cx="81000" cy="12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5" name="Freeform 1098"/>
            <p:cNvSpPr/>
            <p:nvPr/>
          </p:nvSpPr>
          <p:spPr>
            <a:xfrm>
              <a:off x="7853760" y="1379160"/>
              <a:ext cx="1886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6" name="Freeform 1099"/>
            <p:cNvSpPr/>
            <p:nvPr/>
          </p:nvSpPr>
          <p:spPr>
            <a:xfrm>
              <a:off x="7834680" y="1374480"/>
              <a:ext cx="46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7" name="Freeform 1100"/>
            <p:cNvSpPr/>
            <p:nvPr/>
          </p:nvSpPr>
          <p:spPr>
            <a:xfrm>
              <a:off x="7807680" y="1277640"/>
              <a:ext cx="6660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8" name="Freeform 1101"/>
            <p:cNvSpPr/>
            <p:nvPr/>
          </p:nvSpPr>
          <p:spPr>
            <a:xfrm>
              <a:off x="7785360" y="1277640"/>
              <a:ext cx="73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9" name="Freeform 1102"/>
            <p:cNvSpPr/>
            <p:nvPr/>
          </p:nvSpPr>
          <p:spPr>
            <a:xfrm>
              <a:off x="7745760" y="1161720"/>
              <a:ext cx="73080" cy="14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0" name="Freeform 1103"/>
            <p:cNvSpPr/>
            <p:nvPr/>
          </p:nvSpPr>
          <p:spPr>
            <a:xfrm>
              <a:off x="7745760" y="1161720"/>
              <a:ext cx="666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1" name="Freeform 1104"/>
            <p:cNvSpPr/>
            <p:nvPr/>
          </p:nvSpPr>
          <p:spPr>
            <a:xfrm>
              <a:off x="7723440" y="1036440"/>
              <a:ext cx="10008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2" name="Freeform 1105"/>
            <p:cNvSpPr/>
            <p:nvPr/>
          </p:nvSpPr>
          <p:spPr>
            <a:xfrm>
              <a:off x="7764840" y="917280"/>
              <a:ext cx="63360" cy="14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3" name="Freeform 1106"/>
            <p:cNvSpPr/>
            <p:nvPr/>
          </p:nvSpPr>
          <p:spPr>
            <a:xfrm>
              <a:off x="7828200" y="912600"/>
              <a:ext cx="24912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4" name="Freeform 1107"/>
            <p:cNvSpPr/>
            <p:nvPr/>
          </p:nvSpPr>
          <p:spPr>
            <a:xfrm>
              <a:off x="8077320" y="912600"/>
              <a:ext cx="158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5" name="Freeform 1108"/>
            <p:cNvSpPr/>
            <p:nvPr/>
          </p:nvSpPr>
          <p:spPr>
            <a:xfrm>
              <a:off x="7796520" y="1033200"/>
              <a:ext cx="1908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6" name="Freeform 1109"/>
            <p:cNvSpPr/>
            <p:nvPr/>
          </p:nvSpPr>
          <p:spPr>
            <a:xfrm>
              <a:off x="7815600" y="1033200"/>
              <a:ext cx="28548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7" name="Freeform 1110"/>
            <p:cNvSpPr/>
            <p:nvPr/>
          </p:nvSpPr>
          <p:spPr>
            <a:xfrm>
              <a:off x="8101080" y="1033200"/>
              <a:ext cx="1908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8" name="Freeform 1111"/>
            <p:cNvSpPr/>
            <p:nvPr/>
          </p:nvSpPr>
          <p:spPr>
            <a:xfrm>
              <a:off x="7793280" y="1160280"/>
              <a:ext cx="1908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9" name="Freeform 1112"/>
            <p:cNvSpPr/>
            <p:nvPr/>
          </p:nvSpPr>
          <p:spPr>
            <a:xfrm>
              <a:off x="7812360" y="1160280"/>
              <a:ext cx="2919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0" name="Freeform 1113"/>
            <p:cNvSpPr/>
            <p:nvPr/>
          </p:nvSpPr>
          <p:spPr>
            <a:xfrm>
              <a:off x="8104320" y="1160280"/>
              <a:ext cx="176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1" name="Freeform 1114"/>
            <p:cNvSpPr/>
            <p:nvPr/>
          </p:nvSpPr>
          <p:spPr>
            <a:xfrm>
              <a:off x="7850520" y="1277640"/>
              <a:ext cx="19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2" name="Freeform 1115"/>
            <p:cNvSpPr/>
            <p:nvPr/>
          </p:nvSpPr>
          <p:spPr>
            <a:xfrm>
              <a:off x="7869600" y="1277640"/>
              <a:ext cx="1936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3" name="Freeform 1116"/>
            <p:cNvSpPr/>
            <p:nvPr/>
          </p:nvSpPr>
          <p:spPr>
            <a:xfrm>
              <a:off x="8063280" y="1277640"/>
              <a:ext cx="19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424" name="Object 1117" descr=""/>
            <p:cNvPicPr/>
            <p:nvPr/>
          </p:nvPicPr>
          <p:blipFill>
            <a:blip r:embed="rId2"/>
            <a:stretch/>
          </p:blipFill>
          <p:spPr>
            <a:xfrm>
              <a:off x="7010640" y="1447560"/>
              <a:ext cx="1523880" cy="123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75960" y="22096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3300"/>
                </a:solidFill>
                <a:latin typeface="Arial"/>
              </a:rPr>
              <a:t>Expenses &amp; Benefit of Study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6" name="Rectangle 1027"/>
          <p:cNvSpPr/>
          <p:nvPr/>
        </p:nvSpPr>
        <p:spPr>
          <a:xfrm>
            <a:off x="1828800" y="31240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ff"/>
                </a:solidFill>
                <a:latin typeface="Arial"/>
              </a:rPr>
              <a:t>Extensiveness of task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ff"/>
                </a:solidFill>
                <a:latin typeface="Arial"/>
              </a:rPr>
              <a:t>Life of the task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ff"/>
                </a:solidFill>
                <a:latin typeface="Arial"/>
              </a:rPr>
              <a:t>Labor consideration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ff"/>
                </a:solidFill>
                <a:latin typeface="Arial"/>
              </a:rPr>
              <a:t>Investment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7" name="Rectangle 1028"/>
          <p:cNvSpPr/>
          <p:nvPr/>
        </p:nvSpPr>
        <p:spPr>
          <a:xfrm>
            <a:off x="206280" y="125280"/>
            <a:ext cx="1398600" cy="139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8" name="Freeform 1029"/>
          <p:cNvSpPr/>
          <p:nvPr/>
        </p:nvSpPr>
        <p:spPr>
          <a:xfrm>
            <a:off x="152280" y="125280"/>
            <a:ext cx="1663920" cy="1387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9" name="WordArt 1030"/>
          <p:cNvSpPr txBox="1"/>
          <p:nvPr/>
        </p:nvSpPr>
        <p:spPr>
          <a:xfrm rot="21571200">
            <a:off x="1294920" y="685800"/>
            <a:ext cx="7012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5430000"/>
                </a:gradFill>
                <a:effectLst>
                  <a:outerShdw dist="64600" dir="20925162" blurRad="0" rotWithShape="0">
                    <a:srgbClr val="3333cc"/>
                  </a:outerShdw>
                </a:effectLst>
                <a:latin typeface="Browallia New"/>
              </a:rPr>
              <a:t>Economy of the Study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5430000"/>
              </a:gradFill>
              <a:effectLst>
                <a:outerShdw dist="64600" dir="20925162" blurRad="0" rotWithShape="0">
                  <a:srgbClr val="3333cc"/>
                </a:outerShdw>
              </a:effectLst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3"/>
          <p:cNvSpPr txBox="1"/>
          <p:nvPr/>
        </p:nvSpPr>
        <p:spPr>
          <a:xfrm>
            <a:off x="762120" y="533520"/>
            <a:ext cx="7619760" cy="9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0760" dir="0" blurRad="0" rotWithShape="0">
                    <a:srgbClr val="0033cc"/>
                  </a:outerShdw>
                </a:effectLst>
                <a:latin typeface="Browallia New"/>
              </a:rPr>
              <a:t>Motion Study Techniques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0760" dir="0" blurRad="0" rotWithShape="0">
                  <a:srgbClr val="0033cc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ecff"/>
                </a:solidFill>
                <a:latin typeface="Arial"/>
              </a:rPr>
              <a:t>Process Analysi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ecff"/>
                </a:solidFill>
                <a:latin typeface="Arial"/>
              </a:rPr>
              <a:t>Operation Analysi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Motion Pictures (</a:t>
            </a: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Stop-Action pictures)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Film Analysi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Fundamental Hand Motions (Therblig Analysis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Principles of Motion Economy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Standard Job Conditions: Factory Ac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 rot="21571200">
            <a:off x="1752480" y="457200"/>
            <a:ext cx="480384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30000"/>
                </a:gradFill>
                <a:effectLst>
                  <a:outerShdw dist="63360" dir="10800000" blurRad="0" rotWithShape="0">
                    <a:srgbClr val="3333cc"/>
                  </a:outerShdw>
                </a:effectLst>
                <a:latin typeface="Impact"/>
              </a:rPr>
              <a:t>Film Analysis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30000"/>
              </a:gradFill>
              <a:effectLst>
                <a:outerShdw dist="63360" dir="10800000" blurRad="0" rotWithShape="0">
                  <a:srgbClr val="3333cc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04920" y="1828800"/>
            <a:ext cx="8610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1000" indent="-1521000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Concept:  Record movement of a working operator with an appropriate film technique, </a:t>
            </a:r>
            <a:br>
              <a:rPr sz="2400"/>
            </a:b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then list all observed motions and time employed into an analysis sheet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752480" y="3962520"/>
            <a:ext cx="723924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Arial"/>
              </a:rPr>
              <a:t>Film Production: Methods &amp; equipment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84120" indent="-384120">
              <a:lnSpc>
                <a:spcPct val="8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Micromo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4120" indent="-384120">
              <a:lnSpc>
                <a:spcPct val="8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Memomo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4120" indent="-384120">
              <a:lnSpc>
                <a:spcPct val="8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Cyclegraphic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4120" indent="-384120">
              <a:lnSpc>
                <a:spcPct val="8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Chronocyclegraphic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228600" y="228600"/>
            <a:ext cx="1213560" cy="1142640"/>
            <a:chOff x="228600" y="228600"/>
            <a:chExt cx="1213560" cy="1142640"/>
          </a:xfrm>
        </p:grpSpPr>
        <p:sp>
          <p:nvSpPr>
            <p:cNvPr id="60" name="Freeform 9"/>
            <p:cNvSpPr/>
            <p:nvPr/>
          </p:nvSpPr>
          <p:spPr>
            <a:xfrm>
              <a:off x="496440" y="518040"/>
              <a:ext cx="71640" cy="766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" name="Freeform 10"/>
            <p:cNvSpPr/>
            <p:nvPr/>
          </p:nvSpPr>
          <p:spPr>
            <a:xfrm>
              <a:off x="353160" y="361800"/>
              <a:ext cx="358560" cy="38592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" name="Freeform 11"/>
            <p:cNvSpPr/>
            <p:nvPr/>
          </p:nvSpPr>
          <p:spPr>
            <a:xfrm>
              <a:off x="362520" y="371880"/>
              <a:ext cx="339840" cy="3682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" name="Freeform 12"/>
            <p:cNvSpPr/>
            <p:nvPr/>
          </p:nvSpPr>
          <p:spPr>
            <a:xfrm>
              <a:off x="371520" y="381600"/>
              <a:ext cx="324000" cy="34884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>
              <a:off x="380880" y="393840"/>
              <a:ext cx="303120" cy="3268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390600" y="401760"/>
              <a:ext cx="284040" cy="3088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" name="Freeform 15"/>
            <p:cNvSpPr/>
            <p:nvPr/>
          </p:nvSpPr>
          <p:spPr>
            <a:xfrm>
              <a:off x="399240" y="411480"/>
              <a:ext cx="265680" cy="28944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" name="Freeform 16"/>
            <p:cNvSpPr/>
            <p:nvPr/>
          </p:nvSpPr>
          <p:spPr>
            <a:xfrm>
              <a:off x="408960" y="421560"/>
              <a:ext cx="249480" cy="26964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" name="Freeform 17"/>
            <p:cNvSpPr/>
            <p:nvPr/>
          </p:nvSpPr>
          <p:spPr>
            <a:xfrm>
              <a:off x="415800" y="431640"/>
              <a:ext cx="233280" cy="2494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" name="Freeform 18"/>
            <p:cNvSpPr/>
            <p:nvPr/>
          </p:nvSpPr>
          <p:spPr>
            <a:xfrm>
              <a:off x="425160" y="441000"/>
              <a:ext cx="214920" cy="2296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" name="Freeform 19"/>
            <p:cNvSpPr/>
            <p:nvPr/>
          </p:nvSpPr>
          <p:spPr>
            <a:xfrm>
              <a:off x="434160" y="451080"/>
              <a:ext cx="196560" cy="21024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" name="Freeform 20"/>
            <p:cNvSpPr/>
            <p:nvPr/>
          </p:nvSpPr>
          <p:spPr>
            <a:xfrm>
              <a:off x="443520" y="461160"/>
              <a:ext cx="178200" cy="19224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" name="Freeform 21"/>
            <p:cNvSpPr/>
            <p:nvPr/>
          </p:nvSpPr>
          <p:spPr>
            <a:xfrm>
              <a:off x="452880" y="470880"/>
              <a:ext cx="159120" cy="17316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" name="Freeform 22"/>
            <p:cNvSpPr/>
            <p:nvPr/>
          </p:nvSpPr>
          <p:spPr>
            <a:xfrm>
              <a:off x="461880" y="480960"/>
              <a:ext cx="140760" cy="15300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" name="Freeform 23"/>
            <p:cNvSpPr/>
            <p:nvPr/>
          </p:nvSpPr>
          <p:spPr>
            <a:xfrm>
              <a:off x="471240" y="488160"/>
              <a:ext cx="124560" cy="1360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" name="Freeform 24"/>
            <p:cNvSpPr/>
            <p:nvPr/>
          </p:nvSpPr>
          <p:spPr>
            <a:xfrm>
              <a:off x="478080" y="498240"/>
              <a:ext cx="108360" cy="11592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6" name="Freeform 25"/>
            <p:cNvSpPr/>
            <p:nvPr/>
          </p:nvSpPr>
          <p:spPr>
            <a:xfrm>
              <a:off x="487440" y="507960"/>
              <a:ext cx="90000" cy="964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7" name="Freeform 26"/>
            <p:cNvSpPr/>
            <p:nvPr/>
          </p:nvSpPr>
          <p:spPr>
            <a:xfrm>
              <a:off x="998280" y="408960"/>
              <a:ext cx="281880" cy="3016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" name="Freeform 27"/>
            <p:cNvSpPr/>
            <p:nvPr/>
          </p:nvSpPr>
          <p:spPr>
            <a:xfrm>
              <a:off x="1007640" y="416520"/>
              <a:ext cx="263520" cy="28440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" name="Freeform 28"/>
            <p:cNvSpPr/>
            <p:nvPr/>
          </p:nvSpPr>
          <p:spPr>
            <a:xfrm>
              <a:off x="1014480" y="426600"/>
              <a:ext cx="247320" cy="26676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" name="Freeform 29"/>
            <p:cNvSpPr/>
            <p:nvPr/>
          </p:nvSpPr>
          <p:spPr>
            <a:xfrm>
              <a:off x="1023840" y="433800"/>
              <a:ext cx="231120" cy="2494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" name="Freeform 30"/>
            <p:cNvSpPr/>
            <p:nvPr/>
          </p:nvSpPr>
          <p:spPr>
            <a:xfrm>
              <a:off x="1030680" y="443880"/>
              <a:ext cx="214920" cy="2296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" name="Freeform 31"/>
            <p:cNvSpPr/>
            <p:nvPr/>
          </p:nvSpPr>
          <p:spPr>
            <a:xfrm>
              <a:off x="1037520" y="451080"/>
              <a:ext cx="201240" cy="2152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" name="Freeform 32"/>
            <p:cNvSpPr/>
            <p:nvPr/>
          </p:nvSpPr>
          <p:spPr>
            <a:xfrm>
              <a:off x="1047240" y="461160"/>
              <a:ext cx="182160" cy="1972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" name="Freeform 33"/>
            <p:cNvSpPr/>
            <p:nvPr/>
          </p:nvSpPr>
          <p:spPr>
            <a:xfrm>
              <a:off x="1056600" y="468360"/>
              <a:ext cx="165960" cy="18036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" name="Freeform 34"/>
            <p:cNvSpPr/>
            <p:nvPr/>
          </p:nvSpPr>
          <p:spPr>
            <a:xfrm>
              <a:off x="1063440" y="475920"/>
              <a:ext cx="149760" cy="1630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" name="Freeform 35"/>
            <p:cNvSpPr/>
            <p:nvPr/>
          </p:nvSpPr>
          <p:spPr>
            <a:xfrm>
              <a:off x="1072440" y="486000"/>
              <a:ext cx="133920" cy="14580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" name="Freeform 36"/>
            <p:cNvSpPr/>
            <p:nvPr/>
          </p:nvSpPr>
          <p:spPr>
            <a:xfrm>
              <a:off x="1079640" y="493200"/>
              <a:ext cx="117720" cy="12816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" name="Freeform 37"/>
            <p:cNvSpPr/>
            <p:nvPr/>
          </p:nvSpPr>
          <p:spPr>
            <a:xfrm>
              <a:off x="1088640" y="502920"/>
              <a:ext cx="101520" cy="1090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9" name="Freeform 38"/>
            <p:cNvSpPr/>
            <p:nvPr/>
          </p:nvSpPr>
          <p:spPr>
            <a:xfrm>
              <a:off x="1095840" y="510480"/>
              <a:ext cx="87480" cy="9360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0" name="Freeform 39"/>
            <p:cNvSpPr/>
            <p:nvPr/>
          </p:nvSpPr>
          <p:spPr>
            <a:xfrm>
              <a:off x="1104840" y="520200"/>
              <a:ext cx="69120" cy="7452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1" name="Freeform 40"/>
            <p:cNvSpPr/>
            <p:nvPr/>
          </p:nvSpPr>
          <p:spPr>
            <a:xfrm>
              <a:off x="394560" y="673920"/>
              <a:ext cx="839520" cy="12600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" name="Freeform 41"/>
            <p:cNvSpPr/>
            <p:nvPr/>
          </p:nvSpPr>
          <p:spPr>
            <a:xfrm>
              <a:off x="494280" y="800280"/>
              <a:ext cx="946080" cy="570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" name="Freeform 42"/>
            <p:cNvSpPr/>
            <p:nvPr/>
          </p:nvSpPr>
          <p:spPr>
            <a:xfrm>
              <a:off x="228600" y="235800"/>
              <a:ext cx="605520" cy="648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" name="Freeform 43"/>
            <p:cNvSpPr/>
            <p:nvPr/>
          </p:nvSpPr>
          <p:spPr>
            <a:xfrm>
              <a:off x="838800" y="228600"/>
              <a:ext cx="603360" cy="657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 rot="21571200">
            <a:off x="456840" y="380520"/>
            <a:ext cx="4495680" cy="7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30000"/>
                </a:gradFill>
                <a:effectLst>
                  <a:outerShdw dist="63504" dir="19383909" blurRad="0" rotWithShape="0">
                    <a:srgbClr val="000000"/>
                  </a:outerShdw>
                </a:effectLst>
                <a:latin typeface="Impact"/>
              </a:rPr>
              <a:t>Film Analysis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30000"/>
              </a:gradFill>
              <a:effectLst>
                <a:outerShdw dist="63504" dir="19383909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52280" y="5715000"/>
            <a:ext cx="8610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30440" indent="-1630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Analysis:  Simultaneous motion cycle Chart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 SIMO chart 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04920" y="1523880"/>
            <a:ext cx="8610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Observer’s abilitie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e motions made by the operator’s right 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ft hand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ice what the fingers of each hand do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ct where one motion ends and another begin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dge the lengths of motion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imate times of the motion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5181480" y="533520"/>
            <a:ext cx="3200400" cy="1066680"/>
          </a:xfrm>
          <a:prstGeom prst="cloudCallout">
            <a:avLst>
              <a:gd name="adj1" fmla="val -69740"/>
              <a:gd name="adj2" fmla="val 58481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ion-minde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Impact"/>
              </a:rPr>
              <a:t>SIMO Chart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 rot="21571200">
            <a:off x="378000" y="463680"/>
            <a:ext cx="82310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ffffff"/>
                    </a:gs>
                    <a:gs pos="100000">
                      <a:srgbClr val="006600"/>
                    </a:gs>
                  </a:gsLst>
                  <a:lin ang="5430000"/>
                </a:gradFill>
                <a:effectLst>
                  <a:outerShdw dist="38160" dir="0" blurRad="0" rotWithShape="0">
                    <a:srgbClr val="ff0000"/>
                  </a:outerShdw>
                </a:effectLst>
                <a:latin typeface="Arial Narrow"/>
              </a:rPr>
              <a:t>Fundamental  Hand Motions :Therblig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50000">
                    <a:srgbClr val="ffffff"/>
                  </a:gs>
                  <a:gs pos="100000">
                    <a:srgbClr val="006600"/>
                  </a:gs>
                </a:gsLst>
                <a:lin ang="5430000"/>
              </a:gradFill>
              <a:effectLst>
                <a:outerShdw dist="38160" dir="0" blurRad="0" rotWithShape="0">
                  <a:srgbClr val="ff0000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28600" y="1905120"/>
            <a:ext cx="8763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Therblig: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The system of symbols that represent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every elementary of hand / arm and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eye movement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s of Therblig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880" y="426708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7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ons required for performing an opera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487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ons that tend to slow down type 1 mo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487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ons that do not perform an opera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8620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Transport empty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Grasp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Transport loaded (carry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Assembl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Disassembl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Release loa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Inspect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" name="WordArt 3"/>
          <p:cNvSpPr txBox="1"/>
          <p:nvPr/>
        </p:nvSpPr>
        <p:spPr>
          <a:xfrm rot="21571200">
            <a:off x="533160" y="533520"/>
            <a:ext cx="4116240" cy="15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30000"/>
                </a:gradFill>
                <a:effectLst>
                  <a:outerShdw dist="77353" dir="21037522" blurRad="0" rotWithShape="0">
                    <a:srgbClr val="996633"/>
                  </a:outerShdw>
                </a:effectLst>
                <a:latin typeface="Browallia New"/>
              </a:rPr>
              <a:t>Type 1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30000"/>
              </a:gradFill>
              <a:effectLst>
                <a:outerShdw dist="77353" dir="21037522" blurRad="0" rotWithShape="0">
                  <a:srgbClr val="996633"/>
                </a:outerShdw>
              </a:effectLst>
              <a:latin typeface="Browallia New"/>
              <a:ea typeface="Browallia New"/>
            </a:endParaRPr>
          </a:p>
        </p:txBody>
      </p:sp>
      <p:pic>
        <p:nvPicPr>
          <p:cNvPr id="105" name="Object 6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32004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657600" y="21337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Find*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Select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Plan (person thinking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Pre-position (set up)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7" name="WordArt 3"/>
          <p:cNvSpPr txBox="1"/>
          <p:nvPr/>
        </p:nvSpPr>
        <p:spPr>
          <a:xfrm rot="21571200">
            <a:off x="455760" y="539640"/>
            <a:ext cx="4268520" cy="15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30000"/>
                </a:gradFill>
                <a:effectLst>
                  <a:outerShdw dist="77353" dir="21037522" blurRad="0" rotWithShape="0">
                    <a:srgbClr val="996633"/>
                  </a:outerShdw>
                </a:effectLst>
                <a:latin typeface="Browallia New"/>
              </a:rPr>
              <a:t>Type 2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30000"/>
              </a:gradFill>
              <a:effectLst>
                <a:outerShdw dist="77353" dir="21037522" blurRad="0" rotWithShape="0">
                  <a:srgbClr val="996633"/>
                </a:outerShdw>
              </a:effectLst>
              <a:latin typeface="Browallia New"/>
              <a:ea typeface="Browallia New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380880" y="3257640"/>
            <a:ext cx="3276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16:38Z</dcterms:created>
  <dc:creator>OPEY A.</dc:creator>
  <dc:description/>
  <dc:language>en-US</dc:language>
  <cp:lastModifiedBy>user</cp:lastModifiedBy>
  <dcterms:modified xsi:type="dcterms:W3CDTF">2017-01-30T10:10:53Z</dcterms:modified>
  <cp:revision>22</cp:revision>
  <dc:subject/>
  <dc:title>No Slide Title</dc:title>
</cp:coreProperties>
</file>