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C84-B28E-4856-9FE2-5222E237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48D-6453-42F5-BE7A-909D9600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92B-9A8D-45B2-A9F5-7C61C13C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0FF-108B-4276-AB95-B151B679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3DED-1B6C-44EB-92C0-BEFA50AA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A801-58AD-4759-AC17-852BB99D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6A9C-61A3-410A-8BA9-AA45E5BE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8E21-6239-4663-AB31-9F39A83C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4E93-4957-4D11-9E00-37C071A9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E6FE-9A68-484F-97BF-B112A6A3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A98D-F3EA-4E90-BBDD-E0C940A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5D0-13EB-4D54-BB06-4F47E89E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4677-D376-4B89-B836-86CEFEF2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ABB5-C9EA-471A-8E0F-8494C14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9EA8-C2EE-4026-984A-4B93CEC6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1AD3-B3C8-4BF8-B38B-9CFD2716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6B7A-3048-415E-9E5E-6D02A52C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FCB-C22C-4DE7-B916-035C38D8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3D7-BF1B-4CCB-94FA-4AEB70B4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0DE-70CD-4AC9-A109-9B46A8A1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98D-A6BB-481D-8573-06F4D6BE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981-9420-46B3-A964-D8CAB17B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71E-1865-4A58-8CB1-7E020A2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F3D-2BDB-4B0A-B0B9-2103605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A7E0-7718-4588-8122-41EDB0EAE4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C3B6-3A74-4F5E-92DA-5FFCFCA21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Future of Trade Un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Picture 4" descr="j0285360"/>
          <p:cNvPicPr/>
          <p:nvPr/>
        </p:nvPicPr>
        <p:blipFill>
          <a:blip r:embed="rId1"/>
          <a:stretch/>
        </p:blipFill>
        <p:spPr>
          <a:xfrm>
            <a:off x="2971800" y="2590920"/>
            <a:ext cx="3581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hat is work stud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most powerful tools to in improving productivity is work stud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k study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atic examinations of the methods of carrying on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effective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et up standards of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ork study also aims at the follow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ying or modifying the methods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unnecessary or excess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s wasteful use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es to industrial safety by identifying hazardous work and developing safe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s down the time of performing a certain activ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terminolo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time in a Job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me taken by a worker or a machine to carry out an operation to produce a given quantity of certain produ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ork Ho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abor of one person for one h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Machine Ho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nning of the machine or plant for one h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work conten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irreducible minimum time theoretically required to produce one unit output. This is a perfect condition which is not achieved in most of the ca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233360" y="106200"/>
            <a:ext cx="5243760" cy="6735960"/>
            <a:chOff x="1233360" y="106200"/>
            <a:chExt cx="5243760" cy="6735960"/>
          </a:xfrm>
        </p:grpSpPr>
        <p:sp>
          <p:nvSpPr>
            <p:cNvPr id="113" name="AutoShape 5"/>
            <p:cNvSpPr/>
            <p:nvPr/>
          </p:nvSpPr>
          <p:spPr>
            <a:xfrm>
              <a:off x="1233360" y="106200"/>
              <a:ext cx="5243760" cy="65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4729320" y="608400"/>
              <a:ext cx="1419840" cy="1740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Basic work cont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inimum time required to perform one output)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729320" y="2456640"/>
              <a:ext cx="1419840" cy="81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asic content added by poor product design or material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Utiliza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4729320" y="3427920"/>
              <a:ext cx="1419840" cy="1740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Work content added by inefficient methods of manufacture or operation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+ Poor material handling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+Poor quality standards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oor inventory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4729320" y="5257440"/>
              <a:ext cx="1419840" cy="1126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efficient time due to human contribu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Like: Absenteeism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ad workmanship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Accidents etc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1888560" y="925560"/>
              <a:ext cx="360" cy="573552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1233360" y="208440"/>
              <a:ext cx="131076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Total Time of operation under existing conditions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2981160" y="2133000"/>
              <a:ext cx="360" cy="4709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418200" y="2769120"/>
              <a:ext cx="1201680" cy="3891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EFFECTIV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108000"/>
            <a:ext cx="58672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agement technique can reduce ineffective ti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143000" y="1143000"/>
            <a:ext cx="6477120" cy="5256360"/>
            <a:chOff x="1143000" y="1143000"/>
            <a:chExt cx="6477120" cy="5256360"/>
          </a:xfrm>
        </p:grpSpPr>
        <p:sp>
          <p:nvSpPr>
            <p:cNvPr id="127" name="AutoShape 5"/>
            <p:cNvSpPr/>
            <p:nvPr/>
          </p:nvSpPr>
          <p:spPr>
            <a:xfrm>
              <a:off x="1143000" y="1143000"/>
              <a:ext cx="647712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841560" y="1225080"/>
              <a:ext cx="2563560" cy="6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Basic work content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301920" y="1963800"/>
              <a:ext cx="37782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duct Developm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3301920" y="2374560"/>
              <a:ext cx="37782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per Material utiliza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3301920" y="2784960"/>
              <a:ext cx="3778200" cy="32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Quality control/ensure proper standards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301920" y="3196080"/>
              <a:ext cx="37782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etter layout &amp; process planning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3313800" y="360612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aterial handling/reduce time &amp; effor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3313800" y="401652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duction planning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3324960" y="4427280"/>
              <a:ext cx="375516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ethod study to reduce poor methods of work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6" name="Rectangle 14"/>
            <p:cNvSpPr/>
            <p:nvPr/>
          </p:nvSpPr>
          <p:spPr>
            <a:xfrm>
              <a:off x="3313800" y="483804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ventory control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3336120" y="5248800"/>
              <a:ext cx="37440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Ensure longer life and no stoppage of machinery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3313800" y="5588640"/>
              <a:ext cx="374364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Create satisfactory working environm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3336120" y="5935320"/>
              <a:ext cx="37440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raining,better working condi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2087280" y="1964160"/>
              <a:ext cx="360" cy="4270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547640" y="3688920"/>
              <a:ext cx="1079280" cy="657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Inefficient time totally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Eliminated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uman Factor in the application of work stud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ahoma"/>
              </a:rPr>
              <a:t>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 study of Maharshtra Scooters, Sata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Balanc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e0f2"/>
              </a:solidFill>
              <a:latin typeface="Tahoma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828800" y="2914560"/>
            <a:ext cx="52005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vind Shrouti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TION POSITIV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une,INDIA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mail: optionpositive@rediffmail.com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Picture 5" descr="j0301252"/>
          <p:cNvPicPr/>
          <p:nvPr/>
        </p:nvPicPr>
        <p:blipFill>
          <a:blip r:embed="rId1"/>
          <a:stretch/>
        </p:blipFill>
        <p:spPr>
          <a:xfrm>
            <a:off x="6934320" y="5292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6:47:03Z</dcterms:created>
  <dc:creator>user</dc:creator>
  <dc:description/>
  <dc:language>en-US</dc:language>
  <cp:lastModifiedBy>user</cp:lastModifiedBy>
  <dcterms:modified xsi:type="dcterms:W3CDTF">2017-01-23T07:10:59Z</dcterms:modified>
  <cp:revision>112</cp:revision>
  <dc:subject/>
  <dc:title>Slide 1</dc:title>
</cp:coreProperties>
</file>