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D3A-C9A6-478A-9EBE-23CCA975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121-06CD-4FA0-A692-EDAE7B34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E9A-FDE7-4852-BB6C-80F221F3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56A-F160-49A8-8182-D5B9FF60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D9CF-49F0-4CFE-B7C9-FFDB528E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7C5A-1156-4C9D-A11F-15805A8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7188-04DB-4A39-9BE6-A77191E8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05C9-70D4-4AF4-9FEE-947172D6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33D7-5B64-4449-98AE-8847C9E5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A6D3-F9B5-4023-9794-CFC1EEBF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422C-D717-45E4-B965-88F5713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A0D-7DEB-4725-8402-66BC4DAE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D020-96E7-407D-A759-4DE04C9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03F1-882A-4BAD-854C-C7EE516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C029-3775-4AAC-96ED-846E199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54BA-9DE1-4DB7-B17D-9AB3166E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3A14-F3DB-4BC2-BADD-0AEAB5A2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3581-74B9-45E4-81A9-E1BD81CF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DC89-B1C2-4738-A512-AFBC4031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71F2-214B-41D0-8F5A-C2C94210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EEEF-5F39-4A8F-8429-AA86AD5D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C87D-575D-4BF6-BB49-3CDD6070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9CC-F765-4501-B354-8690E7E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AC23-0ED8-43C6-B874-F5DAA09B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C80C-6FE7-45C3-9B77-1CC5517A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4150-3C34-4778-B31E-51E536D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BBE2-4282-4FBD-9806-B6A367E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C346D-CC24-4A27-83FE-65C59818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A5BA0-7BE6-40C8-B063-75B5BDE9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187D-61BD-4BD8-8E10-01DC3885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7A0F4-E1D9-4636-A43C-13006689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1D6A0-DB0E-4CB0-97FD-984B391F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1C90F-28EC-4B82-9DC3-37C406B4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1A9-4C3A-483F-849E-F469A59F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4F2F-2A34-4878-A4A6-295BFA57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FCE5-297C-4B16-8713-744CB598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2EE28-0BC9-4192-9E49-6B475D0E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2DE80-9452-435F-8B57-A4D7535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0E8CB-CD30-404E-80BC-BC25F0E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7491-B088-4103-8752-3CC8B54D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7FBE-1968-4696-AD2F-547B5F1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2299-F349-406D-AD42-DDDD0874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5A22C-7BE3-457F-BF94-4483CC19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8D28-88FD-4728-923E-9ED693B8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BE3-88A0-4848-8BE3-730043FC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FB08E-6C95-4917-B117-4BB427EC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3D172-5336-4E22-B3F8-D76E8995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D39A0-36D8-4A22-937A-8EE4189D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2D26A-6F40-424C-84AE-793D3104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40D4F-70B1-4632-8521-CD44A985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9335-6003-4A8B-962B-8A44BBB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02FD-B368-4F70-80FD-4CB5993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5D1FC-1E8B-4D7D-A71A-A54B217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8399D-6569-45D3-8941-70568954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619DC-0B01-4158-8B46-10B48298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F57-FCF2-4D6F-8F0F-C2E02982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D58E9-D454-495A-BCCE-BDC3F4DC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4CF3-6C61-47E6-B918-2E996062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9469-11C4-4492-BD5D-1F258E81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5CCD1-85FA-4F02-A5DD-35CEC639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C2A8A-AE7E-448B-B9EA-C0AE326E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2941C-D90E-49F7-A51D-F6321F1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29C0-006E-44D8-AE09-579CD772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E41A0-15F6-4EED-9B09-9D840073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130B-2060-4938-9EFE-F4BF486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1DDE8-A026-4DAD-BA28-A99E4F3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3B5-D748-44C0-AB36-C5EAC3F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87EA-E7D2-41B5-8C86-0F432FF3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FB699-D1A6-455C-A017-C96E2A75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E3D6-FFE4-4C47-92D4-105426DB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C892C-8A7C-4EC8-828C-3A98BC7F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D0AF1-55B1-46FA-9D26-866F8539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C498-ABD7-4433-A4F1-4653CFC4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2765E-A580-4206-A717-9B997F37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907C-1E17-44D9-8490-D40C6133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6E407-D704-4AD1-86EB-69D8004B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F22BD-CA30-4808-9357-497A5C1E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3A7-06FE-43BD-9386-AFAFF861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EE7F1-A53F-4CF9-8CAD-02D6D18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42AA2-75C9-418C-976D-959B3973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1693E-6E91-4055-8263-F64C88EC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7A421-CB0F-4987-882A-F80940CF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D009B-D159-418C-B32A-A881861F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14DE4-1D76-4C15-B8AC-C667C278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8EED-88BC-4CD5-A438-71759A5E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9A0BA-330E-48F3-AD06-C67E3DD6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1A0B3-AB32-433B-BD04-1FB3FC15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B7A85-B965-49E6-AB1D-491DD576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ACF-F968-4BC6-AB44-12611C8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7A7D7-7400-4380-8985-6E95D7B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5B733-5670-40CE-BDA0-34578ED5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EEEFB-E336-4054-B94B-DF6E6BF6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1C7E7-A4AC-405E-A2C1-41D4823B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885B2-7EA6-4DC2-ACC5-27816AE6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08303-E5AD-444E-869E-16B58A96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6519F-57C9-40E1-BCDB-E40F4B81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A38A-52F0-4E77-BBF3-EA906A1DCA4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8011-A435-4CA8-9D59-9418D9B65E7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1F66-4BBA-4D0C-9734-D9F78701C5F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929C-2D65-4E19-A6AD-4A349FA2ECE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B9B1-0798-4A51-A1D9-1E0B8ADD09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C147-6ED6-4DF9-B81F-EA1603EC3D5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CA74-852F-49CB-93C2-CDAEF9DF1F6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A810-E9B5-47A7-9EC2-67904C9E175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6439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starting a new facto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case of existing factory expan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oximity to marke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pply of raw materia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ransport faciliti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frastructure availabili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bour &amp; wag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aw &amp; Tax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itability of land &amp; clima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pporting industries &amp; servic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ommunity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+ attitud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ocial infrastruc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324000" y="-6480"/>
            <a:ext cx="836928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1.jpg"/>
          <p:cNvPicPr/>
          <p:nvPr/>
        </p:nvPicPr>
        <p:blipFill>
          <a:blip r:embed="rId2"/>
          <a:stretch/>
        </p:blipFill>
        <p:spPr>
          <a:xfrm>
            <a:off x="0" y="1066680"/>
            <a:ext cx="8763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:\plant location\3.jpg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1295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2.jpg"/>
          <p:cNvPicPr/>
          <p:nvPr/>
        </p:nvPicPr>
        <p:blipFill>
          <a:blip r:embed="rId2"/>
          <a:stretch/>
        </p:blipFill>
        <p:spPr>
          <a:xfrm>
            <a:off x="228600" y="137160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physical arrangement of production faciliti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ctimum arrangement of equipment; storage spae; material handling; all depart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t relationship between output;space &amp; manufacturing co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Stremline the flow of materi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Minimize the material hand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Effective utilisation of men;Equipment &amp; sp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Effective utilisation of cubic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.Provide safety &amp; cmf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TO worker- Reduce effort; minimizes accid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To manufacturing- minimize cycle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To production- Incre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To management- reduce labour cost, enhance plant productivity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15:40:13Z</dcterms:created>
  <dc:creator>Ganesh</dc:creator>
  <dc:description/>
  <dc:language>en-US</dc:language>
  <cp:lastModifiedBy>user</cp:lastModifiedBy>
  <dcterms:modified xsi:type="dcterms:W3CDTF">2017-03-13T04:44:49Z</dcterms:modified>
  <cp:revision>17</cp:revision>
  <dc:subject/>
  <dc:title>Slide 1</dc:title>
</cp:coreProperties>
</file>