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595-95F2-4797-ACCD-E0E032FF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8DA-8D9B-4979-85A4-EBF12B02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789-9995-4A42-BB85-95741C96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B54-34E7-4D61-8F14-86002538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5810-4654-4304-9093-71E8BF95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EB76-669F-4587-8CF9-9FD64761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FC85-BD5E-43E0-B1FE-91E9372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66AB-14B7-4136-982F-B572191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1315-457E-4AAF-9D6F-CCAFDEEB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F5A9-10AD-430D-BBB9-67A05B3D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FFA-A231-41DB-8D26-7A00A0B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09F-913C-4367-963F-4B307475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928-1047-42DE-9C72-305A43D6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C794-0702-4298-AD05-06E5307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A80C-428C-42FB-8E99-A14E35B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3748-38B8-4CB4-BA6B-592D41D0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6231-B9F5-4D32-A31E-F7F32D5B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486-D608-4494-B677-7361D9B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67E-8E90-4A4D-AD02-1A42079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707-E275-498C-A46E-33E196D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D01-FAE6-47A2-8056-9B8DF374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254-2238-40D1-824D-1D2765B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147-90E0-429A-AE3A-2C61805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693-01ED-4337-99B6-43E2B1C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707-8E1A-42D8-9D69-BD1067DAEB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008-351E-4F52-AA9F-C87CCFA83C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Future of Trade Un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Picture 4" descr="j0285360"/>
          <p:cNvPicPr/>
          <p:nvPr/>
        </p:nvPicPr>
        <p:blipFill>
          <a:blip r:embed="rId1"/>
          <a:stretch/>
        </p:blipFill>
        <p:spPr>
          <a:xfrm>
            <a:off x="2971800" y="2590920"/>
            <a:ext cx="3581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hat is work stud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most powerful tools to in improving productivity is work stud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k study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atic examinations of the methods of carrying on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mprove effective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et up standards of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k study also aims at the follow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ing or modifying the methods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unnecessary or excess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s wasteful use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tes to industrial safety by identifying hazardous work and developing safe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s down the time of performing a certain activ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terminolo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time in a Job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ime taken by a worker or a machine to carry out an operation to produce a given quantity of certain produ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ork 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labor of one person for one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Machine Ho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nning of the machine or plant for one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work conten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irreducible minimum time theoretically required to produce one unit output. This is a perfect condition which is not achieved in most of the c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233360" y="106200"/>
            <a:ext cx="5243760" cy="6735960"/>
            <a:chOff x="1233360" y="106200"/>
            <a:chExt cx="5243760" cy="6735960"/>
          </a:xfrm>
        </p:grpSpPr>
        <p:sp>
          <p:nvSpPr>
            <p:cNvPr id="113" name="AutoShape 5"/>
            <p:cNvSpPr/>
            <p:nvPr/>
          </p:nvSpPr>
          <p:spPr>
            <a:xfrm>
              <a:off x="1233360" y="106200"/>
              <a:ext cx="5243760" cy="65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4729320" y="608400"/>
              <a:ext cx="1419840" cy="174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Basic work cont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(</a:t>
              </a: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inimum time required to perform one output)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729320" y="2456640"/>
              <a:ext cx="1419840" cy="81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asic content added by poor product design or material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Utiliza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4729320" y="3427920"/>
              <a:ext cx="1419840" cy="1740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Work content added by inefficient methods of manufacture or operation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+ Poor material handling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+Poor quality standards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Poor inventory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4729320" y="5257440"/>
              <a:ext cx="1419840" cy="112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efficient time due to human contribu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Like: Absenteeism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ad workmanship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Accidents etc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1888560" y="925560"/>
              <a:ext cx="360" cy="573552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1233360" y="208440"/>
              <a:ext cx="1310760" cy="6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Total Time of operation under existing conditions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2981160" y="2133000"/>
              <a:ext cx="360" cy="4709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418200" y="2769120"/>
              <a:ext cx="1201680" cy="3891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EFFECTIV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057400" y="108000"/>
            <a:ext cx="58672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26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Management technique can reduce ineffective tim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143000" y="1143000"/>
            <a:ext cx="6477120" cy="5256360"/>
            <a:chOff x="1143000" y="1143000"/>
            <a:chExt cx="6477120" cy="5256360"/>
          </a:xfrm>
        </p:grpSpPr>
        <p:sp>
          <p:nvSpPr>
            <p:cNvPr id="127" name="AutoShape 5"/>
            <p:cNvSpPr/>
            <p:nvPr/>
          </p:nvSpPr>
          <p:spPr>
            <a:xfrm>
              <a:off x="1143000" y="1143000"/>
              <a:ext cx="647712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841560" y="1225080"/>
              <a:ext cx="2563560" cy="65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Basic work content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301920" y="1963800"/>
              <a:ext cx="37782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duct Developm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3301920" y="2374560"/>
              <a:ext cx="37782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per Material utiliza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3301920" y="2784960"/>
              <a:ext cx="3778200" cy="32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Quality control/ensure proper standards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301920" y="3196080"/>
              <a:ext cx="37782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Better layout &amp; process planning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3313800" y="360612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aterial handling/reduce time &amp; effor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3313800" y="401652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Production planning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3324960" y="4427280"/>
              <a:ext cx="375516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Method study to reduce poor methods of work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6" name="Rectangle 14"/>
            <p:cNvSpPr/>
            <p:nvPr/>
          </p:nvSpPr>
          <p:spPr>
            <a:xfrm>
              <a:off x="3313800" y="4838040"/>
              <a:ext cx="376632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Inventory control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3336120" y="5248800"/>
              <a:ext cx="37440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Ensure longer life and no stoppage of machinery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3313800" y="5588640"/>
              <a:ext cx="374364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Create satisfactory working environment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3336120" y="5935320"/>
              <a:ext cx="3744000" cy="24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raining,better working conditio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2087280" y="1964160"/>
              <a:ext cx="360" cy="4270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547640" y="3688920"/>
              <a:ext cx="1079280" cy="65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Inefficient time totally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liminated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uman Factor in the application of work stud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ahoma"/>
              </a:rPr>
              <a:t>At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 study of Maharshtra Scooters, Sata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impro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Balanc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rvind Shrouti,Option Positiv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e0f2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828800" y="2914560"/>
            <a:ext cx="52005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vind Shrouti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TION POSITIV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une,INDIA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mail: optionpositive@rediffmail.com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Picture 5" descr="j0301252"/>
          <p:cNvPicPr/>
          <p:nvPr/>
        </p:nvPicPr>
        <p:blipFill>
          <a:blip r:embed="rId1"/>
          <a:stretch/>
        </p:blipFill>
        <p:spPr>
          <a:xfrm>
            <a:off x="693432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16:47:03Z</dcterms:created>
  <dc:creator>user</dc:creator>
  <dc:description/>
  <dc:language>en-US</dc:language>
  <cp:lastModifiedBy>user</cp:lastModifiedBy>
  <dcterms:modified xsi:type="dcterms:W3CDTF">2017-01-23T07:10:59Z</dcterms:modified>
  <cp:revision>112</cp:revision>
  <dc:subject/>
  <dc:title>Slide 1</dc:title>
</cp:coreProperties>
</file>