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5.wmf" ContentType="image/x-wmf"/>
  <Override PartName="/ppt/media/image14.wmf" ContentType="image/x-wmf"/>
  <Override PartName="/ppt/media/image9.wmf" ContentType="image/x-wmf"/>
  <Override PartName="/ppt/media/image1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IM 313  Work Study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ngsana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Issue 9: Motion Study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gsana New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ngsana New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Copyright 2001 by Sajee Sirikrai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ngsana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41A5A-C24F-41DD-9FC7-65D0E77598A6}" type="slidenum">
              <a:rPr b="0" lang="en-US" sz="1800" spc="-1" strike="noStrike">
                <a:solidFill>
                  <a:srgbClr val="000000"/>
                </a:solidFill>
                <a:latin typeface="Angsana Ne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IM 313  Work Study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31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Issue 9: Motion Study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32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Copyright 2001 by Sajee Sirikrai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9254D-D6A4-4634-9FD1-D39162B7F877}" type="slidenum">
              <a:rPr b="0" lang="en-US" sz="1800" spc="-1" strike="noStrike">
                <a:solidFill>
                  <a:srgbClr val="000000"/>
                </a:solidFill>
                <a:latin typeface="Angsana Ne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200" spc="-1" strike="noStrike">
              <a:solidFill>
                <a:srgbClr val="000000"/>
              </a:solidFill>
              <a:latin typeface="Angsana New"/>
              <a:ea typeface="Cordia Ne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7311-5CB8-4552-A1D3-2AE83E6F2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783D-F564-4FCE-9B4D-CAEFBB73C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4DC9-213C-4D85-BCAF-1D0D72432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72DB-37C4-41B1-B902-78469B171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09E7-A00D-497A-A31F-166DBE624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E1AB-2F8D-46F8-BCE4-3B9F2134C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FB67-2EF8-4EB6-9282-850C576B9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07FA-DE96-4854-BC96-6B32F32C3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554C-D336-4971-BDD6-87895E8C9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48C2-5A4C-4F32-A4A0-07391F42D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1A65-177C-451F-90D2-F3A91A33E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1F7D-C42D-4DD8-9BC3-FFFA8B706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gsana Ne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ngsana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82F76-6BBB-45FC-B462-15268B5D3FD4}" type="slidenum">
              <a:rPr b="0" lang="en-US" sz="1400" spc="-1" strike="noStrike">
                <a:solidFill>
                  <a:srgbClr val="000000"/>
                </a:solidFill>
                <a:latin typeface="Angsana Ne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" Target="slide23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440" y="1980720"/>
            <a:ext cx="6629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ccccff"/>
                </a:solidFill>
                <a:latin typeface="Arial"/>
              </a:rPr>
              <a:t>Process Analysis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>
              <a:lnSpc>
                <a:spcPct val="100000"/>
              </a:lnSpc>
              <a:spcBef>
                <a:spcPts val="2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ccccff"/>
                </a:solidFill>
                <a:latin typeface="Arial"/>
              </a:rPr>
              <a:t>Operation Analysis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>
              <a:lnSpc>
                <a:spcPct val="100000"/>
              </a:lnSpc>
              <a:spcBef>
                <a:spcPts val="2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(Micro) Motion Study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>
              <a:lnSpc>
                <a:spcPct val="100000"/>
              </a:lnSpc>
              <a:spcBef>
                <a:spcPts val="2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Time Study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>
              <a:lnSpc>
                <a:spcPct val="100000"/>
              </a:lnSpc>
              <a:spcBef>
                <a:spcPts val="2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Work Instruction Establishing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9" name="WordArt 1027"/>
          <p:cNvSpPr txBox="1"/>
          <p:nvPr/>
        </p:nvSpPr>
        <p:spPr>
          <a:xfrm rot="21571200">
            <a:off x="685800" y="533160"/>
            <a:ext cx="6629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5430000"/>
                </a:gradFill>
                <a:effectLst>
                  <a:outerShdw dist="77353" dir="21037522" blurRad="0" rotWithShape="0">
                    <a:srgbClr val="9900ff"/>
                  </a:outerShdw>
                </a:effectLst>
                <a:latin typeface="Browallia New"/>
              </a:rPr>
              <a:t>Work Study</a:t>
            </a:r>
            <a:endParaRPr b="1" lang="en-US" sz="4400" spc="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5430000"/>
              </a:gradFill>
              <a:effectLst>
                <a:outerShdw dist="77353" dir="21037522" blurRad="0" rotWithShape="0">
                  <a:srgbClr val="9900ff"/>
                </a:outerShdw>
              </a:effectLst>
              <a:latin typeface="Browallia New"/>
              <a:ea typeface="Browallia New"/>
            </a:endParaRPr>
          </a:p>
        </p:txBody>
      </p:sp>
      <p:pic>
        <p:nvPicPr>
          <p:cNvPr id="50" name="Object 1028" descr=""/>
          <p:cNvPicPr/>
          <p:nvPr/>
        </p:nvPicPr>
        <p:blipFill>
          <a:blip r:embed="rId1"/>
          <a:stretch/>
        </p:blipFill>
        <p:spPr>
          <a:xfrm>
            <a:off x="6066000" y="3809880"/>
            <a:ext cx="3078000" cy="28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4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505320" y="2361960"/>
            <a:ext cx="50292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50000"/>
              </a:lnSpc>
              <a:buNone/>
              <a:tabLst>
                <a:tab algn="l" pos="0"/>
                <a:tab algn="l" pos="239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Arial"/>
              </a:rPr>
              <a:t>Hold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 algn="r">
              <a:lnSpc>
                <a:spcPct val="150000"/>
              </a:lnSpc>
              <a:buNone/>
              <a:tabLst>
                <a:tab algn="l" pos="0"/>
                <a:tab algn="l" pos="239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Arial"/>
              </a:rPr>
              <a:t>Unavoidable delay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 algn="r">
              <a:lnSpc>
                <a:spcPct val="150000"/>
              </a:lnSpc>
              <a:buNone/>
              <a:tabLst>
                <a:tab algn="l" pos="0"/>
                <a:tab algn="l" pos="239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Arial"/>
              </a:rPr>
              <a:t>Avoidable delay (standby)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 algn="r">
              <a:lnSpc>
                <a:spcPct val="150000"/>
              </a:lnSpc>
              <a:buNone/>
              <a:tabLst>
                <a:tab algn="l" pos="0"/>
                <a:tab algn="l" pos="239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Arial"/>
              </a:rPr>
              <a:t>Rest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0" name="WordArt 3"/>
          <p:cNvSpPr txBox="1"/>
          <p:nvPr/>
        </p:nvSpPr>
        <p:spPr>
          <a:xfrm rot="21571200">
            <a:off x="455400" y="597960"/>
            <a:ext cx="3963960" cy="16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30000"/>
                </a:gradFill>
                <a:effectLst>
                  <a:outerShdw dist="77353" dir="21037522" blurRad="0" rotWithShape="0">
                    <a:srgbClr val="996633"/>
                  </a:outerShdw>
                </a:effectLst>
                <a:latin typeface="Browallia New"/>
              </a:rPr>
              <a:t>Type 3</a:t>
            </a:r>
            <a:endParaRPr b="1" lang="en-US" sz="4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30000"/>
              </a:gradFill>
              <a:effectLst>
                <a:outerShdw dist="77353" dir="21037522" blurRad="0" rotWithShape="0">
                  <a:srgbClr val="996633"/>
                </a:outerShdw>
              </a:effectLst>
              <a:latin typeface="Browallia New"/>
              <a:ea typeface="Browallia New"/>
            </a:endParaRPr>
          </a:p>
        </p:txBody>
      </p:sp>
      <p:pic>
        <p:nvPicPr>
          <p:cNvPr id="111" name="Object 5" descr=""/>
          <p:cNvPicPr/>
          <p:nvPr/>
        </p:nvPicPr>
        <p:blipFill>
          <a:blip r:embed="rId1"/>
          <a:stretch/>
        </p:blipFill>
        <p:spPr>
          <a:xfrm>
            <a:off x="1066680" y="2610000"/>
            <a:ext cx="257184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Impact"/>
              </a:rPr>
              <a:t>Therblig Symbols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WordArt 2"/>
          <p:cNvSpPr txBox="1"/>
          <p:nvPr/>
        </p:nvSpPr>
        <p:spPr>
          <a:xfrm rot="21571200">
            <a:off x="452160" y="372600"/>
            <a:ext cx="8004240" cy="10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ffff"/>
                    </a:gs>
                  </a:gsLst>
                  <a:lin ang="5430000"/>
                </a:gradFill>
                <a:effectLst>
                  <a:outerShdw dist="38160" dir="0" blurRad="0" rotWithShape="0">
                    <a:srgbClr val="0033cc"/>
                  </a:outerShdw>
                </a:effectLst>
                <a:latin typeface="Arial"/>
              </a:rPr>
              <a:t>Therblig Analysis Steps</a:t>
            </a:r>
            <a:endParaRPr b="1" lang="en-US" sz="4400" spc="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100000">
                    <a:srgbClr val="ffffff"/>
                  </a:gs>
                </a:gsLst>
                <a:lin ang="5430000"/>
              </a:gradFill>
              <a:effectLst>
                <a:outerShdw dist="38160" dir="0" blurRad="0" rotWithShape="0">
                  <a:srgbClr val="0033cc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2819520" y="1752480"/>
            <a:ext cx="632448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ake time to carefully observe the overall operation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380880" indent="-3808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y to picture the operation in your mind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380880" indent="-3808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rite down the steps in the operation, starting with just one hand’s motion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380880" indent="-3808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observe the operation and correct the written description 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380880" indent="-3808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scribe the motions in more detail and fill out the therblig symbols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5" name="AutoShape 5"/>
          <p:cNvSpPr/>
          <p:nvPr/>
        </p:nvSpPr>
        <p:spPr>
          <a:xfrm>
            <a:off x="380880" y="2057400"/>
            <a:ext cx="2514600" cy="1219320"/>
          </a:xfrm>
          <a:prstGeom prst="cloudCallout">
            <a:avLst>
              <a:gd name="adj1" fmla="val 7638"/>
              <a:gd name="adj2" fmla="val 9245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ccurate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scrip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116" name="Group 14"/>
          <p:cNvGrpSpPr/>
          <p:nvPr/>
        </p:nvGrpSpPr>
        <p:grpSpPr>
          <a:xfrm>
            <a:off x="376200" y="3500280"/>
            <a:ext cx="1066680" cy="2977200"/>
            <a:chOff x="376200" y="3500280"/>
            <a:chExt cx="1066680" cy="2977200"/>
          </a:xfrm>
        </p:grpSpPr>
        <p:sp>
          <p:nvSpPr>
            <p:cNvPr id="117" name="Freeform 8"/>
            <p:cNvSpPr/>
            <p:nvPr/>
          </p:nvSpPr>
          <p:spPr>
            <a:xfrm rot="21578400">
              <a:off x="459720" y="4026240"/>
              <a:ext cx="441360" cy="5907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18" name="Freeform 9"/>
            <p:cNvSpPr/>
            <p:nvPr/>
          </p:nvSpPr>
          <p:spPr>
            <a:xfrm rot="21578400">
              <a:off x="860400" y="3501720"/>
              <a:ext cx="578880" cy="10202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19" name="Freeform 10"/>
            <p:cNvSpPr/>
            <p:nvPr/>
          </p:nvSpPr>
          <p:spPr>
            <a:xfrm rot="21578400">
              <a:off x="379080" y="4707000"/>
              <a:ext cx="340560" cy="9205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20" name="Freeform 11"/>
            <p:cNvSpPr/>
            <p:nvPr/>
          </p:nvSpPr>
          <p:spPr>
            <a:xfrm rot="21578400">
              <a:off x="728640" y="4631400"/>
              <a:ext cx="356400" cy="8229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21" name="Freeform 12"/>
            <p:cNvSpPr/>
            <p:nvPr/>
          </p:nvSpPr>
          <p:spPr>
            <a:xfrm rot="21578400">
              <a:off x="938880" y="5287320"/>
              <a:ext cx="464400" cy="10548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22" name="Freeform 13"/>
            <p:cNvSpPr/>
            <p:nvPr/>
          </p:nvSpPr>
          <p:spPr>
            <a:xfrm rot="21578400">
              <a:off x="519480" y="5347800"/>
              <a:ext cx="390600" cy="11282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99"/>
                </a:solidFill>
                <a:latin typeface="Impact"/>
              </a:rPr>
              <a:t>Therblig Analysis Chart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1026"/>
          <p:cNvSpPr txBox="1"/>
          <p:nvPr/>
        </p:nvSpPr>
        <p:spPr>
          <a:xfrm>
            <a:off x="609480" y="457200"/>
            <a:ext cx="79250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cc00cc"/>
                  </a:solidFill>
                  <a:miter/>
                </a:ln>
                <a:solidFill>
                  <a:srgbClr val="ff99ff"/>
                </a:solidFill>
                <a:effectLst>
                  <a:outerShdw dist="89808" dir="483908" blurRad="0" rotWithShape="0">
                    <a:srgbClr val="cc00cc"/>
                  </a:outerShdw>
                </a:effectLst>
                <a:latin typeface="Browallia New"/>
              </a:rPr>
              <a:t>Micromotion Study: A Trial </a:t>
            </a:r>
            <a:endParaRPr b="1" lang="en-US" sz="4800" spc="1" strike="noStrike">
              <a:ln w="12600">
                <a:solidFill>
                  <a:srgbClr val="cc00cc"/>
                </a:solidFill>
                <a:miter/>
              </a:ln>
              <a:solidFill>
                <a:srgbClr val="ff99ff"/>
              </a:solidFill>
              <a:effectLst>
                <a:outerShdw dist="89808" dir="483908" blurRad="0" rotWithShape="0">
                  <a:srgbClr val="cc00cc"/>
                </a:outerShdw>
              </a:effectLst>
              <a:latin typeface="Browallia New"/>
              <a:ea typeface="Browallia New"/>
            </a:endParaRPr>
          </a:p>
        </p:txBody>
      </p:sp>
      <p:sp>
        <p:nvSpPr>
          <p:cNvPr id="125" name="Text Box 1027"/>
          <p:cNvSpPr/>
          <p:nvPr/>
        </p:nvSpPr>
        <p:spPr>
          <a:xfrm>
            <a:off x="609480" y="1825560"/>
            <a:ext cx="800100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6  Participants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algn="r"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2 IE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6" name="AutoShape 1028"/>
          <p:cNvSpPr/>
          <p:nvPr/>
        </p:nvSpPr>
        <p:spPr>
          <a:xfrm>
            <a:off x="2666880" y="2514600"/>
            <a:ext cx="4343400" cy="1752480"/>
          </a:xfrm>
          <a:prstGeom prst="cloudCallout">
            <a:avLst>
              <a:gd name="adj1" fmla="val -72041"/>
              <a:gd name="adj2" fmla="val -49726"/>
            </a:avLst>
          </a:prstGeom>
          <a:solidFill>
            <a:srgbClr val="cc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ake 12 sets of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vitation letter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7" name="AutoShape 1029"/>
          <p:cNvSpPr/>
          <p:nvPr/>
        </p:nvSpPr>
        <p:spPr>
          <a:xfrm>
            <a:off x="1219320" y="4876920"/>
            <a:ext cx="5105160" cy="1676160"/>
          </a:xfrm>
          <a:prstGeom prst="cloudCallout">
            <a:avLst>
              <a:gd name="adj1" fmla="val 82245"/>
              <a:gd name="adj2" fmla="val -38921"/>
            </a:avLst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peration / Therblig chart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orkplace setting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022E0-036F-4568-9BFB-D3DA7D966259}" type="slidenum">
              <a:rPr b="0" lang="en-US" sz="1400" spc="-1" strike="noStrike">
                <a:solidFill>
                  <a:srgbClr val="000000"/>
                </a:solidFill>
                <a:latin typeface="Angsana Ne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9" name="WordArt 2"/>
          <p:cNvSpPr txBox="1"/>
          <p:nvPr/>
        </p:nvSpPr>
        <p:spPr>
          <a:xfrm>
            <a:off x="609480" y="457200"/>
            <a:ext cx="58676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ff"/>
                </a:solidFill>
                <a:latin typeface="Browallia New"/>
              </a:rPr>
              <a:t>A Trial: What's up?</a:t>
            </a:r>
            <a:endParaRPr b="1" lang="en-US" sz="4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ff"/>
              </a:solidFill>
              <a:latin typeface="Browallia New"/>
              <a:ea typeface="Browalli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560" y="2133720"/>
            <a:ext cx="647676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77880" indent="0">
              <a:lnSpc>
                <a:spcPct val="100000"/>
              </a:lnSpc>
              <a:spcBef>
                <a:spcPts val="24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s related to 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677880" indent="-677880">
              <a:lnSpc>
                <a:spcPct val="100000"/>
              </a:lnSpc>
              <a:spcBef>
                <a:spcPts val="24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Uses of the human body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677880" indent="-677880">
              <a:lnSpc>
                <a:spcPct val="100000"/>
              </a:lnSpc>
              <a:spcBef>
                <a:spcPts val="24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rrangement of the work place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677880" indent="-677880">
              <a:lnSpc>
                <a:spcPct val="100000"/>
              </a:lnSpc>
              <a:spcBef>
                <a:spcPts val="24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esign of tools and equipment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1" name="WordArt 5"/>
          <p:cNvSpPr txBox="1"/>
          <p:nvPr/>
        </p:nvSpPr>
        <p:spPr>
          <a:xfrm>
            <a:off x="685800" y="533520"/>
            <a:ext cx="7924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99"/>
                    </a:gs>
                    <a:gs pos="50000">
                      <a:srgbClr val="ffffcc"/>
                    </a:gs>
                    <a:gs pos="100000">
                      <a:srgbClr val="ff6699"/>
                    </a:gs>
                  </a:gsLst>
                  <a:lin ang="5400000"/>
                </a:gradFill>
                <a:latin typeface="Browallia New"/>
              </a:rPr>
              <a:t>Principles of Motion Econom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99"/>
                  </a:gs>
                  <a:gs pos="50000">
                    <a:srgbClr val="ffffcc"/>
                  </a:gs>
                  <a:gs pos="100000">
                    <a:srgbClr val="ff6699"/>
                  </a:gs>
                </a:gsLst>
                <a:lin ang="5400000"/>
              </a:gradFill>
              <a:latin typeface="Browallia New"/>
              <a:ea typeface="Browallia New"/>
            </a:endParaRPr>
          </a:p>
        </p:txBody>
      </p:sp>
      <p:pic>
        <p:nvPicPr>
          <p:cNvPr id="132" name="Object 0" descr=""/>
          <p:cNvPicPr/>
          <p:nvPr/>
        </p:nvPicPr>
        <p:blipFill>
          <a:blip r:embed="rId1"/>
          <a:stretch/>
        </p:blipFill>
        <p:spPr>
          <a:xfrm>
            <a:off x="6600960" y="1905120"/>
            <a:ext cx="2543040" cy="259056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1"/>
          <p:cNvSpPr/>
          <p:nvPr/>
        </p:nvSpPr>
        <p:spPr>
          <a:xfrm>
            <a:off x="3429000" y="5486400"/>
            <a:ext cx="4800600" cy="1066680"/>
          </a:xfrm>
          <a:prstGeom prst="cloudCallout">
            <a:avLst>
              <a:gd name="adj1" fmla="val 40509"/>
              <a:gd name="adj2" fmla="val -136606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You need a good checklists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4" name="AutoShape 12">
            <a:hlinkClick r:id="rId2" action="ppaction://hlinksldjump"/>
          </p:cNvPr>
          <p:cNvSpPr/>
          <p:nvPr/>
        </p:nvSpPr>
        <p:spPr>
          <a:xfrm>
            <a:off x="8381880" y="61722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4003" h="21600">
                <a:moveTo>
                  <a:pt x="6474" y="3985"/>
                </a:moveTo>
                <a:lnTo>
                  <a:pt x="13472" y="3985"/>
                </a:lnTo>
                <a:lnTo>
                  <a:pt x="17528" y="7484"/>
                </a:lnTo>
                <a:lnTo>
                  <a:pt x="17528" y="17615"/>
                </a:lnTo>
                <a:lnTo>
                  <a:pt x="6474" y="17615"/>
                </a:lnTo>
                <a:close/>
              </a:path>
              <a:path fill="darken" w="24003" h="21600">
                <a:moveTo>
                  <a:pt x="13472" y="3985"/>
                </a:moveTo>
                <a:lnTo>
                  <a:pt x="17528" y="7484"/>
                </a:lnTo>
                <a:lnTo>
                  <a:pt x="13472" y="7484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50000">
                <a:srgbClr val="dddddd"/>
              </a:gs>
              <a:gs pos="100000">
                <a:srgbClr val="5f5f5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500"/>
                            </p:stCondLst>
                            <p:childTnLst>
                              <p:par>
                                <p:cTn id="25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4500"/>
                            </p:stCondLst>
                            <p:childTnLst>
                              <p:par>
                                <p:cTn id="26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Principles of Motion Economy 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As related to the uses of the human body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304920" y="1898640"/>
            <a:ext cx="8839080" cy="46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2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Two hands should begin and complete their motions at the same time.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380880" indent="-380880">
              <a:lnSpc>
                <a:spcPct val="12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Two hands should not be idle at the same time.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380880" indent="-380880">
              <a:lnSpc>
                <a:spcPct val="12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Motions of the arms should be made in opposite and symmetrical direction and should be made simultaneously.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380880" indent="-380880">
              <a:lnSpc>
                <a:spcPct val="12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Hand and body motions should be confined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to the lowest classification with which it is 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ossible to perform the work satisfactorily.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137" name="Group 47"/>
          <p:cNvGrpSpPr/>
          <p:nvPr/>
        </p:nvGrpSpPr>
        <p:grpSpPr>
          <a:xfrm>
            <a:off x="7060680" y="5196960"/>
            <a:ext cx="2187720" cy="1584360"/>
            <a:chOff x="7060680" y="5196960"/>
            <a:chExt cx="2187720" cy="1584360"/>
          </a:xfrm>
        </p:grpSpPr>
        <p:sp>
          <p:nvSpPr>
            <p:cNvPr id="138" name="Rectangle 8"/>
            <p:cNvSpPr/>
            <p:nvPr/>
          </p:nvSpPr>
          <p:spPr>
            <a:xfrm rot="20282400">
              <a:off x="7822440" y="5859720"/>
              <a:ext cx="1073160" cy="460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grpSp>
          <p:nvGrpSpPr>
            <p:cNvPr id="139" name="Group 28"/>
            <p:cNvGrpSpPr/>
            <p:nvPr/>
          </p:nvGrpSpPr>
          <p:grpSpPr>
            <a:xfrm>
              <a:off x="8038800" y="5196960"/>
              <a:ext cx="1209600" cy="1309320"/>
              <a:chOff x="8038800" y="5196960"/>
              <a:chExt cx="1209600" cy="1309320"/>
            </a:xfrm>
          </p:grpSpPr>
          <p:sp>
            <p:nvSpPr>
              <p:cNvPr id="140" name="Freeform 9"/>
              <p:cNvSpPr/>
              <p:nvPr/>
            </p:nvSpPr>
            <p:spPr>
              <a:xfrm rot="8708400">
                <a:off x="8291160" y="5298840"/>
                <a:ext cx="704520" cy="1104840"/>
              </a:xfrm>
              <a:prstGeom prst="pie">
                <a:avLst/>
              </a:prstGeom>
              <a:solidFill>
                <a:srgbClr val="ff9f9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41" name="Freeform 10"/>
              <p:cNvSpPr/>
              <p:nvPr/>
            </p:nvSpPr>
            <p:spPr>
              <a:xfrm rot="8708400">
                <a:off x="8660520" y="6445080"/>
                <a:ext cx="63000" cy="38520"/>
              </a:xfrm>
              <a:prstGeom prst="pie">
                <a:avLst/>
              </a:prstGeom>
              <a:solidFill>
                <a:srgbClr val="ffbfb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grpSp>
            <p:nvGrpSpPr>
              <p:cNvPr id="142" name="Group 27"/>
              <p:cNvGrpSpPr/>
              <p:nvPr/>
            </p:nvGrpSpPr>
            <p:grpSpPr>
              <a:xfrm>
                <a:off x="8156520" y="5356440"/>
                <a:ext cx="930600" cy="1025640"/>
                <a:chOff x="8156520" y="5356440"/>
                <a:chExt cx="930600" cy="1025640"/>
              </a:xfrm>
            </p:grpSpPr>
            <p:sp>
              <p:nvSpPr>
                <p:cNvPr id="143" name="Freeform 11"/>
                <p:cNvSpPr/>
                <p:nvPr/>
              </p:nvSpPr>
              <p:spPr>
                <a:xfrm rot="8708400">
                  <a:off x="8493120" y="5672880"/>
                  <a:ext cx="260280" cy="4334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144" name="Freeform 12"/>
                <p:cNvSpPr/>
                <p:nvPr/>
              </p:nvSpPr>
              <p:spPr>
                <a:xfrm rot="8708400">
                  <a:off x="8485920" y="5592600"/>
                  <a:ext cx="243000" cy="3488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145" name="Freeform 13"/>
                <p:cNvSpPr/>
                <p:nvPr/>
              </p:nvSpPr>
              <p:spPr>
                <a:xfrm rot="8708400">
                  <a:off x="8595720" y="5584320"/>
                  <a:ext cx="119880" cy="2343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146" name="Freeform 14"/>
                <p:cNvSpPr/>
                <p:nvPr/>
              </p:nvSpPr>
              <p:spPr>
                <a:xfrm rot="8708400">
                  <a:off x="8741160" y="6346440"/>
                  <a:ext cx="3960" cy="3780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147" name="Freeform 15"/>
                <p:cNvSpPr/>
                <p:nvPr/>
              </p:nvSpPr>
              <p:spPr>
                <a:xfrm rot="8708400">
                  <a:off x="8745840" y="6343560"/>
                  <a:ext cx="4320" cy="3780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148" name="Freeform 16"/>
                <p:cNvSpPr/>
                <p:nvPr/>
              </p:nvSpPr>
              <p:spPr>
                <a:xfrm rot="8708400">
                  <a:off x="8733960" y="6184800"/>
                  <a:ext cx="50760" cy="453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149" name="Freeform 17"/>
                <p:cNvSpPr/>
                <p:nvPr/>
              </p:nvSpPr>
              <p:spPr>
                <a:xfrm rot="8708400">
                  <a:off x="9018360" y="6095520"/>
                  <a:ext cx="73080" cy="75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150" name="Freeform 18"/>
                <p:cNvSpPr/>
                <p:nvPr/>
              </p:nvSpPr>
              <p:spPr>
                <a:xfrm rot="8708400">
                  <a:off x="8510400" y="5896800"/>
                  <a:ext cx="21600" cy="2772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151" name="Freeform 19"/>
                <p:cNvSpPr/>
                <p:nvPr/>
              </p:nvSpPr>
              <p:spPr>
                <a:xfrm rot="8708400">
                  <a:off x="8641440" y="6008400"/>
                  <a:ext cx="18000" cy="2880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152" name="Freeform 20"/>
                <p:cNvSpPr/>
                <p:nvPr/>
              </p:nvSpPr>
              <p:spPr>
                <a:xfrm rot="8708400">
                  <a:off x="8813160" y="5739120"/>
                  <a:ext cx="51840" cy="11880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153" name="Freeform 21"/>
                <p:cNvSpPr/>
                <p:nvPr/>
              </p:nvSpPr>
              <p:spPr>
                <a:xfrm rot="8708400">
                  <a:off x="8547480" y="5547240"/>
                  <a:ext cx="31680" cy="122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154" name="Freeform 22"/>
                <p:cNvSpPr/>
                <p:nvPr/>
              </p:nvSpPr>
              <p:spPr>
                <a:xfrm rot="8708400">
                  <a:off x="8391600" y="5360400"/>
                  <a:ext cx="39600" cy="83160"/>
                </a:xfrm>
                <a:prstGeom prst="pie">
                  <a:avLst/>
                </a:prstGeom>
                <a:solidFill>
                  <a:srgbClr val="ffbfb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155" name="Freeform 23"/>
                <p:cNvSpPr/>
                <p:nvPr/>
              </p:nvSpPr>
              <p:spPr>
                <a:xfrm rot="8708400">
                  <a:off x="8200080" y="5491440"/>
                  <a:ext cx="66600" cy="67680"/>
                </a:xfrm>
                <a:prstGeom prst="pie">
                  <a:avLst/>
                </a:prstGeom>
                <a:solidFill>
                  <a:srgbClr val="ffbfb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156" name="Freeform 24"/>
                <p:cNvSpPr/>
                <p:nvPr/>
              </p:nvSpPr>
              <p:spPr>
                <a:xfrm rot="8708400">
                  <a:off x="8479440" y="5626800"/>
                  <a:ext cx="37800" cy="298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157" name="Freeform 25"/>
                <p:cNvSpPr/>
                <p:nvPr/>
              </p:nvSpPr>
              <p:spPr>
                <a:xfrm rot="8708400">
                  <a:off x="8166240" y="5714280"/>
                  <a:ext cx="81000" cy="59760"/>
                </a:xfrm>
                <a:prstGeom prst="pie">
                  <a:avLst/>
                </a:prstGeom>
                <a:solidFill>
                  <a:srgbClr val="ffbfb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158" name="Freeform 26"/>
                <p:cNvSpPr/>
                <p:nvPr/>
              </p:nvSpPr>
              <p:spPr>
                <a:xfrm rot="8708400">
                  <a:off x="8440200" y="5752080"/>
                  <a:ext cx="47520" cy="77760"/>
                </a:xfrm>
                <a:prstGeom prst="pie">
                  <a:avLst/>
                </a:prstGeom>
                <a:solidFill>
                  <a:srgbClr val="ffbfb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</p:grpSp>
        </p:grpSp>
        <p:grpSp>
          <p:nvGrpSpPr>
            <p:cNvPr id="159" name="Group 46"/>
            <p:cNvGrpSpPr/>
            <p:nvPr/>
          </p:nvGrpSpPr>
          <p:grpSpPr>
            <a:xfrm>
              <a:off x="7060680" y="5621040"/>
              <a:ext cx="1212120" cy="1160280"/>
              <a:chOff x="7060680" y="5621040"/>
              <a:chExt cx="1212120" cy="1160280"/>
            </a:xfrm>
          </p:grpSpPr>
          <p:sp>
            <p:nvSpPr>
              <p:cNvPr id="160" name="Freeform 29"/>
              <p:cNvSpPr/>
              <p:nvPr/>
            </p:nvSpPr>
            <p:spPr>
              <a:xfrm rot="9001200">
                <a:off x="7196760" y="5802120"/>
                <a:ext cx="939240" cy="797760"/>
              </a:xfrm>
              <a:prstGeom prst="pie">
                <a:avLst/>
              </a:prstGeom>
              <a:solidFill>
                <a:srgbClr val="ff9f9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61" name="Freeform 30"/>
              <p:cNvSpPr/>
              <p:nvPr/>
            </p:nvSpPr>
            <p:spPr>
              <a:xfrm rot="9001200">
                <a:off x="7506360" y="6044040"/>
                <a:ext cx="310680" cy="3333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62" name="Freeform 31"/>
              <p:cNvSpPr/>
              <p:nvPr/>
            </p:nvSpPr>
            <p:spPr>
              <a:xfrm rot="9001200">
                <a:off x="7464600" y="6088680"/>
                <a:ext cx="265320" cy="2271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63" name="Freeform 32"/>
              <p:cNvSpPr/>
              <p:nvPr/>
            </p:nvSpPr>
            <p:spPr>
              <a:xfrm rot="9001200">
                <a:off x="7435440" y="6077880"/>
                <a:ext cx="169920" cy="2365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64" name="Freeform 33"/>
              <p:cNvSpPr/>
              <p:nvPr/>
            </p:nvSpPr>
            <p:spPr>
              <a:xfrm rot="9001200">
                <a:off x="8169480" y="6314400"/>
                <a:ext cx="83160" cy="18720"/>
              </a:xfrm>
              <a:prstGeom prst="pie">
                <a:avLst/>
              </a:prstGeom>
              <a:solidFill>
                <a:srgbClr val="ffbfb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65" name="Freeform 34"/>
              <p:cNvSpPr/>
              <p:nvPr/>
            </p:nvSpPr>
            <p:spPr>
              <a:xfrm rot="9001200">
                <a:off x="7769520" y="5874480"/>
                <a:ext cx="9000" cy="291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66" name="Freeform 35"/>
              <p:cNvSpPr/>
              <p:nvPr/>
            </p:nvSpPr>
            <p:spPr>
              <a:xfrm rot="9001200">
                <a:off x="7822080" y="5781960"/>
                <a:ext cx="87480" cy="45720"/>
              </a:xfrm>
              <a:prstGeom prst="pie">
                <a:avLst/>
              </a:prstGeom>
              <a:solidFill>
                <a:srgbClr val="ffbfb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67" name="Freeform 36"/>
              <p:cNvSpPr/>
              <p:nvPr/>
            </p:nvSpPr>
            <p:spPr>
              <a:xfrm rot="9001200">
                <a:off x="7654320" y="5763960"/>
                <a:ext cx="69480" cy="48240"/>
              </a:xfrm>
              <a:prstGeom prst="pie">
                <a:avLst/>
              </a:prstGeom>
              <a:solidFill>
                <a:srgbClr val="ffbfb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68" name="Freeform 37"/>
              <p:cNvSpPr/>
              <p:nvPr/>
            </p:nvSpPr>
            <p:spPr>
              <a:xfrm rot="9001200">
                <a:off x="7451640" y="5857560"/>
                <a:ext cx="50760" cy="43920"/>
              </a:xfrm>
              <a:prstGeom prst="pie">
                <a:avLst/>
              </a:prstGeom>
              <a:solidFill>
                <a:srgbClr val="ffbfb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69" name="Freeform 38"/>
              <p:cNvSpPr/>
              <p:nvPr/>
            </p:nvSpPr>
            <p:spPr>
              <a:xfrm rot="9001200">
                <a:off x="7653960" y="6012000"/>
                <a:ext cx="61920" cy="55800"/>
              </a:xfrm>
              <a:prstGeom prst="pie">
                <a:avLst/>
              </a:prstGeom>
              <a:solidFill>
                <a:srgbClr val="ffbfb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70" name="Freeform 39"/>
              <p:cNvSpPr/>
              <p:nvPr/>
            </p:nvSpPr>
            <p:spPr>
              <a:xfrm rot="9001200">
                <a:off x="7646400" y="6124680"/>
                <a:ext cx="37800" cy="198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71" name="Freeform 40"/>
              <p:cNvSpPr/>
              <p:nvPr/>
            </p:nvSpPr>
            <p:spPr>
              <a:xfrm rot="9001200">
                <a:off x="7627680" y="6201360"/>
                <a:ext cx="36720" cy="198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72" name="Freeform 41"/>
              <p:cNvSpPr/>
              <p:nvPr/>
            </p:nvSpPr>
            <p:spPr>
              <a:xfrm rot="9001200">
                <a:off x="7629480" y="6210000"/>
                <a:ext cx="20160" cy="223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73" name="Freeform 42"/>
              <p:cNvSpPr/>
              <p:nvPr/>
            </p:nvSpPr>
            <p:spPr>
              <a:xfrm rot="9001200">
                <a:off x="7451640" y="6536160"/>
                <a:ext cx="69840" cy="4284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74" name="Freeform 43"/>
              <p:cNvSpPr/>
              <p:nvPr/>
            </p:nvSpPr>
            <p:spPr>
              <a:xfrm rot="9001200">
                <a:off x="7458120" y="5955120"/>
                <a:ext cx="20880" cy="136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75" name="Freeform 44"/>
              <p:cNvSpPr/>
              <p:nvPr/>
            </p:nvSpPr>
            <p:spPr>
              <a:xfrm rot="9001200">
                <a:off x="7542000" y="6043320"/>
                <a:ext cx="29880" cy="223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76" name="Freeform 45"/>
              <p:cNvSpPr/>
              <p:nvPr/>
            </p:nvSpPr>
            <p:spPr>
              <a:xfrm rot="9001200">
                <a:off x="7606440" y="5878440"/>
                <a:ext cx="22320" cy="198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Principles of Motion Economy 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As related to the uses of the human body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152280" y="1822320"/>
            <a:ext cx="8915400" cy="44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7000" indent="-297000">
              <a:lnSpc>
                <a:spcPct val="13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Momentum should be employed to assist the worker wherever possible, and it should be reduced to a minimum if it must be overcome by muscular effort.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297000" indent="-297000">
              <a:lnSpc>
                <a:spcPct val="13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Ballistic movement are faster, easier and more accurate than restricted or controlled movements.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297000" indent="-297000">
              <a:lnSpc>
                <a:spcPct val="13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Work should be arranged to permit an easy and natural rhythm wherever possible.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297000" indent="-297000">
              <a:lnSpc>
                <a:spcPct val="13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ye fixations should be as few and as close as possible.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pic>
        <p:nvPicPr>
          <p:cNvPr id="179" name="Object 4" descr=""/>
          <p:cNvPicPr/>
          <p:nvPr/>
        </p:nvPicPr>
        <p:blipFill>
          <a:blip r:embed="rId1"/>
          <a:stretch/>
        </p:blipFill>
        <p:spPr>
          <a:xfrm>
            <a:off x="6005520" y="6019920"/>
            <a:ext cx="31384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Principles of Motion Economy </a:t>
            </a:r>
            <a:br>
              <a:rPr sz="3200"/>
            </a:b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As related to the workplace arrangement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152280" y="1822320"/>
            <a:ext cx="8763120" cy="48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7000" indent="-297000">
              <a:lnSpc>
                <a:spcPct val="12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re should be a definite and fixed place for all tools and materials.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297000" indent="-297000">
              <a:lnSpc>
                <a:spcPct val="12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ols, materials and controls should be located close to the point of uses.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297000" indent="-297000">
              <a:lnSpc>
                <a:spcPct val="12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avity feed bins and containers should be used to deliver material close to the point of use.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297000" indent="-297000">
              <a:lnSpc>
                <a:spcPct val="12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op deliveries should be used wherever possible.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297000" indent="-297000">
              <a:lnSpc>
                <a:spcPct val="12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terials and tools should be located to permit the best sequence of motions.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9144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485640">
              <a:lnSpc>
                <a:spcPct val="140000"/>
              </a:lnSpc>
              <a:spcBef>
                <a:spcPts val="24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iminate unnecessary operations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indent="485640">
              <a:lnSpc>
                <a:spcPct val="140000"/>
              </a:lnSpc>
              <a:spcBef>
                <a:spcPts val="24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se the necessary operations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indent="485640">
              <a:lnSpc>
                <a:spcPct val="140000"/>
              </a:lnSpc>
              <a:spcBef>
                <a:spcPts val="24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alance the uses of body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indent="485640">
              <a:lnSpc>
                <a:spcPct val="140000"/>
              </a:lnSpc>
              <a:spcBef>
                <a:spcPts val="24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duce cycle time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pic>
        <p:nvPicPr>
          <p:cNvPr id="52" name="Object 0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1676520" cy="1676160"/>
          </a:xfrm>
          <a:prstGeom prst="rect">
            <a:avLst/>
          </a:prstGeom>
          <a:ln w="0">
            <a:noFill/>
          </a:ln>
        </p:spPr>
      </p:pic>
      <p:sp>
        <p:nvSpPr>
          <p:cNvPr id="53" name="WordArt 4"/>
          <p:cNvSpPr txBox="1"/>
          <p:nvPr/>
        </p:nvSpPr>
        <p:spPr>
          <a:xfrm>
            <a:off x="2057400" y="685800"/>
            <a:ext cx="5791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Arial Black"/>
              </a:rPr>
              <a:t>To improve Work Method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Principles of Motion Economy </a:t>
            </a:r>
            <a:br>
              <a:rPr sz="3200"/>
            </a:b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As related to the workplace arrangement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152280" y="1752480"/>
            <a:ext cx="8915400" cy="47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7000" indent="-297000">
              <a:lnSpc>
                <a:spcPct val="13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visions should be made for adequate conditions for seeing. Good illumination is the first requirement for satisfactory visual perception.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297000" indent="-297000">
              <a:lnSpc>
                <a:spcPct val="13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height of the work place and the chair should be  preferably arranged so that alternate sitting and standing at work are easily possible.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297000" indent="-297000">
              <a:lnSpc>
                <a:spcPct val="13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chair of the type and height to permit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od posture should be provided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r every worker.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184" name="Group 139"/>
          <p:cNvGrpSpPr/>
          <p:nvPr/>
        </p:nvGrpSpPr>
        <p:grpSpPr>
          <a:xfrm>
            <a:off x="6698160" y="4487040"/>
            <a:ext cx="2355120" cy="2287800"/>
            <a:chOff x="6698160" y="4487040"/>
            <a:chExt cx="2355120" cy="2287800"/>
          </a:xfrm>
        </p:grpSpPr>
        <p:sp>
          <p:nvSpPr>
            <p:cNvPr id="185" name="Freeform 6"/>
            <p:cNvSpPr/>
            <p:nvPr/>
          </p:nvSpPr>
          <p:spPr>
            <a:xfrm rot="610800">
              <a:off x="7040520" y="4760280"/>
              <a:ext cx="1851120" cy="1851120"/>
            </a:xfrm>
            <a:prstGeom prst="pie">
              <a:avLst/>
            </a:prstGeom>
            <a:solidFill>
              <a:srgbClr val="9316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86" name="Freeform 7"/>
            <p:cNvSpPr/>
            <p:nvPr/>
          </p:nvSpPr>
          <p:spPr>
            <a:xfrm rot="610800">
              <a:off x="8492400" y="6504840"/>
              <a:ext cx="250920" cy="244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87" name="Freeform 8"/>
            <p:cNvSpPr/>
            <p:nvPr/>
          </p:nvSpPr>
          <p:spPr>
            <a:xfrm rot="610800">
              <a:off x="7107120" y="6588360"/>
              <a:ext cx="1384200" cy="15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88" name="Freeform 9"/>
            <p:cNvSpPr/>
            <p:nvPr/>
          </p:nvSpPr>
          <p:spPr>
            <a:xfrm rot="610800">
              <a:off x="6902280" y="6210720"/>
              <a:ext cx="244440" cy="252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89" name="Freeform 10"/>
            <p:cNvSpPr/>
            <p:nvPr/>
          </p:nvSpPr>
          <p:spPr>
            <a:xfrm rot="610800">
              <a:off x="7047720" y="4824000"/>
              <a:ext cx="15840" cy="138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90" name="Freeform 11"/>
            <p:cNvSpPr/>
            <p:nvPr/>
          </p:nvSpPr>
          <p:spPr>
            <a:xfrm rot="610800">
              <a:off x="7188480" y="4622400"/>
              <a:ext cx="252720" cy="243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91" name="Freeform 12"/>
            <p:cNvSpPr/>
            <p:nvPr/>
          </p:nvSpPr>
          <p:spPr>
            <a:xfrm rot="610800">
              <a:off x="7440120" y="4767480"/>
              <a:ext cx="1386000" cy="15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92" name="Freeform 13"/>
            <p:cNvSpPr/>
            <p:nvPr/>
          </p:nvSpPr>
          <p:spPr>
            <a:xfrm rot="610800">
              <a:off x="8785080" y="4908600"/>
              <a:ext cx="244440" cy="249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93" name="Freeform 14"/>
            <p:cNvSpPr/>
            <p:nvPr/>
          </p:nvSpPr>
          <p:spPr>
            <a:xfrm rot="610800">
              <a:off x="8868600" y="5158800"/>
              <a:ext cx="15840" cy="1385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94" name="Freeform 15"/>
            <p:cNvSpPr/>
            <p:nvPr/>
          </p:nvSpPr>
          <p:spPr>
            <a:xfrm rot="610800">
              <a:off x="8487360" y="6504840"/>
              <a:ext cx="258840" cy="249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95" name="Freeform 16"/>
            <p:cNvSpPr/>
            <p:nvPr/>
          </p:nvSpPr>
          <p:spPr>
            <a:xfrm rot="610800">
              <a:off x="7102080" y="6584760"/>
              <a:ext cx="1388880" cy="2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96" name="Freeform 17"/>
            <p:cNvSpPr/>
            <p:nvPr/>
          </p:nvSpPr>
          <p:spPr>
            <a:xfrm rot="610800">
              <a:off x="6899400" y="6207480"/>
              <a:ext cx="247320" cy="260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97" name="Freeform 18"/>
            <p:cNvSpPr/>
            <p:nvPr/>
          </p:nvSpPr>
          <p:spPr>
            <a:xfrm rot="610800">
              <a:off x="7045200" y="4820400"/>
              <a:ext cx="21960" cy="1390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98" name="Freeform 19"/>
            <p:cNvSpPr/>
            <p:nvPr/>
          </p:nvSpPr>
          <p:spPr>
            <a:xfrm rot="610800">
              <a:off x="7185960" y="4619520"/>
              <a:ext cx="258480" cy="24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99" name="Freeform 20"/>
            <p:cNvSpPr/>
            <p:nvPr/>
          </p:nvSpPr>
          <p:spPr>
            <a:xfrm rot="610800">
              <a:off x="7440480" y="4764600"/>
              <a:ext cx="1389240" cy="22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00" name="Freeform 21"/>
            <p:cNvSpPr/>
            <p:nvPr/>
          </p:nvSpPr>
          <p:spPr>
            <a:xfrm rot="610800">
              <a:off x="8784720" y="4905720"/>
              <a:ext cx="247680" cy="257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01" name="Freeform 22"/>
            <p:cNvSpPr/>
            <p:nvPr/>
          </p:nvSpPr>
          <p:spPr>
            <a:xfrm rot="610800">
              <a:off x="8865000" y="5159160"/>
              <a:ext cx="22320" cy="1390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02" name="Freeform 23"/>
            <p:cNvSpPr/>
            <p:nvPr/>
          </p:nvSpPr>
          <p:spPr>
            <a:xfrm rot="610800">
              <a:off x="6843960" y="4845960"/>
              <a:ext cx="2041560" cy="174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03" name="Freeform 24"/>
            <p:cNvSpPr/>
            <p:nvPr/>
          </p:nvSpPr>
          <p:spPr>
            <a:xfrm rot="610800">
              <a:off x="7805520" y="6285240"/>
              <a:ext cx="959040" cy="401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04" name="Freeform 25"/>
            <p:cNvSpPr/>
            <p:nvPr/>
          </p:nvSpPr>
          <p:spPr>
            <a:xfrm rot="610800">
              <a:off x="8844480" y="5585040"/>
              <a:ext cx="17640" cy="798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05" name="Freeform 26"/>
            <p:cNvSpPr/>
            <p:nvPr/>
          </p:nvSpPr>
          <p:spPr>
            <a:xfrm rot="610800">
              <a:off x="8663760" y="5002200"/>
              <a:ext cx="317520" cy="577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06" name="Freeform 27"/>
            <p:cNvSpPr/>
            <p:nvPr/>
          </p:nvSpPr>
          <p:spPr>
            <a:xfrm rot="610800">
              <a:off x="6931800" y="4820760"/>
              <a:ext cx="1744560" cy="723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07" name="Freeform 28"/>
            <p:cNvSpPr/>
            <p:nvPr/>
          </p:nvSpPr>
          <p:spPr>
            <a:xfrm rot="610800">
              <a:off x="6786000" y="5416920"/>
              <a:ext cx="568440" cy="1047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08" name="Freeform 29"/>
            <p:cNvSpPr/>
            <p:nvPr/>
          </p:nvSpPr>
          <p:spPr>
            <a:xfrm rot="610800">
              <a:off x="7248240" y="6538320"/>
              <a:ext cx="544680" cy="15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09" name="Freeform 30"/>
            <p:cNvSpPr/>
            <p:nvPr/>
          </p:nvSpPr>
          <p:spPr>
            <a:xfrm rot="610800">
              <a:off x="7390080" y="5350320"/>
              <a:ext cx="1090800" cy="479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10" name="Freeform 31"/>
            <p:cNvSpPr/>
            <p:nvPr/>
          </p:nvSpPr>
          <p:spPr>
            <a:xfrm rot="610800">
              <a:off x="7389000" y="5283360"/>
              <a:ext cx="419040" cy="49248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11" name="Freeform 32"/>
            <p:cNvSpPr/>
            <p:nvPr/>
          </p:nvSpPr>
          <p:spPr>
            <a:xfrm rot="610800">
              <a:off x="7385760" y="5377320"/>
              <a:ext cx="1098720" cy="45900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12" name="Freeform 33"/>
            <p:cNvSpPr/>
            <p:nvPr/>
          </p:nvSpPr>
          <p:spPr>
            <a:xfrm rot="610800">
              <a:off x="7826760" y="5381280"/>
              <a:ext cx="690480" cy="4752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13" name="Freeform 34"/>
            <p:cNvSpPr/>
            <p:nvPr/>
          </p:nvSpPr>
          <p:spPr>
            <a:xfrm rot="610800">
              <a:off x="7423200" y="5425560"/>
              <a:ext cx="1138320" cy="741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14" name="Freeform 35"/>
            <p:cNvSpPr/>
            <p:nvPr/>
          </p:nvSpPr>
          <p:spPr>
            <a:xfrm rot="610800">
              <a:off x="8394840" y="5506200"/>
              <a:ext cx="201600" cy="36036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15" name="Freeform 36"/>
            <p:cNvSpPr/>
            <p:nvPr/>
          </p:nvSpPr>
          <p:spPr>
            <a:xfrm rot="610800">
              <a:off x="7449120" y="5404680"/>
              <a:ext cx="960480" cy="40176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16" name="Freeform 37"/>
            <p:cNvSpPr/>
            <p:nvPr/>
          </p:nvSpPr>
          <p:spPr>
            <a:xfrm rot="610800">
              <a:off x="7389000" y="5724720"/>
              <a:ext cx="203400" cy="36180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17" name="Freeform 38"/>
            <p:cNvSpPr/>
            <p:nvPr/>
          </p:nvSpPr>
          <p:spPr>
            <a:xfrm rot="610800">
              <a:off x="7577640" y="5784480"/>
              <a:ext cx="959040" cy="40320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18" name="Freeform 39"/>
            <p:cNvSpPr/>
            <p:nvPr/>
          </p:nvSpPr>
          <p:spPr>
            <a:xfrm rot="610800">
              <a:off x="7534080" y="5659560"/>
              <a:ext cx="317520" cy="403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19" name="Freeform 40"/>
            <p:cNvSpPr/>
            <p:nvPr/>
          </p:nvSpPr>
          <p:spPr>
            <a:xfrm rot="610800">
              <a:off x="7661520" y="5664960"/>
              <a:ext cx="199800" cy="35892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20" name="Freeform 41"/>
            <p:cNvSpPr/>
            <p:nvPr/>
          </p:nvSpPr>
          <p:spPr>
            <a:xfrm rot="610800">
              <a:off x="7560000" y="5638680"/>
              <a:ext cx="138240" cy="6372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21" name="Freeform 42"/>
            <p:cNvSpPr/>
            <p:nvPr/>
          </p:nvSpPr>
          <p:spPr>
            <a:xfrm rot="610800">
              <a:off x="7523640" y="5695200"/>
              <a:ext cx="200160" cy="36216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22" name="Freeform 43"/>
            <p:cNvSpPr/>
            <p:nvPr/>
          </p:nvSpPr>
          <p:spPr>
            <a:xfrm rot="610800">
              <a:off x="7687080" y="6016320"/>
              <a:ext cx="137880" cy="6696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23" name="Freeform 44"/>
            <p:cNvSpPr/>
            <p:nvPr/>
          </p:nvSpPr>
          <p:spPr>
            <a:xfrm rot="610800">
              <a:off x="7809120" y="5600160"/>
              <a:ext cx="314280" cy="403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24" name="Freeform 45"/>
            <p:cNvSpPr/>
            <p:nvPr/>
          </p:nvSpPr>
          <p:spPr>
            <a:xfrm rot="610800">
              <a:off x="7933320" y="5605920"/>
              <a:ext cx="200160" cy="35856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25" name="Freeform 46"/>
            <p:cNvSpPr/>
            <p:nvPr/>
          </p:nvSpPr>
          <p:spPr>
            <a:xfrm rot="610800">
              <a:off x="7833240" y="5580000"/>
              <a:ext cx="136440" cy="6660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26" name="Freeform 47"/>
            <p:cNvSpPr/>
            <p:nvPr/>
          </p:nvSpPr>
          <p:spPr>
            <a:xfrm rot="610800">
              <a:off x="7796880" y="5639400"/>
              <a:ext cx="201600" cy="35856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27" name="Freeform 48"/>
            <p:cNvSpPr/>
            <p:nvPr/>
          </p:nvSpPr>
          <p:spPr>
            <a:xfrm rot="610800">
              <a:off x="7960680" y="5957640"/>
              <a:ext cx="136440" cy="6660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28" name="Freeform 49"/>
            <p:cNvSpPr/>
            <p:nvPr/>
          </p:nvSpPr>
          <p:spPr>
            <a:xfrm rot="610800">
              <a:off x="7941240" y="5572800"/>
              <a:ext cx="317520" cy="401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29" name="Freeform 50"/>
            <p:cNvSpPr/>
            <p:nvPr/>
          </p:nvSpPr>
          <p:spPr>
            <a:xfrm rot="610800">
              <a:off x="8069400" y="5576760"/>
              <a:ext cx="200160" cy="36036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30" name="Freeform 51"/>
            <p:cNvSpPr/>
            <p:nvPr/>
          </p:nvSpPr>
          <p:spPr>
            <a:xfrm rot="610800">
              <a:off x="7967520" y="5550480"/>
              <a:ext cx="137880" cy="6660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31" name="Freeform 52"/>
            <p:cNvSpPr/>
            <p:nvPr/>
          </p:nvSpPr>
          <p:spPr>
            <a:xfrm rot="610800">
              <a:off x="7931160" y="5610240"/>
              <a:ext cx="201600" cy="35892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32" name="Freeform 53"/>
            <p:cNvSpPr/>
            <p:nvPr/>
          </p:nvSpPr>
          <p:spPr>
            <a:xfrm rot="610800">
              <a:off x="8096400" y="5930280"/>
              <a:ext cx="136440" cy="6516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33" name="Freeform 54"/>
            <p:cNvSpPr/>
            <p:nvPr/>
          </p:nvSpPr>
          <p:spPr>
            <a:xfrm rot="610800">
              <a:off x="8076960" y="5545800"/>
              <a:ext cx="318960" cy="401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34" name="Freeform 55"/>
            <p:cNvSpPr/>
            <p:nvPr/>
          </p:nvSpPr>
          <p:spPr>
            <a:xfrm rot="610800">
              <a:off x="8205120" y="5549760"/>
              <a:ext cx="201600" cy="36036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35" name="Freeform 56"/>
            <p:cNvSpPr/>
            <p:nvPr/>
          </p:nvSpPr>
          <p:spPr>
            <a:xfrm rot="610800">
              <a:off x="8102880" y="5523480"/>
              <a:ext cx="138240" cy="6660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36" name="Freeform 57"/>
            <p:cNvSpPr/>
            <p:nvPr/>
          </p:nvSpPr>
          <p:spPr>
            <a:xfrm rot="610800">
              <a:off x="8066520" y="5582880"/>
              <a:ext cx="201600" cy="35856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37" name="Freeform 58"/>
            <p:cNvSpPr/>
            <p:nvPr/>
          </p:nvSpPr>
          <p:spPr>
            <a:xfrm rot="610800">
              <a:off x="8232120" y="5902920"/>
              <a:ext cx="138240" cy="6480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38" name="Freeform 59"/>
            <p:cNvSpPr/>
            <p:nvPr/>
          </p:nvSpPr>
          <p:spPr>
            <a:xfrm rot="610800">
              <a:off x="7179120" y="5690880"/>
              <a:ext cx="1614600" cy="774720"/>
            </a:xfrm>
            <a:prstGeom prst="pie">
              <a:avLst/>
            </a:prstGeom>
            <a:solidFill>
              <a:srgbClr val="ffb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39" name="Freeform 60"/>
            <p:cNvSpPr/>
            <p:nvPr/>
          </p:nvSpPr>
          <p:spPr>
            <a:xfrm rot="610800">
              <a:off x="8757000" y="5825880"/>
              <a:ext cx="88920" cy="149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40" name="Freeform 61"/>
            <p:cNvSpPr/>
            <p:nvPr/>
          </p:nvSpPr>
          <p:spPr>
            <a:xfrm rot="610800">
              <a:off x="7185960" y="5678640"/>
              <a:ext cx="1548000" cy="647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41" name="Freeform 62"/>
            <p:cNvSpPr/>
            <p:nvPr/>
          </p:nvSpPr>
          <p:spPr>
            <a:xfrm rot="610800">
              <a:off x="7128360" y="6181920"/>
              <a:ext cx="87480" cy="149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42" name="Freeform 63"/>
            <p:cNvSpPr/>
            <p:nvPr/>
          </p:nvSpPr>
          <p:spPr>
            <a:xfrm rot="610800">
              <a:off x="7239240" y="5829120"/>
              <a:ext cx="1549440" cy="649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43" name="Freeform 64"/>
            <p:cNvSpPr/>
            <p:nvPr/>
          </p:nvSpPr>
          <p:spPr>
            <a:xfrm rot="610800">
              <a:off x="6948360" y="5928120"/>
              <a:ext cx="399960" cy="648000"/>
            </a:xfrm>
            <a:prstGeom prst="pie">
              <a:avLst/>
            </a:pr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44" name="Freeform 65"/>
            <p:cNvSpPr/>
            <p:nvPr/>
          </p:nvSpPr>
          <p:spPr>
            <a:xfrm rot="610800">
              <a:off x="6968160" y="5893920"/>
              <a:ext cx="92160" cy="393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45" name="Freeform 66"/>
            <p:cNvSpPr/>
            <p:nvPr/>
          </p:nvSpPr>
          <p:spPr>
            <a:xfrm rot="610800">
              <a:off x="6986160" y="6311160"/>
              <a:ext cx="333360" cy="277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46" name="Freeform 67"/>
            <p:cNvSpPr/>
            <p:nvPr/>
          </p:nvSpPr>
          <p:spPr>
            <a:xfrm rot="610800">
              <a:off x="6994800" y="5924880"/>
              <a:ext cx="360360" cy="65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47" name="Freeform 68"/>
            <p:cNvSpPr/>
            <p:nvPr/>
          </p:nvSpPr>
          <p:spPr>
            <a:xfrm rot="610800">
              <a:off x="7509240" y="4811040"/>
              <a:ext cx="189000" cy="405000"/>
            </a:xfrm>
            <a:prstGeom prst="pie">
              <a:avLst/>
            </a:prstGeom>
            <a:solidFill>
              <a:srgbClr val="b24c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48" name="Freeform 69"/>
            <p:cNvSpPr/>
            <p:nvPr/>
          </p:nvSpPr>
          <p:spPr>
            <a:xfrm rot="610800">
              <a:off x="7616160" y="5203800"/>
              <a:ext cx="54000" cy="28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49" name="Freeform 70"/>
            <p:cNvSpPr/>
            <p:nvPr/>
          </p:nvSpPr>
          <p:spPr>
            <a:xfrm rot="610800">
              <a:off x="7548840" y="4807440"/>
              <a:ext cx="158760" cy="39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50" name="Freeform 71"/>
            <p:cNvSpPr/>
            <p:nvPr/>
          </p:nvSpPr>
          <p:spPr>
            <a:xfrm rot="610800">
              <a:off x="7538760" y="4793040"/>
              <a:ext cx="52200" cy="30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51" name="Freeform 72"/>
            <p:cNvSpPr/>
            <p:nvPr/>
          </p:nvSpPr>
          <p:spPr>
            <a:xfrm rot="610800">
              <a:off x="7501680" y="4821480"/>
              <a:ext cx="158760" cy="397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52" name="Freeform 73"/>
            <p:cNvSpPr/>
            <p:nvPr/>
          </p:nvSpPr>
          <p:spPr>
            <a:xfrm rot="610800">
              <a:off x="7405920" y="4829760"/>
              <a:ext cx="189000" cy="406440"/>
            </a:xfrm>
            <a:prstGeom prst="pie">
              <a:avLst/>
            </a:prstGeom>
            <a:solidFill>
              <a:srgbClr val="b24c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53" name="Freeform 74"/>
            <p:cNvSpPr/>
            <p:nvPr/>
          </p:nvSpPr>
          <p:spPr>
            <a:xfrm rot="610800">
              <a:off x="7511400" y="5222520"/>
              <a:ext cx="55800" cy="29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54" name="Freeform 75"/>
            <p:cNvSpPr/>
            <p:nvPr/>
          </p:nvSpPr>
          <p:spPr>
            <a:xfrm rot="610800">
              <a:off x="7445160" y="4827600"/>
              <a:ext cx="158760" cy="39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55" name="Freeform 76"/>
            <p:cNvSpPr/>
            <p:nvPr/>
          </p:nvSpPr>
          <p:spPr>
            <a:xfrm rot="610800">
              <a:off x="7434720" y="4813200"/>
              <a:ext cx="52560" cy="30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56" name="Freeform 77"/>
            <p:cNvSpPr/>
            <p:nvPr/>
          </p:nvSpPr>
          <p:spPr>
            <a:xfrm rot="610800">
              <a:off x="7397640" y="4841280"/>
              <a:ext cx="157320" cy="396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57" name="Freeform 78"/>
            <p:cNvSpPr/>
            <p:nvPr/>
          </p:nvSpPr>
          <p:spPr>
            <a:xfrm rot="610800">
              <a:off x="7565040" y="4552920"/>
              <a:ext cx="685800" cy="212760"/>
            </a:xfrm>
            <a:prstGeom prst="pie">
              <a:avLst/>
            </a:prstGeom>
            <a:solidFill>
              <a:srgbClr val="b24c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58" name="Freeform 79"/>
            <p:cNvSpPr/>
            <p:nvPr/>
          </p:nvSpPr>
          <p:spPr>
            <a:xfrm rot="610800">
              <a:off x="8243640" y="4607640"/>
              <a:ext cx="23760" cy="54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59" name="Freeform 80"/>
            <p:cNvSpPr/>
            <p:nvPr/>
          </p:nvSpPr>
          <p:spPr>
            <a:xfrm rot="610800">
              <a:off x="7563600" y="4545720"/>
              <a:ext cx="682560" cy="177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60" name="Freeform 81"/>
            <p:cNvSpPr/>
            <p:nvPr/>
          </p:nvSpPr>
          <p:spPr>
            <a:xfrm rot="610800">
              <a:off x="7549200" y="4655520"/>
              <a:ext cx="25200" cy="55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61" name="Freeform 82"/>
            <p:cNvSpPr/>
            <p:nvPr/>
          </p:nvSpPr>
          <p:spPr>
            <a:xfrm rot="610800">
              <a:off x="7570800" y="4595400"/>
              <a:ext cx="682560" cy="177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62" name="Freeform 83"/>
            <p:cNvSpPr/>
            <p:nvPr/>
          </p:nvSpPr>
          <p:spPr>
            <a:xfrm rot="610800">
              <a:off x="7572240" y="4659120"/>
              <a:ext cx="685800" cy="212760"/>
            </a:xfrm>
            <a:prstGeom prst="pie">
              <a:avLst/>
            </a:prstGeom>
            <a:solidFill>
              <a:srgbClr val="b24c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63" name="Freeform 84"/>
            <p:cNvSpPr/>
            <p:nvPr/>
          </p:nvSpPr>
          <p:spPr>
            <a:xfrm rot="610800">
              <a:off x="8250480" y="4713480"/>
              <a:ext cx="24120" cy="54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64" name="Freeform 85"/>
            <p:cNvSpPr/>
            <p:nvPr/>
          </p:nvSpPr>
          <p:spPr>
            <a:xfrm rot="610800">
              <a:off x="7570080" y="4651560"/>
              <a:ext cx="682560" cy="177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65" name="Freeform 86"/>
            <p:cNvSpPr/>
            <p:nvPr/>
          </p:nvSpPr>
          <p:spPr>
            <a:xfrm rot="610800">
              <a:off x="7556040" y="4761360"/>
              <a:ext cx="23760" cy="55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66" name="Freeform 87"/>
            <p:cNvSpPr/>
            <p:nvPr/>
          </p:nvSpPr>
          <p:spPr>
            <a:xfrm rot="610800">
              <a:off x="7577280" y="4699440"/>
              <a:ext cx="682920" cy="179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67" name="Freeform 88"/>
            <p:cNvSpPr/>
            <p:nvPr/>
          </p:nvSpPr>
          <p:spPr>
            <a:xfrm rot="610800">
              <a:off x="7390080" y="4630680"/>
              <a:ext cx="230040" cy="230400"/>
            </a:xfrm>
            <a:prstGeom prst="pie">
              <a:avLst/>
            </a:prstGeom>
            <a:solidFill>
              <a:srgbClr val="c170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68" name="Freeform 89"/>
            <p:cNvSpPr/>
            <p:nvPr/>
          </p:nvSpPr>
          <p:spPr>
            <a:xfrm rot="610800">
              <a:off x="7492320" y="4756320"/>
              <a:ext cx="123840" cy="122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69" name="Freeform 90"/>
            <p:cNvSpPr/>
            <p:nvPr/>
          </p:nvSpPr>
          <p:spPr>
            <a:xfrm rot="610800">
              <a:off x="7513920" y="4634280"/>
              <a:ext cx="123840" cy="123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70" name="Freeform 91"/>
            <p:cNvSpPr/>
            <p:nvPr/>
          </p:nvSpPr>
          <p:spPr>
            <a:xfrm rot="610800">
              <a:off x="7393680" y="4612680"/>
              <a:ext cx="122040" cy="123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71" name="Freeform 92"/>
            <p:cNvSpPr/>
            <p:nvPr/>
          </p:nvSpPr>
          <p:spPr>
            <a:xfrm rot="610800">
              <a:off x="7372080" y="4734720"/>
              <a:ext cx="122040" cy="122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72" name="Freeform 93"/>
            <p:cNvSpPr/>
            <p:nvPr/>
          </p:nvSpPr>
          <p:spPr>
            <a:xfrm rot="610800">
              <a:off x="8222400" y="4588560"/>
              <a:ext cx="128880" cy="227160"/>
            </a:xfrm>
            <a:prstGeom prst="pie">
              <a:avLst/>
            </a:prstGeom>
            <a:solidFill>
              <a:srgbClr val="c170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73" name="Freeform 94"/>
            <p:cNvSpPr/>
            <p:nvPr/>
          </p:nvSpPr>
          <p:spPr>
            <a:xfrm rot="610800">
              <a:off x="8242920" y="4689720"/>
              <a:ext cx="104760" cy="134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74" name="Freeform 95"/>
            <p:cNvSpPr/>
            <p:nvPr/>
          </p:nvSpPr>
          <p:spPr>
            <a:xfrm rot="610800">
              <a:off x="8228160" y="4583880"/>
              <a:ext cx="141120" cy="104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75" name="Freeform 96"/>
            <p:cNvSpPr/>
            <p:nvPr/>
          </p:nvSpPr>
          <p:spPr>
            <a:xfrm rot="610800">
              <a:off x="8216280" y="4579920"/>
              <a:ext cx="42840" cy="233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76" name="Freeform 97"/>
            <p:cNvSpPr/>
            <p:nvPr/>
          </p:nvSpPr>
          <p:spPr>
            <a:xfrm rot="610800">
              <a:off x="8057880" y="4626720"/>
              <a:ext cx="565200" cy="549000"/>
            </a:xfrm>
            <a:prstGeom prst="pie">
              <a:avLst/>
            </a:prstGeom>
            <a:solidFill>
              <a:srgbClr val="d193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77" name="Freeform 98"/>
            <p:cNvSpPr/>
            <p:nvPr/>
          </p:nvSpPr>
          <p:spPr>
            <a:xfrm rot="610800">
              <a:off x="8281080" y="5144040"/>
              <a:ext cx="301680" cy="60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78" name="Freeform 99"/>
            <p:cNvSpPr/>
            <p:nvPr/>
          </p:nvSpPr>
          <p:spPr>
            <a:xfrm rot="610800">
              <a:off x="8473680" y="4886640"/>
              <a:ext cx="136440" cy="284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79" name="Freeform 100"/>
            <p:cNvSpPr/>
            <p:nvPr/>
          </p:nvSpPr>
          <p:spPr>
            <a:xfrm rot="610800">
              <a:off x="8515080" y="4701960"/>
              <a:ext cx="17640" cy="184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80" name="Freeform 101"/>
            <p:cNvSpPr/>
            <p:nvPr/>
          </p:nvSpPr>
          <p:spPr>
            <a:xfrm rot="610800">
              <a:off x="8448480" y="4648320"/>
              <a:ext cx="102960" cy="55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81" name="Freeform 102"/>
            <p:cNvSpPr/>
            <p:nvPr/>
          </p:nvSpPr>
          <p:spPr>
            <a:xfrm rot="610800">
              <a:off x="8350200" y="4626360"/>
              <a:ext cx="108000" cy="38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82" name="Freeform 103"/>
            <p:cNvSpPr/>
            <p:nvPr/>
          </p:nvSpPr>
          <p:spPr>
            <a:xfrm rot="610800">
              <a:off x="8280360" y="4640040"/>
              <a:ext cx="66960" cy="176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83" name="Freeform 104"/>
            <p:cNvSpPr/>
            <p:nvPr/>
          </p:nvSpPr>
          <p:spPr>
            <a:xfrm rot="610800">
              <a:off x="8048880" y="4779720"/>
              <a:ext cx="211320" cy="237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84" name="Freeform 105"/>
            <p:cNvSpPr/>
            <p:nvPr/>
          </p:nvSpPr>
          <p:spPr>
            <a:xfrm rot="610800">
              <a:off x="8017560" y="5014800"/>
              <a:ext cx="282600" cy="125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85" name="Freeform 106"/>
            <p:cNvSpPr/>
            <p:nvPr/>
          </p:nvSpPr>
          <p:spPr>
            <a:xfrm rot="610800">
              <a:off x="7448400" y="4691160"/>
              <a:ext cx="112680" cy="11124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86" name="Freeform 107"/>
            <p:cNvSpPr/>
            <p:nvPr/>
          </p:nvSpPr>
          <p:spPr>
            <a:xfrm rot="610800">
              <a:off x="7497720" y="4751640"/>
              <a:ext cx="65160" cy="63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87" name="Freeform 108"/>
            <p:cNvSpPr/>
            <p:nvPr/>
          </p:nvSpPr>
          <p:spPr>
            <a:xfrm rot="610800">
              <a:off x="7509240" y="4689000"/>
              <a:ext cx="65160" cy="63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88" name="Freeform 109"/>
            <p:cNvSpPr/>
            <p:nvPr/>
          </p:nvSpPr>
          <p:spPr>
            <a:xfrm rot="610800">
              <a:off x="7446960" y="4677840"/>
              <a:ext cx="63360" cy="63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89" name="Freeform 110"/>
            <p:cNvSpPr/>
            <p:nvPr/>
          </p:nvSpPr>
          <p:spPr>
            <a:xfrm rot="610800">
              <a:off x="7435440" y="4740480"/>
              <a:ext cx="63360" cy="63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90" name="Freeform 111"/>
            <p:cNvSpPr/>
            <p:nvPr/>
          </p:nvSpPr>
          <p:spPr>
            <a:xfrm rot="610800">
              <a:off x="8430480" y="4600800"/>
              <a:ext cx="54000" cy="8892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91" name="Freeform 112"/>
            <p:cNvSpPr/>
            <p:nvPr/>
          </p:nvSpPr>
          <p:spPr>
            <a:xfrm rot="610800">
              <a:off x="8465400" y="4604400"/>
              <a:ext cx="27000" cy="88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92" name="Freeform 113"/>
            <p:cNvSpPr/>
            <p:nvPr/>
          </p:nvSpPr>
          <p:spPr>
            <a:xfrm rot="610800">
              <a:off x="8444160" y="4595400"/>
              <a:ext cx="47880" cy="19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93" name="Freeform 114"/>
            <p:cNvSpPr/>
            <p:nvPr/>
          </p:nvSpPr>
          <p:spPr>
            <a:xfrm rot="610800">
              <a:off x="8424360" y="4597200"/>
              <a:ext cx="27000" cy="88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94" name="Freeform 115"/>
            <p:cNvSpPr/>
            <p:nvPr/>
          </p:nvSpPr>
          <p:spPr>
            <a:xfrm rot="610800">
              <a:off x="8423640" y="4675680"/>
              <a:ext cx="47520" cy="19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95" name="Freeform 116"/>
            <p:cNvSpPr/>
            <p:nvPr/>
          </p:nvSpPr>
          <p:spPr>
            <a:xfrm rot="610800">
              <a:off x="7857360" y="5477760"/>
              <a:ext cx="684360" cy="806400"/>
            </a:xfrm>
            <a:prstGeom prst="pie">
              <a:avLst/>
            </a:prstGeom>
            <a:solidFill>
              <a:srgbClr val="7f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96" name="Freeform 117"/>
            <p:cNvSpPr/>
            <p:nvPr/>
          </p:nvSpPr>
          <p:spPr>
            <a:xfrm rot="610800">
              <a:off x="8304120" y="5911560"/>
              <a:ext cx="206280" cy="400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97" name="Freeform 118"/>
            <p:cNvSpPr/>
            <p:nvPr/>
          </p:nvSpPr>
          <p:spPr>
            <a:xfrm rot="610800">
              <a:off x="7889760" y="6066360"/>
              <a:ext cx="401760" cy="211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98" name="Freeform 119"/>
            <p:cNvSpPr/>
            <p:nvPr/>
          </p:nvSpPr>
          <p:spPr>
            <a:xfrm rot="610800">
              <a:off x="7855560" y="5832000"/>
              <a:ext cx="86040" cy="204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99" name="Freeform 120"/>
            <p:cNvSpPr/>
            <p:nvPr/>
          </p:nvSpPr>
          <p:spPr>
            <a:xfrm rot="610800">
              <a:off x="7888320" y="5450040"/>
              <a:ext cx="204480" cy="401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00" name="Freeform 121"/>
            <p:cNvSpPr/>
            <p:nvPr/>
          </p:nvSpPr>
          <p:spPr>
            <a:xfrm rot="610800">
              <a:off x="8105760" y="5485680"/>
              <a:ext cx="399960" cy="212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01" name="Freeform 122"/>
            <p:cNvSpPr/>
            <p:nvPr/>
          </p:nvSpPr>
          <p:spPr>
            <a:xfrm rot="610800">
              <a:off x="8453880" y="5726880"/>
              <a:ext cx="88920" cy="204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02" name="Freeform 123"/>
            <p:cNvSpPr/>
            <p:nvPr/>
          </p:nvSpPr>
          <p:spPr>
            <a:xfrm rot="610800">
              <a:off x="7366680" y="6034320"/>
              <a:ext cx="347400" cy="281160"/>
            </a:xfrm>
            <a:prstGeom prst="pie">
              <a:avLst/>
            </a:prstGeom>
            <a:solidFill>
              <a:srgbClr val="7f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03" name="Freeform 124"/>
            <p:cNvSpPr/>
            <p:nvPr/>
          </p:nvSpPr>
          <p:spPr>
            <a:xfrm rot="610800">
              <a:off x="7527600" y="6042960"/>
              <a:ext cx="193680" cy="287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04" name="Freeform 125"/>
            <p:cNvSpPr/>
            <p:nvPr/>
          </p:nvSpPr>
          <p:spPr>
            <a:xfrm rot="610800">
              <a:off x="7359840" y="6010920"/>
              <a:ext cx="169560" cy="296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05" name="Freeform 126"/>
            <p:cNvSpPr/>
            <p:nvPr/>
          </p:nvSpPr>
          <p:spPr>
            <a:xfrm rot="610800">
              <a:off x="7341480" y="6305760"/>
              <a:ext cx="355320" cy="17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06" name="Freeform 127"/>
            <p:cNvSpPr/>
            <p:nvPr/>
          </p:nvSpPr>
          <p:spPr>
            <a:xfrm rot="610800">
              <a:off x="7697880" y="6198480"/>
              <a:ext cx="1065240" cy="471600"/>
            </a:xfrm>
            <a:prstGeom prst="pie">
              <a:avLst/>
            </a:prstGeom>
            <a:solidFill>
              <a:srgbClr val="66d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07" name="Freeform 128"/>
            <p:cNvSpPr/>
            <p:nvPr/>
          </p:nvSpPr>
          <p:spPr>
            <a:xfrm rot="610800">
              <a:off x="7657920" y="6638400"/>
              <a:ext cx="836640" cy="15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08" name="Freeform 129"/>
            <p:cNvSpPr/>
            <p:nvPr/>
          </p:nvSpPr>
          <p:spPr>
            <a:xfrm rot="610800">
              <a:off x="8499240" y="6497640"/>
              <a:ext cx="244440" cy="252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09" name="Freeform 130"/>
            <p:cNvSpPr/>
            <p:nvPr/>
          </p:nvSpPr>
          <p:spPr>
            <a:xfrm rot="610800">
              <a:off x="8755560" y="6432840"/>
              <a:ext cx="15840" cy="95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10" name="Freeform 131"/>
            <p:cNvSpPr/>
            <p:nvPr/>
          </p:nvSpPr>
          <p:spPr>
            <a:xfrm rot="610800">
              <a:off x="8396280" y="6253560"/>
              <a:ext cx="397080" cy="158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11" name="Freeform 132"/>
            <p:cNvSpPr/>
            <p:nvPr/>
          </p:nvSpPr>
          <p:spPr>
            <a:xfrm rot="610800">
              <a:off x="7915680" y="6198840"/>
              <a:ext cx="484200" cy="18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12" name="Freeform 133"/>
            <p:cNvSpPr/>
            <p:nvPr/>
          </p:nvSpPr>
          <p:spPr>
            <a:xfrm rot="610800">
              <a:off x="7679520" y="6308640"/>
              <a:ext cx="208080" cy="29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13" name="Freeform 134"/>
            <p:cNvSpPr/>
            <p:nvPr/>
          </p:nvSpPr>
          <p:spPr>
            <a:xfrm rot="610800">
              <a:off x="7321680" y="6311160"/>
              <a:ext cx="347400" cy="228600"/>
            </a:xfrm>
            <a:prstGeom prst="pie">
              <a:avLst/>
            </a:prstGeom>
            <a:solidFill>
              <a:srgbClr val="66d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14" name="Freeform 135"/>
            <p:cNvSpPr/>
            <p:nvPr/>
          </p:nvSpPr>
          <p:spPr>
            <a:xfrm rot="610800">
              <a:off x="7315560" y="6280560"/>
              <a:ext cx="15840" cy="236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15" name="Freeform 136"/>
            <p:cNvSpPr/>
            <p:nvPr/>
          </p:nvSpPr>
          <p:spPr>
            <a:xfrm rot="610800">
              <a:off x="7301160" y="6530760"/>
              <a:ext cx="355320" cy="15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16" name="Freeform 137"/>
            <p:cNvSpPr/>
            <p:nvPr/>
          </p:nvSpPr>
          <p:spPr>
            <a:xfrm rot="610800">
              <a:off x="7659000" y="6333840"/>
              <a:ext cx="15840" cy="236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17" name="Freeform 138"/>
            <p:cNvSpPr/>
            <p:nvPr/>
          </p:nvSpPr>
          <p:spPr>
            <a:xfrm rot="610800">
              <a:off x="7333560" y="6304320"/>
              <a:ext cx="355320" cy="17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Principles of Motion Economy 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As related to the equipment design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19" name="Text Box 3"/>
          <p:cNvSpPr/>
          <p:nvPr/>
        </p:nvSpPr>
        <p:spPr>
          <a:xfrm>
            <a:off x="2971800" y="1905120"/>
            <a:ext cx="617220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7000" indent="-297000">
              <a:lnSpc>
                <a:spcPct val="140000"/>
              </a:lnSpc>
              <a:spcBef>
                <a:spcPts val="16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The hands should be relieved of all work that can be done more advantageously by a jig, a fixture, 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or a foot-operated device.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297000" indent="-297000">
              <a:lnSpc>
                <a:spcPct val="140000"/>
              </a:lnSpc>
              <a:spcBef>
                <a:spcPts val="16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Two or more tools should be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ombined whenever possible.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297000" indent="-297000">
              <a:lnSpc>
                <a:spcPct val="140000"/>
              </a:lnSpc>
              <a:spcBef>
                <a:spcPts val="16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Tools and materials should be pre-positioned whenever possible.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pic>
        <p:nvPicPr>
          <p:cNvPr id="320" name="Object 4" descr=""/>
          <p:cNvPicPr/>
          <p:nvPr/>
        </p:nvPicPr>
        <p:blipFill>
          <a:blip r:embed="rId1"/>
          <a:stretch/>
        </p:blipFill>
        <p:spPr>
          <a:xfrm>
            <a:off x="838080" y="4208400"/>
            <a:ext cx="1752840" cy="1735200"/>
          </a:xfrm>
          <a:prstGeom prst="rect">
            <a:avLst/>
          </a:prstGeom>
          <a:ln w="0">
            <a:noFill/>
          </a:ln>
        </p:spPr>
      </p:pic>
      <p:pic>
        <p:nvPicPr>
          <p:cNvPr id="321" name="Object 5" descr=""/>
          <p:cNvPicPr/>
          <p:nvPr/>
        </p:nvPicPr>
        <p:blipFill>
          <a:blip r:embed="rId2"/>
          <a:stretch/>
        </p:blipFill>
        <p:spPr>
          <a:xfrm>
            <a:off x="533520" y="2306520"/>
            <a:ext cx="1600200" cy="15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Principles of Motion Economy 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As related to the equipment design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304920" y="1600200"/>
            <a:ext cx="7010280" cy="465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7000" indent="-297000">
              <a:lnSpc>
                <a:spcPct val="130000"/>
              </a:lnSpc>
              <a:spcBef>
                <a:spcPts val="22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Where each finger performs some specific movement, such as in typewriting, the load should be distributed in accordance with the inherent capacities of the fingers.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297000" indent="-297000">
              <a:lnSpc>
                <a:spcPct val="130000"/>
              </a:lnSpc>
              <a:spcBef>
                <a:spcPts val="22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evers, hand wheels, and other controls should be located in such positions that the operator can manipulate them with 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the least change in body position and 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with the greatest speed and ease.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pic>
        <p:nvPicPr>
          <p:cNvPr id="324" name="Object 4" descr=""/>
          <p:cNvPicPr/>
          <p:nvPr/>
        </p:nvPicPr>
        <p:blipFill>
          <a:blip r:embed="rId1"/>
          <a:stretch/>
        </p:blipFill>
        <p:spPr>
          <a:xfrm>
            <a:off x="7216920" y="4648320"/>
            <a:ext cx="1788840" cy="1904760"/>
          </a:xfrm>
          <a:prstGeom prst="rect">
            <a:avLst/>
          </a:prstGeom>
          <a:ln w="0">
            <a:noFill/>
          </a:ln>
        </p:spPr>
      </p:pic>
      <p:pic>
        <p:nvPicPr>
          <p:cNvPr id="325" name="Object 5" descr=""/>
          <p:cNvPicPr/>
          <p:nvPr/>
        </p:nvPicPr>
        <p:blipFill>
          <a:blip r:embed="rId2"/>
          <a:stretch/>
        </p:blipFill>
        <p:spPr>
          <a:xfrm>
            <a:off x="7086600" y="1981080"/>
            <a:ext cx="1919160" cy="1892520"/>
          </a:xfrm>
          <a:prstGeom prst="rect">
            <a:avLst/>
          </a:prstGeom>
          <a:ln w="0">
            <a:noFill/>
          </a:ln>
        </p:spPr>
      </p:pic>
      <p:sp>
        <p:nvSpPr>
          <p:cNvPr id="326" name="AutoShape 6">
            <a:hlinkClick r:id="rId3" action="ppaction://hlinksldjump"/>
          </p:cNvPr>
          <p:cNvSpPr/>
          <p:nvPr/>
        </p:nvSpPr>
        <p:spPr>
          <a:xfrm>
            <a:off x="763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16196" y="3837"/>
                </a:moveTo>
                <a:lnTo>
                  <a:pt x="18772" y="6448"/>
                </a:lnTo>
                <a:lnTo>
                  <a:pt x="18772" y="4707"/>
                </a:lnTo>
                <a:lnTo>
                  <a:pt x="20548" y="4707"/>
                </a:lnTo>
                <a:lnTo>
                  <a:pt x="20548" y="8224"/>
                </a:lnTo>
                <a:lnTo>
                  <a:pt x="23159" y="10800"/>
                </a:lnTo>
                <a:lnTo>
                  <a:pt x="21505" y="10800"/>
                </a:lnTo>
                <a:lnTo>
                  <a:pt x="21505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3" y="10800"/>
                </a:lnTo>
                <a:close/>
              </a:path>
              <a:path fill="darkenLess" w="32392" h="21600">
                <a:moveTo>
                  <a:pt x="18772" y="6448"/>
                </a:moveTo>
                <a:lnTo>
                  <a:pt x="18772" y="4707"/>
                </a:lnTo>
                <a:lnTo>
                  <a:pt x="20548" y="4707"/>
                </a:lnTo>
                <a:lnTo>
                  <a:pt x="20548" y="8224"/>
                </a:lnTo>
                <a:close/>
              </a:path>
              <a:path fill="darkenLess" w="32392" h="21600">
                <a:moveTo>
                  <a:pt x="15273" y="14299"/>
                </a:moveTo>
                <a:lnTo>
                  <a:pt x="17118" y="14299"/>
                </a:lnTo>
                <a:lnTo>
                  <a:pt x="17118" y="17989"/>
                </a:lnTo>
                <a:lnTo>
                  <a:pt x="21505" y="17989"/>
                </a:lnTo>
                <a:lnTo>
                  <a:pt x="21505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3" y="17989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50000">
                <a:srgbClr val="ffffcc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99"/>
                </a:solidFill>
                <a:latin typeface="Impact"/>
              </a:rPr>
              <a:t>Therbilg Analysis Checkpoints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8" name="AutoShape 3">
            <a:hlinkClick r:id="rId1" action="ppaction://hlinksldjump"/>
          </p:cNvPr>
          <p:cNvSpPr/>
          <p:nvPr/>
        </p:nvSpPr>
        <p:spPr>
          <a:xfrm>
            <a:off x="8229600" y="60199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WordArt 2"/>
          <p:cNvSpPr txBox="1"/>
          <p:nvPr/>
        </p:nvSpPr>
        <p:spPr>
          <a:xfrm rot="21571200">
            <a:off x="609120" y="533520"/>
            <a:ext cx="8155080" cy="10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lin ang="30000"/>
                </a:gradFill>
                <a:latin typeface="Arial"/>
              </a:rPr>
              <a:t>Proposed Method Implementation</a:t>
            </a:r>
            <a:endParaRPr b="1" lang="en-US" sz="4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lin ang="30000"/>
              </a:gradFill>
              <a:latin typeface="Arial"/>
              <a:ea typeface="Arial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533520" y="2057400"/>
            <a:ext cx="8610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st - Benefit Ratio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380880" indent="-38088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380880" indent="-38088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orker involvement in method change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31" name="AutoShape 5"/>
          <p:cNvSpPr/>
          <p:nvPr/>
        </p:nvSpPr>
        <p:spPr>
          <a:xfrm>
            <a:off x="5867280" y="4495680"/>
            <a:ext cx="2895840" cy="1295640"/>
          </a:xfrm>
          <a:prstGeom prst="cloudCallout">
            <a:avLst>
              <a:gd name="adj1" fmla="val -52629"/>
              <a:gd name="adj2" fmla="val -92157"/>
            </a:avLst>
          </a:prstGeom>
          <a:gradFill rotWithShape="0">
            <a:gsLst>
              <a:gs pos="0">
                <a:srgbClr val="66ccff"/>
              </a:gs>
              <a:gs pos="50000">
                <a:srgbClr val="ffffff"/>
              </a:gs>
              <a:gs pos="100000">
                <a:srgbClr val="66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Change Resistance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32" name="AutoShape 6"/>
          <p:cNvSpPr/>
          <p:nvPr/>
        </p:nvSpPr>
        <p:spPr>
          <a:xfrm>
            <a:off x="1371600" y="4800600"/>
            <a:ext cx="2895480" cy="1295280"/>
          </a:xfrm>
          <a:prstGeom prst="cloudCallout">
            <a:avLst>
              <a:gd name="adj1" fmla="val 35032"/>
              <a:gd name="adj2" fmla="val -111763"/>
            </a:avLst>
          </a:prstGeom>
          <a:gradFill rotWithShape="0">
            <a:gsLst>
              <a:gs pos="0">
                <a:srgbClr val="ff6699"/>
              </a:gs>
              <a:gs pos="50000">
                <a:srgbClr val="ffffff"/>
              </a:gs>
              <a:gs pos="100000">
                <a:srgbClr val="ff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Hawthorne effect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533160" y="1828800"/>
            <a:ext cx="6629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2100"/>
              </a:spcBef>
              <a:buNone/>
              <a:tabLst>
                <a:tab algn="l" pos="0"/>
                <a:tab algn="l" pos="239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Arial"/>
              </a:rPr>
              <a:t>Cross functional Cooperation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75000"/>
              </a:lnSpc>
              <a:spcBef>
                <a:spcPts val="1800"/>
              </a:spcBef>
              <a:buClr>
                <a:srgbClr val="ffff00"/>
              </a:buClr>
              <a:buFont typeface="Arial"/>
              <a:buChar char="•"/>
              <a:tabLst>
                <a:tab algn="l" pos="239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00"/>
                </a:solidFill>
                <a:latin typeface="Arial"/>
              </a:rPr>
              <a:t>Planning and Control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75000"/>
              </a:lnSpc>
              <a:spcBef>
                <a:spcPts val="1800"/>
              </a:spcBef>
              <a:buClr>
                <a:srgbClr val="ffff00"/>
              </a:buClr>
              <a:buFont typeface="Arial"/>
              <a:buChar char="•"/>
              <a:tabLst>
                <a:tab algn="l" pos="239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00"/>
                </a:solidFill>
                <a:latin typeface="Arial"/>
              </a:rPr>
              <a:t>Maintenance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75000"/>
              </a:lnSpc>
              <a:spcBef>
                <a:spcPts val="1800"/>
              </a:spcBef>
              <a:buClr>
                <a:srgbClr val="ffff00"/>
              </a:buClr>
              <a:buFont typeface="Arial"/>
              <a:buChar char="•"/>
              <a:tabLst>
                <a:tab algn="l" pos="239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00"/>
                </a:solidFill>
                <a:latin typeface="Arial"/>
              </a:rPr>
              <a:t>Quality Inspection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>
              <a:lnSpc>
                <a:spcPct val="115000"/>
              </a:lnSpc>
              <a:spcBef>
                <a:spcPts val="2100"/>
              </a:spcBef>
              <a:buNone/>
              <a:tabLst>
                <a:tab algn="l" pos="0"/>
                <a:tab algn="l" pos="239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Arial"/>
              </a:rPr>
              <a:t>Laws and Regulations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55000"/>
              </a:lnSpc>
              <a:spcBef>
                <a:spcPts val="1800"/>
              </a:spcBef>
              <a:buClr>
                <a:srgbClr val="ffff00"/>
              </a:buClr>
              <a:buFont typeface="Arial"/>
              <a:buChar char="•"/>
              <a:tabLst>
                <a:tab algn="l" pos="239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00"/>
                </a:solidFill>
                <a:latin typeface="Arial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55000"/>
              </a:lnSpc>
              <a:spcBef>
                <a:spcPts val="2100"/>
              </a:spcBef>
              <a:buClr>
                <a:srgbClr val="ffff00"/>
              </a:buClr>
              <a:buFont typeface="Arial"/>
              <a:buChar char="•"/>
              <a:tabLst>
                <a:tab algn="l" pos="239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00"/>
                </a:solidFill>
                <a:latin typeface="Arial"/>
              </a:rPr>
              <a:t>Labor Relation</a:t>
            </a:r>
            <a:r>
              <a:rPr b="1" lang="th-TH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>
              <a:lnSpc>
                <a:spcPct val="115000"/>
              </a:lnSpc>
              <a:spcBef>
                <a:spcPts val="2100"/>
              </a:spcBef>
              <a:buNone/>
              <a:tabLst>
                <a:tab algn="l" pos="0"/>
                <a:tab algn="l" pos="239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Arial"/>
              </a:rPr>
              <a:t>Quality/Productivity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34" name="WordArt 1027"/>
          <p:cNvSpPr txBox="1"/>
          <p:nvPr/>
        </p:nvSpPr>
        <p:spPr>
          <a:xfrm rot="21571200">
            <a:off x="533520" y="456840"/>
            <a:ext cx="5182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30000"/>
                </a:gradFill>
                <a:effectLst>
                  <a:outerShdw dist="77353" dir="21037522" blurRad="0" rotWithShape="0">
                    <a:srgbClr val="996633"/>
                  </a:outerShdw>
                </a:effectLst>
                <a:latin typeface="Browallia New"/>
              </a:rPr>
              <a:t>Precautions</a:t>
            </a:r>
            <a:endParaRPr b="1" lang="en-US" sz="4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30000"/>
              </a:gradFill>
              <a:effectLst>
                <a:outerShdw dist="77353" dir="21037522" blurRad="0" rotWithShape="0">
                  <a:srgbClr val="996633"/>
                </a:outerShdw>
              </a:effectLst>
              <a:latin typeface="Browallia New"/>
              <a:ea typeface="Browallia New"/>
            </a:endParaRPr>
          </a:p>
        </p:txBody>
      </p:sp>
      <p:pic>
        <p:nvPicPr>
          <p:cNvPr id="335" name="Object 1028" descr=""/>
          <p:cNvPicPr/>
          <p:nvPr/>
        </p:nvPicPr>
        <p:blipFill>
          <a:blip r:embed="rId1"/>
          <a:stretch/>
        </p:blipFill>
        <p:spPr>
          <a:xfrm>
            <a:off x="5410080" y="4800600"/>
            <a:ext cx="3467160" cy="1855800"/>
          </a:xfrm>
          <a:prstGeom prst="rect">
            <a:avLst/>
          </a:prstGeom>
          <a:ln w="0">
            <a:noFill/>
          </a:ln>
        </p:spPr>
      </p:pic>
      <p:grpSp>
        <p:nvGrpSpPr>
          <p:cNvPr id="336" name="Group 1029"/>
          <p:cNvGrpSpPr/>
          <p:nvPr/>
        </p:nvGrpSpPr>
        <p:grpSpPr>
          <a:xfrm>
            <a:off x="6705720" y="609480"/>
            <a:ext cx="1828800" cy="2077920"/>
            <a:chOff x="6705720" y="609480"/>
            <a:chExt cx="1828800" cy="2077920"/>
          </a:xfrm>
        </p:grpSpPr>
        <p:sp>
          <p:nvSpPr>
            <p:cNvPr id="337" name="Freeform 1030"/>
            <p:cNvSpPr/>
            <p:nvPr/>
          </p:nvSpPr>
          <p:spPr>
            <a:xfrm>
              <a:off x="7347240" y="625320"/>
              <a:ext cx="915840" cy="236520"/>
            </a:xfrm>
            <a:prstGeom prst="pie">
              <a:avLst/>
            </a:prstGeom>
            <a:solidFill>
              <a:srgbClr val="ffed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38" name="Freeform 1031"/>
            <p:cNvSpPr/>
            <p:nvPr/>
          </p:nvSpPr>
          <p:spPr>
            <a:xfrm>
              <a:off x="7544160" y="610920"/>
              <a:ext cx="347400" cy="54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39" name="Freeform 1032"/>
            <p:cNvSpPr/>
            <p:nvPr/>
          </p:nvSpPr>
          <p:spPr>
            <a:xfrm>
              <a:off x="7888680" y="620640"/>
              <a:ext cx="50760" cy="171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40" name="Freeform 1033"/>
            <p:cNvSpPr/>
            <p:nvPr/>
          </p:nvSpPr>
          <p:spPr>
            <a:xfrm>
              <a:off x="7893360" y="623520"/>
              <a:ext cx="49320" cy="163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41" name="Freeform 1034"/>
            <p:cNvSpPr/>
            <p:nvPr/>
          </p:nvSpPr>
          <p:spPr>
            <a:xfrm>
              <a:off x="7923600" y="609480"/>
              <a:ext cx="355320" cy="52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42" name="Freeform 1035"/>
            <p:cNvSpPr/>
            <p:nvPr/>
          </p:nvSpPr>
          <p:spPr>
            <a:xfrm>
              <a:off x="8028360" y="639360"/>
              <a:ext cx="244440" cy="201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43" name="Freeform 1036"/>
            <p:cNvSpPr/>
            <p:nvPr/>
          </p:nvSpPr>
          <p:spPr>
            <a:xfrm>
              <a:off x="7479000" y="812520"/>
              <a:ext cx="563400" cy="61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44" name="Freeform 1037"/>
            <p:cNvSpPr/>
            <p:nvPr/>
          </p:nvSpPr>
          <p:spPr>
            <a:xfrm>
              <a:off x="7371000" y="715680"/>
              <a:ext cx="131760" cy="157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45" name="Freeform 1038"/>
            <p:cNvSpPr/>
            <p:nvPr/>
          </p:nvSpPr>
          <p:spPr>
            <a:xfrm>
              <a:off x="7332840" y="655560"/>
              <a:ext cx="68400" cy="79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46" name="Freeform 1039"/>
            <p:cNvSpPr/>
            <p:nvPr/>
          </p:nvSpPr>
          <p:spPr>
            <a:xfrm>
              <a:off x="7344000" y="636480"/>
              <a:ext cx="201600" cy="47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47" name="Freeform 1040"/>
            <p:cNvSpPr/>
            <p:nvPr/>
          </p:nvSpPr>
          <p:spPr>
            <a:xfrm>
              <a:off x="7517160" y="653760"/>
              <a:ext cx="69840" cy="144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48" name="Freeform 1041"/>
            <p:cNvSpPr/>
            <p:nvPr/>
          </p:nvSpPr>
          <p:spPr>
            <a:xfrm>
              <a:off x="7533000" y="695160"/>
              <a:ext cx="54000" cy="92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49" name="Freeform 1042"/>
            <p:cNvSpPr/>
            <p:nvPr/>
          </p:nvSpPr>
          <p:spPr>
            <a:xfrm>
              <a:off x="7529760" y="644400"/>
              <a:ext cx="38160" cy="50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50" name="Freeform 1043"/>
            <p:cNvSpPr/>
            <p:nvPr/>
          </p:nvSpPr>
          <p:spPr>
            <a:xfrm>
              <a:off x="7223400" y="806040"/>
              <a:ext cx="912600" cy="588960"/>
            </a:xfrm>
            <a:prstGeom prst="pie">
              <a:avLst/>
            </a:prstGeom>
            <a:solidFill>
              <a:srgbClr val="ad5b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51" name="Freeform 1044"/>
            <p:cNvSpPr/>
            <p:nvPr/>
          </p:nvSpPr>
          <p:spPr>
            <a:xfrm>
              <a:off x="8047440" y="917280"/>
              <a:ext cx="37800" cy="15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52" name="Freeform 1045"/>
            <p:cNvSpPr/>
            <p:nvPr/>
          </p:nvSpPr>
          <p:spPr>
            <a:xfrm>
              <a:off x="8047440" y="933120"/>
              <a:ext cx="37800" cy="414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53" name="Freeform 1046"/>
            <p:cNvSpPr/>
            <p:nvPr/>
          </p:nvSpPr>
          <p:spPr>
            <a:xfrm>
              <a:off x="7826760" y="1317240"/>
              <a:ext cx="247680" cy="87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54" name="Freeform 1047"/>
            <p:cNvSpPr/>
            <p:nvPr/>
          </p:nvSpPr>
          <p:spPr>
            <a:xfrm>
              <a:off x="7467840" y="1319040"/>
              <a:ext cx="378000" cy="92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55" name="Freeform 1048"/>
            <p:cNvSpPr/>
            <p:nvPr/>
          </p:nvSpPr>
          <p:spPr>
            <a:xfrm>
              <a:off x="7216920" y="1319040"/>
              <a:ext cx="266760" cy="31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56" name="Freeform 1049"/>
            <p:cNvSpPr/>
            <p:nvPr/>
          </p:nvSpPr>
          <p:spPr>
            <a:xfrm>
              <a:off x="7207560" y="822240"/>
              <a:ext cx="42840" cy="512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57" name="Freeform 1050"/>
            <p:cNvSpPr/>
            <p:nvPr/>
          </p:nvSpPr>
          <p:spPr>
            <a:xfrm>
              <a:off x="7223400" y="790200"/>
              <a:ext cx="853920" cy="59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58" name="Freeform 1051"/>
            <p:cNvSpPr/>
            <p:nvPr/>
          </p:nvSpPr>
          <p:spPr>
            <a:xfrm>
              <a:off x="8066160" y="792000"/>
              <a:ext cx="82800" cy="152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59" name="Freeform 1052"/>
            <p:cNvSpPr/>
            <p:nvPr/>
          </p:nvSpPr>
          <p:spPr>
            <a:xfrm>
              <a:off x="8050320" y="919080"/>
              <a:ext cx="15840" cy="25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60" name="Freeform 1053"/>
            <p:cNvSpPr/>
            <p:nvPr/>
          </p:nvSpPr>
          <p:spPr>
            <a:xfrm>
              <a:off x="7742520" y="928440"/>
              <a:ext cx="412560" cy="465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61" name="Freeform 1054"/>
            <p:cNvSpPr/>
            <p:nvPr/>
          </p:nvSpPr>
          <p:spPr>
            <a:xfrm>
              <a:off x="8060040" y="914040"/>
              <a:ext cx="27000" cy="2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62" name="Freeform 1055"/>
            <p:cNvSpPr/>
            <p:nvPr/>
          </p:nvSpPr>
          <p:spPr>
            <a:xfrm>
              <a:off x="8066160" y="917280"/>
              <a:ext cx="74880" cy="141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63" name="Freeform 1056"/>
            <p:cNvSpPr/>
            <p:nvPr/>
          </p:nvSpPr>
          <p:spPr>
            <a:xfrm>
              <a:off x="8093160" y="1034640"/>
              <a:ext cx="78120" cy="150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64" name="Freeform 1057"/>
            <p:cNvSpPr/>
            <p:nvPr/>
          </p:nvSpPr>
          <p:spPr>
            <a:xfrm>
              <a:off x="8050320" y="1161720"/>
              <a:ext cx="101880" cy="146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65" name="Freeform 1058"/>
            <p:cNvSpPr/>
            <p:nvPr/>
          </p:nvSpPr>
          <p:spPr>
            <a:xfrm>
              <a:off x="8023320" y="1284120"/>
              <a:ext cx="81000" cy="125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66" name="Freeform 1059"/>
            <p:cNvSpPr/>
            <p:nvPr/>
          </p:nvSpPr>
          <p:spPr>
            <a:xfrm>
              <a:off x="7853760" y="1379160"/>
              <a:ext cx="188640" cy="30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67" name="Freeform 1060"/>
            <p:cNvSpPr/>
            <p:nvPr/>
          </p:nvSpPr>
          <p:spPr>
            <a:xfrm>
              <a:off x="7834680" y="1374480"/>
              <a:ext cx="46080" cy="31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68" name="Freeform 1061"/>
            <p:cNvSpPr/>
            <p:nvPr/>
          </p:nvSpPr>
          <p:spPr>
            <a:xfrm>
              <a:off x="7807680" y="1277640"/>
              <a:ext cx="66600" cy="122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69" name="Freeform 1062"/>
            <p:cNvSpPr/>
            <p:nvPr/>
          </p:nvSpPr>
          <p:spPr>
            <a:xfrm>
              <a:off x="7785360" y="1277640"/>
              <a:ext cx="73080" cy="31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70" name="Freeform 1063"/>
            <p:cNvSpPr/>
            <p:nvPr/>
          </p:nvSpPr>
          <p:spPr>
            <a:xfrm>
              <a:off x="7745760" y="1161720"/>
              <a:ext cx="73080" cy="142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71" name="Freeform 1064"/>
            <p:cNvSpPr/>
            <p:nvPr/>
          </p:nvSpPr>
          <p:spPr>
            <a:xfrm>
              <a:off x="7745760" y="1161720"/>
              <a:ext cx="66600" cy="28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72" name="Freeform 1065"/>
            <p:cNvSpPr/>
            <p:nvPr/>
          </p:nvSpPr>
          <p:spPr>
            <a:xfrm>
              <a:off x="7723440" y="1036440"/>
              <a:ext cx="100080" cy="144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73" name="Freeform 1066"/>
            <p:cNvSpPr/>
            <p:nvPr/>
          </p:nvSpPr>
          <p:spPr>
            <a:xfrm>
              <a:off x="7764840" y="917280"/>
              <a:ext cx="63360" cy="142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74" name="Freeform 1067"/>
            <p:cNvSpPr/>
            <p:nvPr/>
          </p:nvSpPr>
          <p:spPr>
            <a:xfrm>
              <a:off x="7828200" y="912600"/>
              <a:ext cx="249120" cy="34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75" name="Freeform 1068"/>
            <p:cNvSpPr/>
            <p:nvPr/>
          </p:nvSpPr>
          <p:spPr>
            <a:xfrm>
              <a:off x="8077320" y="912600"/>
              <a:ext cx="15840" cy="30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76" name="Rectangle 1069"/>
            <p:cNvSpPr/>
            <p:nvPr/>
          </p:nvSpPr>
          <p:spPr>
            <a:xfrm>
              <a:off x="7064640" y="742680"/>
              <a:ext cx="206280" cy="64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77" name="Freeform 1070"/>
            <p:cNvSpPr/>
            <p:nvPr/>
          </p:nvSpPr>
          <p:spPr>
            <a:xfrm>
              <a:off x="7251840" y="726840"/>
              <a:ext cx="38160" cy="663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78" name="Freeform 1071"/>
            <p:cNvSpPr/>
            <p:nvPr/>
          </p:nvSpPr>
          <p:spPr>
            <a:xfrm>
              <a:off x="7047000" y="726840"/>
              <a:ext cx="223920" cy="33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79" name="Freeform 1072"/>
            <p:cNvSpPr/>
            <p:nvPr/>
          </p:nvSpPr>
          <p:spPr>
            <a:xfrm>
              <a:off x="7047000" y="742680"/>
              <a:ext cx="36720" cy="66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80" name="Freeform 1073"/>
            <p:cNvSpPr/>
            <p:nvPr/>
          </p:nvSpPr>
          <p:spPr>
            <a:xfrm>
              <a:off x="7064640" y="1374480"/>
              <a:ext cx="225360" cy="30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81" name="Rectangle 1074"/>
            <p:cNvSpPr/>
            <p:nvPr/>
          </p:nvSpPr>
          <p:spPr>
            <a:xfrm>
              <a:off x="6724800" y="717480"/>
              <a:ext cx="371520" cy="6886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82" name="Freeform 1075"/>
            <p:cNvSpPr/>
            <p:nvPr/>
          </p:nvSpPr>
          <p:spPr>
            <a:xfrm>
              <a:off x="7077240" y="701280"/>
              <a:ext cx="34920" cy="704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83" name="Freeform 1076"/>
            <p:cNvSpPr/>
            <p:nvPr/>
          </p:nvSpPr>
          <p:spPr>
            <a:xfrm>
              <a:off x="6705720" y="701280"/>
              <a:ext cx="390600" cy="30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84" name="Freeform 1077"/>
            <p:cNvSpPr/>
            <p:nvPr/>
          </p:nvSpPr>
          <p:spPr>
            <a:xfrm>
              <a:off x="6705720" y="717480"/>
              <a:ext cx="38160" cy="706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85" name="Freeform 1078"/>
            <p:cNvSpPr/>
            <p:nvPr/>
          </p:nvSpPr>
          <p:spPr>
            <a:xfrm>
              <a:off x="6724800" y="1393560"/>
              <a:ext cx="387360" cy="30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86" name="Freeform 1079"/>
            <p:cNvSpPr/>
            <p:nvPr/>
          </p:nvSpPr>
          <p:spPr>
            <a:xfrm>
              <a:off x="7544160" y="1095120"/>
              <a:ext cx="15840" cy="30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87" name="Freeform 1080"/>
            <p:cNvSpPr/>
            <p:nvPr/>
          </p:nvSpPr>
          <p:spPr>
            <a:xfrm>
              <a:off x="7560000" y="1095120"/>
              <a:ext cx="101520" cy="30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88" name="Freeform 1081"/>
            <p:cNvSpPr/>
            <p:nvPr/>
          </p:nvSpPr>
          <p:spPr>
            <a:xfrm>
              <a:off x="7661520" y="1095120"/>
              <a:ext cx="19080" cy="30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89" name="Freeform 1082"/>
            <p:cNvSpPr/>
            <p:nvPr/>
          </p:nvSpPr>
          <p:spPr>
            <a:xfrm>
              <a:off x="7058160" y="990360"/>
              <a:ext cx="1457280" cy="1508040"/>
            </a:xfrm>
            <a:prstGeom prst="pie">
              <a:avLst/>
            </a:prstGeom>
            <a:solidFill>
              <a:srgbClr val="ffed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90" name="Freeform 1083"/>
            <p:cNvSpPr/>
            <p:nvPr/>
          </p:nvSpPr>
          <p:spPr>
            <a:xfrm>
              <a:off x="7047000" y="1958760"/>
              <a:ext cx="722520" cy="554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91" name="Freeform 1084"/>
            <p:cNvSpPr/>
            <p:nvPr/>
          </p:nvSpPr>
          <p:spPr>
            <a:xfrm>
              <a:off x="7769520" y="2142720"/>
              <a:ext cx="708120" cy="37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92" name="Freeform 1085"/>
            <p:cNvSpPr/>
            <p:nvPr/>
          </p:nvSpPr>
          <p:spPr>
            <a:xfrm>
              <a:off x="8087040" y="1404720"/>
              <a:ext cx="447480" cy="755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93" name="Freeform 1086"/>
            <p:cNvSpPr/>
            <p:nvPr/>
          </p:nvSpPr>
          <p:spPr>
            <a:xfrm>
              <a:off x="8020440" y="1339560"/>
              <a:ext cx="80640" cy="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94" name="Freeform 1087"/>
            <p:cNvSpPr/>
            <p:nvPr/>
          </p:nvSpPr>
          <p:spPr>
            <a:xfrm>
              <a:off x="7758360" y="979200"/>
              <a:ext cx="289080" cy="379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95" name="Freeform 1088"/>
            <p:cNvSpPr/>
            <p:nvPr/>
          </p:nvSpPr>
          <p:spPr>
            <a:xfrm>
              <a:off x="7661520" y="981000"/>
              <a:ext cx="127080" cy="134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96" name="Freeform 1089"/>
            <p:cNvSpPr/>
            <p:nvPr/>
          </p:nvSpPr>
          <p:spPr>
            <a:xfrm>
              <a:off x="7656840" y="1099800"/>
              <a:ext cx="38160" cy="42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97" name="Freeform 1090"/>
            <p:cNvSpPr/>
            <p:nvPr/>
          </p:nvSpPr>
          <p:spPr>
            <a:xfrm>
              <a:off x="7494840" y="1130040"/>
              <a:ext cx="196920" cy="243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98" name="Freeform 1091"/>
            <p:cNvSpPr/>
            <p:nvPr/>
          </p:nvSpPr>
          <p:spPr>
            <a:xfrm>
              <a:off x="7045560" y="1349280"/>
              <a:ext cx="476280" cy="609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99" name="Freeform 1092"/>
            <p:cNvSpPr/>
            <p:nvPr/>
          </p:nvSpPr>
          <p:spPr>
            <a:xfrm>
              <a:off x="7742520" y="928440"/>
              <a:ext cx="412560" cy="465120"/>
            </a:xfrm>
            <a:prstGeom prst="pie">
              <a:avLst/>
            </a:prstGeom>
            <a:solidFill>
              <a:srgbClr val="ad5b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00" name="Freeform 1093"/>
            <p:cNvSpPr/>
            <p:nvPr/>
          </p:nvSpPr>
          <p:spPr>
            <a:xfrm>
              <a:off x="8060040" y="914040"/>
              <a:ext cx="27000" cy="2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01" name="Freeform 1094"/>
            <p:cNvSpPr/>
            <p:nvPr/>
          </p:nvSpPr>
          <p:spPr>
            <a:xfrm>
              <a:off x="8066160" y="917280"/>
              <a:ext cx="74880" cy="141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02" name="Freeform 1095"/>
            <p:cNvSpPr/>
            <p:nvPr/>
          </p:nvSpPr>
          <p:spPr>
            <a:xfrm>
              <a:off x="8093160" y="1034640"/>
              <a:ext cx="78120" cy="150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03" name="Freeform 1096"/>
            <p:cNvSpPr/>
            <p:nvPr/>
          </p:nvSpPr>
          <p:spPr>
            <a:xfrm>
              <a:off x="8050320" y="1161720"/>
              <a:ext cx="101880" cy="146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04" name="Freeform 1097"/>
            <p:cNvSpPr/>
            <p:nvPr/>
          </p:nvSpPr>
          <p:spPr>
            <a:xfrm>
              <a:off x="8023320" y="1284120"/>
              <a:ext cx="81000" cy="125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05" name="Freeform 1098"/>
            <p:cNvSpPr/>
            <p:nvPr/>
          </p:nvSpPr>
          <p:spPr>
            <a:xfrm>
              <a:off x="7853760" y="1379160"/>
              <a:ext cx="188640" cy="30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06" name="Freeform 1099"/>
            <p:cNvSpPr/>
            <p:nvPr/>
          </p:nvSpPr>
          <p:spPr>
            <a:xfrm>
              <a:off x="7834680" y="1374480"/>
              <a:ext cx="46080" cy="31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07" name="Freeform 1100"/>
            <p:cNvSpPr/>
            <p:nvPr/>
          </p:nvSpPr>
          <p:spPr>
            <a:xfrm>
              <a:off x="7807680" y="1277640"/>
              <a:ext cx="66600" cy="122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08" name="Freeform 1101"/>
            <p:cNvSpPr/>
            <p:nvPr/>
          </p:nvSpPr>
          <p:spPr>
            <a:xfrm>
              <a:off x="7785360" y="1277640"/>
              <a:ext cx="73080" cy="31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09" name="Freeform 1102"/>
            <p:cNvSpPr/>
            <p:nvPr/>
          </p:nvSpPr>
          <p:spPr>
            <a:xfrm>
              <a:off x="7745760" y="1161720"/>
              <a:ext cx="73080" cy="142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10" name="Freeform 1103"/>
            <p:cNvSpPr/>
            <p:nvPr/>
          </p:nvSpPr>
          <p:spPr>
            <a:xfrm>
              <a:off x="7745760" y="1161720"/>
              <a:ext cx="66600" cy="28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11" name="Freeform 1104"/>
            <p:cNvSpPr/>
            <p:nvPr/>
          </p:nvSpPr>
          <p:spPr>
            <a:xfrm>
              <a:off x="7723440" y="1036440"/>
              <a:ext cx="100080" cy="144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12" name="Freeform 1105"/>
            <p:cNvSpPr/>
            <p:nvPr/>
          </p:nvSpPr>
          <p:spPr>
            <a:xfrm>
              <a:off x="7764840" y="917280"/>
              <a:ext cx="63360" cy="142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13" name="Freeform 1106"/>
            <p:cNvSpPr/>
            <p:nvPr/>
          </p:nvSpPr>
          <p:spPr>
            <a:xfrm>
              <a:off x="7828200" y="912600"/>
              <a:ext cx="249120" cy="34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14" name="Freeform 1107"/>
            <p:cNvSpPr/>
            <p:nvPr/>
          </p:nvSpPr>
          <p:spPr>
            <a:xfrm>
              <a:off x="8077320" y="912600"/>
              <a:ext cx="15840" cy="30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15" name="Freeform 1108"/>
            <p:cNvSpPr/>
            <p:nvPr/>
          </p:nvSpPr>
          <p:spPr>
            <a:xfrm>
              <a:off x="7796520" y="1033200"/>
              <a:ext cx="19080" cy="28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16" name="Freeform 1109"/>
            <p:cNvSpPr/>
            <p:nvPr/>
          </p:nvSpPr>
          <p:spPr>
            <a:xfrm>
              <a:off x="7815600" y="1033200"/>
              <a:ext cx="285480" cy="28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17" name="Freeform 1110"/>
            <p:cNvSpPr/>
            <p:nvPr/>
          </p:nvSpPr>
          <p:spPr>
            <a:xfrm>
              <a:off x="8101080" y="1033200"/>
              <a:ext cx="19080" cy="28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18" name="Freeform 1111"/>
            <p:cNvSpPr/>
            <p:nvPr/>
          </p:nvSpPr>
          <p:spPr>
            <a:xfrm>
              <a:off x="7793280" y="1160280"/>
              <a:ext cx="19080" cy="30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19" name="Freeform 1112"/>
            <p:cNvSpPr/>
            <p:nvPr/>
          </p:nvSpPr>
          <p:spPr>
            <a:xfrm>
              <a:off x="7812360" y="1160280"/>
              <a:ext cx="291960" cy="30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20" name="Freeform 1113"/>
            <p:cNvSpPr/>
            <p:nvPr/>
          </p:nvSpPr>
          <p:spPr>
            <a:xfrm>
              <a:off x="8104320" y="1160280"/>
              <a:ext cx="17640" cy="30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21" name="Freeform 1114"/>
            <p:cNvSpPr/>
            <p:nvPr/>
          </p:nvSpPr>
          <p:spPr>
            <a:xfrm>
              <a:off x="7850520" y="1277640"/>
              <a:ext cx="19080" cy="31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22" name="Freeform 1115"/>
            <p:cNvSpPr/>
            <p:nvPr/>
          </p:nvSpPr>
          <p:spPr>
            <a:xfrm>
              <a:off x="7869600" y="1277640"/>
              <a:ext cx="193680" cy="31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23" name="Freeform 1116"/>
            <p:cNvSpPr/>
            <p:nvPr/>
          </p:nvSpPr>
          <p:spPr>
            <a:xfrm>
              <a:off x="8063280" y="1277640"/>
              <a:ext cx="19080" cy="31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pic>
          <p:nvPicPr>
            <p:cNvPr id="424" name="Object 1117" descr=""/>
            <p:cNvPicPr/>
            <p:nvPr/>
          </p:nvPicPr>
          <p:blipFill>
            <a:blip r:embed="rId2"/>
            <a:stretch/>
          </p:blipFill>
          <p:spPr>
            <a:xfrm>
              <a:off x="7010640" y="1447560"/>
              <a:ext cx="1523880" cy="1239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75960" y="22096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3300"/>
                </a:solidFill>
                <a:latin typeface="Arial"/>
              </a:rPr>
              <a:t>Expenses &amp; Benefit of Study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26" name="Rectangle 1027"/>
          <p:cNvSpPr/>
          <p:nvPr/>
        </p:nvSpPr>
        <p:spPr>
          <a:xfrm>
            <a:off x="1828800" y="3124080"/>
            <a:ext cx="67057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00000"/>
              </a:lnSpc>
              <a:spcBef>
                <a:spcPts val="1800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ccffff"/>
                </a:solidFill>
                <a:latin typeface="Arial"/>
              </a:rPr>
              <a:t>Extensiveness of task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571680" indent="-571680">
              <a:lnSpc>
                <a:spcPct val="100000"/>
              </a:lnSpc>
              <a:spcBef>
                <a:spcPts val="1800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ccffff"/>
                </a:solidFill>
                <a:latin typeface="Arial"/>
              </a:rPr>
              <a:t>Life of the task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571680" indent="-571680">
              <a:lnSpc>
                <a:spcPct val="100000"/>
              </a:lnSpc>
              <a:spcBef>
                <a:spcPts val="1800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ccffff"/>
                </a:solidFill>
                <a:latin typeface="Arial"/>
              </a:rPr>
              <a:t>Labor consideration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571680" indent="-571680">
              <a:lnSpc>
                <a:spcPct val="100000"/>
              </a:lnSpc>
              <a:spcBef>
                <a:spcPts val="1800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ccffff"/>
                </a:solidFill>
                <a:latin typeface="Arial"/>
              </a:rPr>
              <a:t>Investment 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27" name="Rectangle 1028"/>
          <p:cNvSpPr/>
          <p:nvPr/>
        </p:nvSpPr>
        <p:spPr>
          <a:xfrm>
            <a:off x="206280" y="125280"/>
            <a:ext cx="1398600" cy="1398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28" name="Freeform 1029"/>
          <p:cNvSpPr/>
          <p:nvPr/>
        </p:nvSpPr>
        <p:spPr>
          <a:xfrm>
            <a:off x="152280" y="125280"/>
            <a:ext cx="1663920" cy="138744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29" name="WordArt 1030"/>
          <p:cNvSpPr txBox="1"/>
          <p:nvPr/>
        </p:nvSpPr>
        <p:spPr>
          <a:xfrm rot="21571200">
            <a:off x="1294920" y="685800"/>
            <a:ext cx="7012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5430000"/>
                </a:gradFill>
                <a:effectLst>
                  <a:outerShdw dist="64600" dir="20925162" blurRad="0" rotWithShape="0">
                    <a:srgbClr val="3333cc"/>
                  </a:outerShdw>
                </a:effectLst>
                <a:latin typeface="Browallia New"/>
              </a:rPr>
              <a:t>Economy of the Study</a:t>
            </a:r>
            <a:endParaRPr b="1" lang="en-US" sz="4400" spc="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5430000"/>
              </a:gradFill>
              <a:effectLst>
                <a:outerShdw dist="64600" dir="20925162" blurRad="0" rotWithShape="0">
                  <a:srgbClr val="3333cc"/>
                </a:outerShdw>
              </a:effectLst>
              <a:latin typeface="Browallia New"/>
              <a:ea typeface="Browalli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3500"/>
                            </p:stCondLst>
                            <p:childTnLst>
                              <p:par>
                                <p:cTn id="4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0"/>
                            </p:stCondLst>
                            <p:childTnLst>
                              <p:par>
                                <p:cTn id="4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3"/>
          <p:cNvSpPr txBox="1"/>
          <p:nvPr/>
        </p:nvSpPr>
        <p:spPr>
          <a:xfrm>
            <a:off x="762120" y="533520"/>
            <a:ext cx="7619760" cy="99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50760" dir="0" blurRad="0" rotWithShape="0">
                    <a:srgbClr val="0033cc"/>
                  </a:outerShdw>
                </a:effectLst>
                <a:latin typeface="Browallia New"/>
              </a:rPr>
              <a:t>Motion Study Techniques</a:t>
            </a:r>
            <a:endParaRPr b="1" lang="en-US" sz="4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50760" dir="0" blurRad="0" rotWithShape="0">
                  <a:srgbClr val="0033cc"/>
                </a:outerShdw>
              </a:effectLst>
              <a:latin typeface="Browallia New"/>
              <a:ea typeface="Browallia New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09120" y="17521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ccecff"/>
                </a:solidFill>
                <a:latin typeface="Arial"/>
              </a:rPr>
              <a:t>Process Analysis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13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ccecff"/>
                </a:solidFill>
                <a:latin typeface="Arial"/>
              </a:rPr>
              <a:t>Operation Analysis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13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Motion Pictures (</a:t>
            </a:r>
            <a:r>
              <a:rPr b="1" lang="th-TH" sz="2400" spc="-1" strike="noStrike">
                <a:solidFill>
                  <a:srgbClr val="00ffff"/>
                </a:solidFill>
                <a:latin typeface="Arial"/>
              </a:rPr>
              <a:t>Stop-Action pictures) 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13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ffff"/>
                </a:solidFill>
                <a:latin typeface="Arial"/>
              </a:rPr>
              <a:t>Film Analysis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12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ffff"/>
                </a:solidFill>
                <a:latin typeface="Arial"/>
              </a:rPr>
              <a:t>Fundamental Hand Motions (Therblig Analysis)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12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ffff"/>
                </a:solidFill>
                <a:latin typeface="Arial"/>
              </a:rPr>
              <a:t>Principles of Motion Economy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lnSpc>
                <a:spcPct val="12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ffff"/>
                </a:solidFill>
                <a:latin typeface="Arial"/>
              </a:rPr>
              <a:t>Standard Job Conditions: Factory Act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WordArt 2"/>
          <p:cNvSpPr txBox="1"/>
          <p:nvPr/>
        </p:nvSpPr>
        <p:spPr>
          <a:xfrm rot="21571200">
            <a:off x="1752480" y="457200"/>
            <a:ext cx="4803840" cy="98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30000"/>
                </a:gradFill>
                <a:effectLst>
                  <a:outerShdw dist="63360" dir="10800000" blurRad="0" rotWithShape="0">
                    <a:srgbClr val="3333cc"/>
                  </a:outerShdw>
                </a:effectLst>
                <a:latin typeface="Impact"/>
              </a:rPr>
              <a:t>Film Analysis</a:t>
            </a:r>
            <a:endParaRPr b="0" lang="en-US" sz="4400" spc="1" strike="noStrike">
              <a:ln w="0">
                <a:noFill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30000"/>
              </a:gradFill>
              <a:effectLst>
                <a:outerShdw dist="63360" dir="10800000" blurRad="0" rotWithShape="0">
                  <a:srgbClr val="3333cc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304920" y="1828800"/>
            <a:ext cx="86104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521000" indent="-1521000">
              <a:lnSpc>
                <a:spcPct val="130000"/>
              </a:lnSpc>
              <a:spcBef>
                <a:spcPts val="18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Arial"/>
              </a:rPr>
              <a:t>Concept:  Record movement of a working operator with an appropriate film technique, </a:t>
            </a:r>
            <a:br>
              <a:rPr sz="2400"/>
            </a:br>
            <a:r>
              <a:rPr b="1" lang="en-US" sz="2400" spc="-1" strike="noStrike">
                <a:solidFill>
                  <a:srgbClr val="ff33cc"/>
                </a:solidFill>
                <a:latin typeface="Arial"/>
              </a:rPr>
              <a:t>then list all observed motions and time employed into an analysis sheet 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1752480" y="3962520"/>
            <a:ext cx="7239240" cy="25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4120" indent="-384120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ffff"/>
                </a:solidFill>
                <a:latin typeface="Arial"/>
              </a:rPr>
              <a:t>Film Production: Methods &amp; equipment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84120" indent="-384120">
              <a:lnSpc>
                <a:spcPct val="80000"/>
              </a:lnSpc>
              <a:spcBef>
                <a:spcPts val="15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ffff"/>
                </a:solidFill>
                <a:latin typeface="Arial"/>
              </a:rPr>
              <a:t>Micromotion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384120" indent="-384120">
              <a:lnSpc>
                <a:spcPct val="80000"/>
              </a:lnSpc>
              <a:spcBef>
                <a:spcPts val="15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ffff"/>
                </a:solidFill>
                <a:latin typeface="Arial"/>
              </a:rPr>
              <a:t>Memomotion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384120" indent="-384120">
              <a:lnSpc>
                <a:spcPct val="80000"/>
              </a:lnSpc>
              <a:spcBef>
                <a:spcPts val="15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ffff"/>
                </a:solidFill>
                <a:latin typeface="Arial"/>
              </a:rPr>
              <a:t>Cyclegraphic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384120" indent="-384120">
              <a:lnSpc>
                <a:spcPct val="80000"/>
              </a:lnSpc>
              <a:spcBef>
                <a:spcPts val="15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ffff"/>
                </a:solidFill>
                <a:latin typeface="Arial"/>
              </a:rPr>
              <a:t>Chronocyclegraphic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59" name="Group 8"/>
          <p:cNvGrpSpPr/>
          <p:nvPr/>
        </p:nvGrpSpPr>
        <p:grpSpPr>
          <a:xfrm>
            <a:off x="228600" y="228600"/>
            <a:ext cx="1213560" cy="1142640"/>
            <a:chOff x="228600" y="228600"/>
            <a:chExt cx="1213560" cy="1142640"/>
          </a:xfrm>
        </p:grpSpPr>
        <p:sp>
          <p:nvSpPr>
            <p:cNvPr id="60" name="Freeform 9"/>
            <p:cNvSpPr/>
            <p:nvPr/>
          </p:nvSpPr>
          <p:spPr>
            <a:xfrm>
              <a:off x="496440" y="518040"/>
              <a:ext cx="71640" cy="76680"/>
            </a:xfrm>
            <a:prstGeom prst="pie">
              <a:avLst/>
            </a:prstGeom>
            <a:noFill/>
            <a:ln w="0">
              <a:solidFill>
                <a:srgbClr val="0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1" name="Freeform 10"/>
            <p:cNvSpPr/>
            <p:nvPr/>
          </p:nvSpPr>
          <p:spPr>
            <a:xfrm>
              <a:off x="353160" y="361800"/>
              <a:ext cx="358560" cy="385920"/>
            </a:xfrm>
            <a:prstGeom prst="pie">
              <a:avLst/>
            </a:prstGeom>
            <a:noFill/>
            <a:ln w="0">
              <a:solidFill>
                <a:srgbClr val="0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2" name="Freeform 11"/>
            <p:cNvSpPr/>
            <p:nvPr/>
          </p:nvSpPr>
          <p:spPr>
            <a:xfrm>
              <a:off x="362520" y="371880"/>
              <a:ext cx="339840" cy="368280"/>
            </a:xfrm>
            <a:prstGeom prst="pie">
              <a:avLst/>
            </a:prstGeom>
            <a:noFill/>
            <a:ln w="0">
              <a:solidFill>
                <a:srgbClr val="0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3" name="Freeform 12"/>
            <p:cNvSpPr/>
            <p:nvPr/>
          </p:nvSpPr>
          <p:spPr>
            <a:xfrm>
              <a:off x="371520" y="381600"/>
              <a:ext cx="324000" cy="348840"/>
            </a:xfrm>
            <a:prstGeom prst="pie">
              <a:avLst/>
            </a:prstGeom>
            <a:noFill/>
            <a:ln w="0">
              <a:solidFill>
                <a:srgbClr val="0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4" name="Freeform 13"/>
            <p:cNvSpPr/>
            <p:nvPr/>
          </p:nvSpPr>
          <p:spPr>
            <a:xfrm>
              <a:off x="380880" y="393840"/>
              <a:ext cx="303120" cy="326880"/>
            </a:xfrm>
            <a:prstGeom prst="pie">
              <a:avLst/>
            </a:prstGeom>
            <a:noFill/>
            <a:ln w="0">
              <a:solidFill>
                <a:srgbClr val="0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5" name="Freeform 14"/>
            <p:cNvSpPr/>
            <p:nvPr/>
          </p:nvSpPr>
          <p:spPr>
            <a:xfrm>
              <a:off x="390600" y="401760"/>
              <a:ext cx="284040" cy="308880"/>
            </a:xfrm>
            <a:prstGeom prst="pie">
              <a:avLst/>
            </a:prstGeom>
            <a:noFill/>
            <a:ln w="0">
              <a:solidFill>
                <a:srgbClr val="0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6" name="Freeform 15"/>
            <p:cNvSpPr/>
            <p:nvPr/>
          </p:nvSpPr>
          <p:spPr>
            <a:xfrm>
              <a:off x="399240" y="411480"/>
              <a:ext cx="265680" cy="289440"/>
            </a:xfrm>
            <a:prstGeom prst="pie">
              <a:avLst/>
            </a:prstGeom>
            <a:noFill/>
            <a:ln w="0">
              <a:solidFill>
                <a:srgbClr val="0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7" name="Freeform 16"/>
            <p:cNvSpPr/>
            <p:nvPr/>
          </p:nvSpPr>
          <p:spPr>
            <a:xfrm>
              <a:off x="408960" y="421560"/>
              <a:ext cx="249480" cy="269640"/>
            </a:xfrm>
            <a:prstGeom prst="pie">
              <a:avLst/>
            </a:prstGeom>
            <a:noFill/>
            <a:ln w="0">
              <a:solidFill>
                <a:srgbClr val="0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8" name="Freeform 17"/>
            <p:cNvSpPr/>
            <p:nvPr/>
          </p:nvSpPr>
          <p:spPr>
            <a:xfrm>
              <a:off x="415800" y="431640"/>
              <a:ext cx="233280" cy="249480"/>
            </a:xfrm>
            <a:prstGeom prst="pie">
              <a:avLst/>
            </a:prstGeom>
            <a:noFill/>
            <a:ln w="0">
              <a:solidFill>
                <a:srgbClr val="0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9" name="Freeform 18"/>
            <p:cNvSpPr/>
            <p:nvPr/>
          </p:nvSpPr>
          <p:spPr>
            <a:xfrm>
              <a:off x="425160" y="441000"/>
              <a:ext cx="214920" cy="229680"/>
            </a:xfrm>
            <a:prstGeom prst="pie">
              <a:avLst/>
            </a:prstGeom>
            <a:noFill/>
            <a:ln w="0">
              <a:solidFill>
                <a:srgbClr val="0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0" name="Freeform 19"/>
            <p:cNvSpPr/>
            <p:nvPr/>
          </p:nvSpPr>
          <p:spPr>
            <a:xfrm>
              <a:off x="434160" y="451080"/>
              <a:ext cx="196560" cy="210240"/>
            </a:xfrm>
            <a:prstGeom prst="pie">
              <a:avLst/>
            </a:prstGeom>
            <a:noFill/>
            <a:ln w="0">
              <a:solidFill>
                <a:srgbClr val="0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1" name="Freeform 20"/>
            <p:cNvSpPr/>
            <p:nvPr/>
          </p:nvSpPr>
          <p:spPr>
            <a:xfrm>
              <a:off x="443520" y="461160"/>
              <a:ext cx="178200" cy="192240"/>
            </a:xfrm>
            <a:prstGeom prst="pie">
              <a:avLst/>
            </a:prstGeom>
            <a:noFill/>
            <a:ln w="0">
              <a:solidFill>
                <a:srgbClr val="0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2" name="Freeform 21"/>
            <p:cNvSpPr/>
            <p:nvPr/>
          </p:nvSpPr>
          <p:spPr>
            <a:xfrm>
              <a:off x="452880" y="470880"/>
              <a:ext cx="159120" cy="173160"/>
            </a:xfrm>
            <a:prstGeom prst="pie">
              <a:avLst/>
            </a:prstGeom>
            <a:noFill/>
            <a:ln w="0">
              <a:solidFill>
                <a:srgbClr val="0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3" name="Freeform 22"/>
            <p:cNvSpPr/>
            <p:nvPr/>
          </p:nvSpPr>
          <p:spPr>
            <a:xfrm>
              <a:off x="461880" y="480960"/>
              <a:ext cx="140760" cy="153000"/>
            </a:xfrm>
            <a:prstGeom prst="pie">
              <a:avLst/>
            </a:prstGeom>
            <a:noFill/>
            <a:ln w="0">
              <a:solidFill>
                <a:srgbClr val="0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4" name="Freeform 23"/>
            <p:cNvSpPr/>
            <p:nvPr/>
          </p:nvSpPr>
          <p:spPr>
            <a:xfrm>
              <a:off x="471240" y="488160"/>
              <a:ext cx="124560" cy="136080"/>
            </a:xfrm>
            <a:prstGeom prst="pie">
              <a:avLst/>
            </a:prstGeom>
            <a:noFill/>
            <a:ln w="0">
              <a:solidFill>
                <a:srgbClr val="0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5" name="Freeform 24"/>
            <p:cNvSpPr/>
            <p:nvPr/>
          </p:nvSpPr>
          <p:spPr>
            <a:xfrm>
              <a:off x="478080" y="498240"/>
              <a:ext cx="108360" cy="115920"/>
            </a:xfrm>
            <a:prstGeom prst="pie">
              <a:avLst/>
            </a:prstGeom>
            <a:noFill/>
            <a:ln w="0">
              <a:solidFill>
                <a:srgbClr val="0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6" name="Freeform 25"/>
            <p:cNvSpPr/>
            <p:nvPr/>
          </p:nvSpPr>
          <p:spPr>
            <a:xfrm>
              <a:off x="487440" y="507960"/>
              <a:ext cx="90000" cy="96480"/>
            </a:xfrm>
            <a:prstGeom prst="pie">
              <a:avLst/>
            </a:prstGeom>
            <a:noFill/>
            <a:ln w="0">
              <a:solidFill>
                <a:srgbClr val="0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7" name="Freeform 26"/>
            <p:cNvSpPr/>
            <p:nvPr/>
          </p:nvSpPr>
          <p:spPr>
            <a:xfrm>
              <a:off x="998280" y="408960"/>
              <a:ext cx="281880" cy="301680"/>
            </a:xfrm>
            <a:prstGeom prst="pie">
              <a:avLst/>
            </a:prstGeom>
            <a:noFill/>
            <a:ln w="0">
              <a:solidFill>
                <a:srgbClr val="0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8" name="Freeform 27"/>
            <p:cNvSpPr/>
            <p:nvPr/>
          </p:nvSpPr>
          <p:spPr>
            <a:xfrm>
              <a:off x="1007640" y="416520"/>
              <a:ext cx="263520" cy="284400"/>
            </a:xfrm>
            <a:prstGeom prst="pie">
              <a:avLst/>
            </a:prstGeom>
            <a:noFill/>
            <a:ln w="0">
              <a:solidFill>
                <a:srgbClr val="0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79" name="Freeform 28"/>
            <p:cNvSpPr/>
            <p:nvPr/>
          </p:nvSpPr>
          <p:spPr>
            <a:xfrm>
              <a:off x="1014480" y="426600"/>
              <a:ext cx="247320" cy="266760"/>
            </a:xfrm>
            <a:prstGeom prst="pie">
              <a:avLst/>
            </a:prstGeom>
            <a:noFill/>
            <a:ln w="0">
              <a:solidFill>
                <a:srgbClr val="0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0" name="Freeform 29"/>
            <p:cNvSpPr/>
            <p:nvPr/>
          </p:nvSpPr>
          <p:spPr>
            <a:xfrm>
              <a:off x="1023840" y="433800"/>
              <a:ext cx="231120" cy="249480"/>
            </a:xfrm>
            <a:prstGeom prst="pie">
              <a:avLst/>
            </a:prstGeom>
            <a:noFill/>
            <a:ln w="0">
              <a:solidFill>
                <a:srgbClr val="0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1" name="Freeform 30"/>
            <p:cNvSpPr/>
            <p:nvPr/>
          </p:nvSpPr>
          <p:spPr>
            <a:xfrm>
              <a:off x="1030680" y="443880"/>
              <a:ext cx="214920" cy="229680"/>
            </a:xfrm>
            <a:prstGeom prst="pie">
              <a:avLst/>
            </a:prstGeom>
            <a:noFill/>
            <a:ln w="0">
              <a:solidFill>
                <a:srgbClr val="0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2" name="Freeform 31"/>
            <p:cNvSpPr/>
            <p:nvPr/>
          </p:nvSpPr>
          <p:spPr>
            <a:xfrm>
              <a:off x="1037520" y="451080"/>
              <a:ext cx="201240" cy="215280"/>
            </a:xfrm>
            <a:prstGeom prst="pie">
              <a:avLst/>
            </a:prstGeom>
            <a:noFill/>
            <a:ln w="0">
              <a:solidFill>
                <a:srgbClr val="0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3" name="Freeform 32"/>
            <p:cNvSpPr/>
            <p:nvPr/>
          </p:nvSpPr>
          <p:spPr>
            <a:xfrm>
              <a:off x="1047240" y="461160"/>
              <a:ext cx="182160" cy="197280"/>
            </a:xfrm>
            <a:prstGeom prst="pie">
              <a:avLst/>
            </a:prstGeom>
            <a:noFill/>
            <a:ln w="0">
              <a:solidFill>
                <a:srgbClr val="0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4" name="Freeform 33"/>
            <p:cNvSpPr/>
            <p:nvPr/>
          </p:nvSpPr>
          <p:spPr>
            <a:xfrm>
              <a:off x="1056600" y="468360"/>
              <a:ext cx="165960" cy="180360"/>
            </a:xfrm>
            <a:prstGeom prst="pie">
              <a:avLst/>
            </a:prstGeom>
            <a:noFill/>
            <a:ln w="0">
              <a:solidFill>
                <a:srgbClr val="0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5" name="Freeform 34"/>
            <p:cNvSpPr/>
            <p:nvPr/>
          </p:nvSpPr>
          <p:spPr>
            <a:xfrm>
              <a:off x="1063440" y="475920"/>
              <a:ext cx="149760" cy="163080"/>
            </a:xfrm>
            <a:prstGeom prst="pie">
              <a:avLst/>
            </a:prstGeom>
            <a:noFill/>
            <a:ln w="0">
              <a:solidFill>
                <a:srgbClr val="0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6" name="Freeform 35"/>
            <p:cNvSpPr/>
            <p:nvPr/>
          </p:nvSpPr>
          <p:spPr>
            <a:xfrm>
              <a:off x="1072440" y="486000"/>
              <a:ext cx="133920" cy="145800"/>
            </a:xfrm>
            <a:prstGeom prst="pie">
              <a:avLst/>
            </a:prstGeom>
            <a:noFill/>
            <a:ln w="0">
              <a:solidFill>
                <a:srgbClr val="0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7" name="Freeform 36"/>
            <p:cNvSpPr/>
            <p:nvPr/>
          </p:nvSpPr>
          <p:spPr>
            <a:xfrm>
              <a:off x="1079640" y="493200"/>
              <a:ext cx="117720" cy="128160"/>
            </a:xfrm>
            <a:prstGeom prst="pie">
              <a:avLst/>
            </a:prstGeom>
            <a:noFill/>
            <a:ln w="0">
              <a:solidFill>
                <a:srgbClr val="0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8" name="Freeform 37"/>
            <p:cNvSpPr/>
            <p:nvPr/>
          </p:nvSpPr>
          <p:spPr>
            <a:xfrm>
              <a:off x="1088640" y="502920"/>
              <a:ext cx="101520" cy="109080"/>
            </a:xfrm>
            <a:prstGeom prst="pie">
              <a:avLst/>
            </a:prstGeom>
            <a:noFill/>
            <a:ln w="0">
              <a:solidFill>
                <a:srgbClr val="0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9" name="Freeform 38"/>
            <p:cNvSpPr/>
            <p:nvPr/>
          </p:nvSpPr>
          <p:spPr>
            <a:xfrm>
              <a:off x="1095840" y="510480"/>
              <a:ext cx="87480" cy="93600"/>
            </a:xfrm>
            <a:prstGeom prst="pie">
              <a:avLst/>
            </a:prstGeom>
            <a:noFill/>
            <a:ln w="0">
              <a:solidFill>
                <a:srgbClr val="0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0" name="Freeform 39"/>
            <p:cNvSpPr/>
            <p:nvPr/>
          </p:nvSpPr>
          <p:spPr>
            <a:xfrm>
              <a:off x="1104840" y="520200"/>
              <a:ext cx="69120" cy="74520"/>
            </a:xfrm>
            <a:prstGeom prst="pie">
              <a:avLst/>
            </a:prstGeom>
            <a:noFill/>
            <a:ln w="0">
              <a:solidFill>
                <a:srgbClr val="0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1" name="Freeform 40"/>
            <p:cNvSpPr/>
            <p:nvPr/>
          </p:nvSpPr>
          <p:spPr>
            <a:xfrm>
              <a:off x="394560" y="673920"/>
              <a:ext cx="839520" cy="126000"/>
            </a:xfrm>
            <a:prstGeom prst="pie">
              <a:avLst/>
            </a:pr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2" name="Freeform 41"/>
            <p:cNvSpPr/>
            <p:nvPr/>
          </p:nvSpPr>
          <p:spPr>
            <a:xfrm>
              <a:off x="494280" y="800280"/>
              <a:ext cx="946080" cy="5709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3" name="Freeform 42"/>
            <p:cNvSpPr/>
            <p:nvPr/>
          </p:nvSpPr>
          <p:spPr>
            <a:xfrm>
              <a:off x="228600" y="235800"/>
              <a:ext cx="605520" cy="6483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4" name="Freeform 43"/>
            <p:cNvSpPr/>
            <p:nvPr/>
          </p:nvSpPr>
          <p:spPr>
            <a:xfrm>
              <a:off x="838800" y="228600"/>
              <a:ext cx="603360" cy="6577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2"/>
          <p:cNvSpPr txBox="1"/>
          <p:nvPr/>
        </p:nvSpPr>
        <p:spPr>
          <a:xfrm rot="21571200">
            <a:off x="456840" y="380520"/>
            <a:ext cx="4495680" cy="7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30000"/>
                </a:gradFill>
                <a:effectLst>
                  <a:outerShdw dist="63504" dir="19383909" blurRad="0" rotWithShape="0">
                    <a:srgbClr val="000000"/>
                  </a:outerShdw>
                </a:effectLst>
                <a:latin typeface="Impact"/>
              </a:rPr>
              <a:t>Film Analysis</a:t>
            </a:r>
            <a:endParaRPr b="0" lang="en-US" sz="4400" spc="1" strike="noStrike">
              <a:ln w="0">
                <a:noFill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30000"/>
              </a:gradFill>
              <a:effectLst>
                <a:outerShdw dist="63504" dir="19383909" blurRad="0" rotWithShape="0">
                  <a:srgbClr val="00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152280" y="5715000"/>
            <a:ext cx="8610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630440" indent="-16304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Analysis:  Simultaneous motion cycle Chart 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( SIMO chart )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304920" y="1523880"/>
            <a:ext cx="86104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Observer’s abilities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380880" indent="-380880">
              <a:lnSpc>
                <a:spcPct val="13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e motions made by the operator’s right and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ft hands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380880" indent="-380880">
              <a:lnSpc>
                <a:spcPct val="13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ice what the fingers of each hand do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380880" indent="-380880">
              <a:lnSpc>
                <a:spcPct val="13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tect where one motion ends and another begins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380880" indent="-380880">
              <a:lnSpc>
                <a:spcPct val="13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udge the lengths of motions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380880" indent="-380880">
              <a:lnSpc>
                <a:spcPct val="13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stimate times of the motions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8" name="AutoShape 7"/>
          <p:cNvSpPr/>
          <p:nvPr/>
        </p:nvSpPr>
        <p:spPr>
          <a:xfrm>
            <a:off x="5181480" y="533520"/>
            <a:ext cx="3200400" cy="1066680"/>
          </a:xfrm>
          <a:prstGeom prst="cloudCallout">
            <a:avLst>
              <a:gd name="adj1" fmla="val -69740"/>
              <a:gd name="adj2" fmla="val 58481"/>
            </a:avLst>
          </a:prstGeom>
          <a:gradFill rotWithShape="0">
            <a:gsLst>
              <a:gs pos="0">
                <a:srgbClr val="66ccff"/>
              </a:gs>
              <a:gs pos="50000">
                <a:srgbClr val="ffffff"/>
              </a:gs>
              <a:gs pos="100000">
                <a:srgbClr val="66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otion-minded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4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6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7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Impact"/>
              </a:rPr>
              <a:t>SIMO Chart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2"/>
          <p:cNvSpPr txBox="1"/>
          <p:nvPr/>
        </p:nvSpPr>
        <p:spPr>
          <a:xfrm rot="21571200">
            <a:off x="378000" y="463680"/>
            <a:ext cx="823104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50000">
                      <a:srgbClr val="ffffff"/>
                    </a:gs>
                    <a:gs pos="100000">
                      <a:srgbClr val="006600"/>
                    </a:gs>
                  </a:gsLst>
                  <a:lin ang="5430000"/>
                </a:gradFill>
                <a:effectLst>
                  <a:outerShdw dist="38160" dir="0" blurRad="0" rotWithShape="0">
                    <a:srgbClr val="ff0000"/>
                  </a:outerShdw>
                </a:effectLst>
                <a:latin typeface="Arial Narrow"/>
              </a:rPr>
              <a:t>Fundamental  Hand Motions :Therblig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50000">
                    <a:srgbClr val="ffffff"/>
                  </a:gs>
                  <a:gs pos="100000">
                    <a:srgbClr val="006600"/>
                  </a:gs>
                </a:gsLst>
                <a:lin ang="5430000"/>
              </a:gradFill>
              <a:effectLst>
                <a:outerShdw dist="38160" dir="0" blurRad="0" rotWithShape="0">
                  <a:srgbClr val="ff0000"/>
                </a:outerShdw>
              </a:effectLst>
              <a:latin typeface="Arial Narrow"/>
              <a:ea typeface="Arial Narrow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228600" y="1905120"/>
            <a:ext cx="87631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Therblig: 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The system of symbols that represent 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every elementary of hand / arm and 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eye movements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29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ypes of Therblig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380880" y="4267080"/>
            <a:ext cx="8458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74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)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tions required for performing an operation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4874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tions that tend to slow down type 1 motion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marL="4874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tions that do not perform an operation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886200" y="1295280"/>
            <a:ext cx="46483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30000"/>
              </a:lnSpc>
              <a:buNone/>
              <a:tabLst>
                <a:tab algn="l" pos="0"/>
                <a:tab algn="l" pos="239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Arial"/>
              </a:rPr>
              <a:t>Transport empty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 algn="r">
              <a:lnSpc>
                <a:spcPct val="130000"/>
              </a:lnSpc>
              <a:buNone/>
              <a:tabLst>
                <a:tab algn="l" pos="0"/>
                <a:tab algn="l" pos="239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Arial"/>
              </a:rPr>
              <a:t>Grasp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 algn="r">
              <a:lnSpc>
                <a:spcPct val="130000"/>
              </a:lnSpc>
              <a:buNone/>
              <a:tabLst>
                <a:tab algn="l" pos="0"/>
                <a:tab algn="l" pos="239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Arial"/>
              </a:rPr>
              <a:t>Transport loaded (carry)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 algn="r">
              <a:lnSpc>
                <a:spcPct val="130000"/>
              </a:lnSpc>
              <a:buNone/>
              <a:tabLst>
                <a:tab algn="l" pos="0"/>
                <a:tab algn="l" pos="239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Arial"/>
              </a:rPr>
              <a:t>Position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 algn="r">
              <a:lnSpc>
                <a:spcPct val="130000"/>
              </a:lnSpc>
              <a:buNone/>
              <a:tabLst>
                <a:tab algn="l" pos="0"/>
                <a:tab algn="l" pos="239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Arial"/>
              </a:rPr>
              <a:t>Use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 algn="r">
              <a:lnSpc>
                <a:spcPct val="130000"/>
              </a:lnSpc>
              <a:buNone/>
              <a:tabLst>
                <a:tab algn="l" pos="0"/>
                <a:tab algn="l" pos="239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Arial"/>
              </a:rPr>
              <a:t>Assemble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 algn="r">
              <a:lnSpc>
                <a:spcPct val="130000"/>
              </a:lnSpc>
              <a:buNone/>
              <a:tabLst>
                <a:tab algn="l" pos="0"/>
                <a:tab algn="l" pos="239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Arial"/>
              </a:rPr>
              <a:t>Disassemble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 algn="r">
              <a:lnSpc>
                <a:spcPct val="130000"/>
              </a:lnSpc>
              <a:buNone/>
              <a:tabLst>
                <a:tab algn="l" pos="0"/>
                <a:tab algn="l" pos="239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Arial"/>
              </a:rPr>
              <a:t>Release load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 algn="r">
              <a:lnSpc>
                <a:spcPct val="130000"/>
              </a:lnSpc>
              <a:buNone/>
              <a:tabLst>
                <a:tab algn="l" pos="0"/>
                <a:tab algn="l" pos="239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Arial"/>
              </a:rPr>
              <a:t>Inspect 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4" name="WordArt 3"/>
          <p:cNvSpPr txBox="1"/>
          <p:nvPr/>
        </p:nvSpPr>
        <p:spPr>
          <a:xfrm rot="21571200">
            <a:off x="533160" y="533520"/>
            <a:ext cx="4116240" cy="153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30000"/>
                </a:gradFill>
                <a:effectLst>
                  <a:outerShdw dist="77353" dir="21037522" blurRad="0" rotWithShape="0">
                    <a:srgbClr val="996633"/>
                  </a:outerShdw>
                </a:effectLst>
                <a:latin typeface="Browallia New"/>
              </a:rPr>
              <a:t>Type 1</a:t>
            </a:r>
            <a:endParaRPr b="1" lang="en-US" sz="4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30000"/>
              </a:gradFill>
              <a:effectLst>
                <a:outerShdw dist="77353" dir="21037522" blurRad="0" rotWithShape="0">
                  <a:srgbClr val="996633"/>
                </a:outerShdw>
              </a:effectLst>
              <a:latin typeface="Browallia New"/>
              <a:ea typeface="Browallia New"/>
            </a:endParaRPr>
          </a:p>
        </p:txBody>
      </p:sp>
      <p:pic>
        <p:nvPicPr>
          <p:cNvPr id="105" name="Object 6" descr=""/>
          <p:cNvPicPr/>
          <p:nvPr/>
        </p:nvPicPr>
        <p:blipFill>
          <a:blip r:embed="rId1"/>
          <a:stretch/>
        </p:blipFill>
        <p:spPr>
          <a:xfrm>
            <a:off x="533520" y="3352680"/>
            <a:ext cx="320040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657600" y="213372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50000"/>
              </a:lnSpc>
              <a:buNone/>
              <a:tabLst>
                <a:tab algn="l" pos="0"/>
                <a:tab algn="l" pos="239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Arial"/>
              </a:rPr>
              <a:t>Search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 algn="r">
              <a:lnSpc>
                <a:spcPct val="150000"/>
              </a:lnSpc>
              <a:buNone/>
              <a:tabLst>
                <a:tab algn="l" pos="0"/>
                <a:tab algn="l" pos="239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Arial"/>
              </a:rPr>
              <a:t>Find*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 algn="r">
              <a:lnSpc>
                <a:spcPct val="150000"/>
              </a:lnSpc>
              <a:buNone/>
              <a:tabLst>
                <a:tab algn="l" pos="0"/>
                <a:tab algn="l" pos="239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Arial"/>
              </a:rPr>
              <a:t>Select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 algn="r">
              <a:lnSpc>
                <a:spcPct val="150000"/>
              </a:lnSpc>
              <a:buNone/>
              <a:tabLst>
                <a:tab algn="l" pos="0"/>
                <a:tab algn="l" pos="239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Arial"/>
              </a:rPr>
              <a:t>Plan (person thinking)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 algn="r">
              <a:lnSpc>
                <a:spcPct val="150000"/>
              </a:lnSpc>
              <a:buNone/>
              <a:tabLst>
                <a:tab algn="l" pos="0"/>
                <a:tab algn="l" pos="239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Arial"/>
              </a:rPr>
              <a:t>Pre-position (set up) 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7" name="WordArt 3"/>
          <p:cNvSpPr txBox="1"/>
          <p:nvPr/>
        </p:nvSpPr>
        <p:spPr>
          <a:xfrm rot="21571200">
            <a:off x="455760" y="539640"/>
            <a:ext cx="4268520" cy="151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30000"/>
                </a:gradFill>
                <a:effectLst>
                  <a:outerShdw dist="77353" dir="21037522" blurRad="0" rotWithShape="0">
                    <a:srgbClr val="996633"/>
                  </a:outerShdw>
                </a:effectLst>
                <a:latin typeface="Browallia New"/>
              </a:rPr>
              <a:t>Type 2</a:t>
            </a:r>
            <a:endParaRPr b="1" lang="en-US" sz="4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30000"/>
              </a:gradFill>
              <a:effectLst>
                <a:outerShdw dist="77353" dir="21037522" blurRad="0" rotWithShape="0">
                  <a:srgbClr val="996633"/>
                </a:outerShdw>
              </a:effectLst>
              <a:latin typeface="Browallia New"/>
              <a:ea typeface="Browallia New"/>
            </a:endParaRPr>
          </a:p>
        </p:txBody>
      </p:sp>
      <p:pic>
        <p:nvPicPr>
          <p:cNvPr id="108" name="Object 5" descr=""/>
          <p:cNvPicPr/>
          <p:nvPr/>
        </p:nvPicPr>
        <p:blipFill>
          <a:blip r:embed="rId1"/>
          <a:stretch/>
        </p:blipFill>
        <p:spPr>
          <a:xfrm>
            <a:off x="380880" y="3257640"/>
            <a:ext cx="327672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30T17:16:38Z</dcterms:created>
  <dc:creator>OPEY A.</dc:creator>
  <dc:description/>
  <dc:language>en-US</dc:language>
  <cp:lastModifiedBy>user</cp:lastModifiedBy>
  <dcterms:modified xsi:type="dcterms:W3CDTF">2017-01-30T10:10:53Z</dcterms:modified>
  <cp:revision>22</cp:revision>
  <dc:subject/>
  <dc:title>No Slide Title</dc:title>
</cp:coreProperties>
</file>