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B97-D1AE-4831-99B3-E7156C5C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82E-EACB-4827-B975-086148C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F55-3858-44E5-A75A-298E6B03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8E6-EC47-412F-A5C1-0544021F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B24-63EA-46C6-9E95-86944926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2F3-B73D-47D8-9DAE-CB5A4026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A23F-184A-4A9B-9BDD-95CFE5A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93B2-8BF1-4FD8-811F-0D7D427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7EE1-D404-422D-AAC1-09D978CE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10B1-6E61-4D06-B9CD-68A8E75A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242A-B7CF-41A8-B56C-F70D5AD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8C1-3D9D-410E-9D35-4BAF6B82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753D-BEE5-478C-AB59-424220E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2C54-6BEA-41D3-8E57-1EC961C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AA5E-38F0-42C0-9126-F12D730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9CF3-2CB7-4265-9505-6AC75162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62FC-63F9-4BB7-B5C9-44290BEB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84FD-2AC1-426A-91A6-69835B15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200C-1AFA-47FB-AE38-A030E2A6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F0DA-C2BE-4B91-8649-D93B8513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5A2D-D2A9-45AD-9809-630ECBA8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3C15-363E-455D-B190-BE204E1C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56E-FBD1-4D21-947E-FF040098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BA46-E75A-4696-A6CE-1E3F280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BE1A-BC48-4E49-A51D-2A15740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E0FB-F69D-4931-9BB8-BFAAA02A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CD47-8862-4FEE-BD7E-43AB1EE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C79B-4A88-4027-B467-54D41E6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5A13-8069-4824-A48B-27EAFA62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62B82-AC9E-4DEE-80BA-16CB1B7B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2A79-787F-4294-83B4-B7884B37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42A1-9D2D-4BED-BE72-2A8D63B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914F-3FBE-46FF-B5D8-C7BB5954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CF8-87E1-4D4E-9ADC-7D5C7712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0038-2B73-463C-AC80-F387A9B2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CC57-C0CB-4A15-9F6C-29C7DAD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306A-8BC2-4582-8BC3-A90DC533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6FFC-1B16-4455-ADD2-9730FC6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17A4-5689-4EDA-BF37-A1A0068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A10B-CA40-4896-996C-3B528158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173E-20EA-4B95-A12F-06333BA2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D86D-F174-4A5B-ADD8-3C99D951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0106-5A9D-4EDF-938C-4604DADF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B1A6-2762-4A84-A561-10C65704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6C0-4E77-40F7-B3E0-97652C6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5687-1CE2-48F3-9817-0B93BFE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2936-1EB1-462B-855B-EC0C8777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CF700-E461-407B-BC2D-F7D636AC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FCA6-76BE-4EAC-95F5-831DEFAA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B9FD-26D7-4E43-823A-9F730542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18D5-2AF6-40FC-BE9E-593F85A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2CB7-5EBE-4C3D-9AC5-A4A991E8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1BCD-87EC-49CC-9EBA-17567C2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A177-4EF7-4D9F-B1B4-11BE7A2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1BD0-33CE-4B62-98BE-057D846D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CCC-581F-40E1-8ED5-374AA5AA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8078-0A7E-4F6F-959D-A66D199C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18BE-E36B-4AA4-B321-CAFD8D58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8B96D-39E2-4FE6-A2B8-3D3759D8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3123-402F-47D2-A34C-080063F5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85CB-A95E-4C7D-8677-597549B8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1866-212E-44D0-A89B-FA2D0906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CAC9-63BE-4DFC-9CC5-58B6A67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DBFC-EED2-4F61-8F2F-651945E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06510-3DEF-47FE-B505-4903049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125D-47A1-419C-9F36-581BCFC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90C-EA42-4E92-8E49-BFAC227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6803-E28E-4DCD-9838-9CCD4767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B720-FD6E-4F04-9DB8-6603948C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3F7D9-2418-488F-8CFF-A6A101E3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6EF75-8343-4E71-9DB3-C456709B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1456-4B5C-4D0E-8701-23D6D65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8FAC-9C49-4912-B913-212C751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A18B-F406-4F45-8498-1314167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877D8-4D85-4949-9657-D1B0B4BB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78DE4-B1C9-407C-8F22-633E93E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F9DA-C58D-4647-8F26-167A3230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A70-982F-4C2B-A395-8C865F8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03C4-691C-4406-98EB-1063C78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933BB-6FE1-4168-90C7-2A110BF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C6B36-563D-426E-AAD3-F95FE9A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486E-7716-430E-B01E-146F0546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9AE07-A5A1-4729-96E8-64193DEE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B28D-FB8C-47F4-B4D2-312CEDFF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FF494-301E-43C4-9FB5-4D0E60E6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50A8-FD1A-4359-9EFF-15C2FBE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92770-9634-433B-BBA3-8E69E256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4070E-FE5A-4D17-85B4-1433C0E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5EB-D6E0-4240-8E49-6233B75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45A2E-31BA-42CD-AD98-DB92118F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1317C-E7A1-4F1C-A3BB-9D030FE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FDE12-5B6A-497E-A75D-9E51A64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C7622-872E-4001-B4EF-C4E1558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57A7A-A715-445D-B959-CBF025CC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B5A2-6DCB-4A82-AE68-A515A9E5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D6B2-4EA2-4F73-B892-ED7D50B7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CDDB-3F6A-484F-AA22-A4E2FB7A73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2125-F71F-45E0-8C2C-5717D68B877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75FE-D749-45C3-8825-6E39A350127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B56-5F55-407C-9645-C453F9DD4FD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5CD-CFF0-43AE-AD38-CD3B2C9470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872-7786-4EA0-AF27-9A065957DC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119-1B89-41CC-B25F-84DB638EC2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0288-A604-4D6F-A04D-147FB8F081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6439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starting a new fac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case of existing factory expa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ximity to marke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pply of raw materi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ransport facilit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frastructure availabi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bour &amp; wag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w &amp; Tax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itability of land &amp; clima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pporting industries &amp; servic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mmunit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+ attitud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cial infrastruc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324000" y="-648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1.jpg"/>
          <p:cNvPicPr/>
          <p:nvPr/>
        </p:nvPicPr>
        <p:blipFill>
          <a:blip r:embed="rId2"/>
          <a:stretch/>
        </p:blipFill>
        <p:spPr>
          <a:xfrm>
            <a:off x="0" y="10666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:\plant location\3.jpg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1295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2.jpg"/>
          <p:cNvPicPr/>
          <p:nvPr/>
        </p:nvPicPr>
        <p:blipFill>
          <a:blip r:embed="rId2"/>
          <a:stretch/>
        </p:blipFill>
        <p:spPr>
          <a:xfrm>
            <a:off x="228600" y="1371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hysical arrangement of production facili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ctimum arrangement of equipment; storage spae; material handling; all depart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t relationship between output;space &amp; manufacturing c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Stremline the flow of materi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Minimize the material hand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Effective utilisation of men;Equipment &amp; sp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Effective utilisation of cubic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Provide safety &amp; cmf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TO worker- Reduce effort; minimizes accid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To manufacturing- minimize cycle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To production- Incre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To management- reduce labour cost, enhance plant productivity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5:40:13Z</dcterms:created>
  <dc:creator>Ganesh</dc:creator>
  <dc:description/>
  <dc:language>en-US</dc:language>
  <cp:lastModifiedBy>user</cp:lastModifiedBy>
  <dcterms:modified xsi:type="dcterms:W3CDTF">2017-03-13T04:44:49Z</dcterms:modified>
  <cp:revision>17</cp:revision>
  <dc:subject/>
  <dc:title>Slide 1</dc:title>
</cp:coreProperties>
</file>