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547-2CAE-4923-883D-ED0D92D9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FF1-B65F-404C-A181-FE28A19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342-AD9A-404A-BD37-2493EB2F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037-2515-4E3A-B3CA-F67DBDF7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3953-A606-4AD6-9087-B913B6C2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AF2-3DA0-4D74-8823-EC149FC6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62D6-E3D8-46D9-9CFD-CC67240B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3D5C-C637-4797-8844-A2D8A75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4AE1-29DF-48E3-A89C-D689143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30A-5901-46F8-ABB6-0A02BEA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E45A-1B3C-4FE7-BC4B-DE70777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83A-12C1-49F5-981F-31DB42BC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3C21-EFA8-4C03-BA41-B6E21E5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03EA-1CDC-44A4-ACB1-D9F86F6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5E9F-5819-428E-B87E-B5F39EB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B84-F29A-4084-A72E-2B64BB00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EAE-0876-498E-8F36-2BA7CA56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4A6-A1A8-4B8E-BE11-90DF5D6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383-7ECB-4A35-B0CE-3009E92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E3-18E1-4AF3-96C7-535925E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86-4E50-4F89-B6F9-625F0E70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F12-69A7-4C2C-983E-A1F43378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47B-EE8C-4273-BA32-D85720F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033-D14F-4EBC-8790-1786886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F64-F6CB-420D-8D97-E539CCB57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D2E-8A90-47E1-9873-C33FE9B02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Future of Trade Un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Picture 4" descr="j0285360"/>
          <p:cNvPicPr/>
          <p:nvPr/>
        </p:nvPicPr>
        <p:blipFill>
          <a:blip r:embed="rId1"/>
          <a:stretch/>
        </p:blipFill>
        <p:spPr>
          <a:xfrm>
            <a:off x="2971800" y="2590920"/>
            <a:ext cx="3581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is work stud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most powerful tools to in improving productivity is work stud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 study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atic examinations of the methods of carrying on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effective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t up standards of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k study also aims at the follow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ing or modifying the methods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unnecessary or excess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s wasteful use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to industrial safety by identifying hazardous work and developing safe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s down the time of performing a certain ac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termi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time in a Job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me taken by a worker or a machine to carry out an operation to produce a given quantity of certain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ork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abor of one person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chine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nning of the machine or plant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work conten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irreducible minimum time theoretically required to produce one unit output. This is a perfect condition which is not achieved in most of the c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233360" y="106200"/>
            <a:ext cx="5243760" cy="6735960"/>
            <a:chOff x="1233360" y="106200"/>
            <a:chExt cx="5243760" cy="6735960"/>
          </a:xfrm>
        </p:grpSpPr>
        <p:sp>
          <p:nvSpPr>
            <p:cNvPr id="113" name="AutoShape 5"/>
            <p:cNvSpPr/>
            <p:nvPr/>
          </p:nvSpPr>
          <p:spPr>
            <a:xfrm>
              <a:off x="1233360" y="106200"/>
              <a:ext cx="5243760" cy="65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4729320" y="60840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inimum time required to perform one output)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729320" y="2456640"/>
              <a:ext cx="1419840" cy="81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sic content added by poor product design or material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4729320" y="342792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Work content added by inefficient methods of manufacture or operation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 Poor material handling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Poor quality standard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oor inventor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4729320" y="5257440"/>
              <a:ext cx="1419840" cy="112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icient time due to human contribu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Like: Absenteeism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d workmanship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Accidents etc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1888560" y="925560"/>
              <a:ext cx="360" cy="573552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1233360" y="208440"/>
              <a:ext cx="131076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Total Time of operation under existing condition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2981160" y="2133000"/>
              <a:ext cx="360" cy="4709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418200" y="2769120"/>
              <a:ext cx="1201680" cy="3891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ECTIV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108000"/>
            <a:ext cx="58672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agement technique can reduce ineffective ti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143000" y="1143000"/>
            <a:ext cx="6477120" cy="5256360"/>
            <a:chOff x="1143000" y="1143000"/>
            <a:chExt cx="6477120" cy="5256360"/>
          </a:xfrm>
        </p:grpSpPr>
        <p:sp>
          <p:nvSpPr>
            <p:cNvPr id="127" name="AutoShape 5"/>
            <p:cNvSpPr/>
            <p:nvPr/>
          </p:nvSpPr>
          <p:spPr>
            <a:xfrm>
              <a:off x="1143000" y="1143000"/>
              <a:ext cx="647712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841560" y="1225080"/>
              <a:ext cx="2563560" cy="6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301920" y="196380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 Develop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3301920" y="237456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per Material 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3301920" y="2784960"/>
              <a:ext cx="3778200" cy="3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Quality control/ensure proper standards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01920" y="3196080"/>
              <a:ext cx="37782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etter layout &amp; process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3313800" y="36061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aterial handling/reduce time &amp; effor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3313800" y="40165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ion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3324960" y="4427280"/>
              <a:ext cx="37551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ethod study to reduce poor methods of work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6" name="Rectangle 14"/>
            <p:cNvSpPr/>
            <p:nvPr/>
          </p:nvSpPr>
          <p:spPr>
            <a:xfrm>
              <a:off x="3313800" y="483804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ventory contro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3336120" y="524880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Ensure longer life and no stoppage of machinery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3313800" y="5588640"/>
              <a:ext cx="374364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Create satisfactory working environ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3336120" y="593532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raining,better working condi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2087280" y="1964160"/>
              <a:ext cx="360" cy="427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547640" y="3688920"/>
              <a:ext cx="1079280" cy="65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Inefficient time totall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liminated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uman Factor in the application of work stud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ahoma"/>
              </a:rPr>
              <a:t>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 study of Maharshtra Scooters, Sata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Balanc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e0f2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828800" y="2914560"/>
            <a:ext cx="52005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vind Shrout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TION POSITIV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une,INDIA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ail: optionpositive@rediffmail.com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Picture 5" descr="j0301252"/>
          <p:cNvPicPr/>
          <p:nvPr/>
        </p:nvPicPr>
        <p:blipFill>
          <a:blip r:embed="rId1"/>
          <a:stretch/>
        </p:blipFill>
        <p:spPr>
          <a:xfrm>
            <a:off x="693432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6:47:03Z</dcterms:created>
  <dc:creator>user</dc:creator>
  <dc:description/>
  <dc:language>en-US</dc:language>
  <cp:lastModifiedBy>user</cp:lastModifiedBy>
  <dcterms:modified xsi:type="dcterms:W3CDTF">2017-01-23T07:10:59Z</dcterms:modified>
  <cp:revision>112</cp:revision>
  <dc:subject/>
  <dc:title>Slide 1</dc:title>
</cp:coreProperties>
</file>