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80CF-0330-40A8-A02F-1E01E1C5E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4A8F-F801-4CDB-B469-50123A1BE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49E5-45EC-4867-A407-239F1FBA7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F6FC-E90D-487A-8DB8-768FBFB26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1050-0C83-4AC4-AD7C-8F3D9D7B3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5CBC-A3D9-4D3A-B82F-B8E7C1D44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DF93-8E09-4390-9B62-636182A17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9923-EA8E-442E-A54C-5195CBF14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A929-EBD3-4B5D-9956-8BB5EF171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C6E0-A827-4E87-9418-BD3297F26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680B-2496-4ED4-9689-20EE0A4CA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8451-C4F1-4549-9248-F718005EC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6AD-23A3-4895-B6EB-59ADCE55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685800" y="6648480"/>
            <a:ext cx="2152800" cy="20952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1440" y="664380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ust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295960" cy="19814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2228760" cy="361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5067360" cy="177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3657600" y="5715000"/>
            <a:ext cx="473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195560" y="1190520"/>
            <a:ext cx="6752880" cy="22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314360" y="4191120"/>
            <a:ext cx="651528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2888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104840" y="36576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238400" y="1600200"/>
            <a:ext cx="66672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300320" y="4267080"/>
            <a:ext cx="6543360" cy="2019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165680" y="1219320"/>
            <a:ext cx="68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165680" y="3657600"/>
            <a:ext cx="68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52440" y="1181160"/>
            <a:ext cx="663912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290600" y="3962520"/>
            <a:ext cx="6562800" cy="227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65680" y="1066680"/>
            <a:ext cx="68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165680" y="3809880"/>
            <a:ext cx="68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Dia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114880" cy="220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95680" cy="447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32448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6286320" cy="456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4038480" cy="182376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>
            <a:off x="1905120" y="190512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1240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1240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724280" y="6553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57200" y="4572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imes New Roman"/>
                <a:ea typeface="Arial"/>
              </a:rPr>
              <a:t>Block Diagram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9:52Z</dcterms:created>
  <dc:creator>pribeiro</dc:creator>
  <dc:description/>
  <dc:language>en-US</dc:language>
  <cp:lastModifiedBy>civil cad lab</cp:lastModifiedBy>
  <dcterms:modified xsi:type="dcterms:W3CDTF">2017-10-06T05:08:53Z</dcterms:modified>
  <cp:revision>21</cp:revision>
  <dc:subject/>
  <dc:title>PowerPoint Presentation</dc:title>
</cp:coreProperties>
</file>