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camera.wav" ContentType="audio/x-wav"/>
  <Override PartName="/ppt/media/image6.png" ContentType="image/png"/>
  <Override PartName="/ppt/media/image11.png" ContentType="image/png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65C7-3E5D-4BC9-9052-108E7065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3793-BDC6-4867-8F1D-7E6A1C8B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726-8B2E-4784-AE87-E79AB9B5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4128-E8B2-4919-B612-5BA0D7EA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1C98-D370-490E-9B0A-2B1F834F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333-9506-40C0-B283-F55E98CD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99D-9A91-4EF1-9547-8BCF0B4C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CB5-B9D5-4CD3-8F18-769DCD03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37AF-8F9C-45AE-AF64-592C4966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C3E-1972-44E9-830D-DFEE0F10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05B-CEDE-46D9-83E2-E12559FD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4A6-76DD-41B4-AB20-1CA4B593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8F6A-B1B5-47A3-A6BE-39541316D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219320" y="48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1143000" y="205740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DejaVu Sans"/>
              </a:rPr>
              <a:t>Sharad Institute of Technology, College of Engineering, Yadra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DejaVu Sans"/>
              </a:rPr>
              <a:t>Department of Mechanical Engine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DejaVu Sans"/>
              </a:rPr>
              <a:t>APPLIED THERMO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DejaVu Sans"/>
              </a:rPr>
              <a:t>STEAM TURBINE (UNIT 5,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C:\Users\hp\Desktop\logo.png"/>
          <p:cNvPicPr/>
          <p:nvPr/>
        </p:nvPicPr>
        <p:blipFill>
          <a:blip r:embed="rId1"/>
          <a:stretch/>
        </p:blipFill>
        <p:spPr>
          <a:xfrm>
            <a:off x="304920" y="304920"/>
            <a:ext cx="21412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73"/>
          <p:cNvSpPr/>
          <p:nvPr/>
        </p:nvSpPr>
        <p:spPr>
          <a:xfrm flipH="1">
            <a:off x="3733200" y="4038480"/>
            <a:ext cx="533160" cy="38124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54"/>
          <p:cNvSpPr/>
          <p:nvPr/>
        </p:nvSpPr>
        <p:spPr>
          <a:xfrm>
            <a:off x="4648320" y="6019920"/>
            <a:ext cx="434340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e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Diagram of A Large Steam Turb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0"/>
          <p:cNvSpPr/>
          <p:nvPr/>
        </p:nvSpPr>
        <p:spPr>
          <a:xfrm flipH="1">
            <a:off x="914400" y="2743200"/>
            <a:ext cx="5335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4343400" y="1828800"/>
            <a:ext cx="25146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>
            <a:off x="6858000" y="182880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2286000" y="762120"/>
            <a:ext cx="15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heat S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9"/>
          <p:cNvSpPr/>
          <p:nvPr/>
        </p:nvSpPr>
        <p:spPr>
          <a:xfrm rot="5400000">
            <a:off x="444600" y="1288080"/>
            <a:ext cx="857520" cy="13287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357120" y="1725480"/>
            <a:ext cx="220680" cy="454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0" y="1295280"/>
            <a:ext cx="209520" cy="430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-360" y="685800"/>
            <a:ext cx="141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S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0" y="2666880"/>
            <a:ext cx="12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am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he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0"/>
          <p:cNvSpPr/>
          <p:nvPr/>
        </p:nvSpPr>
        <p:spPr>
          <a:xfrm>
            <a:off x="1523880" y="2743200"/>
            <a:ext cx="0" cy="1676520"/>
          </a:xfrm>
          <a:prstGeom prst="line">
            <a:avLst/>
          </a:prstGeom>
          <a:ln w="38160">
            <a:solidFill>
              <a:srgbClr val="3333cc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1"/>
          <p:cNvSpPr/>
          <p:nvPr/>
        </p:nvSpPr>
        <p:spPr>
          <a:xfrm>
            <a:off x="2438280" y="2438280"/>
            <a:ext cx="0" cy="838440"/>
          </a:xfrm>
          <a:prstGeom prst="line">
            <a:avLst/>
          </a:prstGeom>
          <a:ln w="38160">
            <a:solidFill>
              <a:srgbClr val="3333cc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4"/>
          <p:cNvSpPr/>
          <p:nvPr/>
        </p:nvSpPr>
        <p:spPr>
          <a:xfrm>
            <a:off x="3505320" y="236232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0"/>
          <p:cNvSpPr/>
          <p:nvPr/>
        </p:nvSpPr>
        <p:spPr>
          <a:xfrm rot="5400000">
            <a:off x="3066840" y="1314360"/>
            <a:ext cx="1295640" cy="12571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8"/>
          <p:cNvSpPr/>
          <p:nvPr/>
        </p:nvSpPr>
        <p:spPr>
          <a:xfrm>
            <a:off x="1523880" y="2438280"/>
            <a:ext cx="0" cy="324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8"/>
          <p:cNvSpPr/>
          <p:nvPr/>
        </p:nvSpPr>
        <p:spPr>
          <a:xfrm flipH="1" rot="16200000">
            <a:off x="1808640" y="1314360"/>
            <a:ext cx="1295640" cy="125748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0"/>
          <p:cNvSpPr/>
          <p:nvPr/>
        </p:nvSpPr>
        <p:spPr>
          <a:xfrm>
            <a:off x="3048120" y="914400"/>
            <a:ext cx="0" cy="9144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2"/>
          <p:cNvSpPr/>
          <p:nvPr/>
        </p:nvSpPr>
        <p:spPr>
          <a:xfrm>
            <a:off x="2438280" y="3276720"/>
            <a:ext cx="1067040" cy="0"/>
          </a:xfrm>
          <a:prstGeom prst="line">
            <a:avLst/>
          </a:prstGeom>
          <a:ln w="3816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43"/>
          <p:cNvSpPr/>
          <p:nvPr/>
        </p:nvSpPr>
        <p:spPr>
          <a:xfrm>
            <a:off x="2971800" y="327672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53"/>
          <p:cNvGrpSpPr/>
          <p:nvPr/>
        </p:nvGrpSpPr>
        <p:grpSpPr>
          <a:xfrm>
            <a:off x="5029200" y="1905120"/>
            <a:ext cx="3733920" cy="4267080"/>
            <a:chOff x="5029200" y="1905120"/>
            <a:chExt cx="3733920" cy="4267080"/>
          </a:xfrm>
        </p:grpSpPr>
        <p:grpSp>
          <p:nvGrpSpPr>
            <p:cNvPr id="95" name="Group 41"/>
            <p:cNvGrpSpPr/>
            <p:nvPr/>
          </p:nvGrpSpPr>
          <p:grpSpPr>
            <a:xfrm>
              <a:off x="5029200" y="1905120"/>
              <a:ext cx="3733920" cy="1676160"/>
              <a:chOff x="5029200" y="1905120"/>
              <a:chExt cx="3733920" cy="1676160"/>
            </a:xfrm>
          </p:grpSpPr>
          <p:sp>
            <p:nvSpPr>
              <p:cNvPr id="96" name="AutoShape 15"/>
              <p:cNvSpPr/>
              <p:nvPr/>
            </p:nvSpPr>
            <p:spPr>
              <a:xfrm rot="5400000">
                <a:off x="6991560" y="1809720"/>
                <a:ext cx="1676160" cy="1866960"/>
              </a:xfrm>
              <a:prstGeom prst="pi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AutoShape 16"/>
              <p:cNvSpPr/>
              <p:nvPr/>
            </p:nvSpPr>
            <p:spPr>
              <a:xfrm flipH="1" rot="16200000">
                <a:off x="5124600" y="1809720"/>
                <a:ext cx="1676160" cy="1866960"/>
              </a:xfrm>
              <a:prstGeom prst="pi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Line 23"/>
            <p:cNvSpPr/>
            <p:nvPr/>
          </p:nvSpPr>
          <p:spPr>
            <a:xfrm>
              <a:off x="5029200" y="3657600"/>
              <a:ext cx="0" cy="25146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4"/>
            <p:cNvSpPr/>
            <p:nvPr/>
          </p:nvSpPr>
          <p:spPr>
            <a:xfrm>
              <a:off x="8763120" y="3581280"/>
              <a:ext cx="0" cy="2590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2"/>
            <p:cNvSpPr/>
            <p:nvPr/>
          </p:nvSpPr>
          <p:spPr>
            <a:xfrm>
              <a:off x="6019920" y="3048120"/>
              <a:ext cx="0" cy="1447560"/>
            </a:xfrm>
            <a:prstGeom prst="line">
              <a:avLst/>
            </a:prstGeom>
            <a:ln w="38160">
              <a:solidFill>
                <a:srgbClr val="3333cc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33"/>
            <p:cNvSpPr/>
            <p:nvPr/>
          </p:nvSpPr>
          <p:spPr>
            <a:xfrm>
              <a:off x="5181480" y="3505320"/>
              <a:ext cx="0" cy="1676160"/>
            </a:xfrm>
            <a:prstGeom prst="line">
              <a:avLst/>
            </a:prstGeom>
            <a:ln w="38160">
              <a:solidFill>
                <a:srgbClr val="3333cc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35"/>
            <p:cNvSpPr/>
            <p:nvPr/>
          </p:nvSpPr>
          <p:spPr>
            <a:xfrm>
              <a:off x="6477120" y="3200400"/>
              <a:ext cx="0" cy="609480"/>
            </a:xfrm>
            <a:prstGeom prst="line">
              <a:avLst/>
            </a:prstGeom>
            <a:ln w="38160">
              <a:solidFill>
                <a:srgbClr val="3333cc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44"/>
            <p:cNvSpPr/>
            <p:nvPr/>
          </p:nvSpPr>
          <p:spPr>
            <a:xfrm>
              <a:off x="7238880" y="3200400"/>
              <a:ext cx="0" cy="609480"/>
            </a:xfrm>
            <a:prstGeom prst="line">
              <a:avLst/>
            </a:prstGeom>
            <a:ln w="38160">
              <a:solidFill>
                <a:srgbClr val="3333cc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45"/>
            <p:cNvSpPr/>
            <p:nvPr/>
          </p:nvSpPr>
          <p:spPr>
            <a:xfrm>
              <a:off x="6477120" y="3809880"/>
              <a:ext cx="76176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46"/>
            <p:cNvSpPr/>
            <p:nvPr/>
          </p:nvSpPr>
          <p:spPr>
            <a:xfrm>
              <a:off x="6934320" y="3809880"/>
              <a:ext cx="0" cy="381240"/>
            </a:xfrm>
            <a:prstGeom prst="line">
              <a:avLst/>
            </a:prstGeom>
            <a:ln w="38160">
              <a:solidFill>
                <a:srgbClr val="3333cc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47"/>
            <p:cNvSpPr/>
            <p:nvPr/>
          </p:nvSpPr>
          <p:spPr>
            <a:xfrm>
              <a:off x="8001000" y="3124080"/>
              <a:ext cx="0" cy="1295640"/>
            </a:xfrm>
            <a:prstGeom prst="line">
              <a:avLst/>
            </a:prstGeom>
            <a:ln w="38160">
              <a:solidFill>
                <a:srgbClr val="3333cc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48"/>
            <p:cNvSpPr/>
            <p:nvPr/>
          </p:nvSpPr>
          <p:spPr>
            <a:xfrm flipV="1">
              <a:off x="6019920" y="4419360"/>
              <a:ext cx="1981080" cy="75960"/>
            </a:xfrm>
            <a:prstGeom prst="line">
              <a:avLst/>
            </a:prstGeom>
            <a:ln w="381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49"/>
            <p:cNvSpPr/>
            <p:nvPr/>
          </p:nvSpPr>
          <p:spPr>
            <a:xfrm>
              <a:off x="6934320" y="4495680"/>
              <a:ext cx="0" cy="381240"/>
            </a:xfrm>
            <a:prstGeom prst="line">
              <a:avLst/>
            </a:prstGeom>
            <a:ln w="38160">
              <a:solidFill>
                <a:srgbClr val="3333cc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50"/>
            <p:cNvSpPr/>
            <p:nvPr/>
          </p:nvSpPr>
          <p:spPr>
            <a:xfrm>
              <a:off x="8610480" y="3352680"/>
              <a:ext cx="0" cy="1752840"/>
            </a:xfrm>
            <a:prstGeom prst="line">
              <a:avLst/>
            </a:prstGeom>
            <a:ln w="38160">
              <a:solidFill>
                <a:srgbClr val="3333cc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51"/>
            <p:cNvSpPr/>
            <p:nvPr/>
          </p:nvSpPr>
          <p:spPr>
            <a:xfrm flipV="1">
              <a:off x="5257800" y="5105160"/>
              <a:ext cx="3429000" cy="75960"/>
            </a:xfrm>
            <a:prstGeom prst="line">
              <a:avLst/>
            </a:prstGeom>
            <a:ln w="381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52"/>
            <p:cNvSpPr/>
            <p:nvPr/>
          </p:nvSpPr>
          <p:spPr>
            <a:xfrm>
              <a:off x="6705720" y="5181480"/>
              <a:ext cx="0" cy="609840"/>
            </a:xfrm>
            <a:prstGeom prst="line">
              <a:avLst/>
            </a:prstGeom>
            <a:ln w="38160">
              <a:solidFill>
                <a:srgbClr val="3333cc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Line 55"/>
          <p:cNvSpPr/>
          <p:nvPr/>
        </p:nvSpPr>
        <p:spPr>
          <a:xfrm>
            <a:off x="4648320" y="182880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6"/>
          <p:cNvSpPr/>
          <p:nvPr/>
        </p:nvSpPr>
        <p:spPr>
          <a:xfrm>
            <a:off x="991080" y="46483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FWH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7"/>
          <p:cNvSpPr/>
          <p:nvPr/>
        </p:nvSpPr>
        <p:spPr>
          <a:xfrm>
            <a:off x="2362680" y="46483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FWH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8"/>
          <p:cNvSpPr/>
          <p:nvPr/>
        </p:nvSpPr>
        <p:spPr>
          <a:xfrm>
            <a:off x="3962520" y="37069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FWH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9"/>
          <p:cNvSpPr/>
          <p:nvPr/>
        </p:nvSpPr>
        <p:spPr>
          <a:xfrm>
            <a:off x="5715360" y="454500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FWH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0"/>
          <p:cNvSpPr/>
          <p:nvPr/>
        </p:nvSpPr>
        <p:spPr>
          <a:xfrm>
            <a:off x="5486760" y="53071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FWH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1"/>
          <p:cNvSpPr/>
          <p:nvPr/>
        </p:nvSpPr>
        <p:spPr>
          <a:xfrm>
            <a:off x="6401160" y="3935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FWH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3"/>
          <p:cNvSpPr/>
          <p:nvPr/>
        </p:nvSpPr>
        <p:spPr>
          <a:xfrm flipH="1">
            <a:off x="3733200" y="6248520"/>
            <a:ext cx="533160" cy="38088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64"/>
          <p:cNvSpPr/>
          <p:nvPr/>
        </p:nvSpPr>
        <p:spPr>
          <a:xfrm flipH="1">
            <a:off x="4191120" y="6400800"/>
            <a:ext cx="45720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65"/>
          <p:cNvSpPr/>
          <p:nvPr/>
        </p:nvSpPr>
        <p:spPr>
          <a:xfrm flipV="1">
            <a:off x="6934320" y="4876920"/>
            <a:ext cx="0" cy="9144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66"/>
          <p:cNvSpPr/>
          <p:nvPr/>
        </p:nvSpPr>
        <p:spPr>
          <a:xfrm>
            <a:off x="3429000" y="5791320"/>
            <a:ext cx="358128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7"/>
          <p:cNvSpPr/>
          <p:nvPr/>
        </p:nvSpPr>
        <p:spPr>
          <a:xfrm flipV="1">
            <a:off x="3429000" y="5791320"/>
            <a:ext cx="0" cy="8380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68"/>
          <p:cNvSpPr/>
          <p:nvPr/>
        </p:nvSpPr>
        <p:spPr>
          <a:xfrm flipH="1">
            <a:off x="3352680" y="6629400"/>
            <a:ext cx="45720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69"/>
          <p:cNvSpPr/>
          <p:nvPr/>
        </p:nvSpPr>
        <p:spPr>
          <a:xfrm flipH="1" flipV="1">
            <a:off x="6934320" y="4190760"/>
            <a:ext cx="380880" cy="6858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0"/>
          <p:cNvSpPr/>
          <p:nvPr/>
        </p:nvSpPr>
        <p:spPr>
          <a:xfrm>
            <a:off x="6934320" y="4876920"/>
            <a:ext cx="45720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71"/>
          <p:cNvSpPr/>
          <p:nvPr/>
        </p:nvSpPr>
        <p:spPr>
          <a:xfrm flipH="1">
            <a:off x="4648320" y="4191120"/>
            <a:ext cx="220968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2"/>
          <p:cNvSpPr/>
          <p:nvPr/>
        </p:nvSpPr>
        <p:spPr>
          <a:xfrm flipH="1">
            <a:off x="4114800" y="4191120"/>
            <a:ext cx="45720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74"/>
          <p:cNvSpPr/>
          <p:nvPr/>
        </p:nvSpPr>
        <p:spPr>
          <a:xfrm flipH="1">
            <a:off x="380520" y="4419720"/>
            <a:ext cx="342900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erning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overning stage is the first stage in a turbine with nozzle steam distrib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incipal design feature of a governing stage is that its degree of partiality changes with variations of flow rate through the turb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ozzles of a governing stages are combined into groups, each of them being supplied with steam from a separate governing val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overning stage is separated by a spacious chamber from the subsequent non-controlled st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verning stages may be of a single-row or two-row 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row impulse governing stage is employed for an enthalpy drop of 80-120 kJ/k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row governing stages are used when enthalpy drop is high, 100 – 250 kJ/k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of Enthalpy Drop &amp; Type of Governing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nthalpy drop &amp; type of governing stages are selected by considering the probable effect of the governing stage on the design and efficiency of the turb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the number of governing stages, lower will be the number of  other st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high enthalpy drop in governing stage ensures  a lower temperature of steam in its chamber and permits application of less expensive materi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high capacity steam turbines, a single-row governing stages are preferred, since the advantages of elevated enthalpy drop are justified economic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fficiency of governing stag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990720" y="5486400"/>
                <a:ext cx="33526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tag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2</m:t>
                            </m:r>
                          </m:num>
                          <m:den>
                            <m:limUpp>
                              <m:e>
                                <m:r>
                                  <m:t xml:space="preserve">m</m:t>
                                </m:r>
                              </m:e>
                              <m:lim/>
                            </m:limUpp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5"/>
              <p:cNvSpPr txBox="1"/>
              <p:nvPr/>
            </p:nvSpPr>
            <p:spPr>
              <a:xfrm>
                <a:off x="5019840" y="5562720"/>
                <a:ext cx="33732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tage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2</m:t>
                            </m:r>
                          </m:num>
                          <m:den>
                            <m:limUpp>
                              <m:e>
                                <m:r>
                                  <m:t xml:space="preserve">m</m:t>
                                </m:r>
                              </m:e>
                              <m:lim/>
                            </m:limUpp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am Path in Non-Controlled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 approximate mass flow rate of steam by assuming an overall turbine internal efficiency of 0.8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flow through the condenser, using optimum of number of FWHs. (Using Cycle Calculation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Modified Efficiency of Low volume and intermediate volume st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roup of stages between two successive FW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mass flow rate and average density are calculated 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1371600" y="3733920"/>
                <a:ext cx="60958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stage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roup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Δ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so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group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5"/>
              <p:cNvSpPr txBox="1"/>
              <p:nvPr/>
            </p:nvSpPr>
            <p:spPr>
              <a:xfrm>
                <a:off x="1143000" y="5334120"/>
                <a:ext cx="28195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limUpp>
                              <m:e>
                                <m:r>
                                  <m:t xml:space="preserve">m</m:t>
                                </m:r>
                              </m:e>
                              <m:lim/>
                            </m:limUpp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oup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limUpp>
                              <m:e>
                                <m:r>
                                  <m:t xml:space="preserve">m</m:t>
                                </m:r>
                              </m:e>
                              <m:lim/>
                            </m:limUpp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oup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4392720" y="5394240"/>
                <a:ext cx="27208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oup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oup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fficiency of groups of very high volume st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designing the steam path, it is essential to consider the pressure losses in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sure loss in reheater: 0.1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sure loss in connecting pipes between turbine cylinders:0.2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1066680" y="1600200"/>
                <a:ext cx="65534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roup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g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Δ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so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group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v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so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roup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Reheating due to Irrever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609480" y="624852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4"/>
          <p:cNvSpPr/>
          <p:nvPr/>
        </p:nvSpPr>
        <p:spPr>
          <a:xfrm flipV="1">
            <a:off x="609480" y="83772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3886200" y="1371600"/>
            <a:ext cx="0" cy="40384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6"/>
          <p:cNvSpPr/>
          <p:nvPr/>
        </p:nvSpPr>
        <p:spPr>
          <a:xfrm>
            <a:off x="3200400" y="1676520"/>
            <a:ext cx="2133720" cy="635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3200400" y="2362320"/>
            <a:ext cx="2133720" cy="635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8"/>
          <p:cNvSpPr/>
          <p:nvPr/>
        </p:nvSpPr>
        <p:spPr>
          <a:xfrm>
            <a:off x="3352680" y="2895480"/>
            <a:ext cx="2133720" cy="635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9"/>
          <p:cNvSpPr/>
          <p:nvPr/>
        </p:nvSpPr>
        <p:spPr>
          <a:xfrm>
            <a:off x="3429000" y="3581280"/>
            <a:ext cx="2133720" cy="635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10"/>
          <p:cNvSpPr/>
          <p:nvPr/>
        </p:nvSpPr>
        <p:spPr>
          <a:xfrm>
            <a:off x="3429000" y="4191120"/>
            <a:ext cx="2133720" cy="635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1"/>
          <p:cNvSpPr/>
          <p:nvPr/>
        </p:nvSpPr>
        <p:spPr>
          <a:xfrm>
            <a:off x="3505320" y="4572000"/>
            <a:ext cx="2819160" cy="863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12"/>
          <p:cNvSpPr/>
          <p:nvPr/>
        </p:nvSpPr>
        <p:spPr>
          <a:xfrm>
            <a:off x="3048120" y="990720"/>
            <a:ext cx="2133360" cy="635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4343400" y="2057400"/>
            <a:ext cx="0" cy="685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4648320" y="2590920"/>
            <a:ext cx="0" cy="6094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4876920" y="3124080"/>
            <a:ext cx="0" cy="685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5181480" y="3733920"/>
            <a:ext cx="0" cy="6094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5410080" y="4267080"/>
            <a:ext cx="0" cy="6098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18"/>
          <p:cNvSpPr/>
          <p:nvPr/>
        </p:nvSpPr>
        <p:spPr>
          <a:xfrm>
            <a:off x="3886200" y="1371600"/>
            <a:ext cx="457200" cy="68580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19"/>
          <p:cNvSpPr/>
          <p:nvPr/>
        </p:nvSpPr>
        <p:spPr>
          <a:xfrm>
            <a:off x="4648320" y="2590920"/>
            <a:ext cx="228600" cy="53316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20"/>
          <p:cNvSpPr/>
          <p:nvPr/>
        </p:nvSpPr>
        <p:spPr>
          <a:xfrm>
            <a:off x="4876920" y="3200400"/>
            <a:ext cx="304560" cy="53352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21"/>
          <p:cNvSpPr/>
          <p:nvPr/>
        </p:nvSpPr>
        <p:spPr>
          <a:xfrm>
            <a:off x="4343400" y="2057400"/>
            <a:ext cx="304920" cy="53352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22"/>
          <p:cNvSpPr/>
          <p:nvPr/>
        </p:nvSpPr>
        <p:spPr>
          <a:xfrm>
            <a:off x="5181480" y="3733920"/>
            <a:ext cx="228600" cy="53316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23"/>
          <p:cNvSpPr/>
          <p:nvPr/>
        </p:nvSpPr>
        <p:spPr>
          <a:xfrm>
            <a:off x="5410080" y="4267080"/>
            <a:ext cx="304920" cy="53352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3490920" y="905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5"/>
          <p:cNvSpPr/>
          <p:nvPr/>
        </p:nvSpPr>
        <p:spPr>
          <a:xfrm>
            <a:off x="3201480" y="5181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3830400" y="2514600"/>
            <a:ext cx="57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I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4065120" y="3048120"/>
            <a:ext cx="64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II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3443040" y="1905120"/>
            <a:ext cx="50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4669560" y="4191120"/>
            <a:ext cx="58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4294800" y="3581280"/>
            <a:ext cx="65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I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1"/>
          <p:cNvSpPr/>
          <p:nvPr/>
        </p:nvSpPr>
        <p:spPr>
          <a:xfrm>
            <a:off x="4358520" y="1752480"/>
            <a:ext cx="519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2"/>
          <p:cNvSpPr/>
          <p:nvPr/>
        </p:nvSpPr>
        <p:spPr>
          <a:xfrm>
            <a:off x="4593240" y="2362320"/>
            <a:ext cx="58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II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3"/>
          <p:cNvSpPr/>
          <p:nvPr/>
        </p:nvSpPr>
        <p:spPr>
          <a:xfrm>
            <a:off x="4904280" y="2895480"/>
            <a:ext cx="65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III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4"/>
          <p:cNvSpPr/>
          <p:nvPr/>
        </p:nvSpPr>
        <p:spPr>
          <a:xfrm>
            <a:off x="5209920" y="3505320"/>
            <a:ext cx="66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IV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5"/>
          <p:cNvSpPr/>
          <p:nvPr/>
        </p:nvSpPr>
        <p:spPr>
          <a:xfrm>
            <a:off x="5432400" y="4038480"/>
            <a:ext cx="59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6"/>
          <p:cNvSpPr/>
          <p:nvPr/>
        </p:nvSpPr>
        <p:spPr>
          <a:xfrm>
            <a:off x="4980600" y="4800600"/>
            <a:ext cx="65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V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7"/>
          <p:cNvSpPr/>
          <p:nvPr/>
        </p:nvSpPr>
        <p:spPr>
          <a:xfrm>
            <a:off x="5819760" y="4648320"/>
            <a:ext cx="66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VI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8"/>
          <p:cNvSpPr/>
          <p:nvPr/>
        </p:nvSpPr>
        <p:spPr>
          <a:xfrm>
            <a:off x="214920" y="3343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9"/>
          <p:cNvSpPr/>
          <p:nvPr/>
        </p:nvSpPr>
        <p:spPr>
          <a:xfrm>
            <a:off x="4100400" y="616284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0"/>
          <p:cNvSpPr/>
          <p:nvPr/>
        </p:nvSpPr>
        <p:spPr>
          <a:xfrm>
            <a:off x="4932360" y="108108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verning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1"/>
          <p:cNvSpPr/>
          <p:nvPr/>
        </p:nvSpPr>
        <p:spPr>
          <a:xfrm>
            <a:off x="4951800" y="182880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2"/>
          <p:cNvSpPr/>
          <p:nvPr/>
        </p:nvSpPr>
        <p:spPr>
          <a:xfrm>
            <a:off x="5180400" y="243828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3"/>
          <p:cNvSpPr/>
          <p:nvPr/>
        </p:nvSpPr>
        <p:spPr>
          <a:xfrm>
            <a:off x="5409000" y="297180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4"/>
          <p:cNvSpPr/>
          <p:nvPr/>
        </p:nvSpPr>
        <p:spPr>
          <a:xfrm>
            <a:off x="5713560" y="358128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5"/>
          <p:cNvSpPr/>
          <p:nvPr/>
        </p:nvSpPr>
        <p:spPr>
          <a:xfrm>
            <a:off x="6094800" y="411480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ation of The Height of Moving Bl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4648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ntrance height of moving blade is made slightly larger than the height of the nozz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hort blades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made larger by about 2 to 4 m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all blades this difference is greater than 4m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xit cross section of the moving blades in a direction perpendicular to the direction of relative exit velocity vector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t cross section in the plane of rotation of di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4"/>
          <p:cNvGraphicFramePr/>
          <p:nvPr/>
        </p:nvGraphicFramePr>
        <p:xfrm>
          <a:off x="5343480" y="838080"/>
          <a:ext cx="3800520" cy="40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3480" y="838080"/>
                    <a:ext cx="380052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5"/>
          <p:cNvSpPr/>
          <p:nvPr/>
        </p:nvSpPr>
        <p:spPr>
          <a:xfrm>
            <a:off x="6544800" y="2556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782480" y="2743200"/>
            <a:ext cx="39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8660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>
                <a:off x="2133720" y="4267080"/>
                <a:ext cx="17524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9"/>
              <p:cNvSpPr txBox="1"/>
              <p:nvPr/>
            </p:nvSpPr>
            <p:spPr>
              <a:xfrm>
                <a:off x="1144440" y="5791320"/>
                <a:ext cx="35784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Text Box 10"/>
          <p:cNvSpPr/>
          <p:nvPr/>
        </p:nvSpPr>
        <p:spPr>
          <a:xfrm>
            <a:off x="853632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379800" y="41400"/>
            <a:ext cx="305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lso express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3"/>
              <p:cNvSpPr txBox="1"/>
              <p:nvPr/>
            </p:nvSpPr>
            <p:spPr>
              <a:xfrm>
                <a:off x="2049480" y="614520"/>
                <a:ext cx="38988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ε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εz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2" name="Object 4"/>
          <p:cNvGraphicFramePr/>
          <p:nvPr/>
        </p:nvGraphicFramePr>
        <p:xfrm>
          <a:off x="4648320" y="1994040"/>
          <a:ext cx="4495680" cy="48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94040"/>
                    <a:ext cx="449568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5"/>
          <p:cNvSpPr/>
          <p:nvPr/>
        </p:nvSpPr>
        <p:spPr>
          <a:xfrm>
            <a:off x="8391960" y="3276720"/>
            <a:ext cx="39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6487560" y="40384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6712920" y="23623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6942600" y="3124080"/>
            <a:ext cx="42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9"/>
              <p:cNvSpPr txBox="1"/>
              <p:nvPr/>
            </p:nvSpPr>
            <p:spPr>
              <a:xfrm>
                <a:off x="0" y="1676520"/>
                <a:ext cx="45165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num>
                      <m:den>
                        <m:r>
                          <m:t xml:space="preserve">πd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ερ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num>
                      <m:den>
                        <m:r>
                          <m:t xml:space="preserve">πd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ερ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1024"/>
          <p:cNvGraphicFramePr/>
          <p:nvPr/>
        </p:nvGraphicFramePr>
        <p:xfrm>
          <a:off x="5343480" y="838080"/>
          <a:ext cx="3800520" cy="40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3480" y="838080"/>
                    <a:ext cx="380052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3"/>
          <p:cNvSpPr/>
          <p:nvPr/>
        </p:nvSpPr>
        <p:spPr>
          <a:xfrm>
            <a:off x="297000" y="1219320"/>
            <a:ext cx="469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decide about the widt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ad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dths of the nozzle &amp; mo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de is immaterial for an Isentrop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es decide the widths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6409080" y="2895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630920" y="297180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8"/>
          <p:cNvSpPr/>
          <p:nvPr/>
        </p:nvSpPr>
        <p:spPr>
          <a:xfrm>
            <a:off x="1143000" y="2057400"/>
            <a:ext cx="7315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DejaVu Sans"/>
              </a:rPr>
              <a:t>Sharad Institute of Technology, College of Engineering, Yadra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DejaVu Sans"/>
              </a:rPr>
              <a:t>Department of Mechanical Engine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DejaVu Sans"/>
              </a:rPr>
              <a:t>APPLIED THERMO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DejaVu Sans"/>
              </a:rPr>
              <a:t>STEAM TURBINE (UNIT 5,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Mr.Avesahemad S.N. Husain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C:\Users\hp\Desktop\logo.png"/>
          <p:cNvPicPr/>
          <p:nvPr/>
        </p:nvPicPr>
        <p:blipFill>
          <a:blip r:embed="rId1"/>
          <a:stretch/>
        </p:blipFill>
        <p:spPr>
          <a:xfrm>
            <a:off x="304920" y="304920"/>
            <a:ext cx="2141280" cy="13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reversibilities in Turb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3"/>
          <p:cNvSpPr/>
          <p:nvPr/>
        </p:nvSpPr>
        <p:spPr>
          <a:xfrm>
            <a:off x="914400" y="58672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4"/>
          <p:cNvSpPr/>
          <p:nvPr/>
        </p:nvSpPr>
        <p:spPr>
          <a:xfrm flipV="1">
            <a:off x="914400" y="167616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20968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90520" y="4003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3643560" y="6060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22114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213516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3201840" y="4876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4397760" y="1717560"/>
            <a:ext cx="4041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 work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l work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Efficiency of a turb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12"/>
              <p:cNvSpPr txBox="1"/>
              <p:nvPr/>
            </p:nvSpPr>
            <p:spPr>
              <a:xfrm>
                <a:off x="4724280" y="3809880"/>
                <a:ext cx="274320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urbin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Freeform 13"/>
          <p:cNvSpPr/>
          <p:nvPr/>
        </p:nvSpPr>
        <p:spPr>
          <a:xfrm>
            <a:off x="2209680" y="2057400"/>
            <a:ext cx="1143000" cy="2895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14"/>
          <p:cNvSpPr/>
          <p:nvPr/>
        </p:nvSpPr>
        <p:spPr>
          <a:xfrm>
            <a:off x="2209680" y="4648320"/>
            <a:ext cx="2133720" cy="4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es in Turb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es in Regulating valves : The magnitude of loss of pressure due to throttling with the regulating valves fully open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3 to 5% of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 in nozzle bl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sure loss in moving bl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 due to exit veloc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 due to friction of the disc and blade b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 associated with partial admi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 due to steam leakages through clear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 due to flow of wet st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 due to exhaust pip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 due to steam leakage in se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es in Nozz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es of kinetic energy of steam while flowing through nozzles or guide blade passages are caused becaus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 losses of steam before entering the nozzl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ctional resistance of the nozzles wall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cous friction between steam molecul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lection of the flow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wth of boundary lay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rbulence in the Wak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es at the roof and floor of the nozz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losses are accounted by the velocity coefficient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5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3565440" y="606096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ad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es in Moving Bl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es in moving blades are caused due to various fa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otal losses in moving blades are accounted for by the velocity coefficient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total losses are comprised of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es due to trailing edge wa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ingement lo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es due to leakage of steam through the annular space between stator and the shrou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ction lo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es due to the turning of the steam jet in the bl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Losses due to shrou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3565440" y="606096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ad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ving Velocity (Carry-over)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am leaves the exit of moving blades with an absolute velocity of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multi stage turbines the velocity energy of the exit steam may be used either in fully or partially in succeeding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nergy loss due to leaving veloc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0"/>
              <p:cNvSpPr txBox="1"/>
              <p:nvPr/>
            </p:nvSpPr>
            <p:spPr>
              <a:xfrm>
                <a:off x="1981080" y="3429000"/>
                <a:ext cx="34290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J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es due to Disc Friction and Wind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ctional forces appear between the rotating turbine disc and the steam enveloping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otating disc drags the particles near its surface and imparts to them an accelerating force in the direction of ro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efinite amount of mechanical work is spent in overcoming the effect of friction and imparting this accel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case of partial admission there is good deal of turbulence over the arc where steam is not admit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turbulence causes windage losses which basically consist of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ction &amp; Impingement of steam on the bl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mittent admission of steam into the moving bl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gnitude of these losses is calculated using Stodola’s Emperical Formul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i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Power los in overcoming friction and wind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fluid Coefficient: 1 for air or highly superheated steam, 1.1 – 1.2 for ordinary superheated &amp; 1.3 for saturated st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: Mean diameter of the dis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: Number of velocity st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gree of partial admi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Heght of blades, in 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: Velocity of blade at mean diameter, m/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nsity of steam, kg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0"/>
              <p:cNvSpPr txBox="1"/>
              <p:nvPr/>
            </p:nvSpPr>
            <p:spPr>
              <a:xfrm>
                <a:off x="1066680" y="1263600"/>
                <a:ext cx="693432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in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</m:e>
                        </m:d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bSup>
                      </m:e>
                    </m:d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ρ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urbin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Parameters for Selecting th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design and construction of the steam path of a turbine, the following parameters are usually specif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Electric Power of turbo gener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 parameters of steam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amp;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s of reheated steam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amp;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sure of condenser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erature of feed water at the exit from final FWH,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w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onal speed of the turbine Rotor, 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ances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alue of gap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hosen in such a way so that during operation of turbine the blades of turbine both moving and fixed donot scrap against the stator and rotor respective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ure difference across fixed and/or moving blades leads to leakage of steam through the g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leakage leads to loss of mechanical pow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4343400" cy="3166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0" y="5562720"/>
                <a:ext cx="480060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a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ge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ge</m:t>
                            </m:r>
                            <m:r>
                              <m:t xml:space="preserve">,</m:t>
                            </m:r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Text Box 6"/>
          <p:cNvSpPr/>
          <p:nvPr/>
        </p:nvSpPr>
        <p:spPr>
          <a:xfrm>
            <a:off x="5390640" y="423216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Formu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4929120" y="4762440"/>
                <a:ext cx="36291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a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f>
                      <m:num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sup>
                        </m:sSubSup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ge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es due to Wetness of S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bsolute velocity of water droplets is generally less than that of ste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irection of  relative velocity of water droplets is not tangential to the bla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water droplets are deflected onto the back of the moving blades as a result of which the moving blades experience an impact for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1447920" y="2895480"/>
                <a:ext cx="58672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nes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g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8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haust Piping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of pressure in exhaust pipings of condensing turbines may be determined fr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1752480" y="2895480"/>
                <a:ext cx="495324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0199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3"/>
          <p:cNvSpPr/>
          <p:nvPr/>
        </p:nvSpPr>
        <p:spPr>
          <a:xfrm>
            <a:off x="3795480" y="5985000"/>
            <a:ext cx="23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utput,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91080" y="2320920"/>
            <a:ext cx="72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-720" y="190512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utput of the blad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380880" y="2590920"/>
                <a:ext cx="43434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limUpp>
                      <m:e>
                        <m:r>
                          <m:t xml:space="preserve">m</m:t>
                        </m:r>
                      </m:e>
                      <m:lim/>
                    </m:limUpp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Text Box 4"/>
          <p:cNvSpPr/>
          <p:nvPr/>
        </p:nvSpPr>
        <p:spPr>
          <a:xfrm>
            <a:off x="144720" y="350532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 Efficiency or Blade efficien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5"/>
          <p:cNvGrpSpPr/>
          <p:nvPr/>
        </p:nvGrpSpPr>
        <p:grpSpPr>
          <a:xfrm>
            <a:off x="3962520" y="-360"/>
            <a:ext cx="5181120" cy="2286360"/>
            <a:chOff x="3962520" y="-360"/>
            <a:chExt cx="5181120" cy="2286360"/>
          </a:xfrm>
        </p:grpSpPr>
        <p:sp>
          <p:nvSpPr>
            <p:cNvPr id="265" name="Line 6"/>
            <p:cNvSpPr/>
            <p:nvPr/>
          </p:nvSpPr>
          <p:spPr>
            <a:xfrm>
              <a:off x="6905520" y="696960"/>
              <a:ext cx="2085480" cy="15890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"/>
            <p:cNvSpPr/>
            <p:nvPr/>
          </p:nvSpPr>
          <p:spPr>
            <a:xfrm>
              <a:off x="4657680" y="696960"/>
              <a:ext cx="4308120" cy="156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8"/>
            <p:cNvSpPr/>
            <p:nvPr/>
          </p:nvSpPr>
          <p:spPr>
            <a:xfrm flipH="1">
              <a:off x="5637960" y="304920"/>
              <a:ext cx="108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9"/>
            <p:cNvSpPr/>
            <p:nvPr/>
          </p:nvSpPr>
          <p:spPr>
            <a:xfrm>
              <a:off x="7706520" y="106668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6414120" y="990720"/>
              <a:ext cx="52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1"/>
            <p:cNvSpPr/>
            <p:nvPr/>
          </p:nvSpPr>
          <p:spPr>
            <a:xfrm>
              <a:off x="4647960" y="685800"/>
              <a:ext cx="228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2"/>
            <p:cNvSpPr/>
            <p:nvPr/>
          </p:nvSpPr>
          <p:spPr>
            <a:xfrm flipH="1">
              <a:off x="4343400" y="685800"/>
              <a:ext cx="2514240" cy="1447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3"/>
            <p:cNvSpPr/>
            <p:nvPr/>
          </p:nvSpPr>
          <p:spPr>
            <a:xfrm flipH="1">
              <a:off x="4343400" y="685800"/>
              <a:ext cx="32328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14"/>
            <p:cNvSpPr/>
            <p:nvPr/>
          </p:nvSpPr>
          <p:spPr>
            <a:xfrm>
              <a:off x="5347440" y="13716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>
              <a:off x="3977280" y="1066680"/>
              <a:ext cx="55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6"/>
            <p:cNvSpPr/>
            <p:nvPr/>
          </p:nvSpPr>
          <p:spPr>
            <a:xfrm>
              <a:off x="6858000" y="685800"/>
              <a:ext cx="22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17"/>
            <p:cNvSpPr/>
            <p:nvPr/>
          </p:nvSpPr>
          <p:spPr>
            <a:xfrm>
              <a:off x="7175520" y="698400"/>
              <a:ext cx="50400" cy="190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8"/>
            <p:cNvSpPr/>
            <p:nvPr/>
          </p:nvSpPr>
          <p:spPr>
            <a:xfrm>
              <a:off x="5181480" y="685800"/>
              <a:ext cx="50400" cy="190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9"/>
            <p:cNvSpPr/>
            <p:nvPr/>
          </p:nvSpPr>
          <p:spPr>
            <a:xfrm>
              <a:off x="6476760" y="685800"/>
              <a:ext cx="50400" cy="190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0"/>
            <p:cNvSpPr/>
            <p:nvPr/>
          </p:nvSpPr>
          <p:spPr>
            <a:xfrm flipH="1">
              <a:off x="3962520" y="6858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21"/>
            <p:cNvSpPr/>
            <p:nvPr/>
          </p:nvSpPr>
          <p:spPr>
            <a:xfrm flipH="1">
              <a:off x="4469400" y="685800"/>
              <a:ext cx="177480" cy="304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2"/>
            <p:cNvSpPr/>
            <p:nvPr/>
          </p:nvSpPr>
          <p:spPr>
            <a:xfrm>
              <a:off x="7380720" y="49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23"/>
            <p:cNvSpPr/>
            <p:nvPr/>
          </p:nvSpPr>
          <p:spPr>
            <a:xfrm>
              <a:off x="5187240" y="533520"/>
              <a:ext cx="42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24"/>
            <p:cNvSpPr/>
            <p:nvPr/>
          </p:nvSpPr>
          <p:spPr>
            <a:xfrm>
              <a:off x="4122720" y="533520"/>
              <a:ext cx="45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25"/>
            <p:cNvSpPr/>
            <p:nvPr/>
          </p:nvSpPr>
          <p:spPr>
            <a:xfrm>
              <a:off x="6026760" y="533520"/>
              <a:ext cx="426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26"/>
            <p:cNvSpPr/>
            <p:nvPr/>
          </p:nvSpPr>
          <p:spPr>
            <a:xfrm flipV="1">
              <a:off x="8915400" y="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V="1">
              <a:off x="4647960" y="-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28"/>
            <p:cNvSpPr/>
            <p:nvPr/>
          </p:nvSpPr>
          <p:spPr>
            <a:xfrm>
              <a:off x="4647960" y="22860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29"/>
            <p:cNvSpPr/>
            <p:nvPr/>
          </p:nvSpPr>
          <p:spPr>
            <a:xfrm flipV="1">
              <a:off x="6858000" y="228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30"/>
            <p:cNvSpPr/>
            <p:nvPr/>
          </p:nvSpPr>
          <p:spPr>
            <a:xfrm>
              <a:off x="4647960" y="38088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31"/>
            <p:cNvSpPr/>
            <p:nvPr/>
          </p:nvSpPr>
          <p:spPr>
            <a:xfrm>
              <a:off x="6858000" y="380880"/>
              <a:ext cx="20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1" name="Object 32"/>
              <p:cNvSpPr txBox="1"/>
              <p:nvPr/>
            </p:nvSpPr>
            <p:spPr>
              <a:xfrm>
                <a:off x="272880" y="4267080"/>
                <a:ext cx="584856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ψ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i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2" name="Text Box 33"/>
          <p:cNvSpPr/>
          <p:nvPr/>
        </p:nvSpPr>
        <p:spPr>
          <a:xfrm>
            <a:off x="478440" y="5978520"/>
            <a:ext cx="36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ng blade loss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225360" y="5105520"/>
                <a:ext cx="7548480" cy="14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g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sSub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βi</m:t>
                                    </m:r>
                                  </m:den>
                                </m:f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3"/>
              <p:cNvSpPr txBox="1"/>
              <p:nvPr/>
            </p:nvSpPr>
            <p:spPr>
              <a:xfrm>
                <a:off x="1066680" y="0"/>
                <a:ext cx="584856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ψ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i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Text Box 4"/>
          <p:cNvSpPr/>
          <p:nvPr/>
        </p:nvSpPr>
        <p:spPr>
          <a:xfrm>
            <a:off x="-5040" y="1600200"/>
            <a:ext cx="56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es in nozzle, Nozzle blade loss factor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5"/>
              <p:cNvSpPr txBox="1"/>
              <p:nvPr/>
            </p:nvSpPr>
            <p:spPr>
              <a:xfrm>
                <a:off x="1371600" y="2286000"/>
                <a:ext cx="56386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ual absolute inlet velocit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soentropic Velocity at nozzle exi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s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6"/>
              <p:cNvSpPr txBox="1"/>
              <p:nvPr/>
            </p:nvSpPr>
            <p:spPr>
              <a:xfrm>
                <a:off x="662040" y="3184560"/>
                <a:ext cx="620244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g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ψ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i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s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79200" y="304920"/>
            <a:ext cx="9064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given shape of the blade, the efficiency is a strong function of u/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909720" y="137160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aximum efficien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024"/>
              <p:cNvSpPr txBox="1"/>
              <p:nvPr/>
            </p:nvSpPr>
            <p:spPr>
              <a:xfrm>
                <a:off x="4464000" y="831960"/>
                <a:ext cx="212112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d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ge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1025"/>
              <p:cNvSpPr txBox="1"/>
              <p:nvPr/>
            </p:nvSpPr>
            <p:spPr>
              <a:xfrm>
                <a:off x="539640" y="2162160"/>
                <a:ext cx="64263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i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1026"/>
              <p:cNvSpPr txBox="1"/>
              <p:nvPr/>
            </p:nvSpPr>
            <p:spPr>
              <a:xfrm>
                <a:off x="993600" y="3360600"/>
                <a:ext cx="575316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027"/>
              <p:cNvSpPr txBox="1"/>
              <p:nvPr/>
            </p:nvSpPr>
            <p:spPr>
              <a:xfrm>
                <a:off x="281160" y="4572000"/>
                <a:ext cx="83181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ge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i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028"/>
              <p:cNvSpPr txBox="1"/>
              <p:nvPr/>
            </p:nvSpPr>
            <p:spPr>
              <a:xfrm>
                <a:off x="814320" y="5638680"/>
                <a:ext cx="56865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ge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i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266688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3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ion of Stage Diameters, Number of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ation of first Stage Nozzl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urbine in which the steam is delivered to all the revolving blades at the same time, is called Full Admission Turb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partial admission turbine steam is admitted to only some fraction of the circumfer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gree of Partial Admission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The mean diameter of the disc carrying the bl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itch of the blades at the mean diam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: The number of blade pass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it corss-section area of the nozzle perpendicular to velocity vecto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4572000" y="2216160"/>
                <a:ext cx="19051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c</m:t>
                            </m:r>
                          </m:sub>
                        </m:sSub>
                      </m:num>
                      <m:den>
                        <m:r>
                          <m:t xml:space="preserve">π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z</m:t>
                        </m:r>
                      </m:num>
                      <m:den>
                        <m:r>
                          <m:t xml:space="preserve">π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5"/>
              <p:cNvSpPr txBox="1"/>
              <p:nvPr/>
            </p:nvSpPr>
            <p:spPr>
              <a:xfrm>
                <a:off x="3429000" y="4800600"/>
                <a:ext cx="24382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exi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exit</m:t>
                        </m:r>
                      </m:sub>
                    </m:sSub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4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9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4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9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of Steam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an overall isentropic efficiency of the turbine and estimate approximate mass flow rate of steam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s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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%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sign of turbine stages and the dimensions of turbine elements in the steam path depend substantially on the volume discharge of st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typical turbine the specific volume increases 2500 times along the steam pa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view of the specifics of the steam path design, all the stages of a steam turbine are divided into four grou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verning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volume stages (HP Turbine Dru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mediated volume stages (IP Turbine Dru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high volume stages (LP Turbine Drum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rvation of m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3"/>
              <p:cNvSpPr txBox="1"/>
              <p:nvPr/>
            </p:nvSpPr>
            <p:spPr>
              <a:xfrm>
                <a:off x="3657600" y="228600"/>
                <a:ext cx="19810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exit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4"/>
              <p:cNvSpPr txBox="1"/>
              <p:nvPr/>
            </p:nvSpPr>
            <p:spPr>
              <a:xfrm>
                <a:off x="2895480" y="1447920"/>
                <a:ext cx="304812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exit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z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5"/>
              <p:cNvSpPr txBox="1"/>
              <p:nvPr/>
            </p:nvSpPr>
            <p:spPr>
              <a:xfrm>
                <a:off x="533520" y="3124080"/>
                <a:ext cx="18604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6"/>
              <p:cNvSpPr txBox="1"/>
              <p:nvPr/>
            </p:nvSpPr>
            <p:spPr>
              <a:xfrm>
                <a:off x="2438280" y="3733920"/>
                <a:ext cx="391320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exit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z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7"/>
              <p:cNvSpPr txBox="1"/>
              <p:nvPr/>
            </p:nvSpPr>
            <p:spPr>
              <a:xfrm>
                <a:off x="457200" y="5403960"/>
                <a:ext cx="394812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exi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8"/>
              <p:cNvSpPr txBox="1"/>
              <p:nvPr/>
            </p:nvSpPr>
            <p:spPr>
              <a:xfrm>
                <a:off x="5084640" y="5334120"/>
                <a:ext cx="263232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c</m:t>
                            </m:r>
                          </m:sub>
                        </m:sSub>
                      </m:num>
                      <m:den>
                        <m:r>
                          <m:t xml:space="preserve">π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z</m:t>
                        </m:r>
                      </m:num>
                      <m:den>
                        <m:r>
                          <m:t xml:space="preserve">π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" name="Text Box 9"/>
          <p:cNvSpPr/>
          <p:nvPr/>
        </p:nvSpPr>
        <p:spPr>
          <a:xfrm>
            <a:off x="2956320" y="3089160"/>
            <a:ext cx="55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 small inlet absolute angles: 14 –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1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1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0" y="0"/>
                <a:ext cx="418932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exi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num>
                      <m:den>
                        <m:r>
                          <m:t xml:space="preserve">πd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ερ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3"/>
              <p:cNvSpPr txBox="1"/>
              <p:nvPr/>
            </p:nvSpPr>
            <p:spPr>
              <a:xfrm>
                <a:off x="4648320" y="0"/>
                <a:ext cx="418932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num>
                      <m:den>
                        <m:sSub>
                          <m:e>
                            <m:r>
                              <m:t xml:space="preserve">πdρ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Text Box 4"/>
          <p:cNvSpPr/>
          <p:nvPr/>
        </p:nvSpPr>
        <p:spPr>
          <a:xfrm>
            <a:off x="441360" y="1752480"/>
            <a:ext cx="8451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s with small mean diameter are prefer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is specified by gener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timum value of U/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be emplo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nd 18 – 22 stages can be accommodated in a single dr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quantities are known in above equations, excep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ssuming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sum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crease in height or decrease in degree of partial admission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 to increase in energy losses in nozz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Design constra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zzle height &gt; 10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.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3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3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8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5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8" dur="5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3" dur="500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500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3" dur="500"/>
                                        <p:tgtEl>
                                          <p:spTgt spid="3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8" dur="500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ion of Last Stage Dim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mensions of first stage and last stage are initially estim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xit cross sectional are of  last stag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xit absolute angle is taken as 9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denser steam flow rate and density are found from cycle calcu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nergy loss with exit velocity behind last stage is take as 20 to 40 kJ/k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0"/>
              <p:cNvSpPr txBox="1"/>
              <p:nvPr/>
            </p:nvSpPr>
            <p:spPr>
              <a:xfrm>
                <a:off x="1828800" y="2209680"/>
                <a:ext cx="42670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a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π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ast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as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limUpp>
                              <m:e>
                                <m:r>
                                  <m:t xml:space="preserve">m</m:t>
                                </m:r>
                              </m:e>
                              <m:lim/>
                            </m:limUpp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,</m:t>
                            </m:r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"/>
              <p:cNvSpPr txBox="1"/>
              <p:nvPr/>
            </p:nvSpPr>
            <p:spPr>
              <a:xfrm>
                <a:off x="2666880" y="5257800"/>
                <a:ext cx="27432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as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  to 40 </m:t>
                    </m:r>
                    <m:r>
                      <m:rPr>
                        <m:lit/>
                        <m:nor/>
                      </m:rPr>
                      <m:t xml:space="preserve">kJ/k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512280" y="27000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diameter of last st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3"/>
              <p:cNvSpPr txBox="1"/>
              <p:nvPr/>
            </p:nvSpPr>
            <p:spPr>
              <a:xfrm>
                <a:off x="2293920" y="1171440"/>
                <a:ext cx="30322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ast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i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ρ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9" name="Text Box 4"/>
          <p:cNvSpPr/>
          <p:nvPr/>
        </p:nvSpPr>
        <p:spPr>
          <a:xfrm>
            <a:off x="741240" y="2625840"/>
            <a:ext cx="709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factor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d/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2.5 – 3.0 for double flow turb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5 – 7 for single flow turb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for flows 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667440" y="43084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of moving bl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6"/>
              <p:cNvSpPr txBox="1"/>
              <p:nvPr/>
            </p:nvSpPr>
            <p:spPr>
              <a:xfrm>
                <a:off x="2590920" y="4952880"/>
                <a:ext cx="15238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as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as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Line 2"/>
          <p:cNvSpPr/>
          <p:nvPr/>
        </p:nvSpPr>
        <p:spPr>
          <a:xfrm>
            <a:off x="457200" y="63244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3"/>
          <p:cNvSpPr/>
          <p:nvPr/>
        </p:nvSpPr>
        <p:spPr>
          <a:xfrm flipV="1">
            <a:off x="457200" y="1066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4"/>
          <p:cNvSpPr/>
          <p:nvPr/>
        </p:nvSpPr>
        <p:spPr>
          <a:xfrm flipV="1">
            <a:off x="914400" y="48002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5"/>
          <p:cNvSpPr/>
          <p:nvPr/>
        </p:nvSpPr>
        <p:spPr>
          <a:xfrm flipV="1">
            <a:off x="8001000" y="304560"/>
            <a:ext cx="0" cy="601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61920" y="3774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3108960" y="63658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8"/>
          <p:cNvSpPr/>
          <p:nvPr/>
        </p:nvSpPr>
        <p:spPr>
          <a:xfrm>
            <a:off x="4114800" y="6629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457920" y="6400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7468200" y="64008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11"/>
          <p:cNvSpPr/>
          <p:nvPr/>
        </p:nvSpPr>
        <p:spPr>
          <a:xfrm>
            <a:off x="914400" y="304920"/>
            <a:ext cx="7086600" cy="4495680"/>
          </a:xfrm>
          <a:prstGeom prst="pie">
            <a:avLst/>
          </a:pr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4250520" y="32418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3"/>
          <p:cNvSpPr/>
          <p:nvPr/>
        </p:nvSpPr>
        <p:spPr>
          <a:xfrm>
            <a:off x="5105520" y="3581280"/>
            <a:ext cx="75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4"/>
          <p:cNvSpPr/>
          <p:nvPr/>
        </p:nvSpPr>
        <p:spPr>
          <a:xfrm>
            <a:off x="2052000" y="152280"/>
            <a:ext cx="46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tion of Diameter along a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533520" y="762120"/>
            <a:ext cx="6172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 a diagram by laying off an arbitrary section on Abscis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ameter of first state and that of a last stage are laid off as Ordin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pper ends of ordinates are connected by a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ing diameters d of all intermediate st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 the abscissa in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subse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high pressure portion, the curve is almost horizon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low pressure portion, the curve rises stee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urve of velocity ratios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U/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re assigned close to opt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alue of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generally in the range of 0.56 – 0.6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0"/>
              <p:cNvSpPr txBox="1"/>
              <p:nvPr/>
            </p:nvSpPr>
            <p:spPr>
              <a:xfrm>
                <a:off x="152280" y="1676520"/>
                <a:ext cx="871380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g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s</m:t>
                                        </m:r>
                                        <m:sSub>
                                          <m:e>
                                            <m:r>
                                              <m:t xml:space="preserve">α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U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a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s</m:t>
                                        </m:r>
                                        <m:sSub>
                                          <m:e>
                                            <m:r>
                                              <m:t xml:space="preserve">β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Λ</m:t>
                                    </m:r>
                                  </m:den>
                                </m:f>
                              </m:e>
                            </m:d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0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a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"/>
              <p:cNvSpPr txBox="1"/>
              <p:nvPr/>
            </p:nvSpPr>
            <p:spPr>
              <a:xfrm>
                <a:off x="3505320" y="3352680"/>
                <a:ext cx="2158920" cy="15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d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ge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9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4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9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4" dur="500"/>
                                        <p:tgtEl>
                                          <p:spTgt spid="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Line 2"/>
          <p:cNvSpPr/>
          <p:nvPr/>
        </p:nvSpPr>
        <p:spPr>
          <a:xfrm>
            <a:off x="457200" y="63244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3"/>
          <p:cNvSpPr/>
          <p:nvPr/>
        </p:nvSpPr>
        <p:spPr>
          <a:xfrm flipV="1">
            <a:off x="457200" y="1066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4"/>
          <p:cNvSpPr/>
          <p:nvPr/>
        </p:nvSpPr>
        <p:spPr>
          <a:xfrm flipV="1">
            <a:off x="914400" y="48002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5"/>
          <p:cNvSpPr/>
          <p:nvPr/>
        </p:nvSpPr>
        <p:spPr>
          <a:xfrm flipV="1">
            <a:off x="8001000" y="304560"/>
            <a:ext cx="0" cy="601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61920" y="3774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3108960" y="63658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4114800" y="6629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457920" y="6400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7468200" y="64008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11"/>
          <p:cNvSpPr/>
          <p:nvPr/>
        </p:nvSpPr>
        <p:spPr>
          <a:xfrm>
            <a:off x="914400" y="304920"/>
            <a:ext cx="7086600" cy="4495680"/>
          </a:xfrm>
          <a:prstGeom prst="pie">
            <a:avLst/>
          </a:pr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4250520" y="32418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3"/>
          <p:cNvSpPr/>
          <p:nvPr/>
        </p:nvSpPr>
        <p:spPr>
          <a:xfrm>
            <a:off x="5105520" y="3581280"/>
            <a:ext cx="75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533520" y="762120"/>
            <a:ext cx="61722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urve of velocity ratios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all stages is also plotted in the dia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ati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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/l is selected in the range 2.5 – 3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gener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reases from stage to st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gree of react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hould increase along the st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6"/>
          <p:cNvSpPr/>
          <p:nvPr/>
        </p:nvSpPr>
        <p:spPr>
          <a:xfrm>
            <a:off x="1219320" y="4800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7"/>
          <p:cNvSpPr/>
          <p:nvPr/>
        </p:nvSpPr>
        <p:spPr>
          <a:xfrm>
            <a:off x="4267080" y="4419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8"/>
          <p:cNvSpPr/>
          <p:nvPr/>
        </p:nvSpPr>
        <p:spPr>
          <a:xfrm>
            <a:off x="4800600" y="4267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9"/>
          <p:cNvSpPr/>
          <p:nvPr/>
        </p:nvSpPr>
        <p:spPr>
          <a:xfrm>
            <a:off x="5257800" y="4191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5791320" y="38862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21"/>
          <p:cNvSpPr/>
          <p:nvPr/>
        </p:nvSpPr>
        <p:spPr>
          <a:xfrm>
            <a:off x="6248520" y="33526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2"/>
          <p:cNvSpPr/>
          <p:nvPr/>
        </p:nvSpPr>
        <p:spPr>
          <a:xfrm>
            <a:off x="678168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3"/>
          <p:cNvSpPr/>
          <p:nvPr/>
        </p:nvSpPr>
        <p:spPr>
          <a:xfrm>
            <a:off x="723888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24"/>
          <p:cNvSpPr/>
          <p:nvPr/>
        </p:nvSpPr>
        <p:spPr>
          <a:xfrm>
            <a:off x="7620120" y="1219320"/>
            <a:ext cx="0" cy="510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2362320" y="4648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26"/>
          <p:cNvSpPr/>
          <p:nvPr/>
        </p:nvSpPr>
        <p:spPr>
          <a:xfrm>
            <a:off x="2895480" y="4572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27"/>
          <p:cNvSpPr/>
          <p:nvPr/>
        </p:nvSpPr>
        <p:spPr>
          <a:xfrm>
            <a:off x="3352680" y="4572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8"/>
          <p:cNvSpPr/>
          <p:nvPr/>
        </p:nvSpPr>
        <p:spPr>
          <a:xfrm>
            <a:off x="3809880" y="4495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29"/>
          <p:cNvSpPr/>
          <p:nvPr/>
        </p:nvSpPr>
        <p:spPr>
          <a:xfrm>
            <a:off x="1600200" y="47242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30"/>
          <p:cNvSpPr/>
          <p:nvPr/>
        </p:nvSpPr>
        <p:spPr>
          <a:xfrm>
            <a:off x="1981080" y="47242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global available enthalpy drop for a subsec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Available enthalpy drop for a sub s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available total enthalpy dro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no. of stages, z using this effective total available enthalpy dr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0"/>
              <p:cNvSpPr txBox="1"/>
              <p:nvPr/>
            </p:nvSpPr>
            <p:spPr>
              <a:xfrm>
                <a:off x="2808360" y="1066680"/>
                <a:ext cx="23860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  <m:r>
                          <m:rPr>
                            <m:lit/>
                            <m:nor/>
                          </m:rPr>
                          <m:t xml:space="preserve">tio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loba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"/>
              <p:cNvSpPr txBox="1"/>
              <p:nvPr/>
            </p:nvSpPr>
            <p:spPr>
              <a:xfrm>
                <a:off x="2743200" y="2438280"/>
                <a:ext cx="27320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  <m:r>
                          <m:rPr>
                            <m:lit/>
                            <m:nor/>
                          </m:rPr>
                          <m:t xml:space="preserve">tio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oca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2"/>
              <p:cNvSpPr txBox="1"/>
              <p:nvPr/>
            </p:nvSpPr>
            <p:spPr>
              <a:xfrm>
                <a:off x="2739960" y="4114800"/>
                <a:ext cx="2433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838080" y="228600"/>
            <a:ext cx="7315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ION STEPS FOR A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am flow rate , obtained from cycle calculation of turbine pl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diameter, d (m ) for a stage obtained from a special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onal frequency, n (rps) ,given/obtained from grid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ngential velocity at average diameter U (m/s) calculated using formula u= πd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Available enthalpy drop is known from h-s diag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a degree of re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absolute velocity, (m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appropriate Velocity ratio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available enthalpy drop in nozzle cascade,    k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available enthalpy drop in moving blade cascade,     k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1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6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1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6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1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6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1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6" dur="50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1" dur="500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6" dur="500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685800" y="15228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ic volume behind the nozzle cascade(theoretical), v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</a:rPr>
              <a:t>1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kg) , obtained fro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s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ic volume behind the moving blade cascade(theoretical), v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</a:rPr>
              <a:t>2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kg) , obtained from h-s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oretical steam velocity at nozzle exit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m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gle of velocity vector V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α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su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it area of nozzle cascade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ight of nozzle blades,      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ocity coefficient of nozzle casca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ocity of steam exit from nozzle cascade ,     m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 steam velocity at entry to moving blade cascade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gle of relative velocity vector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oretical steam velocity at exit from moving blade casca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ight of moving blades, l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rd of moving blade profile , b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sum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it area of moving blade cascade ,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gle of velocity vector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ocity coefficient of moving blade cascade, ψ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 velocity at moving blade exit,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2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lute velocity at moving blade exit,    m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gle of velocity vector 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3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8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3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8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3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8" dur="5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3" dur="5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8" dur="500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3" dur="500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8" dur="500"/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3" dur="500"/>
                                        <p:tgtEl>
                                          <p:spTgt spid="3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8" dur="500"/>
                                        <p:tgtEl>
                                          <p:spTgt spid="3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3" dur="500"/>
                                        <p:tgtEl>
                                          <p:spTgt spid="3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8" dur="500"/>
                                        <p:tgtEl>
                                          <p:spTgt spid="3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3" dur="500"/>
                                        <p:tgtEl>
                                          <p:spTgt spid="3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8" dur="500"/>
                                        <p:tgtEl>
                                          <p:spTgt spid="3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3" dur="500"/>
                                        <p:tgtEl>
                                          <p:spTgt spid="3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Modern Power Plant Turb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1322280" y="1325520"/>
            <a:ext cx="360" cy="360"/>
            <a:chOff x="1322280" y="1325520"/>
            <a:chExt cx="360" cy="360"/>
          </a:xfrm>
        </p:grpSpPr>
        <p:sp>
          <p:nvSpPr>
            <p:cNvPr id="52" name="Rectangle 3"/>
            <p:cNvSpPr/>
            <p:nvPr/>
          </p:nvSpPr>
          <p:spPr>
            <a:xfrm>
              <a:off x="1322280" y="1325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322280" y="1325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Picture 6" descr="http://klapan.snn.gr/images/910.jpg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P Turbine Ro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2201760" y="1765440"/>
            <a:ext cx="360" cy="360"/>
            <a:chOff x="2201760" y="1765440"/>
            <a:chExt cx="360" cy="360"/>
          </a:xfrm>
        </p:grpSpPr>
        <p:sp>
          <p:nvSpPr>
            <p:cNvPr id="57" name="Rectangle 3"/>
            <p:cNvSpPr/>
            <p:nvPr/>
          </p:nvSpPr>
          <p:spPr>
            <a:xfrm>
              <a:off x="2201760" y="1765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2201760" y="1765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Picture 6" descr="http://klapan.snn.gr/images/2sm_-._.jpg"/>
          <p:cNvPicPr/>
          <p:nvPr/>
        </p:nvPicPr>
        <p:blipFill>
          <a:blip r:embed="rId1"/>
          <a:stretch/>
        </p:blipFill>
        <p:spPr>
          <a:xfrm>
            <a:off x="533520" y="1143000"/>
            <a:ext cx="777240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P Turbine Ro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7"/>
          <p:cNvGrpSpPr/>
          <p:nvPr/>
        </p:nvGrpSpPr>
        <p:grpSpPr>
          <a:xfrm>
            <a:off x="1379520" y="692280"/>
            <a:ext cx="360" cy="360"/>
            <a:chOff x="1379520" y="692280"/>
            <a:chExt cx="360" cy="360"/>
          </a:xfrm>
        </p:grpSpPr>
        <p:sp>
          <p:nvSpPr>
            <p:cNvPr id="62" name="Rectangle 3"/>
            <p:cNvSpPr/>
            <p:nvPr/>
          </p:nvSpPr>
          <p:spPr>
            <a:xfrm>
              <a:off x="1379520" y="692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379520" y="692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Picture 6" descr="http://klapan.snn.gr/images/91.jpg"/>
          <p:cNvPicPr/>
          <p:nvPr/>
        </p:nvPicPr>
        <p:blipFill>
          <a:blip r:embed="rId1"/>
          <a:stretch/>
        </p:blipFill>
        <p:spPr>
          <a:xfrm>
            <a:off x="533520" y="914400"/>
            <a:ext cx="80010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2690640" y="2728800"/>
          <a:ext cx="3762720" cy="14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0640" y="2728800"/>
                    <a:ext cx="376272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6"/>
          <p:cNvGraphicFramePr/>
          <p:nvPr/>
        </p:nvGraphicFramePr>
        <p:xfrm>
          <a:off x="457200" y="533520"/>
          <a:ext cx="8305920" cy="601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33520"/>
                    <a:ext cx="830592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7"/>
          <p:cNvSpPr/>
          <p:nvPr/>
        </p:nvSpPr>
        <p:spPr>
          <a:xfrm>
            <a:off x="685800" y="1522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P Turbine Ro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ram of Large Power Plant Turb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05:45:36Z</dcterms:created>
  <dc:creator>abc</dc:creator>
  <dc:description/>
  <dc:language>en-US</dc:language>
  <cp:lastModifiedBy>hp</cp:lastModifiedBy>
  <dcterms:modified xsi:type="dcterms:W3CDTF">2017-10-06T05:06:13Z</dcterms:modified>
  <cp:revision>312</cp:revision>
  <dc:subject/>
  <dc:title>PowerPoint Presentation</dc:title>
</cp:coreProperties>
</file>