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15.wmf" ContentType="image/x-wmf"/>
  <Override PartName="/ppt/media/image53.wmf" ContentType="image/x-wmf"/>
  <Override PartName="/ppt/media/image51.png" ContentType="image/png"/>
  <Override PartName="/ppt/media/image50.wmf" ContentType="image/x-wmf"/>
  <Override PartName="/ppt/media/image55.png" ContentType="image/png"/>
  <Override PartName="/ppt/media/image20.jpeg" ContentType="image/jpeg"/>
  <Override PartName="/ppt/media/image45.jpeg" ContentType="image/jpeg"/>
  <Override PartName="/ppt/media/image70.wmf" ContentType="image/x-wmf"/>
  <Override PartName="/ppt/media/image44.wmf" ContentType="image/x-wmf"/>
  <Override PartName="/ppt/media/image43.wmf" ContentType="image/x-wmf"/>
  <Override PartName="/ppt/media/image39.wmf" ContentType="image/x-wmf"/>
  <Override PartName="/ppt/media/image37.jpeg" ContentType="image/jpeg"/>
  <Override PartName="/ppt/media/image36.wmf" ContentType="image/x-wmf"/>
  <Override PartName="/ppt/media/image57.wmf" ContentType="image/x-wmf"/>
  <Override PartName="/ppt/media/image32.jpeg" ContentType="image/jpeg"/>
  <Override PartName="/ppt/media/image47.wmf" ContentType="image/x-wmf"/>
  <Override PartName="/ppt/media/image13.jpeg" ContentType="image/jpeg"/>
  <Override PartName="/ppt/media/image31.jpeg" ContentType="image/jpeg"/>
  <Override PartName="/ppt/media/image24.png" ContentType="image/png"/>
  <Override PartName="/ppt/media/image64.wmf" ContentType="image/x-wmf"/>
  <Override PartName="/ppt/media/image18.jpeg" ContentType="image/jpeg"/>
  <Override PartName="/ppt/media/image35.wmf" ContentType="image/x-wmf"/>
  <Override PartName="/ppt/media/image74.png" ContentType="image/png"/>
  <Override PartName="/ppt/media/image16.jpeg" ContentType="image/jpeg"/>
  <Override PartName="/ppt/media/image52.png" ContentType="image/png"/>
  <Override PartName="/ppt/media/image59.wmf" ContentType="image/x-wmf"/>
  <Override PartName="/ppt/media/image61.wmf" ContentType="image/x-wmf"/>
  <Override PartName="/ppt/media/image1.png" ContentType="image/png"/>
  <Override PartName="/ppt/media/image29.wmf" ContentType="image/x-wmf"/>
  <Override PartName="/ppt/media/image79.wmf" ContentType="image/x-wmf"/>
  <Override PartName="/ppt/media/image67.wmf" ContentType="image/x-wmf"/>
  <Override PartName="/ppt/media/image30.wmf" ContentType="image/x-wmf"/>
  <Override PartName="/ppt/media/image78.wmf" ContentType="image/x-wmf"/>
  <Override PartName="/ppt/media/image19.jpeg" ContentType="image/jpeg"/>
  <Override PartName="/ppt/media/image66.wmf" ContentType="image/x-wmf"/>
  <Override PartName="/ppt/media/image63.jpeg" ContentType="image/jpeg"/>
  <Override PartName="/ppt/media/image25.jpeg" ContentType="image/jpeg"/>
  <Override PartName="/ppt/media/image62.wmf" ContentType="image/x-wmf"/>
  <Override PartName="/ppt/media/image77.png" ContentType="image/png"/>
  <Override PartName="/ppt/media/image56.png" ContentType="image/png"/>
  <Override PartName="/ppt/media/image76.wmf" ContentType="image/x-wmf"/>
  <Override PartName="/ppt/media/image11.jpeg" ContentType="image/jpeg"/>
  <Override PartName="/ppt/media/image28.jpeg" ContentType="image/jpeg"/>
  <Override PartName="/ppt/media/image75.wmf" ContentType="image/x-wmf"/>
  <Override PartName="/ppt/media/image73.wmf" ContentType="image/x-wmf"/>
  <Override PartName="/ppt/media/image3.png" ContentType="image/png"/>
  <Override PartName="/ppt/media/image69.wmf" ContentType="image/x-wmf"/>
  <Override PartName="/ppt/media/image68.wmf" ContentType="image/x-wmf"/>
  <Override PartName="/ppt/media/image71.wmf" ContentType="image/x-wmf"/>
  <Override PartName="/ppt/media/image49.png" ContentType="image/png"/>
  <Override PartName="/ppt/media/image8.png" ContentType="image/png"/>
  <Override PartName="/ppt/media/image23.jpeg" ContentType="image/jpeg"/>
  <Override PartName="/ppt/media/image2.jpeg" ContentType="image/jpeg"/>
  <Override PartName="/ppt/media/image38.png" ContentType="image/png"/>
  <Override PartName="/ppt/media/image60.wmf" ContentType="image/x-wmf"/>
  <Override PartName="/ppt/media/image4.png" ContentType="image/png"/>
  <Override PartName="/ppt/media/image12.jpeg" ContentType="image/jpeg"/>
  <Override PartName="/ppt/media/image72.wmf" ContentType="image/x-wmf"/>
  <Override PartName="/ppt/media/image26.jpeg" ContentType="image/jpeg"/>
  <Override PartName="/ppt/media/image5.jpeg" ContentType="image/jpeg"/>
  <Override PartName="/ppt/media/image33.jpeg" ContentType="image/jpeg"/>
  <Override PartName="/ppt/media/image48.wmf" ContentType="image/x-wmf"/>
  <Override PartName="/ppt/media/image27.jpeg" ContentType="image/jpeg"/>
  <Override PartName="/ppt/media/image17.wmf" ContentType="image/x-wmf"/>
  <Override PartName="/ppt/media/image10.jpeg" ContentType="image/jpeg"/>
  <Override PartName="/ppt/media/image54.wmf" ContentType="image/x-wmf"/>
  <Override PartName="/ppt/media/image22.wmf" ContentType="image/x-wmf"/>
  <Override PartName="/ppt/media/image21.jpeg" ContentType="image/jpeg"/>
  <Override PartName="/ppt/media/image65.png" ContentType="image/png"/>
  <Override PartName="/ppt/media/image14.wmf" ContentType="image/x-wmf"/>
  <Override PartName="/ppt/media/image41.jpeg" ContentType="image/jpeg"/>
  <Override PartName="/ppt/media/image7.png" ContentType="image/png"/>
  <Override PartName="/ppt/media/image34.jpeg" ContentType="image/jpeg"/>
  <Override PartName="/ppt/media/image42.jpeg" ContentType="image/jpeg"/>
  <Override PartName="/ppt/media/image6.png" ContentType="image/png"/>
  <Override PartName="/ppt/media/image40.wmf" ContentType="image/x-wmf"/>
  <Override PartName="/ppt/media/camera.wav" ContentType="audio/x-wav"/>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8996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99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9360" y="674280"/>
            <a:ext cx="4499280" cy="3375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273200"/>
            <a:ext cx="5486400" cy="404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547120"/>
            <a:ext cx="29718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547120"/>
            <a:ext cx="29718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1092-5939-4230-88C6-C3E9C9438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79360" y="674640"/>
            <a:ext cx="4499280" cy="3375000"/>
          </a:xfrm>
          <a:prstGeom prst="rect">
            <a:avLst/>
          </a:prstGeom>
          <a:ln w="0">
            <a:noFill/>
          </a:ln>
        </p:spPr>
      </p:sp>
      <p:sp>
        <p:nvSpPr>
          <p:cNvPr id="438" name="PlaceHolder 2"/>
          <p:cNvSpPr>
            <a:spLocks noGrp="1"/>
          </p:cNvSpPr>
          <p:nvPr>
            <p:ph type="body"/>
          </p:nvPr>
        </p:nvSpPr>
        <p:spPr>
          <a:xfrm>
            <a:off x="685800" y="4273200"/>
            <a:ext cx="5486400" cy="404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547120"/>
            <a:ext cx="29718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8118-9173-484C-96C7-A7DEBA6E7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221C3-06A8-4345-833D-A68D30757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CCFB-55CF-4924-87F3-273E6FD72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51790-DC4B-45C9-A374-F375B5909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97B59-042A-46D2-8452-8E102CDC9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B4C70-61F1-4126-88A6-A96A17C44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469C8-5E78-439E-9A13-857A1A123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4E859-4FCA-4E8D-934A-9BB32886C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3B51-7C69-49B8-AC0B-62483A0A9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FC29A-C919-4EB6-BE2B-72621AF44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FC59-2098-4530-AB05-7643FBF89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8BC2D-5DC7-42AC-B8AA-9A32B8094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CD151-3ABD-4E76-91F9-437AD48D5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C09A-1293-4748-A622-E5246EEE09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png"/><Relationship Id="rId3" Type="http://schemas.openxmlformats.org/officeDocument/2006/relationships/image" Target="../media/image78.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19320" y="4800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1219320" y="4800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7"/>
          <p:cNvGrpSpPr/>
          <p:nvPr/>
        </p:nvGrpSpPr>
        <p:grpSpPr>
          <a:xfrm>
            <a:off x="0" y="0"/>
            <a:ext cx="9144000" cy="6858000"/>
            <a:chOff x="0" y="0"/>
            <a:chExt cx="9144000" cy="6858000"/>
          </a:xfrm>
        </p:grpSpPr>
        <p:grpSp>
          <p:nvGrpSpPr>
            <p:cNvPr id="51" name="Group 8"/>
            <p:cNvGrpSpPr/>
            <p:nvPr/>
          </p:nvGrpSpPr>
          <p:grpSpPr>
            <a:xfrm>
              <a:off x="0" y="0"/>
              <a:ext cx="304560" cy="6857640"/>
              <a:chOff x="0" y="0"/>
              <a:chExt cx="304560" cy="6857640"/>
            </a:xfrm>
          </p:grpSpPr>
          <p:sp>
            <p:nvSpPr>
              <p:cNvPr id="52" name="Rectangle 9"/>
              <p:cNvSpPr/>
              <p:nvPr/>
            </p:nvSpPr>
            <p:spPr>
              <a:xfrm>
                <a:off x="0" y="0"/>
                <a:ext cx="304560" cy="3692520"/>
              </a:xfrm>
              <a:prstGeom prst="rect">
                <a:avLst/>
              </a:prstGeom>
              <a:gradFill rotWithShape="0">
                <a:gsLst>
                  <a:gs pos="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10"/>
              <p:cNvSpPr/>
              <p:nvPr/>
            </p:nvSpPr>
            <p:spPr>
              <a:xfrm>
                <a:off x="0" y="3466440"/>
                <a:ext cx="304560" cy="3391200"/>
              </a:xfrm>
              <a:prstGeom prst="rect">
                <a:avLst/>
              </a:prstGeom>
              <a:gradFill rotWithShape="0">
                <a:gsLst>
                  <a:gs pos="0">
                    <a:srgbClr val="ffffff"/>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 name="Group 11"/>
            <p:cNvGrpSpPr/>
            <p:nvPr/>
          </p:nvGrpSpPr>
          <p:grpSpPr>
            <a:xfrm>
              <a:off x="9007560" y="38160"/>
              <a:ext cx="136440" cy="6819480"/>
              <a:chOff x="9007560" y="38160"/>
              <a:chExt cx="136440" cy="6819480"/>
            </a:xfrm>
          </p:grpSpPr>
          <p:sp>
            <p:nvSpPr>
              <p:cNvPr id="55" name="Rectangle 12"/>
              <p:cNvSpPr/>
              <p:nvPr/>
            </p:nvSpPr>
            <p:spPr>
              <a:xfrm>
                <a:off x="9007560" y="38160"/>
                <a:ext cx="136440" cy="367200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13"/>
              <p:cNvSpPr/>
              <p:nvPr/>
            </p:nvSpPr>
            <p:spPr>
              <a:xfrm>
                <a:off x="9007560" y="3485520"/>
                <a:ext cx="136440" cy="3372120"/>
              </a:xfrm>
              <a:prstGeom prst="rect">
                <a:avLst/>
              </a:prstGeom>
              <a:gradFill rotWithShape="0">
                <a:gsLst>
                  <a:gs pos="0">
                    <a:srgbClr val="ffffff"/>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Group 14"/>
            <p:cNvGrpSpPr/>
            <p:nvPr/>
          </p:nvGrpSpPr>
          <p:grpSpPr>
            <a:xfrm>
              <a:off x="228600" y="0"/>
              <a:ext cx="8915040" cy="228600"/>
              <a:chOff x="228600" y="0"/>
              <a:chExt cx="8915040" cy="228600"/>
            </a:xfrm>
          </p:grpSpPr>
          <p:sp>
            <p:nvSpPr>
              <p:cNvPr id="58" name="Rectangle 15"/>
              <p:cNvSpPr/>
              <p:nvPr/>
            </p:nvSpPr>
            <p:spPr>
              <a:xfrm>
                <a:off x="228600" y="0"/>
                <a:ext cx="4418640" cy="22860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Rectangle 16"/>
              <p:cNvSpPr/>
              <p:nvPr/>
            </p:nvSpPr>
            <p:spPr>
              <a:xfrm>
                <a:off x="4647240" y="0"/>
                <a:ext cx="4496400" cy="228600"/>
              </a:xfrm>
              <a:prstGeom prst="rect">
                <a:avLst/>
              </a:prstGeom>
              <a:gradFill rotWithShape="0">
                <a:gsLst>
                  <a:gs pos="0">
                    <a:srgbClr val="ffffff"/>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Group 17"/>
            <p:cNvGrpSpPr/>
            <p:nvPr/>
          </p:nvGrpSpPr>
          <p:grpSpPr>
            <a:xfrm>
              <a:off x="228600" y="6721560"/>
              <a:ext cx="8915040" cy="136440"/>
              <a:chOff x="228600" y="6721560"/>
              <a:chExt cx="8915040" cy="136440"/>
            </a:xfrm>
          </p:grpSpPr>
          <p:sp>
            <p:nvSpPr>
              <p:cNvPr id="61" name="Rectangle 18"/>
              <p:cNvSpPr/>
              <p:nvPr/>
            </p:nvSpPr>
            <p:spPr>
              <a:xfrm>
                <a:off x="228600" y="6721560"/>
                <a:ext cx="4418640" cy="136440"/>
              </a:xfrm>
              <a:prstGeom prst="rect">
                <a:avLst/>
              </a:prstGeom>
              <a:gradFill rotWithShape="0">
                <a:gsLst>
                  <a:gs pos="0">
                    <a:srgbClr val="0066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Rectangle 19"/>
              <p:cNvSpPr/>
              <p:nvPr/>
            </p:nvSpPr>
            <p:spPr>
              <a:xfrm>
                <a:off x="4647240" y="6721560"/>
                <a:ext cx="4496400" cy="136440"/>
              </a:xfrm>
              <a:prstGeom prst="rect">
                <a:avLst/>
              </a:prstGeom>
              <a:gradFill rotWithShape="0">
                <a:gsLst>
                  <a:gs pos="0">
                    <a:srgbClr val="ffffff"/>
                  </a:gs>
                  <a:gs pos="100000">
                    <a:srgbClr val="ff99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3" name="Rectangle 21"/>
          <p:cNvSpPr/>
          <p:nvPr/>
        </p:nvSpPr>
        <p:spPr>
          <a:xfrm>
            <a:off x="1371600" y="1523880"/>
            <a:ext cx="71629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arad Institute of Technology, College of Engineering, Yadra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partment of Mechanical Engineer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LIED THERMODYNAMIC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BASIC CONCEPTS IN ENGINEERING THERMODYNAMICS</a:t>
            </a:r>
            <a:r>
              <a:rPr b="0" lang="en-US" sz="2400" spc="-1" strike="noStrike">
                <a:solidFill>
                  <a:srgbClr val="000000"/>
                </a:solidFill>
                <a:latin typeface="Arial Black"/>
              </a:rPr>
              <a:t> (UNI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5" descr="C:\Users\hp\Desktop\logo.png"/>
          <p:cNvPicPr/>
          <p:nvPr/>
        </p:nvPicPr>
        <p:blipFill>
          <a:blip r:embed="rId1"/>
          <a:stretch/>
        </p:blipFill>
        <p:spPr>
          <a:xfrm>
            <a:off x="304920" y="304920"/>
            <a:ext cx="1752480" cy="1127160"/>
          </a:xfrm>
          <a:prstGeom prst="rect">
            <a:avLst/>
          </a:prstGeom>
          <a:ln w="0">
            <a:noFill/>
          </a:ln>
        </p:spPr>
      </p:pic>
      <p:sp>
        <p:nvSpPr>
          <p:cNvPr id="65" name="Ink 22"/>
          <p:cNvSpPr/>
          <p:nvPr/>
        </p:nvSpPr>
        <p:spPr>
          <a:xfrm>
            <a:off x="9101160" y="6585120"/>
            <a:ext cx="1440" cy="1440"/>
          </a:xfrm>
          <a:custGeom>
            <a:avLst/>
            <a:gdLst/>
            <a:ahLst/>
            <a:rect l="l" t="t" r="r" b="b"/>
            <a:pathLst>
              <a:path w="1" h="1">
                <a:moveTo>
                  <a:pt x="25283" y="18291"/>
                </a:move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lnTo>
                  <a:pt x="25283" y="18291"/>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of Aims Which Demand Thermodynamic Study</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hieving of better fuel economy for any power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hieving better control of environment with minimum power consum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diseases occurring in biological 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on, Identification and Qualification of of New Resources of Ener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behaviour of extreme human activ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347" dur="500"/>
                                        <p:tgtEl>
                                          <p:spTgt spid="194">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352" dur="500"/>
                                        <p:tgtEl>
                                          <p:spTgt spid="194">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357" dur="500"/>
                                        <p:tgtEl>
                                          <p:spTgt spid="194">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362" dur="500"/>
                                        <p:tgtEl>
                                          <p:spTgt spid="194">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367"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http://www.washingtonpost.com/blogs/ezra-klein/files/2012/09/fuel_economy_comparison.png"/>
          <p:cNvPicPr/>
          <p:nvPr/>
        </p:nvPicPr>
        <p:blipFill>
          <a:blip r:embed="rId1"/>
          <a:stretch/>
        </p:blipFill>
        <p:spPr>
          <a:xfrm>
            <a:off x="304920" y="838080"/>
            <a:ext cx="8605800" cy="5872320"/>
          </a:xfrm>
          <a:prstGeom prst="rect">
            <a:avLst/>
          </a:prstGeom>
          <a:ln w="0">
            <a:noFill/>
          </a:ln>
        </p:spPr>
      </p:pic>
      <p:sp>
        <p:nvSpPr>
          <p:cNvPr id="196"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ture Expectations from Light Commercial Vehicles</a:t>
            </a:r>
            <a:endParaRPr b="0" lang="en-US" sz="2800" spc="-1" strike="noStrike">
              <a:solidFill>
                <a:srgbClr val="000000"/>
              </a:solidFill>
              <a:latin typeface="Calibri"/>
            </a:endParaRPr>
          </a:p>
        </p:txBody>
      </p:sp>
      <p:sp>
        <p:nvSpPr>
          <p:cNvPr id="197" name="Straight Connector 4"/>
          <p:cNvSpPr/>
          <p:nvPr/>
        </p:nvSpPr>
        <p:spPr>
          <a:xfrm>
            <a:off x="4724280" y="685800"/>
            <a:ext cx="76320" cy="5943600"/>
          </a:xfrm>
          <a:prstGeom prst="line">
            <a:avLst/>
          </a:prstGeom>
          <a:ln w="123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95"/>
                                        </p:tgtEl>
                                        <p:attrNameLst>
                                          <p:attrName>style.visibility</p:attrName>
                                        </p:attrNameLst>
                                      </p:cBhvr>
                                      <p:to>
                                        <p:strVal val="visible"/>
                                      </p:to>
                                    </p:set>
                                    <p:animEffect filter="dissolve" transition="in">
                                      <p:cBhvr additive="repl">
                                        <p:cTn id="374" dur="500"/>
                                        <p:tgtEl>
                                          <p:spTgt spid="19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97"/>
                                        </p:tgtEl>
                                        <p:attrNameLst>
                                          <p:attrName>style.visibility</p:attrName>
                                        </p:attrNameLst>
                                      </p:cBhvr>
                                      <p:to>
                                        <p:strVal val="visible"/>
                                      </p:to>
                                    </p:set>
                                    <p:animEffect filter="dissolve" transition="in">
                                      <p:cBhvr additive="repl">
                                        <p:cTn id="37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 Identification of Target </a:t>
            </a:r>
            <a:endParaRPr b="0" lang="en-US" sz="2800" spc="-1" strike="noStrike">
              <a:solidFill>
                <a:srgbClr val="000000"/>
              </a:solidFill>
              <a:latin typeface="Calibri"/>
            </a:endParaRPr>
          </a:p>
        </p:txBody>
      </p:sp>
      <p:pic>
        <p:nvPicPr>
          <p:cNvPr id="199" name="Picture 4" descr="F:\oldedrive\subba\MEL140\trancar.gif"/>
          <p:cNvPicPr/>
          <p:nvPr/>
        </p:nvPicPr>
        <p:blipFill>
          <a:blip r:embed="rId1"/>
          <a:stretch/>
        </p:blipFill>
        <p:spPr>
          <a:xfrm>
            <a:off x="762120" y="1828800"/>
            <a:ext cx="7696080" cy="4191120"/>
          </a:xfrm>
          <a:prstGeom prst="rect">
            <a:avLst/>
          </a:prstGeom>
          <a:ln w="0">
            <a:noFill/>
          </a:ln>
        </p:spPr>
      </p:pic>
      <p:sp>
        <p:nvSpPr>
          <p:cNvPr id="200" name="Rectangle 5"/>
          <p:cNvSpPr/>
          <p:nvPr/>
        </p:nvSpPr>
        <p:spPr>
          <a:xfrm>
            <a:off x="762120" y="1828800"/>
            <a:ext cx="7619760" cy="4267080"/>
          </a:xfrm>
          <a:prstGeom prst="rect">
            <a:avLst/>
          </a:prstGeom>
          <a:noFill/>
          <a:ln w="572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Group 15"/>
          <p:cNvGrpSpPr/>
          <p:nvPr/>
        </p:nvGrpSpPr>
        <p:grpSpPr>
          <a:xfrm>
            <a:off x="6172200" y="3809880"/>
            <a:ext cx="2743200" cy="1298160"/>
            <a:chOff x="6172200" y="3809880"/>
            <a:chExt cx="2743200" cy="1298160"/>
          </a:xfrm>
        </p:grpSpPr>
        <p:sp>
          <p:nvSpPr>
            <p:cNvPr id="202" name="AutoShape 8"/>
            <p:cNvSpPr/>
            <p:nvPr/>
          </p:nvSpPr>
          <p:spPr>
            <a:xfrm>
              <a:off x="7696080" y="3809880"/>
              <a:ext cx="1219320" cy="609840"/>
            </a:xfrm>
            <a:prstGeom prst="leftArrow">
              <a:avLst>
                <a:gd name="adj1" fmla="val 50000"/>
                <a:gd name="adj2" fmla="val 4998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10"/>
            <p:cNvSpPr/>
            <p:nvPr/>
          </p:nvSpPr>
          <p:spPr>
            <a:xfrm>
              <a:off x="6172200" y="46483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 Flow  </a:t>
              </a:r>
              <a:endParaRPr b="0" lang="en-US" sz="2400" spc="-1" strike="noStrike">
                <a:solidFill>
                  <a:srgbClr val="000000"/>
                </a:solidFill>
                <a:latin typeface="Times New Roman"/>
              </a:endParaRPr>
            </a:p>
          </p:txBody>
        </p:sp>
      </p:grpSp>
      <p:grpSp>
        <p:nvGrpSpPr>
          <p:cNvPr id="204" name="Group 16"/>
          <p:cNvGrpSpPr/>
          <p:nvPr/>
        </p:nvGrpSpPr>
        <p:grpSpPr>
          <a:xfrm>
            <a:off x="5943600" y="1066680"/>
            <a:ext cx="2057400" cy="825480"/>
            <a:chOff x="5943600" y="1066680"/>
            <a:chExt cx="2057400" cy="825480"/>
          </a:xfrm>
        </p:grpSpPr>
        <p:sp>
          <p:nvSpPr>
            <p:cNvPr id="205" name="AutoShape 11"/>
            <p:cNvSpPr/>
            <p:nvPr/>
          </p:nvSpPr>
          <p:spPr>
            <a:xfrm>
              <a:off x="7696440" y="1218960"/>
              <a:ext cx="304560" cy="609840"/>
            </a:xfrm>
            <a:prstGeom prst="upArrow">
              <a:avLst>
                <a:gd name="adj1" fmla="val 50000"/>
                <a:gd name="adj2" fmla="val 500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Text Box 12"/>
            <p:cNvSpPr/>
            <p:nvPr/>
          </p:nvSpPr>
          <p:spPr>
            <a:xfrm>
              <a:off x="5943600" y="10666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haust gas energy loss</a:t>
              </a:r>
              <a:endParaRPr b="0" lang="en-US" sz="2400" spc="-1" strike="noStrike">
                <a:solidFill>
                  <a:srgbClr val="000000"/>
                </a:solidFill>
                <a:latin typeface="Times New Roman"/>
              </a:endParaRPr>
            </a:p>
          </p:txBody>
        </p:sp>
      </p:grpSp>
      <p:grpSp>
        <p:nvGrpSpPr>
          <p:cNvPr id="207" name="Group 17"/>
          <p:cNvGrpSpPr/>
          <p:nvPr/>
        </p:nvGrpSpPr>
        <p:grpSpPr>
          <a:xfrm>
            <a:off x="4343400" y="5257800"/>
            <a:ext cx="2971800" cy="1600200"/>
            <a:chOff x="4343400" y="5257800"/>
            <a:chExt cx="2971800" cy="1600200"/>
          </a:xfrm>
        </p:grpSpPr>
        <p:sp>
          <p:nvSpPr>
            <p:cNvPr id="208" name="Text Box 9"/>
            <p:cNvSpPr/>
            <p:nvPr/>
          </p:nvSpPr>
          <p:spPr>
            <a:xfrm>
              <a:off x="5257800" y="6172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e Power</a:t>
              </a:r>
              <a:endParaRPr b="0" lang="en-US" sz="2400" spc="-1" strike="noStrike">
                <a:solidFill>
                  <a:srgbClr val="000000"/>
                </a:solidFill>
                <a:latin typeface="Times New Roman"/>
              </a:endParaRPr>
            </a:p>
          </p:txBody>
        </p:sp>
        <p:sp>
          <p:nvSpPr>
            <p:cNvPr id="209" name="Curved Left Arrow 11"/>
            <p:cNvSpPr/>
            <p:nvPr/>
          </p:nvSpPr>
          <p:spPr>
            <a:xfrm>
              <a:off x="4343400" y="5257800"/>
              <a:ext cx="990720" cy="1600200"/>
            </a:xfrm>
            <a:custGeom>
              <a:avLst/>
              <a:gdLst>
                <a:gd name="textAreaLeft" fmla="*/ 132480 w 990720"/>
                <a:gd name="textAreaRight" fmla="*/ 858240 w 990720"/>
                <a:gd name="textAreaTop" fmla="*/ 307080 h 1600200"/>
                <a:gd name="textAreaBottom" fmla="*/ 1169280 h 1600200"/>
              </a:gdLst>
              <a:ahLst/>
              <a:rect l="textAreaLeft" t="textAreaTop" r="textAreaRight" b="textAreaBottom"/>
              <a:pathLst>
                <a:path w="21600" h="21600">
                  <a:moveTo>
                    <a:pt x="0" y="0"/>
                  </a:moveTo>
                  <a:arcTo wR="21600" hR="8293" stAng="-5400000" swAng="5400000"/>
                  <a:lnTo>
                    <a:pt x="21600" y="11635"/>
                  </a:lnTo>
                  <a:arcTo wR="21600" hR="8293" stAng="0" swAng="3364735"/>
                  <a:lnTo>
                    <a:pt x="5400" y="21337"/>
                  </a:lnTo>
                  <a:lnTo>
                    <a:pt x="0" y="18257"/>
                  </a:lnTo>
                  <a:lnTo>
                    <a:pt x="5400" y="14651"/>
                  </a:lnTo>
                  <a:lnTo>
                    <a:pt x="5400" y="16323"/>
                  </a:lnTo>
                  <a:arcTo wR="21600" hR="8293" stAng="3364735" swAng="-3093780"/>
                  <a:lnTo>
                    <a:pt x="21157" y="9964"/>
                  </a:lnTo>
                  <a:arcTo wR="21600" hR="8293" stAng="-270954" swAng="-5129046"/>
                  <a:close/>
                </a:path>
                <a:path fill="darkenLess" w="21600" h="21600">
                  <a:moveTo>
                    <a:pt x="0" y="0"/>
                  </a:moveTo>
                  <a:arcTo wR="21600" hR="8293" stAng="-5400000" swAng="5400000"/>
                  <a:lnTo>
                    <a:pt x="21600" y="11635"/>
                  </a:lnTo>
                  <a:arcTo wR="21600" hR="8293" stAng="0" swAng="-270954"/>
                  <a:lnTo>
                    <a:pt x="21157" y="9964"/>
                  </a:lnTo>
                  <a:arcTo wR="21600" hR="8293" stAng="-270954" swAng="-5129046"/>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Group 14"/>
          <p:cNvGrpSpPr/>
          <p:nvPr/>
        </p:nvGrpSpPr>
        <p:grpSpPr>
          <a:xfrm>
            <a:off x="304560" y="3200400"/>
            <a:ext cx="2983680" cy="2149920"/>
            <a:chOff x="304560" y="3200400"/>
            <a:chExt cx="2983680" cy="2149920"/>
          </a:xfrm>
        </p:grpSpPr>
        <p:sp>
          <p:nvSpPr>
            <p:cNvPr id="211" name="Right Arrow 12"/>
            <p:cNvSpPr/>
            <p:nvPr/>
          </p:nvSpPr>
          <p:spPr>
            <a:xfrm rot="20869200">
              <a:off x="358560" y="4503600"/>
              <a:ext cx="1600560" cy="685440"/>
            </a:xfrm>
            <a:prstGeom prst="rightArrow">
              <a:avLst>
                <a:gd name="adj1" fmla="val 50000"/>
                <a:gd name="adj2" fmla="val 5004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Text Box 10"/>
            <p:cNvSpPr/>
            <p:nvPr/>
          </p:nvSpPr>
          <p:spPr>
            <a:xfrm rot="20482200">
              <a:off x="691200" y="3601800"/>
              <a:ext cx="25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Flow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99"/>
                                        </p:tgtEl>
                                        <p:attrNameLst>
                                          <p:attrName>style.visibility</p:attrName>
                                        </p:attrNameLst>
                                      </p:cBhvr>
                                      <p:to>
                                        <p:strVal val="visible"/>
                                      </p:to>
                                    </p:set>
                                    <p:animEffect filter="dissolve" transition="in">
                                      <p:cBhvr additive="repl">
                                        <p:cTn id="386" dur="500"/>
                                        <p:tgtEl>
                                          <p:spTgt spid="19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00"/>
                                        </p:tgtEl>
                                        <p:attrNameLst>
                                          <p:attrName>style.visibility</p:attrName>
                                        </p:attrNameLst>
                                      </p:cBhvr>
                                      <p:to>
                                        <p:strVal val="visible"/>
                                      </p:to>
                                    </p:set>
                                    <p:animEffect filter="dissolve" transition="in">
                                      <p:cBhvr additive="repl">
                                        <p:cTn id="391" dur="500"/>
                                        <p:tgtEl>
                                          <p:spTgt spid="20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210"/>
                                        </p:tgtEl>
                                        <p:attrNameLst>
                                          <p:attrName>style.visibility</p:attrName>
                                        </p:attrNameLst>
                                      </p:cBhvr>
                                      <p:to>
                                        <p:strVal val="visible"/>
                                      </p:to>
                                    </p:set>
                                    <p:animEffect filter="dissolve" transition="in">
                                      <p:cBhvr additive="repl">
                                        <p:cTn id="396" dur="500"/>
                                        <p:tgtEl>
                                          <p:spTgt spid="21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01"/>
                                        </p:tgtEl>
                                        <p:attrNameLst>
                                          <p:attrName>style.visibility</p:attrName>
                                        </p:attrNameLst>
                                      </p:cBhvr>
                                      <p:to>
                                        <p:strVal val="visible"/>
                                      </p:to>
                                    </p:set>
                                    <p:animEffect filter="dissolve" transition="in">
                                      <p:cBhvr additive="repl">
                                        <p:cTn id="401" dur="500"/>
                                        <p:tgtEl>
                                          <p:spTgt spid="20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204"/>
                                        </p:tgtEl>
                                        <p:attrNameLst>
                                          <p:attrName>style.visibility</p:attrName>
                                        </p:attrNameLst>
                                      </p:cBhvr>
                                      <p:to>
                                        <p:strVal val="visible"/>
                                      </p:to>
                                    </p:set>
                                    <p:animEffect filter="dissolve" transition="in">
                                      <p:cBhvr additive="repl">
                                        <p:cTn id="406" dur="500"/>
                                        <p:tgtEl>
                                          <p:spTgt spid="20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07"/>
                                        </p:tgtEl>
                                        <p:attrNameLst>
                                          <p:attrName>style.visibility</p:attrName>
                                        </p:attrNameLst>
                                      </p:cBhvr>
                                      <p:to>
                                        <p:strVal val="visible"/>
                                      </p:to>
                                    </p:set>
                                    <p:animEffect filter="dissolve" transition="in">
                                      <p:cBhvr additive="repl">
                                        <p:cTn id="41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33012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Parameters of High Concern </a:t>
            </a:r>
            <a:endParaRPr b="0" lang="en-US" sz="3200" spc="-1" strike="noStrike">
              <a:solidFill>
                <a:srgbClr val="000000"/>
              </a:solidFill>
              <a:latin typeface="Times New Roman"/>
            </a:endParaRPr>
          </a:p>
        </p:txBody>
      </p:sp>
      <p:sp>
        <p:nvSpPr>
          <p:cNvPr id="214" name="Rectangle 3"/>
          <p:cNvSpPr/>
          <p:nvPr/>
        </p:nvSpPr>
        <p:spPr>
          <a:xfrm>
            <a:off x="685800" y="193032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Picture 4" descr="F:\oldedrive\subba\MEL140\trancar.gif"/>
          <p:cNvPicPr/>
          <p:nvPr/>
        </p:nvPicPr>
        <p:blipFill>
          <a:blip r:embed="rId1"/>
          <a:stretch/>
        </p:blipFill>
        <p:spPr>
          <a:xfrm>
            <a:off x="762120" y="2082960"/>
            <a:ext cx="7696080" cy="3886200"/>
          </a:xfrm>
          <a:prstGeom prst="rect">
            <a:avLst/>
          </a:prstGeom>
          <a:ln w="0">
            <a:noFill/>
          </a:ln>
        </p:spPr>
      </p:pic>
      <p:sp>
        <p:nvSpPr>
          <p:cNvPr id="216" name="Rectangle 5"/>
          <p:cNvSpPr/>
          <p:nvPr/>
        </p:nvSpPr>
        <p:spPr>
          <a:xfrm>
            <a:off x="762120" y="1828800"/>
            <a:ext cx="7619760" cy="4216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Group 12"/>
          <p:cNvGrpSpPr/>
          <p:nvPr/>
        </p:nvGrpSpPr>
        <p:grpSpPr>
          <a:xfrm>
            <a:off x="5943600" y="1015920"/>
            <a:ext cx="2057400" cy="965160"/>
            <a:chOff x="5943600" y="1015920"/>
            <a:chExt cx="2057400" cy="965160"/>
          </a:xfrm>
        </p:grpSpPr>
        <p:sp>
          <p:nvSpPr>
            <p:cNvPr id="218" name="AutoShape 10"/>
            <p:cNvSpPr/>
            <p:nvPr/>
          </p:nvSpPr>
          <p:spPr>
            <a:xfrm>
              <a:off x="7696440" y="1168200"/>
              <a:ext cx="304560" cy="812880"/>
            </a:xfrm>
            <a:prstGeom prst="upArrow">
              <a:avLst>
                <a:gd name="adj1" fmla="val 50000"/>
                <a:gd name="adj2" fmla="val 6672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Text Box 11"/>
            <p:cNvSpPr/>
            <p:nvPr/>
          </p:nvSpPr>
          <p:spPr>
            <a:xfrm>
              <a:off x="5943600" y="1015920"/>
              <a:ext cx="167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haust gas energy loss</a:t>
              </a:r>
              <a:endParaRPr b="0" lang="en-US" sz="2400" spc="-1" strike="noStrike">
                <a:solidFill>
                  <a:srgbClr val="000000"/>
                </a:solidFill>
                <a:latin typeface="Times New Roman"/>
              </a:endParaRPr>
            </a:p>
          </p:txBody>
        </p:sp>
      </p:grpSp>
      <p:grpSp>
        <p:nvGrpSpPr>
          <p:cNvPr id="220" name="Group 11"/>
          <p:cNvGrpSpPr/>
          <p:nvPr/>
        </p:nvGrpSpPr>
        <p:grpSpPr>
          <a:xfrm>
            <a:off x="1371600" y="5486400"/>
            <a:ext cx="2971800" cy="1145520"/>
            <a:chOff x="1371600" y="5486400"/>
            <a:chExt cx="2971800" cy="1145520"/>
          </a:xfrm>
        </p:grpSpPr>
        <p:sp>
          <p:nvSpPr>
            <p:cNvPr id="221" name="Text Box 8"/>
            <p:cNvSpPr/>
            <p:nvPr/>
          </p:nvSpPr>
          <p:spPr>
            <a:xfrm>
              <a:off x="2012400" y="6172200"/>
              <a:ext cx="233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ss of fuel/km.</a:t>
              </a:r>
              <a:endParaRPr b="0" lang="en-US" sz="2400" spc="-1" strike="noStrike">
                <a:solidFill>
                  <a:srgbClr val="000000"/>
                </a:solidFill>
                <a:latin typeface="Times New Roman"/>
              </a:endParaRPr>
            </a:p>
          </p:txBody>
        </p:sp>
        <p:sp>
          <p:nvSpPr>
            <p:cNvPr id="222" name="Curved Left Arrow 11"/>
            <p:cNvSpPr/>
            <p:nvPr/>
          </p:nvSpPr>
          <p:spPr>
            <a:xfrm>
              <a:off x="1371600" y="5486400"/>
              <a:ext cx="699120" cy="1143000"/>
            </a:xfrm>
            <a:custGeom>
              <a:avLst/>
              <a:gdLst>
                <a:gd name="textAreaLeft" fmla="*/ 93600 w 699120"/>
                <a:gd name="textAreaRight" fmla="*/ 605520 w 699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3215003"/>
                  <a:lnTo>
                    <a:pt x="5400" y="21360"/>
                  </a:lnTo>
                  <a:lnTo>
                    <a:pt x="0" y="17280"/>
                  </a:lnTo>
                  <a:lnTo>
                    <a:pt x="5400" y="12720"/>
                  </a:lnTo>
                  <a:lnTo>
                    <a:pt x="5400" y="14880"/>
                  </a:lnTo>
                  <a:arcTo wR="21600" hR="7560" stAng="3215003" swAng="-2857569"/>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0504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3" name="Picture 14" descr=""/>
          <p:cNvPicPr/>
          <p:nvPr/>
        </p:nvPicPr>
        <p:blipFill>
          <a:blip r:embed="rId2"/>
          <a:stretch/>
        </p:blipFill>
        <p:spPr>
          <a:xfrm>
            <a:off x="1154160" y="1136520"/>
            <a:ext cx="4865760" cy="274968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220"/>
                                        </p:tgtEl>
                                        <p:attrNameLst>
                                          <p:attrName>style.visibility</p:attrName>
                                        </p:attrNameLst>
                                      </p:cBhvr>
                                      <p:to>
                                        <p:strVal val="visible"/>
                                      </p:to>
                                    </p:set>
                                    <p:animEffect filter="dissolve" transition="in">
                                      <p:cBhvr additive="repl">
                                        <p:cTn id="418" dur="500"/>
                                        <p:tgtEl>
                                          <p:spTgt spid="22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17"/>
                                        </p:tgtEl>
                                        <p:attrNameLst>
                                          <p:attrName>style.visibility</p:attrName>
                                        </p:attrNameLst>
                                      </p:cBhvr>
                                      <p:to>
                                        <p:strVal val="visible"/>
                                      </p:to>
                                    </p:set>
                                    <p:animEffect filter="dissolve" transition="in">
                                      <p:cBhvr additive="repl">
                                        <p:cTn id="423" dur="500"/>
                                        <p:tgtEl>
                                          <p:spTgt spid="21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23"/>
                                        </p:tgtEl>
                                        <p:attrNameLst>
                                          <p:attrName>style.visibility</p:attrName>
                                        </p:attrNameLst>
                                      </p:cBhvr>
                                      <p:to>
                                        <p:strVal val="visible"/>
                                      </p:to>
                                    </p:set>
                                    <p:animEffect filter="dissolve" transition="in">
                                      <p:cBhvr additive="repl">
                                        <p:cTn id="42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F:\oldedrive\subba\MEL140\trancar.gif"/>
          <p:cNvPicPr/>
          <p:nvPr/>
        </p:nvPicPr>
        <p:blipFill>
          <a:blip r:embed="rId1"/>
          <a:stretch/>
        </p:blipFill>
        <p:spPr>
          <a:xfrm>
            <a:off x="685800" y="609480"/>
            <a:ext cx="7696080" cy="5334120"/>
          </a:xfrm>
          <a:prstGeom prst="rect">
            <a:avLst/>
          </a:prstGeom>
          <a:ln w="0">
            <a:noFill/>
          </a:ln>
        </p:spPr>
      </p:pic>
      <p:sp>
        <p:nvSpPr>
          <p:cNvPr id="225" name="Rectangle 5"/>
          <p:cNvSpPr/>
          <p:nvPr/>
        </p:nvSpPr>
        <p:spPr>
          <a:xfrm>
            <a:off x="2438280" y="3276720"/>
            <a:ext cx="1447920" cy="1523880"/>
          </a:xfrm>
          <a:prstGeom prst="rect">
            <a:avLst/>
          </a:prstGeom>
          <a:noFill/>
          <a:ln w="5724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Rectangle 6"/>
          <p:cNvSpPr/>
          <p:nvPr/>
        </p:nvSpPr>
        <p:spPr>
          <a:xfrm rot="20369400">
            <a:off x="4038480" y="1980720"/>
            <a:ext cx="3962520" cy="1828800"/>
          </a:xfrm>
          <a:prstGeom prst="rect">
            <a:avLst/>
          </a:prstGeom>
          <a:noFill/>
          <a:ln w="5724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AutoShape 8"/>
          <p:cNvSpPr/>
          <p:nvPr/>
        </p:nvSpPr>
        <p:spPr>
          <a:xfrm>
            <a:off x="2438280" y="2209680"/>
            <a:ext cx="451080" cy="1295640"/>
          </a:xfrm>
          <a:prstGeom prst="upArrow">
            <a:avLst>
              <a:gd name="adj1" fmla="val 50000"/>
              <a:gd name="adj2" fmla="val 4992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AutoShape 11"/>
          <p:cNvSpPr/>
          <p:nvPr/>
        </p:nvSpPr>
        <p:spPr>
          <a:xfrm rot="18655800">
            <a:off x="7619760" y="3580920"/>
            <a:ext cx="1219320" cy="533520"/>
          </a:xfrm>
          <a:prstGeom prst="rightArrow">
            <a:avLst>
              <a:gd name="adj1" fmla="val 50000"/>
              <a:gd name="adj2" fmla="val 5713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Text Box 26"/>
          <p:cNvSpPr/>
          <p:nvPr/>
        </p:nvSpPr>
        <p:spPr>
          <a:xfrm rot="19943400">
            <a:off x="5258520" y="243792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 System</a:t>
            </a:r>
            <a:endParaRPr b="0" lang="en-US" sz="2400" spc="-1" strike="noStrike">
              <a:solidFill>
                <a:srgbClr val="000000"/>
              </a:solidFill>
              <a:latin typeface="Times New Roman"/>
            </a:endParaRPr>
          </a:p>
        </p:txBody>
      </p:sp>
      <p:grpSp>
        <p:nvGrpSpPr>
          <p:cNvPr id="230" name="Group 15"/>
          <p:cNvGrpSpPr/>
          <p:nvPr/>
        </p:nvGrpSpPr>
        <p:grpSpPr>
          <a:xfrm>
            <a:off x="2286000" y="4419720"/>
            <a:ext cx="2133720" cy="1511280"/>
            <a:chOff x="2286000" y="4419720"/>
            <a:chExt cx="2133720" cy="1511280"/>
          </a:xfrm>
        </p:grpSpPr>
        <p:sp>
          <p:nvSpPr>
            <p:cNvPr id="231" name="AutoShape 9"/>
            <p:cNvSpPr/>
            <p:nvPr/>
          </p:nvSpPr>
          <p:spPr>
            <a:xfrm>
              <a:off x="2590560" y="4419720"/>
              <a:ext cx="380880" cy="762120"/>
            </a:xfrm>
            <a:prstGeom prst="upArrow">
              <a:avLst>
                <a:gd name="adj1" fmla="val 50000"/>
                <a:gd name="adj2" fmla="val 500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Text Box 28"/>
            <p:cNvSpPr/>
            <p:nvPr/>
          </p:nvSpPr>
          <p:spPr>
            <a:xfrm>
              <a:off x="2286000" y="510552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 Consumption</a:t>
              </a:r>
              <a:endParaRPr b="0" lang="en-US" sz="2400" spc="-1" strike="noStrike">
                <a:solidFill>
                  <a:srgbClr val="000000"/>
                </a:solidFill>
                <a:latin typeface="Times New Roman"/>
              </a:endParaRPr>
            </a:p>
          </p:txBody>
        </p:sp>
      </p:grpSp>
      <p:sp>
        <p:nvSpPr>
          <p:cNvPr id="233" name="Text Box 29"/>
          <p:cNvSpPr/>
          <p:nvPr/>
        </p:nvSpPr>
        <p:spPr>
          <a:xfrm>
            <a:off x="4038480" y="3886200"/>
            <a:ext cx="15242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Power</a:t>
            </a:r>
            <a:endParaRPr b="0" lang="en-US" sz="2400" spc="-1" strike="noStrike">
              <a:solidFill>
                <a:srgbClr val="000000"/>
              </a:solidFill>
              <a:latin typeface="Times New Roman"/>
            </a:endParaRPr>
          </a:p>
        </p:txBody>
      </p:sp>
      <p:sp>
        <p:nvSpPr>
          <p:cNvPr id="234" name="AutoShape 33"/>
          <p:cNvSpPr/>
          <p:nvPr/>
        </p:nvSpPr>
        <p:spPr>
          <a:xfrm>
            <a:off x="3581280" y="3048120"/>
            <a:ext cx="1371600" cy="129528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cise Target</a:t>
            </a:r>
            <a:endParaRPr b="0" lang="en-US" sz="2800" spc="-1" strike="noStrike">
              <a:solidFill>
                <a:srgbClr val="000000"/>
              </a:solidFill>
              <a:latin typeface="Calibri"/>
            </a:endParaRPr>
          </a:p>
        </p:txBody>
      </p:sp>
      <p:sp>
        <p:nvSpPr>
          <p:cNvPr id="236" name="PlaceHolder 2"/>
          <p:cNvSpPr>
            <a:spLocks noGrp="1"/>
          </p:cNvSpPr>
          <p:nvPr>
            <p:ph/>
          </p:nvPr>
        </p:nvSpPr>
        <p:spPr>
          <a:xfrm>
            <a:off x="0" y="3733920"/>
            <a:ext cx="1447920" cy="457200"/>
          </a:xfrm>
          <a:prstGeom prst="rect">
            <a:avLst/>
          </a:prstGeom>
          <a:solidFill>
            <a:srgbClr val="ffffff"/>
          </a:solid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INE</a:t>
            </a:r>
            <a:endParaRPr b="0" lang="en-US" sz="2400" spc="-1" strike="noStrike">
              <a:solidFill>
                <a:srgbClr val="000000"/>
              </a:solidFill>
              <a:latin typeface="Calibri"/>
            </a:endParaRPr>
          </a:p>
        </p:txBody>
      </p:sp>
      <p:sp>
        <p:nvSpPr>
          <p:cNvPr id="237" name="Text Box 35"/>
          <p:cNvSpPr/>
          <p:nvPr/>
        </p:nvSpPr>
        <p:spPr>
          <a:xfrm>
            <a:off x="1295280" y="1676520"/>
            <a:ext cx="19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haust gas energy loss</a:t>
            </a:r>
            <a:endParaRPr b="0" lang="en-US" sz="2400" spc="-1" strike="noStrike">
              <a:solidFill>
                <a:srgbClr val="000000"/>
              </a:solidFill>
              <a:latin typeface="Times New Roman"/>
            </a:endParaRPr>
          </a:p>
        </p:txBody>
      </p:sp>
      <p:sp>
        <p:nvSpPr>
          <p:cNvPr id="238" name="Text Box 36"/>
          <p:cNvSpPr/>
          <p:nvPr/>
        </p:nvSpPr>
        <p:spPr>
          <a:xfrm rot="18835800">
            <a:off x="7544520" y="411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eage </a:t>
            </a:r>
            <a:endParaRPr b="0" lang="en-US" sz="2400" spc="-1" strike="noStrike">
              <a:solidFill>
                <a:srgbClr val="000000"/>
              </a:solidFill>
              <a:latin typeface="Times New Roman"/>
            </a:endParaRPr>
          </a:p>
        </p:txBody>
      </p:sp>
      <p:sp>
        <p:nvSpPr>
          <p:cNvPr id="239" name="Ink 16"/>
          <p:cNvSpPr/>
          <p:nvPr/>
        </p:nvSpPr>
        <p:spPr>
          <a:xfrm>
            <a:off x="8040600" y="257040"/>
            <a:ext cx="320760" cy="141480"/>
          </a:xfrm>
          <a:custGeom>
            <a:avLst/>
            <a:gdLst/>
            <a:ahLst/>
            <a:rect l="l" t="t" r="r" b="b"/>
            <a:pathLst>
              <a:path w="891" h="394">
                <a:moveTo>
                  <a:pt x="22383" y="1107"/>
                </a:moveTo>
                <a:cubicBezTo>
                  <a:pt x="22340" y="1064"/>
                  <a:pt x="22323" y="1054"/>
                  <a:pt x="22346" y="1011"/>
                </a:cubicBezTo>
              </a:path>
              <a:path w="891" h="394">
                <a:moveTo>
                  <a:pt x="23226" y="748"/>
                </a:moveTo>
                <a:cubicBezTo>
                  <a:pt x="23180" y="762"/>
                  <a:pt x="23165" y="764"/>
                  <a:pt x="23161" y="7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225"/>
                                        </p:tgtEl>
                                        <p:attrNameLst>
                                          <p:attrName>style.visibility</p:attrName>
                                        </p:attrNameLst>
                                      </p:cBhvr>
                                      <p:to>
                                        <p:strVal val="visible"/>
                                      </p:to>
                                    </p:set>
                                    <p:animEffect filter="dissolve" transition="in">
                                      <p:cBhvr additive="repl">
                                        <p:cTn id="435" dur="500"/>
                                        <p:tgtEl>
                                          <p:spTgt spid="2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236"/>
                                        </p:tgtEl>
                                        <p:attrNameLst>
                                          <p:attrName>style.visibility</p:attrName>
                                        </p:attrNameLst>
                                      </p:cBhvr>
                                      <p:to>
                                        <p:strVal val="visible"/>
                                      </p:to>
                                    </p:set>
                                    <p:animEffect filter="dissolve" transition="in">
                                      <p:cBhvr additive="repl">
                                        <p:cTn id="440" dur="500"/>
                                        <p:tgtEl>
                                          <p:spTgt spid="23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45" dur="500"/>
                                        <p:tgtEl>
                                          <p:spTgt spid="236">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0"/>
                                        </p:tgtEl>
                                        <p:attrNameLst>
                                          <p:attrName>style.visibility</p:attrName>
                                        </p:attrNameLst>
                                      </p:cBhvr>
                                      <p:to>
                                        <p:strVal val="visible"/>
                                      </p:to>
                                    </p:set>
                                    <p:animEffect filter="dissolve" transition="in">
                                      <p:cBhvr additive="repl">
                                        <p:cTn id="450" dur="500"/>
                                        <p:tgtEl>
                                          <p:spTgt spid="23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27"/>
                                        </p:tgtEl>
                                        <p:attrNameLst>
                                          <p:attrName>style.visibility</p:attrName>
                                        </p:attrNameLst>
                                      </p:cBhvr>
                                      <p:to>
                                        <p:strVal val="visible"/>
                                      </p:to>
                                    </p:set>
                                    <p:animEffect filter="dissolve" transition="in">
                                      <p:cBhvr additive="repl">
                                        <p:cTn id="455" dur="500"/>
                                        <p:tgtEl>
                                          <p:spTgt spid="227"/>
                                        </p:tgtEl>
                                      </p:cBhvr>
                                    </p:animEffect>
                                  </p:childTnLst>
                                </p:cTn>
                              </p:par>
                              <p:par>
                                <p:cTn id="456" nodeType="withEffect" fill="hold" presetClass="entr" presetID="9">
                                  <p:stCondLst>
                                    <p:cond delay="0"/>
                                  </p:stCondLst>
                                  <p:childTnLst>
                                    <p:set>
                                      <p:cBhvr>
                                        <p:cTn id="457" dur="1" fill="hold">
                                          <p:stCondLst>
                                            <p:cond delay="0"/>
                                          </p:stCondLst>
                                        </p:cTn>
                                        <p:tgtEl>
                                          <p:spTgt spid="237"/>
                                        </p:tgtEl>
                                        <p:attrNameLst>
                                          <p:attrName>style.visibility</p:attrName>
                                        </p:attrNameLst>
                                      </p:cBhvr>
                                      <p:to>
                                        <p:strVal val="visible"/>
                                      </p:to>
                                    </p:set>
                                    <p:animEffect filter="dissolve" transition="in">
                                      <p:cBhvr additive="repl">
                                        <p:cTn id="458" dur="500"/>
                                        <p:tgtEl>
                                          <p:spTgt spid="23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234"/>
                                        </p:tgtEl>
                                        <p:attrNameLst>
                                          <p:attrName>style.visibility</p:attrName>
                                        </p:attrNameLst>
                                      </p:cBhvr>
                                      <p:to>
                                        <p:strVal val="visible"/>
                                      </p:to>
                                    </p:set>
                                    <p:animEffect filter="dissolve" transition="in">
                                      <p:cBhvr additive="repl">
                                        <p:cTn id="463" dur="500"/>
                                        <p:tgtEl>
                                          <p:spTgt spid="23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33"/>
                                        </p:tgtEl>
                                        <p:attrNameLst>
                                          <p:attrName>style.visibility</p:attrName>
                                        </p:attrNameLst>
                                      </p:cBhvr>
                                      <p:to>
                                        <p:strVal val="visible"/>
                                      </p:to>
                                    </p:set>
                                    <p:animEffect filter="dissolve" transition="in">
                                      <p:cBhvr additive="repl">
                                        <p:cTn id="468" dur="500"/>
                                        <p:tgtEl>
                                          <p:spTgt spid="23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26"/>
                                        </p:tgtEl>
                                        <p:attrNameLst>
                                          <p:attrName>style.visibility</p:attrName>
                                        </p:attrNameLst>
                                      </p:cBhvr>
                                      <p:to>
                                        <p:strVal val="visible"/>
                                      </p:to>
                                    </p:set>
                                    <p:animEffect filter="dissolve" transition="in">
                                      <p:cBhvr additive="repl">
                                        <p:cTn id="473" dur="500"/>
                                        <p:tgtEl>
                                          <p:spTgt spid="226"/>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29"/>
                                        </p:tgtEl>
                                        <p:attrNameLst>
                                          <p:attrName>style.visibility</p:attrName>
                                        </p:attrNameLst>
                                      </p:cBhvr>
                                      <p:to>
                                        <p:strVal val="visible"/>
                                      </p:to>
                                    </p:set>
                                    <p:animEffect filter="dissolve" transition="in">
                                      <p:cBhvr additive="repl">
                                        <p:cTn id="478" dur="500"/>
                                        <p:tgtEl>
                                          <p:spTgt spid="22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228"/>
                                        </p:tgtEl>
                                        <p:attrNameLst>
                                          <p:attrName>style.visibility</p:attrName>
                                        </p:attrNameLst>
                                      </p:cBhvr>
                                      <p:to>
                                        <p:strVal val="visible"/>
                                      </p:to>
                                    </p:set>
                                    <p:animEffect filter="dissolve" transition="in">
                                      <p:cBhvr additive="repl">
                                        <p:cTn id="483" dur="500"/>
                                        <p:tgtEl>
                                          <p:spTgt spid="228"/>
                                        </p:tgtEl>
                                      </p:cBhvr>
                                    </p:animEffect>
                                  </p:childTnLst>
                                </p:cTn>
                              </p:par>
                              <p:par>
                                <p:cTn id="484" nodeType="withEffect" fill="hold" presetClass="entr" presetID="9">
                                  <p:stCondLst>
                                    <p:cond delay="0"/>
                                  </p:stCondLst>
                                  <p:childTnLst>
                                    <p:set>
                                      <p:cBhvr>
                                        <p:cTn id="485" dur="1" fill="hold">
                                          <p:stCondLst>
                                            <p:cond delay="0"/>
                                          </p:stCondLst>
                                        </p:cTn>
                                        <p:tgtEl>
                                          <p:spTgt spid="238"/>
                                        </p:tgtEl>
                                        <p:attrNameLst>
                                          <p:attrName>style.visibility</p:attrName>
                                        </p:attrNameLst>
                                      </p:cBhvr>
                                      <p:to>
                                        <p:strVal val="visible"/>
                                      </p:to>
                                    </p:set>
                                    <p:animEffect filter="dissolve" transition="in">
                                      <p:cBhvr additive="repl">
                                        <p:cTn id="48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Historical Event for Better focus on the Target</a:t>
            </a:r>
            <a:endParaRPr b="0" lang="en-US" sz="2800" spc="-1" strike="noStrike">
              <a:solidFill>
                <a:srgbClr val="000000"/>
              </a:solidFill>
              <a:latin typeface="Calibri"/>
            </a:endParaRPr>
          </a:p>
        </p:txBody>
      </p:sp>
      <p:sp>
        <p:nvSpPr>
          <p:cNvPr id="241" name=""/>
          <p:cNvSpPr txBox="1"/>
          <p:nvPr/>
        </p:nvSpPr>
        <p:spPr>
          <a:xfrm>
            <a:off x="685800" y="1294920"/>
            <a:ext cx="7772400" cy="1752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893, the Benz Velo became the world's first inexpensive, mass-produced c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000 unites were produc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7 hp and 958cc!!!</a:t>
            </a:r>
            <a:endParaRPr b="0" lang="en-US" sz="2400" spc="-1" strike="noStrike">
              <a:solidFill>
                <a:srgbClr val="000000"/>
              </a:solidFill>
              <a:latin typeface="Calibri"/>
            </a:endParaRPr>
          </a:p>
        </p:txBody>
      </p:sp>
      <p:pic>
        <p:nvPicPr>
          <p:cNvPr id="242" name="Picture 5" descr="http://www.autoconcept-reviews.com/cars_reviews/mercedes/benz-velo-1894-1902/wallpaper/benz-velo-1894-1902-1.jpg"/>
          <p:cNvPicPr/>
          <p:nvPr/>
        </p:nvPicPr>
        <p:blipFill>
          <a:blip r:embed="rId1"/>
          <a:stretch/>
        </p:blipFill>
        <p:spPr>
          <a:xfrm>
            <a:off x="4248000" y="2819520"/>
            <a:ext cx="4591080" cy="3670200"/>
          </a:xfrm>
          <a:prstGeom prst="rect">
            <a:avLst/>
          </a:prstGeom>
          <a:ln w="0">
            <a:noFill/>
          </a:ln>
        </p:spPr>
      </p:pic>
      <p:sp>
        <p:nvSpPr>
          <p:cNvPr id="243" name="Ink 5"/>
          <p:cNvSpPr/>
          <p:nvPr/>
        </p:nvSpPr>
        <p:spPr>
          <a:xfrm>
            <a:off x="938160" y="3533760"/>
            <a:ext cx="420840" cy="406440"/>
          </a:xfrm>
          <a:custGeom>
            <a:avLst/>
            <a:gdLst/>
            <a:ahLst/>
            <a:rect l="l" t="t" r="r" b="b"/>
            <a:pathLst>
              <a:path w="1171" h="1128">
                <a:moveTo>
                  <a:pt x="2814" y="9854"/>
                </a:moveTo>
                <a:cubicBezTo>
                  <a:pt x="2809" y="9818"/>
                  <a:pt x="2813" y="9837"/>
                  <a:pt x="2802" y="9815"/>
                </a:cubicBezTo>
                <a:cubicBezTo>
                  <a:pt x="2777" y="9848"/>
                  <a:pt x="2761" y="9889"/>
                  <a:pt x="2749" y="9929"/>
                </a:cubicBezTo>
                <a:cubicBezTo>
                  <a:pt x="2719" y="10027"/>
                  <a:pt x="2686" y="10128"/>
                  <a:pt x="2666" y="10229"/>
                </a:cubicBezTo>
                <a:cubicBezTo>
                  <a:pt x="2640" y="10358"/>
                  <a:pt x="2617" y="10491"/>
                  <a:pt x="2607" y="10623"/>
                </a:cubicBezTo>
                <a:cubicBezTo>
                  <a:pt x="2601" y="10705"/>
                  <a:pt x="2589" y="10814"/>
                  <a:pt x="2622" y="10893"/>
                </a:cubicBezTo>
                <a:cubicBezTo>
                  <a:pt x="2653" y="10967"/>
                  <a:pt x="2729" y="10932"/>
                  <a:pt x="2765" y="10884"/>
                </a:cubicBezTo>
                <a:cubicBezTo>
                  <a:pt x="2807" y="10827"/>
                  <a:pt x="2826" y="10748"/>
                  <a:pt x="2830" y="10679"/>
                </a:cubicBezTo>
                <a:cubicBezTo>
                  <a:pt x="2833" y="10630"/>
                  <a:pt x="2818" y="10578"/>
                  <a:pt x="2768" y="10558"/>
                </a:cubicBezTo>
                <a:cubicBezTo>
                  <a:pt x="2759" y="10554"/>
                  <a:pt x="2696" y="10562"/>
                  <a:pt x="2695" y="10561"/>
                </a:cubicBezTo>
                <a:cubicBezTo>
                  <a:pt x="2701" y="10535"/>
                  <a:pt x="2705" y="10523"/>
                  <a:pt x="2717" y="10507"/>
                </a:cubicBezTo>
              </a:path>
              <a:path w="1171" h="1128">
                <a:moveTo>
                  <a:pt x="3056" y="10038"/>
                </a:moveTo>
                <a:cubicBezTo>
                  <a:pt x="3082" y="10037"/>
                  <a:pt x="3088" y="10038"/>
                  <a:pt x="3120" y="10021"/>
                </a:cubicBezTo>
                <a:cubicBezTo>
                  <a:pt x="3214" y="9970"/>
                  <a:pt x="3327" y="9930"/>
                  <a:pt x="3435" y="9962"/>
                </a:cubicBezTo>
                <a:cubicBezTo>
                  <a:pt x="3505" y="9983"/>
                  <a:pt x="3552" y="10044"/>
                  <a:pt x="3576" y="10110"/>
                </a:cubicBezTo>
                <a:cubicBezTo>
                  <a:pt x="3617" y="10225"/>
                  <a:pt x="3606" y="10365"/>
                  <a:pt x="3595" y="10484"/>
                </a:cubicBezTo>
                <a:cubicBezTo>
                  <a:pt x="3585" y="10584"/>
                  <a:pt x="3570" y="10685"/>
                  <a:pt x="3554" y="10784"/>
                </a:cubicBezTo>
                <a:cubicBezTo>
                  <a:pt x="3553" y="10790"/>
                  <a:pt x="3531" y="10943"/>
                  <a:pt x="3525" y="10942"/>
                </a:cubicBezTo>
                <a:cubicBezTo>
                  <a:pt x="3509" y="10942"/>
                  <a:pt x="3504" y="10937"/>
                  <a:pt x="3504" y="10917"/>
                </a:cubicBezTo>
              </a:path>
              <a:path w="1171" h="1128">
                <a:moveTo>
                  <a:pt x="3143" y="10551"/>
                </a:moveTo>
                <a:cubicBezTo>
                  <a:pt x="3102" y="10560"/>
                  <a:pt x="3093" y="10555"/>
                  <a:pt x="3078" y="10575"/>
                </a:cubicBezTo>
                <a:cubicBezTo>
                  <a:pt x="3141" y="10540"/>
                  <a:pt x="3206" y="10511"/>
                  <a:pt x="3272" y="10483"/>
                </a:cubicBezTo>
                <a:cubicBezTo>
                  <a:pt x="3391" y="10432"/>
                  <a:pt x="3508" y="10379"/>
                  <a:pt x="3631" y="10339"/>
                </a:cubicBezTo>
                <a:cubicBezTo>
                  <a:pt x="3705" y="10317"/>
                  <a:pt x="3725" y="10310"/>
                  <a:pt x="3774" y="103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Ink 6"/>
          <p:cNvSpPr/>
          <p:nvPr/>
        </p:nvSpPr>
        <p:spPr>
          <a:xfrm>
            <a:off x="1546200" y="3564000"/>
            <a:ext cx="317520" cy="307800"/>
          </a:xfrm>
          <a:custGeom>
            <a:avLst/>
            <a:gdLst/>
            <a:ahLst/>
            <a:rect l="l" t="t" r="r" b="b"/>
            <a:pathLst>
              <a:path w="882" h="859">
                <a:moveTo>
                  <a:pt x="4299" y="9983"/>
                </a:moveTo>
                <a:cubicBezTo>
                  <a:pt x="4296" y="9936"/>
                  <a:pt x="4297" y="9953"/>
                  <a:pt x="4304" y="9933"/>
                </a:cubicBezTo>
                <a:cubicBezTo>
                  <a:pt x="4327" y="9975"/>
                  <a:pt x="4345" y="10016"/>
                  <a:pt x="4360" y="10063"/>
                </a:cubicBezTo>
                <a:cubicBezTo>
                  <a:pt x="4391" y="10162"/>
                  <a:pt x="4409" y="10263"/>
                  <a:pt x="4421" y="10366"/>
                </a:cubicBezTo>
                <a:cubicBezTo>
                  <a:pt x="4432" y="10464"/>
                  <a:pt x="4435" y="10561"/>
                  <a:pt x="4435" y="10659"/>
                </a:cubicBezTo>
                <a:cubicBezTo>
                  <a:pt x="4435" y="10692"/>
                  <a:pt x="4434" y="10724"/>
                  <a:pt x="4433" y="10756"/>
                </a:cubicBezTo>
                <a:cubicBezTo>
                  <a:pt x="4430" y="10685"/>
                  <a:pt x="4431" y="10616"/>
                  <a:pt x="4440" y="10545"/>
                </a:cubicBezTo>
                <a:cubicBezTo>
                  <a:pt x="4448" y="10476"/>
                  <a:pt x="4454" y="10377"/>
                  <a:pt x="4496" y="10318"/>
                </a:cubicBezTo>
                <a:cubicBezTo>
                  <a:pt x="4516" y="10304"/>
                  <a:pt x="4523" y="10299"/>
                  <a:pt x="4539" y="10314"/>
                </a:cubicBezTo>
                <a:cubicBezTo>
                  <a:pt x="4583" y="10391"/>
                  <a:pt x="4607" y="10476"/>
                  <a:pt x="4632" y="10562"/>
                </a:cubicBezTo>
                <a:cubicBezTo>
                  <a:pt x="4646" y="10610"/>
                  <a:pt x="4660" y="10656"/>
                  <a:pt x="4680" y="10699"/>
                </a:cubicBezTo>
                <a:cubicBezTo>
                  <a:pt x="4722" y="10660"/>
                  <a:pt x="4741" y="10624"/>
                  <a:pt x="4763" y="10555"/>
                </a:cubicBezTo>
                <a:cubicBezTo>
                  <a:pt x="4771" y="10529"/>
                  <a:pt x="4778" y="10503"/>
                  <a:pt x="4786" y="10477"/>
                </a:cubicBezTo>
              </a:path>
              <a:path w="882" h="859">
                <a:moveTo>
                  <a:pt x="4891" y="10135"/>
                </a:moveTo>
                <a:cubicBezTo>
                  <a:pt x="4934" y="10112"/>
                  <a:pt x="4922" y="10154"/>
                  <a:pt x="4926" y="10194"/>
                </a:cubicBezTo>
                <a:cubicBezTo>
                  <a:pt x="4933" y="10267"/>
                  <a:pt x="4937" y="10341"/>
                  <a:pt x="4948" y="10414"/>
                </a:cubicBezTo>
                <a:cubicBezTo>
                  <a:pt x="4960" y="10492"/>
                  <a:pt x="4976" y="10570"/>
                  <a:pt x="4994" y="10647"/>
                </a:cubicBezTo>
                <a:cubicBezTo>
                  <a:pt x="5002" y="10681"/>
                  <a:pt x="5012" y="10714"/>
                  <a:pt x="5022" y="10747"/>
                </a:cubicBezTo>
                <a:cubicBezTo>
                  <a:pt x="5021" y="10646"/>
                  <a:pt x="4997" y="10549"/>
                  <a:pt x="4979" y="10449"/>
                </a:cubicBezTo>
                <a:cubicBezTo>
                  <a:pt x="4961" y="10350"/>
                  <a:pt x="4939" y="10250"/>
                  <a:pt x="4930" y="10150"/>
                </a:cubicBezTo>
                <a:cubicBezTo>
                  <a:pt x="4924" y="10086"/>
                  <a:pt x="4925" y="10024"/>
                  <a:pt x="4958" y="9967"/>
                </a:cubicBezTo>
                <a:cubicBezTo>
                  <a:pt x="4981" y="9928"/>
                  <a:pt x="5029" y="9884"/>
                  <a:pt x="5079" y="9899"/>
                </a:cubicBezTo>
                <a:cubicBezTo>
                  <a:pt x="5150" y="9921"/>
                  <a:pt x="5169" y="10020"/>
                  <a:pt x="5174" y="10082"/>
                </a:cubicBezTo>
                <a:cubicBezTo>
                  <a:pt x="5182" y="10182"/>
                  <a:pt x="5171" y="10276"/>
                  <a:pt x="5125" y="10365"/>
                </a:cubicBezTo>
                <a:cubicBezTo>
                  <a:pt x="5099" y="10408"/>
                  <a:pt x="5093" y="10420"/>
                  <a:pt x="5063" y="104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Ink 7"/>
          <p:cNvSpPr/>
          <p:nvPr/>
        </p:nvSpPr>
        <p:spPr>
          <a:xfrm>
            <a:off x="2201760" y="3438360"/>
            <a:ext cx="1378080" cy="486000"/>
          </a:xfrm>
          <a:custGeom>
            <a:avLst/>
            <a:gdLst/>
            <a:ahLst/>
            <a:rect l="l" t="t" r="r" b="b"/>
            <a:pathLst>
              <a:path w="3827" h="1352">
                <a:moveTo>
                  <a:pt x="6118" y="9865"/>
                </a:moveTo>
                <a:cubicBezTo>
                  <a:pt x="6118" y="9833"/>
                  <a:pt x="6118" y="9828"/>
                  <a:pt x="6118" y="9809"/>
                </a:cubicBezTo>
                <a:cubicBezTo>
                  <a:pt x="6144" y="9847"/>
                  <a:pt x="6163" y="9884"/>
                  <a:pt x="6179" y="9932"/>
                </a:cubicBezTo>
                <a:cubicBezTo>
                  <a:pt x="6215" y="10040"/>
                  <a:pt x="6245" y="10151"/>
                  <a:pt x="6270" y="10262"/>
                </a:cubicBezTo>
                <a:cubicBezTo>
                  <a:pt x="6298" y="10385"/>
                  <a:pt x="6316" y="10509"/>
                  <a:pt x="6342" y="10632"/>
                </a:cubicBezTo>
                <a:cubicBezTo>
                  <a:pt x="6355" y="10696"/>
                  <a:pt x="6372" y="10742"/>
                  <a:pt x="6402" y="10785"/>
                </a:cubicBezTo>
                <a:cubicBezTo>
                  <a:pt x="6430" y="10710"/>
                  <a:pt x="6451" y="10634"/>
                  <a:pt x="6467" y="10552"/>
                </a:cubicBezTo>
                <a:cubicBezTo>
                  <a:pt x="6486" y="10454"/>
                  <a:pt x="6496" y="10351"/>
                  <a:pt x="6521" y="10254"/>
                </a:cubicBezTo>
                <a:cubicBezTo>
                  <a:pt x="6530" y="10232"/>
                  <a:pt x="6527" y="10223"/>
                  <a:pt x="6542" y="10226"/>
                </a:cubicBezTo>
                <a:cubicBezTo>
                  <a:pt x="6561" y="10292"/>
                  <a:pt x="6567" y="10360"/>
                  <a:pt x="6582" y="10427"/>
                </a:cubicBezTo>
                <a:cubicBezTo>
                  <a:pt x="6596" y="10489"/>
                  <a:pt x="6609" y="10587"/>
                  <a:pt x="6663" y="10630"/>
                </a:cubicBezTo>
                <a:cubicBezTo>
                  <a:pt x="6673" y="10634"/>
                  <a:pt x="6683" y="10638"/>
                  <a:pt x="6693" y="10642"/>
                </a:cubicBezTo>
                <a:cubicBezTo>
                  <a:pt x="6768" y="10591"/>
                  <a:pt x="6796" y="10524"/>
                  <a:pt x="6824" y="10437"/>
                </a:cubicBezTo>
                <a:cubicBezTo>
                  <a:pt x="6865" y="10309"/>
                  <a:pt x="6889" y="10173"/>
                  <a:pt x="6899" y="10039"/>
                </a:cubicBezTo>
                <a:cubicBezTo>
                  <a:pt x="6905" y="9965"/>
                  <a:pt x="6899" y="9930"/>
                  <a:pt x="6869" y="9879"/>
                </a:cubicBezTo>
                <a:cubicBezTo>
                  <a:pt x="6845" y="9923"/>
                  <a:pt x="6829" y="9959"/>
                  <a:pt x="6816" y="10010"/>
                </a:cubicBezTo>
              </a:path>
              <a:path w="3827" h="1352">
                <a:moveTo>
                  <a:pt x="7547" y="10381"/>
                </a:moveTo>
                <a:cubicBezTo>
                  <a:pt x="7554" y="10349"/>
                  <a:pt x="7574" y="10364"/>
                  <a:pt x="7552" y="10318"/>
                </a:cubicBezTo>
                <a:cubicBezTo>
                  <a:pt x="7526" y="10263"/>
                  <a:pt x="7491" y="10221"/>
                  <a:pt x="7472" y="10161"/>
                </a:cubicBezTo>
                <a:cubicBezTo>
                  <a:pt x="7462" y="10127"/>
                  <a:pt x="7450" y="10112"/>
                  <a:pt x="7433" y="10085"/>
                </a:cubicBezTo>
                <a:cubicBezTo>
                  <a:pt x="7403" y="10103"/>
                  <a:pt x="7386" y="10100"/>
                  <a:pt x="7355" y="10133"/>
                </a:cubicBezTo>
                <a:cubicBezTo>
                  <a:pt x="7257" y="10237"/>
                  <a:pt x="7195" y="10421"/>
                  <a:pt x="7185" y="10561"/>
                </a:cubicBezTo>
                <a:cubicBezTo>
                  <a:pt x="7185" y="10598"/>
                  <a:pt x="7184" y="10608"/>
                  <a:pt x="7199" y="10628"/>
                </a:cubicBezTo>
                <a:cubicBezTo>
                  <a:pt x="7259" y="10624"/>
                  <a:pt x="7278" y="10623"/>
                  <a:pt x="7330" y="10576"/>
                </a:cubicBezTo>
                <a:cubicBezTo>
                  <a:pt x="7390" y="10522"/>
                  <a:pt x="7437" y="10461"/>
                  <a:pt x="7484" y="10396"/>
                </a:cubicBezTo>
                <a:cubicBezTo>
                  <a:pt x="7493" y="10411"/>
                  <a:pt x="7484" y="10401"/>
                  <a:pt x="7492" y="10417"/>
                </a:cubicBezTo>
                <a:cubicBezTo>
                  <a:pt x="7504" y="10442"/>
                  <a:pt x="7491" y="10446"/>
                  <a:pt x="7528" y="10458"/>
                </a:cubicBezTo>
                <a:cubicBezTo>
                  <a:pt x="7612" y="10485"/>
                  <a:pt x="7710" y="10409"/>
                  <a:pt x="7774" y="10366"/>
                </a:cubicBezTo>
                <a:cubicBezTo>
                  <a:pt x="7800" y="10348"/>
                  <a:pt x="7824" y="10329"/>
                  <a:pt x="7849" y="10309"/>
                </a:cubicBezTo>
                <a:cubicBezTo>
                  <a:pt x="7876" y="10348"/>
                  <a:pt x="7904" y="10416"/>
                  <a:pt x="7966" y="10387"/>
                </a:cubicBezTo>
                <a:cubicBezTo>
                  <a:pt x="8004" y="10369"/>
                  <a:pt x="8039" y="10317"/>
                  <a:pt x="8055" y="10280"/>
                </a:cubicBezTo>
                <a:cubicBezTo>
                  <a:pt x="8076" y="10232"/>
                  <a:pt x="8099" y="10169"/>
                  <a:pt x="8068" y="10121"/>
                </a:cubicBezTo>
                <a:cubicBezTo>
                  <a:pt x="8043" y="10083"/>
                  <a:pt x="7972" y="10084"/>
                  <a:pt x="7938" y="10106"/>
                </a:cubicBezTo>
                <a:cubicBezTo>
                  <a:pt x="7913" y="10122"/>
                  <a:pt x="7908" y="10155"/>
                  <a:pt x="7920" y="10182"/>
                </a:cubicBezTo>
                <a:cubicBezTo>
                  <a:pt x="7968" y="10285"/>
                  <a:pt x="8079" y="10346"/>
                  <a:pt x="8124" y="10458"/>
                </a:cubicBezTo>
                <a:cubicBezTo>
                  <a:pt x="8176" y="10590"/>
                  <a:pt x="8172" y="10766"/>
                  <a:pt x="8063" y="10868"/>
                </a:cubicBezTo>
                <a:cubicBezTo>
                  <a:pt x="8021" y="10908"/>
                  <a:pt x="7981" y="10914"/>
                  <a:pt x="7944" y="10873"/>
                </a:cubicBezTo>
                <a:cubicBezTo>
                  <a:pt x="7856" y="10774"/>
                  <a:pt x="8024" y="10497"/>
                  <a:pt x="8076" y="10420"/>
                </a:cubicBezTo>
                <a:cubicBezTo>
                  <a:pt x="8120" y="10354"/>
                  <a:pt x="8194" y="10245"/>
                  <a:pt x="8281" y="10233"/>
                </a:cubicBezTo>
                <a:cubicBezTo>
                  <a:pt x="8330" y="10226"/>
                  <a:pt x="8357" y="10235"/>
                  <a:pt x="8375" y="10282"/>
                </a:cubicBezTo>
                <a:cubicBezTo>
                  <a:pt x="8422" y="10407"/>
                  <a:pt x="8350" y="10568"/>
                  <a:pt x="8438" y="10682"/>
                </a:cubicBezTo>
                <a:cubicBezTo>
                  <a:pt x="8444" y="10683"/>
                  <a:pt x="8450" y="10685"/>
                  <a:pt x="8456" y="10686"/>
                </a:cubicBezTo>
                <a:cubicBezTo>
                  <a:pt x="8497" y="10645"/>
                  <a:pt x="8520" y="10617"/>
                  <a:pt x="8541" y="10555"/>
                </a:cubicBezTo>
                <a:cubicBezTo>
                  <a:pt x="8567" y="10476"/>
                  <a:pt x="8628" y="10289"/>
                  <a:pt x="8565" y="10213"/>
                </a:cubicBezTo>
                <a:cubicBezTo>
                  <a:pt x="8537" y="10179"/>
                  <a:pt x="8505" y="10191"/>
                  <a:pt x="8468" y="10185"/>
                </a:cubicBezTo>
                <a:cubicBezTo>
                  <a:pt x="8502" y="10167"/>
                  <a:pt x="8534" y="10146"/>
                  <a:pt x="8571" y="10134"/>
                </a:cubicBezTo>
                <a:cubicBezTo>
                  <a:pt x="8607" y="10123"/>
                  <a:pt x="8658" y="10106"/>
                  <a:pt x="8695" y="10127"/>
                </a:cubicBezTo>
                <a:cubicBezTo>
                  <a:pt x="8742" y="10154"/>
                  <a:pt x="8742" y="10246"/>
                  <a:pt x="8725" y="10290"/>
                </a:cubicBezTo>
                <a:cubicBezTo>
                  <a:pt x="8720" y="10303"/>
                  <a:pt x="8716" y="10287"/>
                  <a:pt x="8707" y="10298"/>
                </a:cubicBezTo>
                <a:cubicBezTo>
                  <a:pt x="8745" y="10243"/>
                  <a:pt x="8784" y="10167"/>
                  <a:pt x="8856" y="10150"/>
                </a:cubicBezTo>
                <a:cubicBezTo>
                  <a:pt x="8906" y="10138"/>
                  <a:pt x="8925" y="10165"/>
                  <a:pt x="8939" y="10207"/>
                </a:cubicBezTo>
                <a:cubicBezTo>
                  <a:pt x="8945" y="10224"/>
                  <a:pt x="8938" y="10358"/>
                  <a:pt x="8942" y="10361"/>
                </a:cubicBezTo>
                <a:cubicBezTo>
                  <a:pt x="8962" y="10361"/>
                  <a:pt x="8970" y="10356"/>
                  <a:pt x="8974" y="10336"/>
                </a:cubicBezTo>
              </a:path>
              <a:path w="3827" h="1352">
                <a:moveTo>
                  <a:pt x="9301" y="9826"/>
                </a:moveTo>
                <a:cubicBezTo>
                  <a:pt x="9301" y="10066"/>
                  <a:pt x="9306" y="10306"/>
                  <a:pt x="9289" y="10545"/>
                </a:cubicBezTo>
                <a:cubicBezTo>
                  <a:pt x="9283" y="10488"/>
                  <a:pt x="9279" y="10433"/>
                  <a:pt x="9283" y="10375"/>
                </a:cubicBezTo>
                <a:cubicBezTo>
                  <a:pt x="9294" y="10211"/>
                  <a:pt x="9324" y="10048"/>
                  <a:pt x="9356" y="9887"/>
                </a:cubicBezTo>
                <a:cubicBezTo>
                  <a:pt x="9376" y="9790"/>
                  <a:pt x="9386" y="9647"/>
                  <a:pt x="9450" y="9565"/>
                </a:cubicBezTo>
                <a:cubicBezTo>
                  <a:pt x="9456" y="9560"/>
                  <a:pt x="9463" y="9555"/>
                  <a:pt x="9469" y="9550"/>
                </a:cubicBezTo>
                <a:cubicBezTo>
                  <a:pt x="9517" y="9590"/>
                  <a:pt x="9535" y="9611"/>
                  <a:pt x="9547" y="9691"/>
                </a:cubicBezTo>
                <a:cubicBezTo>
                  <a:pt x="9565" y="9808"/>
                  <a:pt x="9559" y="9935"/>
                  <a:pt x="9545" y="10052"/>
                </a:cubicBezTo>
                <a:cubicBezTo>
                  <a:pt x="9535" y="10135"/>
                  <a:pt x="9503" y="10219"/>
                  <a:pt x="9503" y="10302"/>
                </a:cubicBezTo>
                <a:cubicBezTo>
                  <a:pt x="9503" y="10356"/>
                  <a:pt x="9550" y="10384"/>
                  <a:pt x="9594" y="10405"/>
                </a:cubicBezTo>
                <a:cubicBezTo>
                  <a:pt x="9678" y="10446"/>
                  <a:pt x="9772" y="10463"/>
                  <a:pt x="9856" y="10501"/>
                </a:cubicBezTo>
                <a:cubicBezTo>
                  <a:pt x="9887" y="10515"/>
                  <a:pt x="9912" y="10530"/>
                  <a:pt x="9944" y="105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Ink 8"/>
          <p:cNvSpPr/>
          <p:nvPr/>
        </p:nvSpPr>
        <p:spPr>
          <a:xfrm>
            <a:off x="2665440" y="4002120"/>
            <a:ext cx="1430280" cy="644400"/>
          </a:xfrm>
          <a:custGeom>
            <a:avLst/>
            <a:gdLst/>
            <a:ahLst/>
            <a:rect l="l" t="t" r="r" b="b"/>
            <a:pathLst>
              <a:path w="3977" h="1789">
                <a:moveTo>
                  <a:pt x="7535" y="12013"/>
                </a:moveTo>
                <a:cubicBezTo>
                  <a:pt x="7508" y="12004"/>
                  <a:pt x="7444" y="11989"/>
                  <a:pt x="7421" y="11964"/>
                </a:cubicBezTo>
                <a:cubicBezTo>
                  <a:pt x="7408" y="11950"/>
                  <a:pt x="7409" y="11935"/>
                  <a:pt x="7402" y="11920"/>
                </a:cubicBezTo>
                <a:cubicBezTo>
                  <a:pt x="7425" y="11912"/>
                  <a:pt x="7444" y="11910"/>
                  <a:pt x="7471" y="11909"/>
                </a:cubicBezTo>
                <a:cubicBezTo>
                  <a:pt x="7553" y="11906"/>
                  <a:pt x="7635" y="11902"/>
                  <a:pt x="7717" y="11895"/>
                </a:cubicBezTo>
                <a:cubicBezTo>
                  <a:pt x="7845" y="11884"/>
                  <a:pt x="7973" y="11871"/>
                  <a:pt x="8101" y="11859"/>
                </a:cubicBezTo>
                <a:cubicBezTo>
                  <a:pt x="8202" y="11850"/>
                  <a:pt x="8303" y="11842"/>
                  <a:pt x="8404" y="11836"/>
                </a:cubicBezTo>
                <a:cubicBezTo>
                  <a:pt x="8432" y="11834"/>
                  <a:pt x="8504" y="11846"/>
                  <a:pt x="8485" y="11821"/>
                </a:cubicBezTo>
                <a:cubicBezTo>
                  <a:pt x="8480" y="11814"/>
                  <a:pt x="8457" y="11799"/>
                  <a:pt x="8449" y="11791"/>
                </a:cubicBezTo>
              </a:path>
              <a:path w="3977" h="1789">
                <a:moveTo>
                  <a:pt x="9231" y="11511"/>
                </a:moveTo>
                <a:cubicBezTo>
                  <a:pt x="9260" y="11480"/>
                  <a:pt x="9286" y="11454"/>
                  <a:pt x="9300" y="11412"/>
                </a:cubicBezTo>
                <a:cubicBezTo>
                  <a:pt x="9313" y="11373"/>
                  <a:pt x="9317" y="11334"/>
                  <a:pt x="9317" y="11293"/>
                </a:cubicBezTo>
                <a:cubicBezTo>
                  <a:pt x="9317" y="11251"/>
                  <a:pt x="9317" y="11209"/>
                  <a:pt x="9304" y="11169"/>
                </a:cubicBezTo>
                <a:cubicBezTo>
                  <a:pt x="9295" y="11140"/>
                  <a:pt x="9274" y="11109"/>
                  <a:pt x="9239" y="11119"/>
                </a:cubicBezTo>
                <a:cubicBezTo>
                  <a:pt x="9183" y="11135"/>
                  <a:pt x="9137" y="11235"/>
                  <a:pt x="9111" y="11278"/>
                </a:cubicBezTo>
                <a:cubicBezTo>
                  <a:pt x="9067" y="11351"/>
                  <a:pt x="9025" y="11433"/>
                  <a:pt x="9008" y="11518"/>
                </a:cubicBezTo>
                <a:cubicBezTo>
                  <a:pt x="8998" y="11571"/>
                  <a:pt x="9000" y="11611"/>
                  <a:pt x="9061" y="11607"/>
                </a:cubicBezTo>
                <a:cubicBezTo>
                  <a:pt x="9125" y="11603"/>
                  <a:pt x="9179" y="11563"/>
                  <a:pt x="9237" y="11540"/>
                </a:cubicBezTo>
                <a:cubicBezTo>
                  <a:pt x="9280" y="11523"/>
                  <a:pt x="9334" y="11509"/>
                  <a:pt x="9346" y="11568"/>
                </a:cubicBezTo>
                <a:cubicBezTo>
                  <a:pt x="9373" y="11708"/>
                  <a:pt x="9311" y="11881"/>
                  <a:pt x="9275" y="12014"/>
                </a:cubicBezTo>
                <a:cubicBezTo>
                  <a:pt x="9263" y="12057"/>
                  <a:pt x="9205" y="12173"/>
                  <a:pt x="9218" y="12219"/>
                </a:cubicBezTo>
                <a:cubicBezTo>
                  <a:pt x="9225" y="12246"/>
                  <a:pt x="9248" y="12181"/>
                  <a:pt x="9249" y="12179"/>
                </a:cubicBezTo>
              </a:path>
              <a:path w="3977" h="1789">
                <a:moveTo>
                  <a:pt x="9639" y="11529"/>
                </a:moveTo>
                <a:cubicBezTo>
                  <a:pt x="9688" y="11485"/>
                  <a:pt x="9732" y="11442"/>
                  <a:pt x="9766" y="11385"/>
                </a:cubicBezTo>
                <a:cubicBezTo>
                  <a:pt x="9792" y="11341"/>
                  <a:pt x="9819" y="11288"/>
                  <a:pt x="9830" y="11238"/>
                </a:cubicBezTo>
                <a:cubicBezTo>
                  <a:pt x="9840" y="11195"/>
                  <a:pt x="9830" y="11180"/>
                  <a:pt x="9816" y="11146"/>
                </a:cubicBezTo>
                <a:cubicBezTo>
                  <a:pt x="9761" y="11155"/>
                  <a:pt x="9743" y="11161"/>
                  <a:pt x="9702" y="11210"/>
                </a:cubicBezTo>
                <a:cubicBezTo>
                  <a:pt x="9635" y="11291"/>
                  <a:pt x="9559" y="11430"/>
                  <a:pt x="9581" y="11540"/>
                </a:cubicBezTo>
                <a:cubicBezTo>
                  <a:pt x="9594" y="11604"/>
                  <a:pt x="9666" y="11600"/>
                  <a:pt x="9715" y="11598"/>
                </a:cubicBezTo>
                <a:cubicBezTo>
                  <a:pt x="9763" y="11596"/>
                  <a:pt x="9840" y="11564"/>
                  <a:pt x="9887" y="11582"/>
                </a:cubicBezTo>
                <a:cubicBezTo>
                  <a:pt x="9948" y="11605"/>
                  <a:pt x="9919" y="11719"/>
                  <a:pt x="9909" y="11760"/>
                </a:cubicBezTo>
                <a:cubicBezTo>
                  <a:pt x="9869" y="11919"/>
                  <a:pt x="9784" y="12056"/>
                  <a:pt x="9724" y="12206"/>
                </a:cubicBezTo>
                <a:cubicBezTo>
                  <a:pt x="9706" y="12250"/>
                  <a:pt x="9766" y="12122"/>
                  <a:pt x="9786" y="12079"/>
                </a:cubicBezTo>
              </a:path>
              <a:path w="3977" h="1789">
                <a:moveTo>
                  <a:pt x="10199" y="11364"/>
                </a:moveTo>
                <a:cubicBezTo>
                  <a:pt x="10228" y="11326"/>
                  <a:pt x="10233" y="11313"/>
                  <a:pt x="10247" y="11271"/>
                </a:cubicBezTo>
                <a:cubicBezTo>
                  <a:pt x="10253" y="11254"/>
                  <a:pt x="10260" y="11237"/>
                  <a:pt x="10266" y="11219"/>
                </a:cubicBezTo>
                <a:cubicBezTo>
                  <a:pt x="10280" y="11205"/>
                  <a:pt x="10258" y="11294"/>
                  <a:pt x="10257" y="11324"/>
                </a:cubicBezTo>
                <a:cubicBezTo>
                  <a:pt x="10253" y="11407"/>
                  <a:pt x="10256" y="11488"/>
                  <a:pt x="10271" y="11570"/>
                </a:cubicBezTo>
                <a:cubicBezTo>
                  <a:pt x="10285" y="11646"/>
                  <a:pt x="10312" y="11719"/>
                  <a:pt x="10321" y="11796"/>
                </a:cubicBezTo>
                <a:cubicBezTo>
                  <a:pt x="10328" y="11853"/>
                  <a:pt x="10326" y="11887"/>
                  <a:pt x="10289" y="11929"/>
                </a:cubicBezTo>
                <a:cubicBezTo>
                  <a:pt x="10229" y="11924"/>
                  <a:pt x="10215" y="11895"/>
                  <a:pt x="10206" y="11833"/>
                </a:cubicBezTo>
                <a:cubicBezTo>
                  <a:pt x="10191" y="11728"/>
                  <a:pt x="10213" y="11622"/>
                  <a:pt x="10249" y="11523"/>
                </a:cubicBezTo>
                <a:cubicBezTo>
                  <a:pt x="10270" y="11464"/>
                  <a:pt x="10315" y="11368"/>
                  <a:pt x="10375" y="11336"/>
                </a:cubicBezTo>
                <a:cubicBezTo>
                  <a:pt x="10397" y="11333"/>
                  <a:pt x="10403" y="11332"/>
                  <a:pt x="10417" y="11334"/>
                </a:cubicBezTo>
              </a:path>
              <a:path w="3977" h="1789">
                <a:moveTo>
                  <a:pt x="10642" y="11472"/>
                </a:moveTo>
                <a:cubicBezTo>
                  <a:pt x="10705" y="11403"/>
                  <a:pt x="10731" y="11367"/>
                  <a:pt x="10765" y="11284"/>
                </a:cubicBezTo>
                <a:cubicBezTo>
                  <a:pt x="10775" y="11260"/>
                  <a:pt x="10771" y="11277"/>
                  <a:pt x="10778" y="11251"/>
                </a:cubicBezTo>
                <a:cubicBezTo>
                  <a:pt x="10727" y="11381"/>
                  <a:pt x="10684" y="11513"/>
                  <a:pt x="10662" y="11651"/>
                </a:cubicBezTo>
                <a:cubicBezTo>
                  <a:pt x="10652" y="11715"/>
                  <a:pt x="10631" y="11821"/>
                  <a:pt x="10683" y="11875"/>
                </a:cubicBezTo>
                <a:cubicBezTo>
                  <a:pt x="10733" y="11927"/>
                  <a:pt x="10820" y="11887"/>
                  <a:pt x="10867" y="11856"/>
                </a:cubicBezTo>
                <a:cubicBezTo>
                  <a:pt x="10958" y="11797"/>
                  <a:pt x="11027" y="11706"/>
                  <a:pt x="11087" y="11617"/>
                </a:cubicBezTo>
                <a:cubicBezTo>
                  <a:pt x="11126" y="11561"/>
                  <a:pt x="11166" y="11495"/>
                  <a:pt x="11183" y="11428"/>
                </a:cubicBezTo>
                <a:cubicBezTo>
                  <a:pt x="11183" y="11424"/>
                  <a:pt x="11183" y="11420"/>
                  <a:pt x="11183" y="11416"/>
                </a:cubicBezTo>
                <a:cubicBezTo>
                  <a:pt x="11144" y="11445"/>
                  <a:pt x="11110" y="11476"/>
                  <a:pt x="11080" y="11519"/>
                </a:cubicBezTo>
                <a:cubicBezTo>
                  <a:pt x="11022" y="11603"/>
                  <a:pt x="10969" y="11694"/>
                  <a:pt x="10940" y="11793"/>
                </a:cubicBezTo>
                <a:cubicBezTo>
                  <a:pt x="10912" y="11888"/>
                  <a:pt x="10907" y="11992"/>
                  <a:pt x="10941" y="12086"/>
                </a:cubicBezTo>
                <a:cubicBezTo>
                  <a:pt x="10965" y="12153"/>
                  <a:pt x="11026" y="12207"/>
                  <a:pt x="11090" y="12235"/>
                </a:cubicBezTo>
                <a:cubicBezTo>
                  <a:pt x="11103" y="12239"/>
                  <a:pt x="11116" y="12243"/>
                  <a:pt x="11129" y="12247"/>
                </a:cubicBezTo>
              </a:path>
              <a:path w="3977" h="1789">
                <a:moveTo>
                  <a:pt x="9234" y="12867"/>
                </a:moveTo>
                <a:cubicBezTo>
                  <a:pt x="9121" y="12903"/>
                  <a:pt x="9155" y="12895"/>
                  <a:pt x="9080" y="12905"/>
                </a:cubicBezTo>
                <a:cubicBezTo>
                  <a:pt x="9091" y="12858"/>
                  <a:pt x="9090" y="12836"/>
                  <a:pt x="9125" y="12794"/>
                </a:cubicBezTo>
                <a:cubicBezTo>
                  <a:pt x="9173" y="12737"/>
                  <a:pt x="9249" y="12700"/>
                  <a:pt x="9321" y="12688"/>
                </a:cubicBezTo>
                <a:cubicBezTo>
                  <a:pt x="9471" y="12662"/>
                  <a:pt x="9632" y="12668"/>
                  <a:pt x="9784" y="12663"/>
                </a:cubicBezTo>
                <a:cubicBezTo>
                  <a:pt x="10034" y="12654"/>
                  <a:pt x="10283" y="12636"/>
                  <a:pt x="10533" y="12618"/>
                </a:cubicBezTo>
                <a:cubicBezTo>
                  <a:pt x="10821" y="12597"/>
                  <a:pt x="11646" y="12591"/>
                  <a:pt x="11360" y="12553"/>
                </a:cubicBezTo>
                <a:cubicBezTo>
                  <a:pt x="11333" y="12549"/>
                  <a:pt x="11305" y="12548"/>
                  <a:pt x="11277" y="125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Ink 9"/>
          <p:cNvSpPr/>
          <p:nvPr/>
        </p:nvSpPr>
        <p:spPr>
          <a:xfrm>
            <a:off x="495360" y="4821120"/>
            <a:ext cx="976320" cy="519120"/>
          </a:xfrm>
          <a:custGeom>
            <a:avLst/>
            <a:gdLst/>
            <a:ahLst/>
            <a:rect l="l" t="t" r="r" b="b"/>
            <a:pathLst>
              <a:path w="2708" h="1444">
                <a:moveTo>
                  <a:pt x="1488" y="13722"/>
                </a:moveTo>
                <a:cubicBezTo>
                  <a:pt x="1484" y="13694"/>
                  <a:pt x="1479" y="13666"/>
                  <a:pt x="1473" y="13638"/>
                </a:cubicBezTo>
                <a:cubicBezTo>
                  <a:pt x="1476" y="13680"/>
                  <a:pt x="1484" y="13721"/>
                  <a:pt x="1491" y="13762"/>
                </a:cubicBezTo>
                <a:cubicBezTo>
                  <a:pt x="1514" y="13894"/>
                  <a:pt x="1531" y="14026"/>
                  <a:pt x="1536" y="14160"/>
                </a:cubicBezTo>
                <a:cubicBezTo>
                  <a:pt x="1542" y="14320"/>
                  <a:pt x="1537" y="14480"/>
                  <a:pt x="1517" y="14639"/>
                </a:cubicBezTo>
                <a:cubicBezTo>
                  <a:pt x="1509" y="14700"/>
                  <a:pt x="1508" y="14776"/>
                  <a:pt x="1491" y="14835"/>
                </a:cubicBezTo>
                <a:cubicBezTo>
                  <a:pt x="1491" y="14832"/>
                  <a:pt x="1491" y="14828"/>
                  <a:pt x="1491" y="14825"/>
                </a:cubicBezTo>
              </a:path>
              <a:path w="2708" h="1444">
                <a:moveTo>
                  <a:pt x="1383" y="13605"/>
                </a:moveTo>
                <a:cubicBezTo>
                  <a:pt x="1380" y="13534"/>
                  <a:pt x="1360" y="13459"/>
                  <a:pt x="1422" y="13408"/>
                </a:cubicBezTo>
                <a:cubicBezTo>
                  <a:pt x="1472" y="13367"/>
                  <a:pt x="1523" y="13406"/>
                  <a:pt x="1554" y="13449"/>
                </a:cubicBezTo>
                <a:cubicBezTo>
                  <a:pt x="1618" y="13539"/>
                  <a:pt x="1633" y="13654"/>
                  <a:pt x="1638" y="13761"/>
                </a:cubicBezTo>
                <a:cubicBezTo>
                  <a:pt x="1644" y="13878"/>
                  <a:pt x="1623" y="13990"/>
                  <a:pt x="1579" y="14099"/>
                </a:cubicBezTo>
                <a:cubicBezTo>
                  <a:pt x="1561" y="14145"/>
                  <a:pt x="1538" y="14210"/>
                  <a:pt x="1497" y="14241"/>
                </a:cubicBezTo>
                <a:cubicBezTo>
                  <a:pt x="1497" y="14237"/>
                  <a:pt x="1497" y="14233"/>
                  <a:pt x="1497" y="14229"/>
                </a:cubicBezTo>
              </a:path>
              <a:path w="2708" h="1444">
                <a:moveTo>
                  <a:pt x="1885" y="14042"/>
                </a:moveTo>
                <a:cubicBezTo>
                  <a:pt x="1877" y="14068"/>
                  <a:pt x="1868" y="14092"/>
                  <a:pt x="1864" y="14120"/>
                </a:cubicBezTo>
                <a:cubicBezTo>
                  <a:pt x="1856" y="14184"/>
                  <a:pt x="1853" y="14249"/>
                  <a:pt x="1849" y="14313"/>
                </a:cubicBezTo>
                <a:cubicBezTo>
                  <a:pt x="1843" y="14414"/>
                  <a:pt x="1835" y="14521"/>
                  <a:pt x="1853" y="14618"/>
                </a:cubicBezTo>
                <a:cubicBezTo>
                  <a:pt x="1886" y="14596"/>
                  <a:pt x="1902" y="14603"/>
                  <a:pt x="1929" y="14551"/>
                </a:cubicBezTo>
                <a:cubicBezTo>
                  <a:pt x="1967" y="14476"/>
                  <a:pt x="1990" y="14385"/>
                  <a:pt x="2004" y="14302"/>
                </a:cubicBezTo>
                <a:cubicBezTo>
                  <a:pt x="2012" y="14257"/>
                  <a:pt x="2031" y="14167"/>
                  <a:pt x="2006" y="14123"/>
                </a:cubicBezTo>
                <a:cubicBezTo>
                  <a:pt x="1989" y="14093"/>
                  <a:pt x="1973" y="14114"/>
                  <a:pt x="1951" y="14111"/>
                </a:cubicBezTo>
                <a:cubicBezTo>
                  <a:pt x="1944" y="14113"/>
                  <a:pt x="1940" y="14113"/>
                  <a:pt x="1948" y="14113"/>
                </a:cubicBezTo>
                <a:cubicBezTo>
                  <a:pt x="1988" y="14106"/>
                  <a:pt x="2024" y="14099"/>
                  <a:pt x="2065" y="14097"/>
                </a:cubicBezTo>
                <a:cubicBezTo>
                  <a:pt x="2170" y="14093"/>
                  <a:pt x="2232" y="14154"/>
                  <a:pt x="2257" y="14253"/>
                </a:cubicBezTo>
                <a:cubicBezTo>
                  <a:pt x="2286" y="14367"/>
                  <a:pt x="2253" y="14481"/>
                  <a:pt x="2261" y="14595"/>
                </a:cubicBezTo>
                <a:cubicBezTo>
                  <a:pt x="2263" y="14599"/>
                  <a:pt x="2265" y="14604"/>
                  <a:pt x="2267" y="14608"/>
                </a:cubicBezTo>
                <a:cubicBezTo>
                  <a:pt x="2297" y="14596"/>
                  <a:pt x="2310" y="14606"/>
                  <a:pt x="2340" y="14578"/>
                </a:cubicBezTo>
                <a:cubicBezTo>
                  <a:pt x="2392" y="14529"/>
                  <a:pt x="2424" y="14469"/>
                  <a:pt x="2451" y="14405"/>
                </a:cubicBezTo>
                <a:cubicBezTo>
                  <a:pt x="2448" y="14420"/>
                  <a:pt x="2434" y="14408"/>
                  <a:pt x="2438" y="14423"/>
                </a:cubicBezTo>
                <a:cubicBezTo>
                  <a:pt x="2450" y="14467"/>
                  <a:pt x="2506" y="14520"/>
                  <a:pt x="2552" y="14518"/>
                </a:cubicBezTo>
                <a:cubicBezTo>
                  <a:pt x="2590" y="14517"/>
                  <a:pt x="2603" y="14468"/>
                  <a:pt x="2614" y="14439"/>
                </a:cubicBezTo>
                <a:cubicBezTo>
                  <a:pt x="2649" y="14347"/>
                  <a:pt x="2658" y="14215"/>
                  <a:pt x="2635" y="14119"/>
                </a:cubicBezTo>
                <a:cubicBezTo>
                  <a:pt x="2632" y="14117"/>
                  <a:pt x="2629" y="14115"/>
                  <a:pt x="2626" y="14113"/>
                </a:cubicBezTo>
                <a:cubicBezTo>
                  <a:pt x="2624" y="14141"/>
                  <a:pt x="2620" y="14168"/>
                  <a:pt x="2619" y="14197"/>
                </a:cubicBezTo>
                <a:cubicBezTo>
                  <a:pt x="2618" y="14249"/>
                  <a:pt x="2618" y="14301"/>
                  <a:pt x="2634" y="14351"/>
                </a:cubicBezTo>
                <a:cubicBezTo>
                  <a:pt x="2647" y="14393"/>
                  <a:pt x="2672" y="14438"/>
                  <a:pt x="2717" y="14452"/>
                </a:cubicBezTo>
                <a:cubicBezTo>
                  <a:pt x="2765" y="14467"/>
                  <a:pt x="2816" y="14450"/>
                  <a:pt x="2855" y="14421"/>
                </a:cubicBezTo>
                <a:cubicBezTo>
                  <a:pt x="2942" y="14357"/>
                  <a:pt x="2947" y="14273"/>
                  <a:pt x="2997" y="14194"/>
                </a:cubicBezTo>
                <a:cubicBezTo>
                  <a:pt x="3029" y="14143"/>
                  <a:pt x="3099" y="14146"/>
                  <a:pt x="3142" y="14177"/>
                </a:cubicBezTo>
                <a:cubicBezTo>
                  <a:pt x="3206" y="14223"/>
                  <a:pt x="3193" y="14366"/>
                  <a:pt x="3162" y="14425"/>
                </a:cubicBezTo>
                <a:cubicBezTo>
                  <a:pt x="3145" y="14457"/>
                  <a:pt x="3128" y="14460"/>
                  <a:pt x="3110" y="14479"/>
                </a:cubicBezTo>
                <a:cubicBezTo>
                  <a:pt x="3091" y="14421"/>
                  <a:pt x="3086" y="14385"/>
                  <a:pt x="3103" y="14316"/>
                </a:cubicBezTo>
                <a:cubicBezTo>
                  <a:pt x="3131" y="14200"/>
                  <a:pt x="3182" y="14095"/>
                  <a:pt x="3247" y="13997"/>
                </a:cubicBezTo>
                <a:cubicBezTo>
                  <a:pt x="3296" y="13923"/>
                  <a:pt x="3349" y="13865"/>
                  <a:pt x="3416" y="13807"/>
                </a:cubicBezTo>
              </a:path>
              <a:path w="2708" h="1444">
                <a:moveTo>
                  <a:pt x="3824" y="13783"/>
                </a:moveTo>
                <a:cubicBezTo>
                  <a:pt x="3869" y="13781"/>
                  <a:pt x="3860" y="13765"/>
                  <a:pt x="3893" y="13742"/>
                </a:cubicBezTo>
                <a:cubicBezTo>
                  <a:pt x="3920" y="13730"/>
                  <a:pt x="3928" y="13726"/>
                  <a:pt x="3947" y="13721"/>
                </a:cubicBezTo>
              </a:path>
              <a:path w="2708" h="1444">
                <a:moveTo>
                  <a:pt x="3944" y="14023"/>
                </a:moveTo>
                <a:cubicBezTo>
                  <a:pt x="3936" y="14041"/>
                  <a:pt x="3928" y="14058"/>
                  <a:pt x="3920" y="14076"/>
                </a:cubicBezTo>
                <a:cubicBezTo>
                  <a:pt x="3968" y="14039"/>
                  <a:pt x="4006" y="13999"/>
                  <a:pt x="4045" y="13953"/>
                </a:cubicBezTo>
                <a:cubicBezTo>
                  <a:pt x="4058" y="13936"/>
                  <a:pt x="4072" y="13919"/>
                  <a:pt x="4085" y="139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Ink 10"/>
          <p:cNvSpPr/>
          <p:nvPr/>
        </p:nvSpPr>
        <p:spPr>
          <a:xfrm>
            <a:off x="1846440" y="4532400"/>
            <a:ext cx="1046160" cy="542880"/>
          </a:xfrm>
          <a:custGeom>
            <a:avLst/>
            <a:gdLst/>
            <a:ahLst/>
            <a:rect l="l" t="t" r="r" b="b"/>
            <a:pathLst>
              <a:path w="2907" h="1507">
                <a:moveTo>
                  <a:pt x="5128" y="12640"/>
                </a:moveTo>
                <a:cubicBezTo>
                  <a:pt x="5149" y="12599"/>
                  <a:pt x="5143" y="12611"/>
                  <a:pt x="5162" y="12590"/>
                </a:cubicBezTo>
                <a:cubicBezTo>
                  <a:pt x="5194" y="12664"/>
                  <a:pt x="5215" y="12739"/>
                  <a:pt x="5232" y="12819"/>
                </a:cubicBezTo>
                <a:cubicBezTo>
                  <a:pt x="5258" y="12944"/>
                  <a:pt x="5281" y="13070"/>
                  <a:pt x="5298" y="13196"/>
                </a:cubicBezTo>
                <a:cubicBezTo>
                  <a:pt x="5311" y="13291"/>
                  <a:pt x="5318" y="13395"/>
                  <a:pt x="5355" y="13485"/>
                </a:cubicBezTo>
                <a:cubicBezTo>
                  <a:pt x="5376" y="13536"/>
                  <a:pt x="5415" y="13559"/>
                  <a:pt x="5461" y="13521"/>
                </a:cubicBezTo>
                <a:cubicBezTo>
                  <a:pt x="5518" y="13475"/>
                  <a:pt x="5557" y="13374"/>
                  <a:pt x="5586" y="13310"/>
                </a:cubicBezTo>
                <a:cubicBezTo>
                  <a:pt x="5606" y="13265"/>
                  <a:pt x="5623" y="13219"/>
                  <a:pt x="5645" y="13175"/>
                </a:cubicBezTo>
                <a:cubicBezTo>
                  <a:pt x="5656" y="13230"/>
                  <a:pt x="5650" y="13346"/>
                  <a:pt x="5718" y="13364"/>
                </a:cubicBezTo>
                <a:cubicBezTo>
                  <a:pt x="5776" y="13380"/>
                  <a:pt x="5840" y="13337"/>
                  <a:pt x="5877" y="13297"/>
                </a:cubicBezTo>
                <a:cubicBezTo>
                  <a:pt x="5992" y="13175"/>
                  <a:pt x="6043" y="12951"/>
                  <a:pt x="5978" y="12794"/>
                </a:cubicBezTo>
                <a:cubicBezTo>
                  <a:pt x="5957" y="12743"/>
                  <a:pt x="5907" y="12691"/>
                  <a:pt x="5854" y="12735"/>
                </a:cubicBezTo>
                <a:cubicBezTo>
                  <a:pt x="5807" y="12774"/>
                  <a:pt x="5811" y="12824"/>
                  <a:pt x="5816" y="12878"/>
                </a:cubicBezTo>
              </a:path>
              <a:path w="2907" h="1507">
                <a:moveTo>
                  <a:pt x="6386" y="13080"/>
                </a:moveTo>
                <a:cubicBezTo>
                  <a:pt x="6379" y="13050"/>
                  <a:pt x="6377" y="13034"/>
                  <a:pt x="6362" y="13010"/>
                </a:cubicBezTo>
                <a:cubicBezTo>
                  <a:pt x="6334" y="13044"/>
                  <a:pt x="6321" y="13064"/>
                  <a:pt x="6309" y="13115"/>
                </a:cubicBezTo>
                <a:cubicBezTo>
                  <a:pt x="6291" y="13189"/>
                  <a:pt x="6283" y="13263"/>
                  <a:pt x="6282" y="13339"/>
                </a:cubicBezTo>
                <a:cubicBezTo>
                  <a:pt x="6281" y="13387"/>
                  <a:pt x="6280" y="13460"/>
                  <a:pt x="6338" y="13477"/>
                </a:cubicBezTo>
                <a:cubicBezTo>
                  <a:pt x="6399" y="13495"/>
                  <a:pt x="6453" y="13427"/>
                  <a:pt x="6483" y="13387"/>
                </a:cubicBezTo>
                <a:cubicBezTo>
                  <a:pt x="6569" y="13273"/>
                  <a:pt x="6605" y="13136"/>
                  <a:pt x="6623" y="12998"/>
                </a:cubicBezTo>
                <a:cubicBezTo>
                  <a:pt x="6604" y="12966"/>
                  <a:pt x="6608" y="12986"/>
                  <a:pt x="6619" y="13011"/>
                </a:cubicBezTo>
                <a:cubicBezTo>
                  <a:pt x="6642" y="13063"/>
                  <a:pt x="6696" y="13080"/>
                  <a:pt x="6736" y="13118"/>
                </a:cubicBezTo>
                <a:cubicBezTo>
                  <a:pt x="6777" y="13157"/>
                  <a:pt x="6791" y="13207"/>
                  <a:pt x="6786" y="13263"/>
                </a:cubicBezTo>
                <a:cubicBezTo>
                  <a:pt x="6782" y="13310"/>
                  <a:pt x="6760" y="13343"/>
                  <a:pt x="6734" y="13378"/>
                </a:cubicBezTo>
                <a:cubicBezTo>
                  <a:pt x="6723" y="13336"/>
                  <a:pt x="6724" y="13318"/>
                  <a:pt x="6741" y="13266"/>
                </a:cubicBezTo>
                <a:cubicBezTo>
                  <a:pt x="6766" y="13189"/>
                  <a:pt x="6796" y="13114"/>
                  <a:pt x="6834" y="13042"/>
                </a:cubicBezTo>
                <a:cubicBezTo>
                  <a:pt x="6861" y="12989"/>
                  <a:pt x="6892" y="12932"/>
                  <a:pt x="6937" y="12893"/>
                </a:cubicBezTo>
                <a:cubicBezTo>
                  <a:pt x="6961" y="12872"/>
                  <a:pt x="6988" y="12867"/>
                  <a:pt x="7007" y="12839"/>
                </a:cubicBezTo>
                <a:cubicBezTo>
                  <a:pt x="7022" y="12817"/>
                  <a:pt x="7031" y="12792"/>
                  <a:pt x="7040" y="12768"/>
                </a:cubicBezTo>
                <a:cubicBezTo>
                  <a:pt x="7041" y="12763"/>
                  <a:pt x="7043" y="12759"/>
                  <a:pt x="7044" y="12754"/>
                </a:cubicBezTo>
                <a:cubicBezTo>
                  <a:pt x="7054" y="12789"/>
                  <a:pt x="7062" y="12836"/>
                  <a:pt x="7068" y="12877"/>
                </a:cubicBezTo>
                <a:cubicBezTo>
                  <a:pt x="7089" y="13013"/>
                  <a:pt x="7108" y="13150"/>
                  <a:pt x="7118" y="13287"/>
                </a:cubicBezTo>
                <a:cubicBezTo>
                  <a:pt x="7118" y="13291"/>
                  <a:pt x="7119" y="13387"/>
                  <a:pt x="7127" y="13386"/>
                </a:cubicBezTo>
                <a:cubicBezTo>
                  <a:pt x="7144" y="13378"/>
                  <a:pt x="7150" y="13373"/>
                  <a:pt x="7154" y="13357"/>
                </a:cubicBezTo>
              </a:path>
              <a:path w="2907" h="1507">
                <a:moveTo>
                  <a:pt x="7377" y="12826"/>
                </a:moveTo>
                <a:cubicBezTo>
                  <a:pt x="7407" y="12820"/>
                  <a:pt x="7384" y="12864"/>
                  <a:pt x="7376" y="12891"/>
                </a:cubicBezTo>
                <a:cubicBezTo>
                  <a:pt x="7357" y="12954"/>
                  <a:pt x="7327" y="13015"/>
                  <a:pt x="7311" y="13079"/>
                </a:cubicBezTo>
                <a:cubicBezTo>
                  <a:pt x="7299" y="13127"/>
                  <a:pt x="7279" y="13200"/>
                  <a:pt x="7304" y="13248"/>
                </a:cubicBezTo>
                <a:cubicBezTo>
                  <a:pt x="7333" y="13303"/>
                  <a:pt x="7402" y="13309"/>
                  <a:pt x="7456" y="13314"/>
                </a:cubicBezTo>
                <a:cubicBezTo>
                  <a:pt x="7518" y="13319"/>
                  <a:pt x="7580" y="13316"/>
                  <a:pt x="7642" y="13314"/>
                </a:cubicBezTo>
              </a:path>
              <a:path w="2907" h="1507">
                <a:moveTo>
                  <a:pt x="5164" y="14096"/>
                </a:moveTo>
                <a:cubicBezTo>
                  <a:pt x="5181" y="14071"/>
                  <a:pt x="5159" y="14046"/>
                  <a:pt x="5198" y="14036"/>
                </a:cubicBezTo>
                <a:cubicBezTo>
                  <a:pt x="5255" y="14021"/>
                  <a:pt x="5335" y="14036"/>
                  <a:pt x="5392" y="14036"/>
                </a:cubicBezTo>
                <a:cubicBezTo>
                  <a:pt x="5559" y="14037"/>
                  <a:pt x="5725" y="14034"/>
                  <a:pt x="5892" y="14026"/>
                </a:cubicBezTo>
                <a:cubicBezTo>
                  <a:pt x="6485" y="13999"/>
                  <a:pt x="7077" y="13989"/>
                  <a:pt x="7671" y="13977"/>
                </a:cubicBezTo>
                <a:cubicBezTo>
                  <a:pt x="7683" y="13977"/>
                  <a:pt x="8040" y="13964"/>
                  <a:pt x="8034" y="13943"/>
                </a:cubicBezTo>
                <a:cubicBezTo>
                  <a:pt x="8023" y="13908"/>
                  <a:pt x="8022" y="13926"/>
                  <a:pt x="7984" y="13916"/>
                </a:cubicBezTo>
                <a:cubicBezTo>
                  <a:pt x="7974" y="13916"/>
                  <a:pt x="7964" y="13916"/>
                  <a:pt x="7954" y="139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Ink 11"/>
          <p:cNvSpPr/>
          <p:nvPr/>
        </p:nvSpPr>
        <p:spPr>
          <a:xfrm>
            <a:off x="2176560" y="5165640"/>
            <a:ext cx="747720" cy="376200"/>
          </a:xfrm>
          <a:custGeom>
            <a:avLst/>
            <a:gdLst/>
            <a:ahLst/>
            <a:rect l="l" t="t" r="r" b="b"/>
            <a:pathLst>
              <a:path w="2077" h="1043">
                <a:moveTo>
                  <a:pt x="6210" y="14498"/>
                </a:moveTo>
                <a:cubicBezTo>
                  <a:pt x="6217" y="14448"/>
                  <a:pt x="6226" y="14400"/>
                  <a:pt x="6231" y="14351"/>
                </a:cubicBezTo>
                <a:cubicBezTo>
                  <a:pt x="6230" y="14412"/>
                  <a:pt x="6227" y="14473"/>
                  <a:pt x="6226" y="14534"/>
                </a:cubicBezTo>
                <a:cubicBezTo>
                  <a:pt x="6223" y="14666"/>
                  <a:pt x="6217" y="14797"/>
                  <a:pt x="6215" y="14929"/>
                </a:cubicBezTo>
                <a:cubicBezTo>
                  <a:pt x="6213" y="15045"/>
                  <a:pt x="6207" y="15166"/>
                  <a:pt x="6221" y="15282"/>
                </a:cubicBezTo>
                <a:cubicBezTo>
                  <a:pt x="6226" y="15326"/>
                  <a:pt x="6235" y="15405"/>
                  <a:pt x="6298" y="15393"/>
                </a:cubicBezTo>
                <a:cubicBezTo>
                  <a:pt x="6377" y="15379"/>
                  <a:pt x="6418" y="15282"/>
                  <a:pt x="6447" y="15220"/>
                </a:cubicBezTo>
                <a:cubicBezTo>
                  <a:pt x="6482" y="15139"/>
                  <a:pt x="6494" y="15111"/>
                  <a:pt x="6507" y="15053"/>
                </a:cubicBezTo>
              </a:path>
              <a:path w="2077" h="1043">
                <a:moveTo>
                  <a:pt x="6091" y="14941"/>
                </a:moveTo>
                <a:cubicBezTo>
                  <a:pt x="6076" y="14949"/>
                  <a:pt x="6062" y="14957"/>
                  <a:pt x="6047" y="14965"/>
                </a:cubicBezTo>
                <a:cubicBezTo>
                  <a:pt x="6102" y="14919"/>
                  <a:pt x="6170" y="14879"/>
                  <a:pt x="6234" y="14845"/>
                </a:cubicBezTo>
                <a:cubicBezTo>
                  <a:pt x="6333" y="14793"/>
                  <a:pt x="6435" y="14735"/>
                  <a:pt x="6543" y="14702"/>
                </a:cubicBezTo>
                <a:cubicBezTo>
                  <a:pt x="6583" y="14690"/>
                  <a:pt x="6677" y="14656"/>
                  <a:pt x="6722" y="14674"/>
                </a:cubicBezTo>
                <a:cubicBezTo>
                  <a:pt x="6757" y="14688"/>
                  <a:pt x="6764" y="14710"/>
                  <a:pt x="6770" y="14746"/>
                </a:cubicBezTo>
                <a:cubicBezTo>
                  <a:pt x="6781" y="14816"/>
                  <a:pt x="6782" y="14890"/>
                  <a:pt x="6784" y="14961"/>
                </a:cubicBezTo>
                <a:cubicBezTo>
                  <a:pt x="6786" y="15051"/>
                  <a:pt x="6784" y="15140"/>
                  <a:pt x="6794" y="15229"/>
                </a:cubicBezTo>
                <a:cubicBezTo>
                  <a:pt x="6800" y="15278"/>
                  <a:pt x="6810" y="15280"/>
                  <a:pt x="6828" y="15311"/>
                </a:cubicBezTo>
                <a:cubicBezTo>
                  <a:pt x="6871" y="15287"/>
                  <a:pt x="6876" y="15262"/>
                  <a:pt x="6901" y="15212"/>
                </a:cubicBezTo>
              </a:path>
              <a:path w="2077" h="1043">
                <a:moveTo>
                  <a:pt x="6912" y="14438"/>
                </a:moveTo>
                <a:cubicBezTo>
                  <a:pt x="6893" y="14403"/>
                  <a:pt x="6884" y="14373"/>
                  <a:pt x="6855" y="14351"/>
                </a:cubicBezTo>
                <a:cubicBezTo>
                  <a:pt x="6879" y="14351"/>
                  <a:pt x="6904" y="14353"/>
                  <a:pt x="6927" y="14356"/>
                </a:cubicBezTo>
                <a:cubicBezTo>
                  <a:pt x="6937" y="14358"/>
                  <a:pt x="6946" y="14360"/>
                  <a:pt x="6956" y="14362"/>
                </a:cubicBezTo>
              </a:path>
              <a:path w="2077" h="1043">
                <a:moveTo>
                  <a:pt x="7038" y="15138"/>
                </a:moveTo>
                <a:cubicBezTo>
                  <a:pt x="7045" y="15096"/>
                  <a:pt x="7052" y="15056"/>
                  <a:pt x="7070" y="15014"/>
                </a:cubicBezTo>
                <a:cubicBezTo>
                  <a:pt x="7093" y="14960"/>
                  <a:pt x="7122" y="14900"/>
                  <a:pt x="7164" y="14858"/>
                </a:cubicBezTo>
                <a:cubicBezTo>
                  <a:pt x="7192" y="14830"/>
                  <a:pt x="7227" y="14818"/>
                  <a:pt x="7260" y="14842"/>
                </a:cubicBezTo>
                <a:cubicBezTo>
                  <a:pt x="7309" y="14877"/>
                  <a:pt x="7309" y="14985"/>
                  <a:pt x="7305" y="15038"/>
                </a:cubicBezTo>
                <a:cubicBezTo>
                  <a:pt x="7304" y="15042"/>
                  <a:pt x="7302" y="15045"/>
                  <a:pt x="7301" y="15049"/>
                </a:cubicBezTo>
                <a:cubicBezTo>
                  <a:pt x="7298" y="15011"/>
                  <a:pt x="7299" y="14983"/>
                  <a:pt x="7315" y="14944"/>
                </a:cubicBezTo>
                <a:cubicBezTo>
                  <a:pt x="7331" y="14905"/>
                  <a:pt x="7376" y="14794"/>
                  <a:pt x="7434" y="14801"/>
                </a:cubicBezTo>
                <a:cubicBezTo>
                  <a:pt x="7477" y="14806"/>
                  <a:pt x="7487" y="14833"/>
                  <a:pt x="7497" y="14874"/>
                </a:cubicBezTo>
                <a:cubicBezTo>
                  <a:pt x="7505" y="14907"/>
                  <a:pt x="7504" y="14941"/>
                  <a:pt x="7505" y="14974"/>
                </a:cubicBezTo>
                <a:cubicBezTo>
                  <a:pt x="7535" y="14951"/>
                  <a:pt x="7559" y="14922"/>
                  <a:pt x="7589" y="14886"/>
                </a:cubicBezTo>
                <a:cubicBezTo>
                  <a:pt x="7628" y="14839"/>
                  <a:pt x="7667" y="14790"/>
                  <a:pt x="7711" y="14748"/>
                </a:cubicBezTo>
                <a:cubicBezTo>
                  <a:pt x="7730" y="14730"/>
                  <a:pt x="7746" y="14712"/>
                  <a:pt x="7762" y="14731"/>
                </a:cubicBezTo>
                <a:cubicBezTo>
                  <a:pt x="7771" y="14742"/>
                  <a:pt x="7755" y="14775"/>
                  <a:pt x="7752" y="14786"/>
                </a:cubicBezTo>
                <a:cubicBezTo>
                  <a:pt x="7747" y="14757"/>
                  <a:pt x="7744" y="14734"/>
                  <a:pt x="7745" y="14703"/>
                </a:cubicBezTo>
                <a:cubicBezTo>
                  <a:pt x="7745" y="14686"/>
                  <a:pt x="7746" y="14695"/>
                  <a:pt x="7747" y="14678"/>
                </a:cubicBezTo>
                <a:cubicBezTo>
                  <a:pt x="7735" y="14752"/>
                  <a:pt x="7718" y="14846"/>
                  <a:pt x="7740" y="14919"/>
                </a:cubicBezTo>
                <a:cubicBezTo>
                  <a:pt x="7758" y="14980"/>
                  <a:pt x="7813" y="15010"/>
                  <a:pt x="7873" y="15019"/>
                </a:cubicBezTo>
                <a:cubicBezTo>
                  <a:pt x="7958" y="15031"/>
                  <a:pt x="8043" y="15003"/>
                  <a:pt x="8123" y="149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Ink 12"/>
          <p:cNvSpPr/>
          <p:nvPr/>
        </p:nvSpPr>
        <p:spPr>
          <a:xfrm>
            <a:off x="1514520" y="5911920"/>
            <a:ext cx="203040" cy="139680"/>
          </a:xfrm>
          <a:custGeom>
            <a:avLst/>
            <a:gdLst/>
            <a:ahLst/>
            <a:rect l="l" t="t" r="r" b="b"/>
            <a:pathLst>
              <a:path w="562" h="387">
                <a:moveTo>
                  <a:pt x="4208" y="16529"/>
                </a:moveTo>
                <a:cubicBezTo>
                  <a:pt x="4217" y="16550"/>
                  <a:pt x="4229" y="16543"/>
                  <a:pt x="4250" y="16536"/>
                </a:cubicBezTo>
                <a:cubicBezTo>
                  <a:pt x="4296" y="16520"/>
                  <a:pt x="4340" y="16501"/>
                  <a:pt x="4386" y="16485"/>
                </a:cubicBezTo>
                <a:cubicBezTo>
                  <a:pt x="4448" y="16464"/>
                  <a:pt x="4514" y="16438"/>
                  <a:pt x="4577" y="16425"/>
                </a:cubicBezTo>
                <a:cubicBezTo>
                  <a:pt x="4590" y="16424"/>
                  <a:pt x="4604" y="16423"/>
                  <a:pt x="4617" y="16422"/>
                </a:cubicBezTo>
              </a:path>
              <a:path w="562" h="387">
                <a:moveTo>
                  <a:pt x="4387" y="16702"/>
                </a:moveTo>
                <a:cubicBezTo>
                  <a:pt x="4348" y="16743"/>
                  <a:pt x="4312" y="16773"/>
                  <a:pt x="4306" y="16808"/>
                </a:cubicBezTo>
                <a:cubicBezTo>
                  <a:pt x="4382" y="16801"/>
                  <a:pt x="4452" y="16774"/>
                  <a:pt x="4527" y="16758"/>
                </a:cubicBezTo>
                <a:cubicBezTo>
                  <a:pt x="4607" y="16741"/>
                  <a:pt x="4688" y="16727"/>
                  <a:pt x="4769" y="167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Ink 13"/>
          <p:cNvSpPr/>
          <p:nvPr/>
        </p:nvSpPr>
        <p:spPr>
          <a:xfrm>
            <a:off x="2168640" y="5308560"/>
            <a:ext cx="2227320" cy="849240"/>
          </a:xfrm>
          <a:custGeom>
            <a:avLst/>
            <a:gdLst/>
            <a:ahLst/>
            <a:rect l="l" t="t" r="r" b="b"/>
            <a:pathLst>
              <a:path w="6187" h="2362">
                <a:moveTo>
                  <a:pt x="6025" y="16042"/>
                </a:moveTo>
                <a:cubicBezTo>
                  <a:pt x="6051" y="16034"/>
                  <a:pt x="6044" y="16011"/>
                  <a:pt x="6068" y="16059"/>
                </a:cubicBezTo>
                <a:cubicBezTo>
                  <a:pt x="6107" y="16137"/>
                  <a:pt x="6115" y="16237"/>
                  <a:pt x="6131" y="16321"/>
                </a:cubicBezTo>
                <a:cubicBezTo>
                  <a:pt x="6148" y="16408"/>
                  <a:pt x="6157" y="16498"/>
                  <a:pt x="6176" y="16585"/>
                </a:cubicBezTo>
                <a:cubicBezTo>
                  <a:pt x="6186" y="16629"/>
                  <a:pt x="6193" y="16677"/>
                  <a:pt x="6240" y="16684"/>
                </a:cubicBezTo>
                <a:cubicBezTo>
                  <a:pt x="6286" y="16691"/>
                  <a:pt x="6329" y="16564"/>
                  <a:pt x="6341" y="16537"/>
                </a:cubicBezTo>
                <a:cubicBezTo>
                  <a:pt x="6379" y="16449"/>
                  <a:pt x="6403" y="16359"/>
                  <a:pt x="6424" y="16266"/>
                </a:cubicBezTo>
                <a:cubicBezTo>
                  <a:pt x="6424" y="16335"/>
                  <a:pt x="6408" y="16476"/>
                  <a:pt x="6495" y="16505"/>
                </a:cubicBezTo>
                <a:cubicBezTo>
                  <a:pt x="6550" y="16523"/>
                  <a:pt x="6611" y="16484"/>
                  <a:pt x="6647" y="16447"/>
                </a:cubicBezTo>
                <a:cubicBezTo>
                  <a:pt x="6701" y="16392"/>
                  <a:pt x="6739" y="16316"/>
                  <a:pt x="6754" y="16241"/>
                </a:cubicBezTo>
                <a:cubicBezTo>
                  <a:pt x="6763" y="16196"/>
                  <a:pt x="6771" y="16127"/>
                  <a:pt x="6734" y="16091"/>
                </a:cubicBezTo>
                <a:cubicBezTo>
                  <a:pt x="6702" y="16060"/>
                  <a:pt x="6649" y="16085"/>
                  <a:pt x="6623" y="16108"/>
                </a:cubicBezTo>
                <a:cubicBezTo>
                  <a:pt x="6610" y="16121"/>
                  <a:pt x="6606" y="16124"/>
                  <a:pt x="6600" y="16134"/>
                </a:cubicBezTo>
              </a:path>
              <a:path w="6187" h="2362">
                <a:moveTo>
                  <a:pt x="7056" y="16058"/>
                </a:moveTo>
                <a:cubicBezTo>
                  <a:pt x="7065" y="16039"/>
                  <a:pt x="7070" y="16036"/>
                  <a:pt x="7077" y="16016"/>
                </a:cubicBezTo>
                <a:cubicBezTo>
                  <a:pt x="7072" y="16048"/>
                  <a:pt x="7067" y="16081"/>
                  <a:pt x="7060" y="16113"/>
                </a:cubicBezTo>
                <a:cubicBezTo>
                  <a:pt x="7047" y="16174"/>
                  <a:pt x="7039" y="16234"/>
                  <a:pt x="7036" y="16296"/>
                </a:cubicBezTo>
                <a:cubicBezTo>
                  <a:pt x="7034" y="16338"/>
                  <a:pt x="7030" y="16394"/>
                  <a:pt x="7081" y="16408"/>
                </a:cubicBezTo>
                <a:cubicBezTo>
                  <a:pt x="7133" y="16422"/>
                  <a:pt x="7191" y="16370"/>
                  <a:pt x="7221" y="16335"/>
                </a:cubicBezTo>
                <a:cubicBezTo>
                  <a:pt x="7272" y="16275"/>
                  <a:pt x="7303" y="16198"/>
                  <a:pt x="7312" y="16120"/>
                </a:cubicBezTo>
                <a:cubicBezTo>
                  <a:pt x="7318" y="16062"/>
                  <a:pt x="7314" y="16005"/>
                  <a:pt x="7276" y="15959"/>
                </a:cubicBezTo>
                <a:cubicBezTo>
                  <a:pt x="7255" y="15933"/>
                  <a:pt x="7231" y="15930"/>
                  <a:pt x="7200" y="15930"/>
                </a:cubicBezTo>
                <a:cubicBezTo>
                  <a:pt x="7197" y="15931"/>
                  <a:pt x="7195" y="15932"/>
                  <a:pt x="7192" y="15933"/>
                </a:cubicBezTo>
                <a:cubicBezTo>
                  <a:pt x="7209" y="15945"/>
                  <a:pt x="7217" y="15951"/>
                  <a:pt x="7251" y="15957"/>
                </a:cubicBezTo>
                <a:cubicBezTo>
                  <a:pt x="7305" y="15966"/>
                  <a:pt x="7359" y="15981"/>
                  <a:pt x="7407" y="16009"/>
                </a:cubicBezTo>
                <a:cubicBezTo>
                  <a:pt x="7502" y="16065"/>
                  <a:pt x="7576" y="16167"/>
                  <a:pt x="7594" y="16276"/>
                </a:cubicBezTo>
                <a:cubicBezTo>
                  <a:pt x="7602" y="16322"/>
                  <a:pt x="7591" y="16314"/>
                  <a:pt x="7576" y="16336"/>
                </a:cubicBezTo>
                <a:cubicBezTo>
                  <a:pt x="7558" y="16288"/>
                  <a:pt x="7552" y="16258"/>
                  <a:pt x="7554" y="16202"/>
                </a:cubicBezTo>
                <a:cubicBezTo>
                  <a:pt x="7558" y="16107"/>
                  <a:pt x="7592" y="16018"/>
                  <a:pt x="7631" y="15932"/>
                </a:cubicBezTo>
                <a:cubicBezTo>
                  <a:pt x="7659" y="15871"/>
                  <a:pt x="7691" y="15809"/>
                  <a:pt x="7736" y="15759"/>
                </a:cubicBezTo>
                <a:cubicBezTo>
                  <a:pt x="7741" y="15754"/>
                  <a:pt x="7745" y="15750"/>
                  <a:pt x="7750" y="15745"/>
                </a:cubicBezTo>
                <a:cubicBezTo>
                  <a:pt x="7754" y="15751"/>
                  <a:pt x="7765" y="15777"/>
                  <a:pt x="7772" y="15787"/>
                </a:cubicBezTo>
                <a:cubicBezTo>
                  <a:pt x="7786" y="15805"/>
                  <a:pt x="7801" y="15800"/>
                  <a:pt x="7817" y="15812"/>
                </a:cubicBezTo>
                <a:cubicBezTo>
                  <a:pt x="7839" y="15828"/>
                  <a:pt x="7840" y="15846"/>
                  <a:pt x="7846" y="15876"/>
                </a:cubicBezTo>
                <a:cubicBezTo>
                  <a:pt x="7859" y="15936"/>
                  <a:pt x="7868" y="15999"/>
                  <a:pt x="7874" y="16060"/>
                </a:cubicBezTo>
                <a:cubicBezTo>
                  <a:pt x="7881" y="16131"/>
                  <a:pt x="7886" y="16202"/>
                  <a:pt x="7888" y="16273"/>
                </a:cubicBezTo>
                <a:cubicBezTo>
                  <a:pt x="7889" y="16302"/>
                  <a:pt x="7889" y="16330"/>
                  <a:pt x="7890" y="16359"/>
                </a:cubicBezTo>
                <a:cubicBezTo>
                  <a:pt x="7905" y="16320"/>
                  <a:pt x="7918" y="16270"/>
                  <a:pt x="7928" y="16223"/>
                </a:cubicBezTo>
              </a:path>
              <a:path w="6187" h="2362">
                <a:moveTo>
                  <a:pt x="8097" y="15741"/>
                </a:moveTo>
                <a:cubicBezTo>
                  <a:pt x="8104" y="15733"/>
                  <a:pt x="8110" y="15724"/>
                  <a:pt x="8117" y="15716"/>
                </a:cubicBezTo>
                <a:cubicBezTo>
                  <a:pt x="8116" y="15767"/>
                  <a:pt x="8101" y="15806"/>
                  <a:pt x="8089" y="15855"/>
                </a:cubicBezTo>
                <a:cubicBezTo>
                  <a:pt x="8070" y="15932"/>
                  <a:pt x="8044" y="16011"/>
                  <a:pt x="8037" y="16090"/>
                </a:cubicBezTo>
                <a:cubicBezTo>
                  <a:pt x="8033" y="16137"/>
                  <a:pt x="8027" y="16204"/>
                  <a:pt x="8077" y="16230"/>
                </a:cubicBezTo>
                <a:cubicBezTo>
                  <a:pt x="8132" y="16258"/>
                  <a:pt x="8204" y="16213"/>
                  <a:pt x="8245" y="16182"/>
                </a:cubicBezTo>
                <a:cubicBezTo>
                  <a:pt x="8263" y="16167"/>
                  <a:pt x="8280" y="16151"/>
                  <a:pt x="8298" y="16136"/>
                </a:cubicBezTo>
              </a:path>
              <a:path w="6187" h="2362">
                <a:moveTo>
                  <a:pt x="8528" y="15634"/>
                </a:moveTo>
                <a:cubicBezTo>
                  <a:pt x="8539" y="15565"/>
                  <a:pt x="8544" y="15557"/>
                  <a:pt x="8543" y="15518"/>
                </a:cubicBezTo>
                <a:cubicBezTo>
                  <a:pt x="8524" y="15584"/>
                  <a:pt x="8509" y="15652"/>
                  <a:pt x="8493" y="15721"/>
                </a:cubicBezTo>
                <a:cubicBezTo>
                  <a:pt x="8462" y="15858"/>
                  <a:pt x="8430" y="15996"/>
                  <a:pt x="8395" y="16132"/>
                </a:cubicBezTo>
                <a:cubicBezTo>
                  <a:pt x="8336" y="16361"/>
                  <a:pt x="8258" y="16584"/>
                  <a:pt x="8188" y="16810"/>
                </a:cubicBezTo>
                <a:cubicBezTo>
                  <a:pt x="8160" y="16899"/>
                  <a:pt x="8123" y="16991"/>
                  <a:pt x="8115" y="17085"/>
                </a:cubicBezTo>
                <a:cubicBezTo>
                  <a:pt x="8111" y="17104"/>
                  <a:pt x="8110" y="17112"/>
                  <a:pt x="8119" y="17088"/>
                </a:cubicBezTo>
              </a:path>
              <a:path w="6187" h="2362">
                <a:moveTo>
                  <a:pt x="8666" y="16186"/>
                </a:moveTo>
                <a:cubicBezTo>
                  <a:pt x="8681" y="16173"/>
                  <a:pt x="8682" y="16172"/>
                  <a:pt x="8701" y="16176"/>
                </a:cubicBezTo>
                <a:cubicBezTo>
                  <a:pt x="8776" y="16190"/>
                  <a:pt x="8821" y="16289"/>
                  <a:pt x="8835" y="16353"/>
                </a:cubicBezTo>
                <a:cubicBezTo>
                  <a:pt x="8851" y="16427"/>
                  <a:pt x="8847" y="16513"/>
                  <a:pt x="8826" y="16586"/>
                </a:cubicBezTo>
                <a:cubicBezTo>
                  <a:pt x="8813" y="16630"/>
                  <a:pt x="8788" y="16693"/>
                  <a:pt x="8743" y="16709"/>
                </a:cubicBezTo>
                <a:cubicBezTo>
                  <a:pt x="8739" y="16709"/>
                  <a:pt x="8734" y="16709"/>
                  <a:pt x="8730" y="16709"/>
                </a:cubicBezTo>
                <a:cubicBezTo>
                  <a:pt x="8713" y="16642"/>
                  <a:pt x="8732" y="16590"/>
                  <a:pt x="8758" y="16525"/>
                </a:cubicBezTo>
                <a:cubicBezTo>
                  <a:pt x="8807" y="16403"/>
                  <a:pt x="8877" y="16287"/>
                  <a:pt x="8955" y="16182"/>
                </a:cubicBezTo>
                <a:cubicBezTo>
                  <a:pt x="8978" y="16151"/>
                  <a:pt x="9003" y="16128"/>
                  <a:pt x="9030" y="16101"/>
                </a:cubicBezTo>
                <a:cubicBezTo>
                  <a:pt x="9022" y="16121"/>
                  <a:pt x="9013" y="16144"/>
                  <a:pt x="9004" y="16165"/>
                </a:cubicBezTo>
                <a:cubicBezTo>
                  <a:pt x="8985" y="16210"/>
                  <a:pt x="8960" y="16289"/>
                  <a:pt x="8987" y="16336"/>
                </a:cubicBezTo>
                <a:cubicBezTo>
                  <a:pt x="9006" y="16369"/>
                  <a:pt x="9052" y="16380"/>
                  <a:pt x="9087" y="16373"/>
                </a:cubicBezTo>
                <a:cubicBezTo>
                  <a:pt x="9139" y="16362"/>
                  <a:pt x="9179" y="16316"/>
                  <a:pt x="9209" y="16276"/>
                </a:cubicBezTo>
                <a:cubicBezTo>
                  <a:pt x="9232" y="16245"/>
                  <a:pt x="9248" y="16212"/>
                  <a:pt x="9264" y="16177"/>
                </a:cubicBezTo>
                <a:cubicBezTo>
                  <a:pt x="9256" y="16219"/>
                  <a:pt x="9250" y="16259"/>
                  <a:pt x="9250" y="16302"/>
                </a:cubicBezTo>
                <a:cubicBezTo>
                  <a:pt x="9249" y="16359"/>
                  <a:pt x="9261" y="16411"/>
                  <a:pt x="9303" y="16450"/>
                </a:cubicBezTo>
                <a:cubicBezTo>
                  <a:pt x="9307" y="16452"/>
                  <a:pt x="9310" y="16453"/>
                  <a:pt x="9314" y="16455"/>
                </a:cubicBezTo>
                <a:cubicBezTo>
                  <a:pt x="9329" y="16440"/>
                  <a:pt x="9343" y="16437"/>
                  <a:pt x="9354" y="16409"/>
                </a:cubicBezTo>
                <a:cubicBezTo>
                  <a:pt x="9372" y="16361"/>
                  <a:pt x="9382" y="16305"/>
                  <a:pt x="9391" y="16254"/>
                </a:cubicBezTo>
                <a:cubicBezTo>
                  <a:pt x="9403" y="16188"/>
                  <a:pt x="9412" y="16122"/>
                  <a:pt x="9424" y="16056"/>
                </a:cubicBezTo>
                <a:cubicBezTo>
                  <a:pt x="9426" y="16046"/>
                  <a:pt x="9430" y="15991"/>
                  <a:pt x="9442" y="15986"/>
                </a:cubicBezTo>
                <a:cubicBezTo>
                  <a:pt x="9455" y="15987"/>
                  <a:pt x="9460" y="15989"/>
                  <a:pt x="9467" y="15996"/>
                </a:cubicBezTo>
              </a:path>
              <a:path w="6187" h="2362">
                <a:moveTo>
                  <a:pt x="9730" y="15470"/>
                </a:moveTo>
                <a:cubicBezTo>
                  <a:pt x="9760" y="15505"/>
                  <a:pt x="9786" y="15542"/>
                  <a:pt x="9813" y="15579"/>
                </a:cubicBezTo>
                <a:cubicBezTo>
                  <a:pt x="9858" y="15641"/>
                  <a:pt x="9894" y="15708"/>
                  <a:pt x="9941" y="15769"/>
                </a:cubicBezTo>
                <a:cubicBezTo>
                  <a:pt x="9980" y="15821"/>
                  <a:pt x="10024" y="15870"/>
                  <a:pt x="10081" y="15902"/>
                </a:cubicBezTo>
                <a:cubicBezTo>
                  <a:pt x="10134" y="15933"/>
                  <a:pt x="10156" y="15902"/>
                  <a:pt x="10187" y="15862"/>
                </a:cubicBezTo>
              </a:path>
              <a:path w="6187" h="2362">
                <a:moveTo>
                  <a:pt x="10234" y="15462"/>
                </a:moveTo>
                <a:cubicBezTo>
                  <a:pt x="10163" y="15435"/>
                  <a:pt x="10166" y="15465"/>
                  <a:pt x="10124" y="15525"/>
                </a:cubicBezTo>
                <a:cubicBezTo>
                  <a:pt x="10068" y="15605"/>
                  <a:pt x="10016" y="15687"/>
                  <a:pt x="9969" y="15773"/>
                </a:cubicBezTo>
                <a:cubicBezTo>
                  <a:pt x="9927" y="15850"/>
                  <a:pt x="9893" y="15941"/>
                  <a:pt x="9837" y="16010"/>
                </a:cubicBezTo>
                <a:cubicBezTo>
                  <a:pt x="9828" y="16018"/>
                  <a:pt x="9818" y="16027"/>
                  <a:pt x="9809" y="16035"/>
                </a:cubicBezTo>
              </a:path>
              <a:path w="6187" h="2362">
                <a:moveTo>
                  <a:pt x="10661" y="14970"/>
                </a:moveTo>
                <a:cubicBezTo>
                  <a:pt x="10677" y="15012"/>
                  <a:pt x="10676" y="15064"/>
                  <a:pt x="10678" y="15110"/>
                </a:cubicBezTo>
                <a:cubicBezTo>
                  <a:pt x="10682" y="15228"/>
                  <a:pt x="10684" y="15347"/>
                  <a:pt x="10682" y="15465"/>
                </a:cubicBezTo>
                <a:cubicBezTo>
                  <a:pt x="10680" y="15591"/>
                  <a:pt x="10673" y="15716"/>
                  <a:pt x="10665" y="15842"/>
                </a:cubicBezTo>
                <a:cubicBezTo>
                  <a:pt x="10662" y="15898"/>
                  <a:pt x="10662" y="16054"/>
                  <a:pt x="10651" y="15999"/>
                </a:cubicBezTo>
                <a:cubicBezTo>
                  <a:pt x="10651" y="15991"/>
                  <a:pt x="10651" y="15983"/>
                  <a:pt x="10651" y="15975"/>
                </a:cubicBezTo>
              </a:path>
              <a:path w="6187" h="2362">
                <a:moveTo>
                  <a:pt x="10599" y="15148"/>
                </a:moveTo>
                <a:cubicBezTo>
                  <a:pt x="10600" y="15049"/>
                  <a:pt x="10589" y="14980"/>
                  <a:pt x="10647" y="14898"/>
                </a:cubicBezTo>
                <a:cubicBezTo>
                  <a:pt x="10676" y="14857"/>
                  <a:pt x="10732" y="14817"/>
                  <a:pt x="10784" y="14849"/>
                </a:cubicBezTo>
                <a:cubicBezTo>
                  <a:pt x="10855" y="14892"/>
                  <a:pt x="10878" y="15004"/>
                  <a:pt x="10886" y="15078"/>
                </a:cubicBezTo>
                <a:cubicBezTo>
                  <a:pt x="10898" y="15184"/>
                  <a:pt x="10886" y="15290"/>
                  <a:pt x="10855" y="15392"/>
                </a:cubicBezTo>
                <a:cubicBezTo>
                  <a:pt x="10842" y="15435"/>
                  <a:pt x="10789" y="15502"/>
                  <a:pt x="10791" y="15548"/>
                </a:cubicBezTo>
                <a:cubicBezTo>
                  <a:pt x="10792" y="15582"/>
                  <a:pt x="10816" y="15583"/>
                  <a:pt x="10846" y="15592"/>
                </a:cubicBezTo>
                <a:cubicBezTo>
                  <a:pt x="10891" y="15605"/>
                  <a:pt x="10938" y="15622"/>
                  <a:pt x="10984" y="15631"/>
                </a:cubicBezTo>
                <a:cubicBezTo>
                  <a:pt x="11013" y="15637"/>
                  <a:pt x="11041" y="15636"/>
                  <a:pt x="11070" y="15635"/>
                </a:cubicBezTo>
              </a:path>
              <a:path w="6187" h="2362">
                <a:moveTo>
                  <a:pt x="11221" y="15102"/>
                </a:moveTo>
                <a:cubicBezTo>
                  <a:pt x="11221" y="15073"/>
                  <a:pt x="11222" y="15045"/>
                  <a:pt x="11225" y="15017"/>
                </a:cubicBezTo>
                <a:cubicBezTo>
                  <a:pt x="11225" y="15011"/>
                  <a:pt x="11226" y="15004"/>
                  <a:pt x="11226" y="14998"/>
                </a:cubicBezTo>
                <a:cubicBezTo>
                  <a:pt x="11248" y="15030"/>
                  <a:pt x="11261" y="15065"/>
                  <a:pt x="11267" y="15117"/>
                </a:cubicBezTo>
                <a:cubicBezTo>
                  <a:pt x="11280" y="15227"/>
                  <a:pt x="11282" y="15340"/>
                  <a:pt x="11279" y="15451"/>
                </a:cubicBezTo>
                <a:cubicBezTo>
                  <a:pt x="11277" y="15558"/>
                  <a:pt x="11265" y="15664"/>
                  <a:pt x="11245" y="15769"/>
                </a:cubicBezTo>
                <a:cubicBezTo>
                  <a:pt x="11237" y="15810"/>
                  <a:pt x="11222" y="15863"/>
                  <a:pt x="11209" y="15891"/>
                </a:cubicBezTo>
                <a:cubicBezTo>
                  <a:pt x="11209" y="15851"/>
                  <a:pt x="11213" y="15814"/>
                  <a:pt x="11217" y="15774"/>
                </a:cubicBezTo>
              </a:path>
              <a:path w="6187" h="2362">
                <a:moveTo>
                  <a:pt x="11294" y="15016"/>
                </a:moveTo>
                <a:cubicBezTo>
                  <a:pt x="11286" y="14949"/>
                  <a:pt x="11272" y="14887"/>
                  <a:pt x="11296" y="14822"/>
                </a:cubicBezTo>
                <a:cubicBezTo>
                  <a:pt x="11309" y="14787"/>
                  <a:pt x="11339" y="14740"/>
                  <a:pt x="11383" y="14744"/>
                </a:cubicBezTo>
                <a:cubicBezTo>
                  <a:pt x="11449" y="14750"/>
                  <a:pt x="11448" y="14860"/>
                  <a:pt x="11449" y="14904"/>
                </a:cubicBezTo>
                <a:cubicBezTo>
                  <a:pt x="11451" y="15037"/>
                  <a:pt x="11410" y="15177"/>
                  <a:pt x="11354" y="15297"/>
                </a:cubicBezTo>
                <a:cubicBezTo>
                  <a:pt x="11342" y="15322"/>
                  <a:pt x="11294" y="15397"/>
                  <a:pt x="11291" y="15403"/>
                </a:cubicBezTo>
              </a:path>
              <a:path w="6187" h="2362">
                <a:moveTo>
                  <a:pt x="11634" y="15145"/>
                </a:moveTo>
                <a:cubicBezTo>
                  <a:pt x="11635" y="15169"/>
                  <a:pt x="11637" y="15189"/>
                  <a:pt x="11642" y="15216"/>
                </a:cubicBezTo>
                <a:cubicBezTo>
                  <a:pt x="11666" y="15341"/>
                  <a:pt x="11672" y="15466"/>
                  <a:pt x="11653" y="15592"/>
                </a:cubicBezTo>
                <a:cubicBezTo>
                  <a:pt x="11650" y="15614"/>
                  <a:pt x="11645" y="15634"/>
                  <a:pt x="11640" y="15655"/>
                </a:cubicBezTo>
                <a:cubicBezTo>
                  <a:pt x="11632" y="15620"/>
                  <a:pt x="11633" y="15590"/>
                  <a:pt x="11638" y="15549"/>
                </a:cubicBezTo>
                <a:cubicBezTo>
                  <a:pt x="11650" y="15449"/>
                  <a:pt x="11668" y="15350"/>
                  <a:pt x="11688" y="15251"/>
                </a:cubicBezTo>
                <a:cubicBezTo>
                  <a:pt x="11710" y="15143"/>
                  <a:pt x="11734" y="15034"/>
                  <a:pt x="11765" y="14928"/>
                </a:cubicBezTo>
                <a:cubicBezTo>
                  <a:pt x="11767" y="14921"/>
                  <a:pt x="11769" y="14915"/>
                  <a:pt x="11771" y="14908"/>
                </a:cubicBezTo>
                <a:cubicBezTo>
                  <a:pt x="11779" y="15001"/>
                  <a:pt x="11775" y="15095"/>
                  <a:pt x="11790" y="15187"/>
                </a:cubicBezTo>
                <a:cubicBezTo>
                  <a:pt x="11799" y="15240"/>
                  <a:pt x="11808" y="15283"/>
                  <a:pt x="11859" y="15305"/>
                </a:cubicBezTo>
                <a:cubicBezTo>
                  <a:pt x="11912" y="15328"/>
                  <a:pt x="11985" y="15258"/>
                  <a:pt x="12015" y="15228"/>
                </a:cubicBezTo>
                <a:cubicBezTo>
                  <a:pt x="12089" y="15154"/>
                  <a:pt x="12144" y="15061"/>
                  <a:pt x="12201" y="14974"/>
                </a:cubicBezTo>
                <a:cubicBezTo>
                  <a:pt x="12218" y="15044"/>
                  <a:pt x="12210" y="15116"/>
                  <a:pt x="12205" y="15188"/>
                </a:cubicBezTo>
                <a:cubicBezTo>
                  <a:pt x="12197" y="15317"/>
                  <a:pt x="12188" y="15445"/>
                  <a:pt x="12176" y="15574"/>
                </a:cubicBezTo>
                <a:cubicBezTo>
                  <a:pt x="12160" y="15736"/>
                  <a:pt x="12165" y="15919"/>
                  <a:pt x="12101" y="16072"/>
                </a:cubicBezTo>
                <a:cubicBezTo>
                  <a:pt x="12094" y="16084"/>
                  <a:pt x="12086" y="16096"/>
                  <a:pt x="12079" y="161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493" dur="500"/>
                                        <p:tgtEl>
                                          <p:spTgt spid="241">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498" dur="500"/>
                                        <p:tgtEl>
                                          <p:spTgt spid="241">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503"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Close Look at the Target</a:t>
            </a:r>
            <a:endParaRPr b="0" lang="en-US" sz="2800" spc="-1" strike="noStrike">
              <a:solidFill>
                <a:srgbClr val="000000"/>
              </a:solidFill>
              <a:latin typeface="Calibri"/>
            </a:endParaRPr>
          </a:p>
        </p:txBody>
      </p:sp>
      <p:pic>
        <p:nvPicPr>
          <p:cNvPr id="253" name="Picture 2" descr="http://t0.gstatic.com/images?q=tbn:ANd9GcTGx0b4gA_KnVjDjsPCIqguwW9VNC02YQOrPY2eLAJIe9HmppgaPNvy-oUf"/>
          <p:cNvPicPr/>
          <p:nvPr/>
        </p:nvPicPr>
        <p:blipFill>
          <a:blip r:embed="rId1"/>
          <a:stretch/>
        </p:blipFill>
        <p:spPr>
          <a:xfrm>
            <a:off x="1371600" y="1066680"/>
            <a:ext cx="5562720" cy="4911840"/>
          </a:xfrm>
          <a:prstGeom prst="rect">
            <a:avLst/>
          </a:prstGeom>
          <a:ln w="0">
            <a:noFill/>
          </a:ln>
        </p:spPr>
      </p:pic>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53"/>
                                        </p:tgtEl>
                                        <p:attrNameLst>
                                          <p:attrName>style.visibility</p:attrName>
                                        </p:attrNameLst>
                                      </p:cBhvr>
                                      <p:to>
                                        <p:strVal val="visible"/>
                                      </p:to>
                                    </p:set>
                                    <p:animEffect filter="dissolve" transition="in">
                                      <p:cBhvr additive="repl">
                                        <p:cTn id="51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 Historical Event for Better focus on the Target</a:t>
            </a:r>
            <a:endParaRPr b="0" lang="en-US" sz="28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Mercedes 35 HP</a:t>
            </a:r>
            <a:r>
              <a:rPr b="0" lang="en-US" sz="2400" spc="-1" strike="noStrike">
                <a:solidFill>
                  <a:srgbClr val="000000"/>
                </a:solidFill>
                <a:latin typeface="Calibri"/>
              </a:rPr>
              <a:t> (German: </a:t>
            </a:r>
            <a:r>
              <a:rPr b="1" i="1" lang="de-DE" sz="2400" spc="-1" strike="noStrike">
                <a:solidFill>
                  <a:srgbClr val="000000"/>
                </a:solidFill>
                <a:latin typeface="Calibri"/>
              </a:rPr>
              <a:t>Mercedes 35 PS</a:t>
            </a:r>
            <a:r>
              <a:rPr b="0" lang="en-US" sz="2400" spc="-1" strike="noStrike">
                <a:solidFill>
                  <a:srgbClr val="000000"/>
                </a:solidFill>
                <a:latin typeface="Calibri"/>
              </a:rPr>
              <a:t>) was a radical early car model designed in 19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ine volume: 5,918C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cecar was of a disappointing performance by multiple technical complications and enduring just for few la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517" dur="500"/>
                                        <p:tgtEl>
                                          <p:spTgt spid="255">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522" dur="500"/>
                                        <p:tgtEl>
                                          <p:spTgt spid="255">
                                            <p:txEl>
                                              <p:pRg st="1" end="1"/>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27" dur="500"/>
                                        <p:tgtEl>
                                          <p:spTgt spid="2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177840" y="214200"/>
            <a:ext cx="85867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504d"/>
                </a:solidFill>
                <a:latin typeface="Times New Roman"/>
              </a:rPr>
              <a:t>The Laws of Thermodynamics</a:t>
            </a:r>
            <a:endParaRPr b="0" lang="en-US" sz="4800" spc="-1" strike="noStrike">
              <a:solidFill>
                <a:srgbClr val="000000"/>
              </a:solidFill>
              <a:latin typeface="Times New Roman"/>
            </a:endParaRPr>
          </a:p>
        </p:txBody>
      </p:sp>
      <p:pic>
        <p:nvPicPr>
          <p:cNvPr id="257" name="Picture 5" descr="FG18_17-03"/>
          <p:cNvPicPr/>
          <p:nvPr/>
        </p:nvPicPr>
        <p:blipFill>
          <a:blip r:embed="rId1"/>
          <a:stretch/>
        </p:blipFill>
        <p:spPr>
          <a:xfrm>
            <a:off x="2157480" y="2579760"/>
            <a:ext cx="4651200" cy="3489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285840" y="1116000"/>
            <a:ext cx="85960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The Zeroth Law of Thermodynamics</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The First Law of Thermodynamics</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Specific Heats for an Ideal Gas: Constant Pressure, Constant Volume</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The Second Law of Thermodynamics</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Heat Engines and the Carnot Cy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 of Thermodynamics</a:t>
            </a:r>
            <a:endParaRPr b="0" lang="en-US" sz="3200" spc="-1" strike="noStrike">
              <a:solidFill>
                <a:srgbClr val="000000"/>
              </a:solidFill>
              <a:latin typeface="Calibri"/>
            </a:endParaRPr>
          </a:p>
        </p:txBody>
      </p:sp>
      <p:sp>
        <p:nvSpPr>
          <p:cNvPr id="67" name=""/>
          <p:cNvSpPr txBox="1"/>
          <p:nvPr/>
        </p:nvSpPr>
        <p:spPr>
          <a:xfrm>
            <a:off x="685800" y="1371240"/>
            <a:ext cx="7772400" cy="2057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modynamics is defined as the science of energ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me </a:t>
            </a:r>
            <a:r>
              <a:rPr b="1" i="1" lang="en-US" sz="2400" spc="-1" strike="noStrike">
                <a:solidFill>
                  <a:srgbClr val="000000"/>
                </a:solidFill>
                <a:latin typeface="Calibri"/>
              </a:rPr>
              <a:t>Thermodynamics</a:t>
            </a:r>
            <a:r>
              <a:rPr b="0" lang="en-US" sz="2400" spc="-1" strike="noStrike">
                <a:solidFill>
                  <a:srgbClr val="000000"/>
                </a:solidFill>
                <a:latin typeface="Calibri"/>
              </a:rPr>
              <a:t> stems from the Greek words </a:t>
            </a:r>
            <a:r>
              <a:rPr b="1" i="1" lang="en-US" sz="2400" spc="-1" strike="noStrike">
                <a:solidFill>
                  <a:srgbClr val="000000"/>
                </a:solidFill>
                <a:latin typeface="Calibri"/>
              </a:rPr>
              <a:t>therme</a:t>
            </a:r>
            <a:r>
              <a:rPr b="0" lang="en-US" sz="2400" spc="-1" strike="noStrike">
                <a:solidFill>
                  <a:srgbClr val="000000"/>
                </a:solidFill>
                <a:latin typeface="Calibri"/>
              </a:rPr>
              <a:t> (Heat) and </a:t>
            </a:r>
            <a:r>
              <a:rPr b="1" i="1" lang="en-US" sz="2400" spc="-1" strike="noStrike">
                <a:solidFill>
                  <a:srgbClr val="000000"/>
                </a:solidFill>
                <a:latin typeface="Calibri"/>
              </a:rPr>
              <a:t>dynamics</a:t>
            </a:r>
            <a:r>
              <a:rPr b="0" lang="en-US" sz="2400" spc="-1" strike="noStrike">
                <a:solidFill>
                  <a:srgbClr val="000000"/>
                </a:solidFill>
                <a:latin typeface="Calibri"/>
              </a:rPr>
              <a:t> (Pow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depicting the early efforts to convert heat into power.</a:t>
            </a:r>
            <a:endParaRPr b="0" lang="en-US" sz="2400" spc="-1" strike="noStrike">
              <a:solidFill>
                <a:srgbClr val="000000"/>
              </a:solidFill>
              <a:latin typeface="Calibri"/>
            </a:endParaRPr>
          </a:p>
        </p:txBody>
      </p:sp>
      <p:pic>
        <p:nvPicPr>
          <p:cNvPr id="68" name="Picture 6" descr="F:\oldedrive\subba\MEL140\Carnot_Sadi_2.jpeg"/>
          <p:cNvPicPr/>
          <p:nvPr/>
        </p:nvPicPr>
        <p:blipFill>
          <a:blip r:embed="rId1"/>
          <a:stretch/>
        </p:blipFill>
        <p:spPr>
          <a:xfrm>
            <a:off x="457200" y="3657600"/>
            <a:ext cx="2395440" cy="2666880"/>
          </a:xfrm>
          <a:prstGeom prst="rect">
            <a:avLst/>
          </a:prstGeom>
          <a:ln w="0">
            <a:noFill/>
          </a:ln>
        </p:spPr>
      </p:pic>
      <p:sp>
        <p:nvSpPr>
          <p:cNvPr id="69" name="Rectangle 4"/>
          <p:cNvSpPr/>
          <p:nvPr/>
        </p:nvSpPr>
        <p:spPr>
          <a:xfrm>
            <a:off x="2819520" y="3962520"/>
            <a:ext cx="6095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m power already had many uses - draining water from mines, excavating ports and rivers, forging iron, grinding grain, and spinning and weaving cloth - </a:t>
            </a:r>
            <a:r>
              <a:rPr b="1" lang="en-US" sz="2400" spc="-1" strike="noStrike">
                <a:solidFill>
                  <a:srgbClr val="000000"/>
                </a:solidFill>
                <a:latin typeface="Times New Roman"/>
              </a:rPr>
              <a:t>but it was ineffic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 dur="500"/>
                                        <p:tgtEl>
                                          <p:spTgt spid="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2" dur="500"/>
                                        <p:tgtEl>
                                          <p:spTgt spid="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7" dur="500"/>
                                        <p:tgtEl>
                                          <p:spTgt spid="6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500"/>
                                        <p:tgtEl>
                                          <p:spTgt spid="6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9"/>
                                        </p:tgtEl>
                                        <p:attrNameLst>
                                          <p:attrName>style.visibility</p:attrName>
                                        </p:attrNameLst>
                                      </p:cBhvr>
                                      <p:to>
                                        <p:strVal val="visible"/>
                                      </p:to>
                                    </p:set>
                                    <p:animEffect filter="dissolve" transition="in">
                                      <p:cBhvr additive="repl">
                                        <p:cTn id="2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368280" y="1020600"/>
            <a:ext cx="84549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Refrigerators, Air Conditioners, and Heat Pumps</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Entropy</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Order, Disorder, and Entropy</a:t>
            </a:r>
            <a:endParaRPr b="0" lang="en-US" sz="3200" spc="-1" strike="noStrike">
              <a:solidFill>
                <a:srgbClr val="000000"/>
              </a:solidFill>
              <a:latin typeface="Times New Roman"/>
            </a:endParaRPr>
          </a:p>
          <a:p>
            <a:pPr>
              <a:spcBef>
                <a:spcPts val="2001"/>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 </a:t>
            </a:r>
            <a:r>
              <a:rPr b="0" lang="en-US" sz="3200" spc="-1" strike="noStrike">
                <a:solidFill>
                  <a:srgbClr val="c0504d"/>
                </a:solidFill>
                <a:latin typeface="Times New Roman"/>
              </a:rPr>
              <a:t>The Third Law of Thermodynam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 Zeroth Law of Thermodynamics</a:t>
            </a:r>
            <a:endParaRPr b="0" lang="en-US" sz="3200" spc="-1" strike="noStrike">
              <a:solidFill>
                <a:srgbClr val="000000"/>
              </a:solidFill>
              <a:latin typeface="Times New Roman"/>
            </a:endParaRPr>
          </a:p>
        </p:txBody>
      </p:sp>
      <p:sp>
        <p:nvSpPr>
          <p:cNvPr id="261" name="Text Box 4"/>
          <p:cNvSpPr/>
          <p:nvPr/>
        </p:nvSpPr>
        <p:spPr>
          <a:xfrm>
            <a:off x="150840" y="977760"/>
            <a:ext cx="50356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We have already discussed the zeroth law, and include it here for completen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object A is in thermal equilibrium with object C, and object B is separately in thermal equilibrium with object C, then objects A and B will be in thermal equilibrium if they are placed in thermal contact.</a:t>
            </a:r>
            <a:endParaRPr b="0" lang="en-US" sz="2400" spc="-1" strike="noStrike">
              <a:solidFill>
                <a:srgbClr val="000000"/>
              </a:solidFill>
              <a:latin typeface="Times New Roman"/>
            </a:endParaRPr>
          </a:p>
        </p:txBody>
      </p:sp>
      <p:pic>
        <p:nvPicPr>
          <p:cNvPr id="262" name="Picture 5" descr="16-01Figure 16-01"/>
          <p:cNvPicPr/>
          <p:nvPr/>
        </p:nvPicPr>
        <p:blipFill>
          <a:blip r:embed="rId1"/>
          <a:stretch/>
        </p:blipFill>
        <p:spPr>
          <a:xfrm>
            <a:off x="5189400" y="1141560"/>
            <a:ext cx="3757680" cy="5394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 First Law of Thermodynamics</a:t>
            </a:r>
            <a:endParaRPr b="0" lang="en-US" sz="3200" spc="-1" strike="noStrike">
              <a:solidFill>
                <a:srgbClr val="000000"/>
              </a:solidFill>
              <a:latin typeface="Times New Roman"/>
            </a:endParaRPr>
          </a:p>
        </p:txBody>
      </p:sp>
      <p:sp>
        <p:nvSpPr>
          <p:cNvPr id="264" name="Text Box 3"/>
          <p:cNvSpPr/>
          <p:nvPr/>
        </p:nvSpPr>
        <p:spPr>
          <a:xfrm>
            <a:off x="331920" y="879480"/>
            <a:ext cx="8574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first law of thermodynamics is a statement of the conservation of ener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a system’s volume is constant, and heat is added, its internal energy increases.</a:t>
            </a:r>
            <a:endParaRPr b="0" lang="en-US" sz="2400" spc="-1" strike="noStrike">
              <a:solidFill>
                <a:srgbClr val="000000"/>
              </a:solidFill>
              <a:latin typeface="Times New Roman"/>
            </a:endParaRPr>
          </a:p>
        </p:txBody>
      </p:sp>
      <p:pic>
        <p:nvPicPr>
          <p:cNvPr id="265" name="Picture 4" descr="FG18_01"/>
          <p:cNvPicPr/>
          <p:nvPr/>
        </p:nvPicPr>
        <p:blipFill>
          <a:blip r:embed="rId1"/>
          <a:srcRect l="0" t="25360" r="0" b="25620"/>
          <a:stretch/>
        </p:blipFill>
        <p:spPr>
          <a:xfrm>
            <a:off x="835200" y="3805200"/>
            <a:ext cx="7727760" cy="2841840"/>
          </a:xfrm>
          <a:prstGeom prst="rect">
            <a:avLst/>
          </a:prstGeom>
          <a:ln w="0">
            <a:noFill/>
          </a:ln>
        </p:spPr>
      </p:pic>
      <p:pic>
        <p:nvPicPr>
          <p:cNvPr id="266" name="Picture 5" descr=""/>
          <p:cNvPicPr/>
          <p:nvPr/>
        </p:nvPicPr>
        <p:blipFill>
          <a:blip r:embed="rId2"/>
          <a:stretch/>
        </p:blipFill>
        <p:spPr>
          <a:xfrm>
            <a:off x="2830680" y="3187800"/>
            <a:ext cx="3482640" cy="47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 First Law of Thermodynamics</a:t>
            </a:r>
            <a:endParaRPr b="0" lang="en-US" sz="3200" spc="-1" strike="noStrike">
              <a:solidFill>
                <a:srgbClr val="000000"/>
              </a:solidFill>
              <a:latin typeface="Times New Roman"/>
            </a:endParaRPr>
          </a:p>
        </p:txBody>
      </p:sp>
      <p:sp>
        <p:nvSpPr>
          <p:cNvPr id="268" name="Text Box 4"/>
          <p:cNvSpPr/>
          <p:nvPr/>
        </p:nvSpPr>
        <p:spPr>
          <a:xfrm>
            <a:off x="201600" y="938160"/>
            <a:ext cx="8717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a system does work on the external world, and no heat is added, its internal energy decreases.</a:t>
            </a:r>
            <a:endParaRPr b="0" lang="en-US" sz="2400" spc="-1" strike="noStrike">
              <a:solidFill>
                <a:srgbClr val="000000"/>
              </a:solidFill>
              <a:latin typeface="Times New Roman"/>
            </a:endParaRPr>
          </a:p>
        </p:txBody>
      </p:sp>
      <p:pic>
        <p:nvPicPr>
          <p:cNvPr id="269" name="Picture 5" descr=""/>
          <p:cNvPicPr/>
          <p:nvPr/>
        </p:nvPicPr>
        <p:blipFill>
          <a:blip r:embed="rId1"/>
          <a:stretch/>
        </p:blipFill>
        <p:spPr>
          <a:xfrm>
            <a:off x="2587680" y="1996920"/>
            <a:ext cx="3825720" cy="552600"/>
          </a:xfrm>
          <a:prstGeom prst="rect">
            <a:avLst/>
          </a:prstGeom>
          <a:ln w="0">
            <a:noFill/>
          </a:ln>
        </p:spPr>
      </p:pic>
      <p:pic>
        <p:nvPicPr>
          <p:cNvPr id="270" name="Picture 6" descr="FG18_02"/>
          <p:cNvPicPr/>
          <p:nvPr/>
        </p:nvPicPr>
        <p:blipFill>
          <a:blip r:embed="rId2"/>
          <a:srcRect l="0" t="21893" r="0" b="21519"/>
          <a:stretch/>
        </p:blipFill>
        <p:spPr>
          <a:xfrm>
            <a:off x="517680" y="2909880"/>
            <a:ext cx="8021520" cy="340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 First Law of Thermodynamics</a:t>
            </a:r>
            <a:endParaRPr b="0" lang="en-US" sz="3200" spc="-1" strike="noStrike">
              <a:solidFill>
                <a:srgbClr val="000000"/>
              </a:solidFill>
              <a:latin typeface="Times New Roman"/>
            </a:endParaRPr>
          </a:p>
        </p:txBody>
      </p:sp>
      <p:sp>
        <p:nvSpPr>
          <p:cNvPr id="272" name="Text Box 3"/>
          <p:cNvSpPr/>
          <p:nvPr/>
        </p:nvSpPr>
        <p:spPr>
          <a:xfrm>
            <a:off x="225360" y="996840"/>
            <a:ext cx="85978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Combining these gives the first law of thermodynamics. The change in a system’s internal energy is related to the heat </a:t>
            </a:r>
            <a:r>
              <a:rPr b="0" i="1" lang="en-US" sz="2400" spc="-1" strike="noStrike">
                <a:solidFill>
                  <a:srgbClr val="c0504d"/>
                </a:solidFill>
                <a:latin typeface="Times New Roman"/>
              </a:rPr>
              <a:t>Q</a:t>
            </a:r>
            <a:r>
              <a:rPr b="0" lang="en-US" sz="2400" spc="-1" strike="noStrike">
                <a:solidFill>
                  <a:srgbClr val="c0504d"/>
                </a:solidFill>
                <a:latin typeface="Times New Roman"/>
              </a:rPr>
              <a:t> and the work </a:t>
            </a:r>
            <a:r>
              <a:rPr b="0" i="1" lang="en-US" sz="2400" spc="-1" strike="noStrike">
                <a:solidFill>
                  <a:srgbClr val="c0504d"/>
                </a:solidFill>
                <a:latin typeface="Times New Roman"/>
              </a:rPr>
              <a:t>W</a:t>
            </a:r>
            <a:r>
              <a:rPr b="0" lang="en-US" sz="2400" spc="-1" strike="noStrike">
                <a:solidFill>
                  <a:srgbClr val="c0504d"/>
                </a:solidFill>
                <a:latin typeface="Times New Roman"/>
              </a:rPr>
              <a:t> as follows:</a:t>
            </a:r>
            <a:endParaRPr b="0" lang="en-US" sz="2400" spc="-1" strike="noStrike">
              <a:solidFill>
                <a:srgbClr val="000000"/>
              </a:solidFill>
              <a:latin typeface="Times New Roman"/>
            </a:endParaRPr>
          </a:p>
        </p:txBody>
      </p:sp>
      <p:pic>
        <p:nvPicPr>
          <p:cNvPr id="273" name="Picture 4" descr=""/>
          <p:cNvPicPr/>
          <p:nvPr/>
        </p:nvPicPr>
        <p:blipFill>
          <a:blip r:embed="rId1"/>
          <a:stretch/>
        </p:blipFill>
        <p:spPr>
          <a:xfrm>
            <a:off x="3646440" y="2414520"/>
            <a:ext cx="2459160" cy="533520"/>
          </a:xfrm>
          <a:prstGeom prst="rect">
            <a:avLst/>
          </a:prstGeom>
          <a:ln w="0">
            <a:noFill/>
          </a:ln>
        </p:spPr>
      </p:pic>
      <p:sp>
        <p:nvSpPr>
          <p:cNvPr id="274" name="Text Box 5"/>
          <p:cNvSpPr/>
          <p:nvPr/>
        </p:nvSpPr>
        <p:spPr>
          <a:xfrm>
            <a:off x="414360" y="2994120"/>
            <a:ext cx="824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t is vital to keep track of the signs of </a:t>
            </a:r>
            <a:r>
              <a:rPr b="0" i="1" lang="en-US" sz="2400" spc="-1" strike="noStrike">
                <a:solidFill>
                  <a:srgbClr val="c0504d"/>
                </a:solidFill>
                <a:latin typeface="Times New Roman"/>
              </a:rPr>
              <a:t>Q</a:t>
            </a:r>
            <a:r>
              <a:rPr b="0" lang="en-US" sz="2400" spc="-1" strike="noStrike">
                <a:solidFill>
                  <a:srgbClr val="c0504d"/>
                </a:solidFill>
                <a:latin typeface="Times New Roman"/>
              </a:rPr>
              <a:t> and </a:t>
            </a:r>
            <a:r>
              <a:rPr b="0" i="1" lang="en-US" sz="2400" spc="-1" strike="noStrike">
                <a:solidFill>
                  <a:srgbClr val="c0504d"/>
                </a:solidFill>
                <a:latin typeface="Times New Roman"/>
              </a:rPr>
              <a:t>W</a:t>
            </a:r>
            <a:r>
              <a:rPr b="0" lang="en-US" sz="2400" spc="-1" strike="noStrike">
                <a:solidFill>
                  <a:srgbClr val="c0504d"/>
                </a:solidFill>
                <a:latin typeface="Times New Roman"/>
              </a:rPr>
              <a:t>.</a:t>
            </a:r>
            <a:endParaRPr b="0" lang="en-US" sz="2400" spc="-1" strike="noStrike">
              <a:solidFill>
                <a:srgbClr val="000000"/>
              </a:solidFill>
              <a:latin typeface="Times New Roman"/>
            </a:endParaRPr>
          </a:p>
        </p:txBody>
      </p:sp>
      <p:pic>
        <p:nvPicPr>
          <p:cNvPr id="275" name="Picture 7" descr="18-03Table18-01"/>
          <p:cNvPicPr/>
          <p:nvPr/>
        </p:nvPicPr>
        <p:blipFill>
          <a:blip r:embed="rId2"/>
          <a:stretch/>
        </p:blipFill>
        <p:spPr>
          <a:xfrm>
            <a:off x="1209600" y="3610080"/>
            <a:ext cx="6408720" cy="324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 First Law of Thermodynamics</a:t>
            </a:r>
            <a:endParaRPr b="0" lang="en-US" sz="3200" spc="-1" strike="noStrike">
              <a:solidFill>
                <a:srgbClr val="000000"/>
              </a:solidFill>
              <a:latin typeface="Times New Roman"/>
            </a:endParaRPr>
          </a:p>
        </p:txBody>
      </p:sp>
      <p:sp>
        <p:nvSpPr>
          <p:cNvPr id="277" name="Text Box 3"/>
          <p:cNvSpPr/>
          <p:nvPr/>
        </p:nvSpPr>
        <p:spPr>
          <a:xfrm>
            <a:off x="227160" y="920880"/>
            <a:ext cx="8716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internal energy of the system depends only on its temperature. The work done and the heat added, however, depend on the details of the process involved.</a:t>
            </a:r>
            <a:endParaRPr b="0" lang="en-US" sz="2400" spc="-1" strike="noStrike">
              <a:solidFill>
                <a:srgbClr val="000000"/>
              </a:solidFill>
              <a:latin typeface="Times New Roman"/>
            </a:endParaRPr>
          </a:p>
        </p:txBody>
      </p:sp>
      <p:pic>
        <p:nvPicPr>
          <p:cNvPr id="278" name="Picture 4" descr="18-04Example18-01"/>
          <p:cNvPicPr/>
          <p:nvPr/>
        </p:nvPicPr>
        <p:blipFill>
          <a:blip r:embed="rId1"/>
          <a:stretch/>
        </p:blipFill>
        <p:spPr>
          <a:xfrm>
            <a:off x="1925640" y="2801880"/>
            <a:ext cx="5365800" cy="390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sp>
        <p:nvSpPr>
          <p:cNvPr id="280" name="Text Box 3"/>
          <p:cNvSpPr/>
          <p:nvPr/>
        </p:nvSpPr>
        <p:spPr>
          <a:xfrm>
            <a:off x="392040" y="949320"/>
            <a:ext cx="84790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We will assume that all processes we discuss are quasi-static – they are slow enough that the system is always in equilibriu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We also assume they are reversi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process to be reversible, it must be possible to return both the system and its surroundings to exactly the same states they were in before the process beg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pic>
        <p:nvPicPr>
          <p:cNvPr id="282" name="Picture 3" descr="FG18_03"/>
          <p:cNvPicPr/>
          <p:nvPr/>
        </p:nvPicPr>
        <p:blipFill>
          <a:blip r:embed="rId1"/>
          <a:srcRect l="0" t="31729" r="0" b="32140"/>
          <a:stretch/>
        </p:blipFill>
        <p:spPr>
          <a:xfrm>
            <a:off x="0" y="3753000"/>
            <a:ext cx="9144000" cy="2477880"/>
          </a:xfrm>
          <a:prstGeom prst="rect">
            <a:avLst/>
          </a:prstGeom>
          <a:ln w="0">
            <a:noFill/>
          </a:ln>
        </p:spPr>
      </p:pic>
      <p:sp>
        <p:nvSpPr>
          <p:cNvPr id="283" name="Text Box 4"/>
          <p:cNvSpPr/>
          <p:nvPr/>
        </p:nvSpPr>
        <p:spPr>
          <a:xfrm>
            <a:off x="285840" y="903240"/>
            <a:ext cx="850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is is an idealized reversible process. The gas is compressed; the temperature is constant, so heat leaves the gas. As the gas expands, it draws heat from the reservoir, returning the gas and the reservoir to their initial states. The piston is assumed frictionl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pic>
        <p:nvPicPr>
          <p:cNvPr id="285" name="Picture 3" descr="FG18_04"/>
          <p:cNvPicPr/>
          <p:nvPr/>
        </p:nvPicPr>
        <p:blipFill>
          <a:blip r:embed="rId1"/>
          <a:srcRect l="0" t="6112" r="0" b="7106"/>
          <a:stretch/>
        </p:blipFill>
        <p:spPr>
          <a:xfrm>
            <a:off x="192240" y="2894040"/>
            <a:ext cx="5742000" cy="3736800"/>
          </a:xfrm>
          <a:prstGeom prst="rect">
            <a:avLst/>
          </a:prstGeom>
          <a:ln w="0">
            <a:noFill/>
          </a:ln>
        </p:spPr>
      </p:pic>
      <p:sp>
        <p:nvSpPr>
          <p:cNvPr id="286" name="Text Box 4"/>
          <p:cNvSpPr/>
          <p:nvPr/>
        </p:nvSpPr>
        <p:spPr>
          <a:xfrm>
            <a:off x="414360" y="8650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Work done by an expanding gas, constant pressure:</a:t>
            </a:r>
            <a:endParaRPr b="0" lang="en-US" sz="2400" spc="-1" strike="noStrike">
              <a:solidFill>
                <a:srgbClr val="000000"/>
              </a:solidFill>
              <a:latin typeface="Times New Roman"/>
            </a:endParaRPr>
          </a:p>
        </p:txBody>
      </p:sp>
      <p:pic>
        <p:nvPicPr>
          <p:cNvPr id="287" name="Picture 5" descr=""/>
          <p:cNvPicPr/>
          <p:nvPr/>
        </p:nvPicPr>
        <p:blipFill>
          <a:blip r:embed="rId2"/>
          <a:stretch/>
        </p:blipFill>
        <p:spPr>
          <a:xfrm>
            <a:off x="1658880" y="2103480"/>
            <a:ext cx="5533920" cy="523800"/>
          </a:xfrm>
          <a:prstGeom prst="rect">
            <a:avLst/>
          </a:prstGeom>
          <a:ln w="0">
            <a:noFill/>
          </a:ln>
        </p:spPr>
      </p:pic>
      <p:pic>
        <p:nvPicPr>
          <p:cNvPr id="288" name="Picture 6" descr="FG18_05"/>
          <p:cNvPicPr/>
          <p:nvPr/>
        </p:nvPicPr>
        <p:blipFill>
          <a:blip r:embed="rId3"/>
          <a:srcRect l="0" t="0" r="0" b="3447"/>
          <a:stretch/>
        </p:blipFill>
        <p:spPr>
          <a:xfrm>
            <a:off x="5573880" y="3087720"/>
            <a:ext cx="3314520" cy="2400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sp>
        <p:nvSpPr>
          <p:cNvPr id="290" name="Text Box 3"/>
          <p:cNvSpPr/>
          <p:nvPr/>
        </p:nvSpPr>
        <p:spPr>
          <a:xfrm>
            <a:off x="426960" y="1057320"/>
            <a:ext cx="843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the volume stays constant, nothing moves and no work is done.</a:t>
            </a:r>
            <a:endParaRPr b="0" lang="en-US" sz="2400" spc="-1" strike="noStrike">
              <a:solidFill>
                <a:srgbClr val="000000"/>
              </a:solidFill>
              <a:latin typeface="Times New Roman"/>
            </a:endParaRPr>
          </a:p>
        </p:txBody>
      </p:sp>
      <p:pic>
        <p:nvPicPr>
          <p:cNvPr id="291" name="Picture 4" descr=""/>
          <p:cNvPicPr/>
          <p:nvPr/>
        </p:nvPicPr>
        <p:blipFill>
          <a:blip r:embed="rId1"/>
          <a:stretch/>
        </p:blipFill>
        <p:spPr>
          <a:xfrm>
            <a:off x="2049480" y="1995480"/>
            <a:ext cx="4737240" cy="533520"/>
          </a:xfrm>
          <a:prstGeom prst="rect">
            <a:avLst/>
          </a:prstGeom>
          <a:ln w="0">
            <a:noFill/>
          </a:ln>
        </p:spPr>
      </p:pic>
      <p:pic>
        <p:nvPicPr>
          <p:cNvPr id="292" name="Picture 6" descr="FG18_07"/>
          <p:cNvPicPr/>
          <p:nvPr/>
        </p:nvPicPr>
        <p:blipFill>
          <a:blip r:embed="rId2"/>
          <a:srcRect l="6054" t="0" r="5813" b="0"/>
          <a:stretch/>
        </p:blipFill>
        <p:spPr>
          <a:xfrm>
            <a:off x="233280" y="3800520"/>
            <a:ext cx="3284640" cy="2795400"/>
          </a:xfrm>
          <a:prstGeom prst="rect">
            <a:avLst/>
          </a:prstGeom>
          <a:ln w="0">
            <a:noFill/>
          </a:ln>
        </p:spPr>
      </p:pic>
      <p:pic>
        <p:nvPicPr>
          <p:cNvPr id="293" name="Picture 5" descr="FG18_06"/>
          <p:cNvPicPr/>
          <p:nvPr/>
        </p:nvPicPr>
        <p:blipFill>
          <a:blip r:embed="rId3"/>
          <a:srcRect l="0" t="25143" r="3482" b="25905"/>
          <a:stretch/>
        </p:blipFill>
        <p:spPr>
          <a:xfrm>
            <a:off x="2921040" y="2652840"/>
            <a:ext cx="5898960" cy="22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rnot’s Queries</a:t>
            </a:r>
            <a:endParaRPr b="0" lang="en-US" sz="2800" spc="-1" strike="noStrike">
              <a:solidFill>
                <a:srgbClr val="000000"/>
              </a:solidFill>
              <a:latin typeface="Calibri"/>
            </a:endParaRPr>
          </a:p>
        </p:txBody>
      </p:sp>
      <p:sp>
        <p:nvSpPr>
          <p:cNvPr id="71" name="Text Box 7"/>
          <p:cNvSpPr/>
          <p:nvPr/>
        </p:nvSpPr>
        <p:spPr>
          <a:xfrm>
            <a:off x="55440" y="5867280"/>
            <a:ext cx="908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n Who Proved that Proper Blend of Science, Mathematics and Ingenuity is Good Engineering….</a:t>
            </a:r>
            <a:endParaRPr b="0" lang="en-US" sz="2400" spc="-1" strike="noStrike">
              <a:solidFill>
                <a:srgbClr val="000000"/>
              </a:solidFill>
              <a:latin typeface="Times New Roman"/>
            </a:endParaRPr>
          </a:p>
        </p:txBody>
      </p:sp>
      <p:graphicFrame>
        <p:nvGraphicFramePr>
          <p:cNvPr id="72" name="Object 2"/>
          <p:cNvGraphicFramePr/>
          <p:nvPr/>
        </p:nvGraphicFramePr>
        <p:xfrm>
          <a:off x="1295280" y="762120"/>
          <a:ext cx="6400800" cy="5062320"/>
        </p:xfrm>
        <a:graphic>
          <a:graphicData uri="http://schemas.openxmlformats.org/presentationml/2006/ole">
            <p:oleObj r:id="rId1" spid="">
              <p:embed/>
              <p:pic>
                <p:nvPicPr>
                  <p:cNvPr id="73" name="Object 2" descr=""/>
                  <p:cNvPicPr/>
                  <p:nvPr/>
                </p:nvPicPr>
                <p:blipFill>
                  <a:blip r:embed="rId2"/>
                  <a:stretch/>
                </p:blipFill>
                <p:spPr>
                  <a:xfrm>
                    <a:off x="1295280" y="762120"/>
                    <a:ext cx="6400800" cy="5062320"/>
                  </a:xfrm>
                  <a:prstGeom prst="rect">
                    <a:avLst/>
                  </a:prstGeom>
                  <a:ln w="0">
                    <a:noFill/>
                  </a:ln>
                </p:spPr>
              </p:pic>
            </p:oleObj>
          </a:graphicData>
        </a:graphic>
      </p:graphicFrame>
      <p:pic>
        <p:nvPicPr>
          <p:cNvPr id="74" name="Picture 4" descr=""/>
          <p:cNvPicPr/>
          <p:nvPr/>
        </p:nvPicPr>
        <p:blipFill>
          <a:blip r:embed="rId3"/>
          <a:stretch/>
        </p:blipFill>
        <p:spPr>
          <a:xfrm>
            <a:off x="304920" y="609480"/>
            <a:ext cx="3657600" cy="5357880"/>
          </a:xfrm>
          <a:prstGeom prst="rect">
            <a:avLst/>
          </a:prstGeom>
          <a:ln w="0">
            <a:noFill/>
          </a:ln>
        </p:spPr>
      </p:pic>
      <p:sp>
        <p:nvSpPr>
          <p:cNvPr id="75" name="Rectangle 6"/>
          <p:cNvSpPr/>
          <p:nvPr/>
        </p:nvSpPr>
        <p:spPr>
          <a:xfrm>
            <a:off x="4419720" y="2362320"/>
            <a:ext cx="2590560" cy="3047760"/>
          </a:xfrm>
          <a:prstGeom prst="rect">
            <a:avLst/>
          </a:prstGeom>
          <a:noFill/>
          <a:ln w="604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Ink 28"/>
          <p:cNvSpPr/>
          <p:nvPr/>
        </p:nvSpPr>
        <p:spPr>
          <a:xfrm>
            <a:off x="3852720" y="6113520"/>
            <a:ext cx="28800" cy="50760"/>
          </a:xfrm>
          <a:custGeom>
            <a:avLst/>
            <a:gdLst/>
            <a:ahLst/>
            <a:rect l="l" t="t" r="r" b="b"/>
            <a:pathLst>
              <a:path w="79" h="141">
                <a:moveTo>
                  <a:pt x="10701" y="17124"/>
                </a:moveTo>
                <a:cubicBezTo>
                  <a:pt x="10727" y="17077"/>
                  <a:pt x="10753" y="17031"/>
                  <a:pt x="10779" y="16984"/>
                </a:cubicBezTo>
              </a:path>
            </a:pathLst>
          </a:custGeom>
          <a:noFill/>
          <a:ln cap="rnd" w="19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1" presetSubtype="4">
                                  <p:stCondLst>
                                    <p:cond delay="0"/>
                                  </p:stCondLst>
                                  <p:childTnLst>
                                    <p:set>
                                      <p:cBhvr>
                                        <p:cTn id="33" dur="1" fill="hold">
                                          <p:stCondLst>
                                            <p:cond delay="0"/>
                                          </p:stCondLst>
                                        </p:cTn>
                                        <p:tgtEl>
                                          <p:spTgt spid="73"/>
                                        </p:tgtEl>
                                        <p:attrNameLst>
                                          <p:attrName>style.visibility</p:attrName>
                                        </p:attrNameLst>
                                      </p:cBhvr>
                                      <p:to>
                                        <p:strVal val="visible"/>
                                      </p:to>
                                    </p:set>
                                    <p:animEffect filter="wheel(4)" transition="in">
                                      <p:cBhvr additive="repl">
                                        <p:cTn id="34" dur="2000"/>
                                        <p:tgtEl>
                                          <p:spTgt spid="7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1" presetSubtype="4">
                                  <p:stCondLst>
                                    <p:cond delay="0"/>
                                  </p:stCondLst>
                                  <p:childTnLst>
                                    <p:set>
                                      <p:cBhvr>
                                        <p:cTn id="38" dur="1" fill="hold">
                                          <p:stCondLst>
                                            <p:cond delay="0"/>
                                          </p:stCondLst>
                                        </p:cTn>
                                        <p:tgtEl>
                                          <p:spTgt spid="75"/>
                                        </p:tgtEl>
                                        <p:attrNameLst>
                                          <p:attrName>style.visibility</p:attrName>
                                        </p:attrNameLst>
                                      </p:cBhvr>
                                      <p:to>
                                        <p:strVal val="visible"/>
                                      </p:to>
                                    </p:set>
                                    <p:animEffect filter="wheel(4)" transition="in">
                                      <p:cBhvr additive="repl">
                                        <p:cTn id="39" dur="2000"/>
                                        <p:tgtEl>
                                          <p:spTgt spid="7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0">
                                  <p:stCondLst>
                                    <p:cond delay="0"/>
                                  </p:stCondLst>
                                  <p:childTnLst>
                                    <p:animEffect filter="fade" transition="out">
                                      <p:cBhvr additive="repl">
                                        <p:cTn id="43" dur="2000"/>
                                        <p:tgtEl>
                                          <p:spTgt spid="75"/>
                                        </p:tgtEl>
                                      </p:cBhvr>
                                    </p:animEffect>
                                    <p:set>
                                      <p:cBhvr>
                                        <p:cTn id="44" dur="1" fill="hold">
                                          <p:stCondLst>
                                            <p:cond delay="1999"/>
                                          </p:stCondLst>
                                        </p:cTn>
                                        <p:tgtEl>
                                          <p:spTgt spid="75"/>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73"/>
                                        </p:tgtEl>
                                        <p:attrNameLst>
                                          <p:attrName>style.visibility</p:attrName>
                                        </p:attrNameLst>
                                      </p:cBhvr>
                                      <p:to>
                                        <p:strVal val="visible"/>
                                      </p:to>
                                    </p:set>
                                    <p:animEffect filter="dissolve" transition="in">
                                      <p:cBhvr additive="repl">
                                        <p:cTn id="49" dur="500"/>
                                        <p:tgtEl>
                                          <p:spTgt spid="7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74"/>
                                        </p:tgtEl>
                                        <p:attrNameLst>
                                          <p:attrName>style.visibility</p:attrName>
                                        </p:attrNameLst>
                                      </p:cBhvr>
                                      <p:to>
                                        <p:strVal val="visible"/>
                                      </p:to>
                                    </p:set>
                                    <p:animEffect filter="dissolve" transition="in">
                                      <p:cBhvr additive="repl">
                                        <p:cTn id="54" dur="500"/>
                                        <p:tgtEl>
                                          <p:spTgt spid="7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59"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4" descr="FG18_08"/>
          <p:cNvPicPr/>
          <p:nvPr/>
        </p:nvPicPr>
        <p:blipFill>
          <a:blip r:embed="rId1"/>
          <a:stretch/>
        </p:blipFill>
        <p:spPr>
          <a:xfrm>
            <a:off x="623880" y="1636560"/>
            <a:ext cx="6672240" cy="5005440"/>
          </a:xfrm>
          <a:prstGeom prst="rect">
            <a:avLst/>
          </a:prstGeom>
          <a:ln w="0">
            <a:noFill/>
          </a:ln>
        </p:spPr>
      </p:pic>
      <p:sp>
        <p:nvSpPr>
          <p:cNvPr id="295"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sp>
        <p:nvSpPr>
          <p:cNvPr id="296" name="Text Box 3"/>
          <p:cNvSpPr/>
          <p:nvPr/>
        </p:nvSpPr>
        <p:spPr>
          <a:xfrm>
            <a:off x="2709720" y="1336680"/>
            <a:ext cx="6078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the temperature is constant, the pressure varies inversely with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pic>
        <p:nvPicPr>
          <p:cNvPr id="298" name="Picture 3" descr="FG18_09"/>
          <p:cNvPicPr/>
          <p:nvPr/>
        </p:nvPicPr>
        <p:blipFill>
          <a:blip r:embed="rId1"/>
          <a:stretch/>
        </p:blipFill>
        <p:spPr>
          <a:xfrm>
            <a:off x="345960" y="2684520"/>
            <a:ext cx="5210280" cy="3908520"/>
          </a:xfrm>
          <a:prstGeom prst="rect">
            <a:avLst/>
          </a:prstGeom>
          <a:ln w="0">
            <a:noFill/>
          </a:ln>
        </p:spPr>
      </p:pic>
      <p:sp>
        <p:nvSpPr>
          <p:cNvPr id="299" name="Text Box 4"/>
          <p:cNvSpPr/>
          <p:nvPr/>
        </p:nvSpPr>
        <p:spPr>
          <a:xfrm>
            <a:off x="652320" y="961920"/>
            <a:ext cx="830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work done is the area under the curve:</a:t>
            </a:r>
            <a:endParaRPr b="0" lang="en-US" sz="2400" spc="-1" strike="noStrike">
              <a:solidFill>
                <a:srgbClr val="000000"/>
              </a:solidFill>
              <a:latin typeface="Times New Roman"/>
            </a:endParaRPr>
          </a:p>
        </p:txBody>
      </p:sp>
      <p:pic>
        <p:nvPicPr>
          <p:cNvPr id="300" name="Picture 5" descr=""/>
          <p:cNvPicPr/>
          <p:nvPr/>
        </p:nvPicPr>
        <p:blipFill>
          <a:blip r:embed="rId2"/>
          <a:stretch/>
        </p:blipFill>
        <p:spPr>
          <a:xfrm>
            <a:off x="1859040" y="1936800"/>
            <a:ext cx="5686200" cy="1074600"/>
          </a:xfrm>
          <a:prstGeom prst="rect">
            <a:avLst/>
          </a:prstGeom>
          <a:ln w="0">
            <a:noFill/>
          </a:ln>
        </p:spPr>
      </p:pic>
      <p:pic>
        <p:nvPicPr>
          <p:cNvPr id="301" name="Picture 6" descr=""/>
          <p:cNvPicPr/>
          <p:nvPr/>
        </p:nvPicPr>
        <p:blipFill>
          <a:blip r:embed="rId3"/>
          <a:stretch/>
        </p:blipFill>
        <p:spPr>
          <a:xfrm>
            <a:off x="2735280" y="3102120"/>
            <a:ext cx="3673440" cy="64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sp>
        <p:nvSpPr>
          <p:cNvPr id="303" name="Text Box 3"/>
          <p:cNvSpPr/>
          <p:nvPr/>
        </p:nvSpPr>
        <p:spPr>
          <a:xfrm>
            <a:off x="474840" y="1176480"/>
            <a:ext cx="81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n adiabatic process is one in which no heat flows into or out of the system. The adiabatic </a:t>
            </a:r>
            <a:r>
              <a:rPr b="0" i="1" lang="en-US" sz="2400" spc="-1" strike="noStrike">
                <a:solidFill>
                  <a:srgbClr val="c0504d"/>
                </a:solidFill>
                <a:latin typeface="Times New Roman"/>
              </a:rPr>
              <a:t>P</a:t>
            </a:r>
            <a:r>
              <a:rPr b="0" lang="en-US" sz="2400" spc="-1" strike="noStrike">
                <a:solidFill>
                  <a:srgbClr val="c0504d"/>
                </a:solidFill>
                <a:latin typeface="Times New Roman"/>
              </a:rPr>
              <a:t>-</a:t>
            </a:r>
            <a:r>
              <a:rPr b="0" i="1" lang="en-US" sz="2400" spc="-1" strike="noStrike">
                <a:solidFill>
                  <a:srgbClr val="c0504d"/>
                </a:solidFill>
                <a:latin typeface="Times New Roman"/>
              </a:rPr>
              <a:t>V</a:t>
            </a:r>
            <a:r>
              <a:rPr b="0" lang="en-US" sz="2400" spc="-1" strike="noStrike">
                <a:solidFill>
                  <a:srgbClr val="c0504d"/>
                </a:solidFill>
                <a:latin typeface="Times New Roman"/>
              </a:rPr>
              <a:t> curve is similar to the isothermal one, but is steeper. One way to ensure that a process is adiabatic is to insulate the system.</a:t>
            </a:r>
            <a:endParaRPr b="0" lang="en-US" sz="2400" spc="-1" strike="noStrike">
              <a:solidFill>
                <a:srgbClr val="000000"/>
              </a:solidFill>
              <a:latin typeface="Times New Roman"/>
            </a:endParaRPr>
          </a:p>
        </p:txBody>
      </p:sp>
      <p:pic>
        <p:nvPicPr>
          <p:cNvPr id="304" name="Picture 4" descr="FG18_10"/>
          <p:cNvPicPr/>
          <p:nvPr/>
        </p:nvPicPr>
        <p:blipFill>
          <a:blip r:embed="rId1"/>
          <a:srcRect l="1467" t="32031" r="2813" b="32470"/>
          <a:stretch/>
        </p:blipFill>
        <p:spPr>
          <a:xfrm>
            <a:off x="255600" y="4143240"/>
            <a:ext cx="8712360" cy="242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331920" y="1496880"/>
            <a:ext cx="4037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nother way to ensure that a process is effectively adiabatic is to have the volume change occur very quickly. In this case, heat has no time to flow in or out of the system.</a:t>
            </a:r>
            <a:endParaRPr b="0" lang="en-US" sz="2400" spc="-1" strike="noStrike">
              <a:solidFill>
                <a:srgbClr val="000000"/>
              </a:solidFill>
              <a:latin typeface="Times New Roman"/>
            </a:endParaRPr>
          </a:p>
        </p:txBody>
      </p:sp>
      <p:sp>
        <p:nvSpPr>
          <p:cNvPr id="306" name="Text Box 3"/>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rmal Processes</a:t>
            </a:r>
            <a:endParaRPr b="0" lang="en-US" sz="3200" spc="-1" strike="noStrike">
              <a:solidFill>
                <a:srgbClr val="000000"/>
              </a:solidFill>
              <a:latin typeface="Times New Roman"/>
            </a:endParaRPr>
          </a:p>
        </p:txBody>
      </p:sp>
      <p:pic>
        <p:nvPicPr>
          <p:cNvPr id="307" name="Picture 4" descr="FG18_11"/>
          <p:cNvPicPr/>
          <p:nvPr/>
        </p:nvPicPr>
        <p:blipFill>
          <a:blip r:embed="rId1"/>
          <a:srcRect l="21834" t="0" r="22302" b="0"/>
          <a:stretch/>
        </p:blipFill>
        <p:spPr>
          <a:xfrm>
            <a:off x="4570560" y="766800"/>
            <a:ext cx="4375080" cy="5873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249120" y="23796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18-3 Thermal Processes</a:t>
            </a:r>
            <a:endParaRPr b="0" lang="en-US" sz="3200" spc="-1" strike="noStrike">
              <a:solidFill>
                <a:srgbClr val="000000"/>
              </a:solidFill>
              <a:latin typeface="Times New Roman"/>
            </a:endParaRPr>
          </a:p>
        </p:txBody>
      </p:sp>
      <p:sp>
        <p:nvSpPr>
          <p:cNvPr id="309" name="Text Box 5"/>
          <p:cNvSpPr/>
          <p:nvPr/>
        </p:nvSpPr>
        <p:spPr>
          <a:xfrm>
            <a:off x="557280" y="1482840"/>
            <a:ext cx="7694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Here is a summary of the different types of thermal processes:</a:t>
            </a:r>
            <a:endParaRPr b="0" lang="en-US" sz="2400" spc="-1" strike="noStrike">
              <a:solidFill>
                <a:srgbClr val="000000"/>
              </a:solidFill>
              <a:latin typeface="Times New Roman"/>
            </a:endParaRPr>
          </a:p>
        </p:txBody>
      </p:sp>
      <p:pic>
        <p:nvPicPr>
          <p:cNvPr id="310" name="Picture 7" descr="18-19Table18-02"/>
          <p:cNvPicPr/>
          <p:nvPr/>
        </p:nvPicPr>
        <p:blipFill>
          <a:blip r:embed="rId1"/>
          <a:stretch/>
        </p:blipFill>
        <p:spPr>
          <a:xfrm>
            <a:off x="0" y="295272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249120" y="0"/>
            <a:ext cx="862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Specific Heats for an Ideal Gas: Constant Pressure, Constant Volume</a:t>
            </a:r>
            <a:endParaRPr b="0" lang="en-US" sz="3200" spc="-1" strike="noStrike">
              <a:solidFill>
                <a:srgbClr val="000000"/>
              </a:solidFill>
              <a:latin typeface="Times New Roman"/>
            </a:endParaRPr>
          </a:p>
        </p:txBody>
      </p:sp>
      <p:sp>
        <p:nvSpPr>
          <p:cNvPr id="312" name="Text Box 3"/>
          <p:cNvSpPr/>
          <p:nvPr/>
        </p:nvSpPr>
        <p:spPr>
          <a:xfrm>
            <a:off x="558720" y="1187280"/>
            <a:ext cx="80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Specific heats for ideal gases must be quoted either at constant pressure or at constant volume. For a constant-volume process, </a:t>
            </a:r>
            <a:endParaRPr b="0" lang="en-US" sz="2400" spc="-1" strike="noStrike">
              <a:solidFill>
                <a:srgbClr val="000000"/>
              </a:solidFill>
              <a:latin typeface="Times New Roman"/>
            </a:endParaRPr>
          </a:p>
        </p:txBody>
      </p:sp>
      <p:pic>
        <p:nvPicPr>
          <p:cNvPr id="313" name="Picture 5" descr="FG18_12"/>
          <p:cNvPicPr/>
          <p:nvPr/>
        </p:nvPicPr>
        <p:blipFill>
          <a:blip r:embed="rId1"/>
          <a:srcRect l="0" t="21255" r="0" b="23315"/>
          <a:stretch/>
        </p:blipFill>
        <p:spPr>
          <a:xfrm>
            <a:off x="795240" y="3381480"/>
            <a:ext cx="7807320" cy="3246480"/>
          </a:xfrm>
          <a:prstGeom prst="rect">
            <a:avLst/>
          </a:prstGeom>
          <a:ln w="0">
            <a:noFill/>
          </a:ln>
        </p:spPr>
      </p:pic>
      <p:pic>
        <p:nvPicPr>
          <p:cNvPr id="314" name="Picture 6" descr=""/>
          <p:cNvPicPr/>
          <p:nvPr/>
        </p:nvPicPr>
        <p:blipFill>
          <a:blip r:embed="rId2"/>
          <a:stretch/>
        </p:blipFill>
        <p:spPr>
          <a:xfrm>
            <a:off x="3398760" y="2679840"/>
            <a:ext cx="2344680" cy="590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249120" y="0"/>
            <a:ext cx="862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Specific Heats for an Ideal Gas: Constant Pressure, Constant Volume</a:t>
            </a:r>
            <a:endParaRPr b="0" lang="en-US" sz="3200" spc="-1" strike="noStrike">
              <a:solidFill>
                <a:srgbClr val="000000"/>
              </a:solidFill>
              <a:latin typeface="Times New Roman"/>
            </a:endParaRPr>
          </a:p>
        </p:txBody>
      </p:sp>
      <p:sp>
        <p:nvSpPr>
          <p:cNvPr id="316" name="Text Box 3"/>
          <p:cNvSpPr/>
          <p:nvPr/>
        </p:nvSpPr>
        <p:spPr>
          <a:xfrm>
            <a:off x="392040" y="1378080"/>
            <a:ext cx="819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t constant pressure,</a:t>
            </a:r>
            <a:endParaRPr b="0" lang="en-US" sz="2400" spc="-1" strike="noStrike">
              <a:solidFill>
                <a:srgbClr val="000000"/>
              </a:solidFill>
              <a:latin typeface="Times New Roman"/>
            </a:endParaRPr>
          </a:p>
        </p:txBody>
      </p:sp>
      <p:pic>
        <p:nvPicPr>
          <p:cNvPr id="317" name="Picture 4" descr=""/>
          <p:cNvPicPr/>
          <p:nvPr/>
        </p:nvPicPr>
        <p:blipFill>
          <a:blip r:embed="rId1"/>
          <a:stretch/>
        </p:blipFill>
        <p:spPr>
          <a:xfrm>
            <a:off x="3367080" y="2120760"/>
            <a:ext cx="2382840" cy="543240"/>
          </a:xfrm>
          <a:prstGeom prst="rect">
            <a:avLst/>
          </a:prstGeom>
          <a:ln w="0">
            <a:noFill/>
          </a:ln>
        </p:spPr>
      </p:pic>
      <p:pic>
        <p:nvPicPr>
          <p:cNvPr id="318" name="Picture 5" descr="FG18_13"/>
          <p:cNvPicPr/>
          <p:nvPr/>
        </p:nvPicPr>
        <p:blipFill>
          <a:blip r:embed="rId2"/>
          <a:srcRect l="0" t="21250" r="0" b="22167"/>
          <a:stretch/>
        </p:blipFill>
        <p:spPr>
          <a:xfrm>
            <a:off x="349200" y="2766960"/>
            <a:ext cx="8794800" cy="3732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49120" y="0"/>
            <a:ext cx="862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Specific Heats for an Ideal Gas: Constant Pressure, Constant Volume</a:t>
            </a:r>
            <a:endParaRPr b="0" lang="en-US" sz="3200" spc="-1" strike="noStrike">
              <a:solidFill>
                <a:srgbClr val="000000"/>
              </a:solidFill>
              <a:latin typeface="Times New Roman"/>
            </a:endParaRPr>
          </a:p>
        </p:txBody>
      </p:sp>
      <p:sp>
        <p:nvSpPr>
          <p:cNvPr id="320" name="Text Box 3"/>
          <p:cNvSpPr/>
          <p:nvPr/>
        </p:nvSpPr>
        <p:spPr>
          <a:xfrm>
            <a:off x="450720" y="1353960"/>
            <a:ext cx="84553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Both </a:t>
            </a:r>
            <a:r>
              <a:rPr b="0" i="1" lang="en-US" sz="2400" spc="-1" strike="noStrike">
                <a:solidFill>
                  <a:srgbClr val="c0504d"/>
                </a:solidFill>
                <a:latin typeface="Times New Roman"/>
              </a:rPr>
              <a:t>C</a:t>
            </a:r>
            <a:r>
              <a:rPr b="0" lang="en-US" sz="2400" spc="-1" strike="noStrike" baseline="-25000">
                <a:solidFill>
                  <a:srgbClr val="c0504d"/>
                </a:solidFill>
                <a:latin typeface="Times New Roman"/>
              </a:rPr>
              <a:t>V</a:t>
            </a:r>
            <a:r>
              <a:rPr b="0" lang="en-US" sz="2400" spc="-1" strike="noStrike">
                <a:solidFill>
                  <a:srgbClr val="c0504d"/>
                </a:solidFill>
                <a:latin typeface="Times New Roman"/>
              </a:rPr>
              <a:t> and </a:t>
            </a:r>
            <a:r>
              <a:rPr b="0" i="1" lang="en-US" sz="2400" spc="-1" strike="noStrike">
                <a:solidFill>
                  <a:srgbClr val="c0504d"/>
                </a:solidFill>
                <a:latin typeface="Times New Roman"/>
              </a:rPr>
              <a:t>C</a:t>
            </a:r>
            <a:r>
              <a:rPr b="0" lang="en-US" sz="2400" spc="-1" strike="noStrike" baseline="-25000">
                <a:solidFill>
                  <a:srgbClr val="c0504d"/>
                </a:solidFill>
                <a:latin typeface="Times New Roman"/>
              </a:rPr>
              <a:t>P</a:t>
            </a:r>
            <a:r>
              <a:rPr b="0" lang="en-US" sz="2400" spc="-1" strike="noStrike">
                <a:solidFill>
                  <a:srgbClr val="c0504d"/>
                </a:solidFill>
                <a:latin typeface="Times New Roman"/>
              </a:rPr>
              <a:t> can be calculated for a monatomic ideal gas using the first law of thermodynamics.</a:t>
            </a:r>
            <a:endParaRPr b="0" lang="en-US" sz="2400" spc="-1" strike="noStrike">
              <a:solidFill>
                <a:srgbClr val="000000"/>
              </a:solidFill>
              <a:latin typeface="Times New Roman"/>
            </a:endParaRPr>
          </a:p>
        </p:txBody>
      </p:sp>
      <p:pic>
        <p:nvPicPr>
          <p:cNvPr id="321" name="Picture 4" descr=""/>
          <p:cNvPicPr/>
          <p:nvPr/>
        </p:nvPicPr>
        <p:blipFill>
          <a:blip r:embed="rId1"/>
          <a:stretch/>
        </p:blipFill>
        <p:spPr>
          <a:xfrm>
            <a:off x="3835440" y="3087720"/>
            <a:ext cx="1471680" cy="676080"/>
          </a:xfrm>
          <a:prstGeom prst="rect">
            <a:avLst/>
          </a:prstGeom>
          <a:ln w="0">
            <a:noFill/>
          </a:ln>
        </p:spPr>
      </p:pic>
      <p:pic>
        <p:nvPicPr>
          <p:cNvPr id="322" name="Picture 5" descr=""/>
          <p:cNvPicPr/>
          <p:nvPr/>
        </p:nvPicPr>
        <p:blipFill>
          <a:blip r:embed="rId2"/>
          <a:stretch/>
        </p:blipFill>
        <p:spPr>
          <a:xfrm>
            <a:off x="3780000" y="4092480"/>
            <a:ext cx="1584000" cy="638280"/>
          </a:xfrm>
          <a:prstGeom prst="rect">
            <a:avLst/>
          </a:prstGeom>
          <a:ln w="0">
            <a:noFill/>
          </a:ln>
        </p:spPr>
      </p:pic>
      <p:pic>
        <p:nvPicPr>
          <p:cNvPr id="323" name="Picture 6" descr=""/>
          <p:cNvPicPr/>
          <p:nvPr/>
        </p:nvPicPr>
        <p:blipFill>
          <a:blip r:embed="rId3"/>
          <a:stretch/>
        </p:blipFill>
        <p:spPr>
          <a:xfrm>
            <a:off x="3492360" y="4987800"/>
            <a:ext cx="2345040" cy="676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249120" y="0"/>
            <a:ext cx="862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Specific Heats for an Ideal Gas: Constant Pressure, Constant Volume</a:t>
            </a:r>
            <a:endParaRPr b="0" lang="en-US" sz="3200" spc="-1" strike="noStrike">
              <a:solidFill>
                <a:srgbClr val="000000"/>
              </a:solidFill>
              <a:latin typeface="Times New Roman"/>
            </a:endParaRPr>
          </a:p>
        </p:txBody>
      </p:sp>
      <p:sp>
        <p:nvSpPr>
          <p:cNvPr id="325" name="Text Box 3"/>
          <p:cNvSpPr/>
          <p:nvPr/>
        </p:nvSpPr>
        <p:spPr>
          <a:xfrm>
            <a:off x="379440" y="1330200"/>
            <a:ext cx="849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lthough this calculation was done for an ideal, monatomic gas, it works well for real gases.</a:t>
            </a:r>
            <a:endParaRPr b="0" lang="en-US" sz="2400" spc="-1" strike="noStrike">
              <a:solidFill>
                <a:srgbClr val="000000"/>
              </a:solidFill>
              <a:latin typeface="Times New Roman"/>
            </a:endParaRPr>
          </a:p>
        </p:txBody>
      </p:sp>
      <p:pic>
        <p:nvPicPr>
          <p:cNvPr id="326" name="Picture 5" descr="18-22Table18-03"/>
          <p:cNvPicPr/>
          <p:nvPr/>
        </p:nvPicPr>
        <p:blipFill>
          <a:blip r:embed="rId1"/>
          <a:stretch/>
        </p:blipFill>
        <p:spPr>
          <a:xfrm>
            <a:off x="1487520" y="2428920"/>
            <a:ext cx="6130800" cy="418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249120" y="0"/>
            <a:ext cx="862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Specific Heats for an Ideal Gas: Constant Pressure, Constant Volume</a:t>
            </a:r>
            <a:endParaRPr b="0" lang="en-US" sz="3200" spc="-1" strike="noStrike">
              <a:solidFill>
                <a:srgbClr val="000000"/>
              </a:solidFill>
              <a:latin typeface="Times New Roman"/>
            </a:endParaRPr>
          </a:p>
        </p:txBody>
      </p:sp>
      <p:pic>
        <p:nvPicPr>
          <p:cNvPr id="328" name="Picture 3" descr="FG18_14"/>
          <p:cNvPicPr/>
          <p:nvPr/>
        </p:nvPicPr>
        <p:blipFill>
          <a:blip r:embed="rId1"/>
          <a:stretch/>
        </p:blipFill>
        <p:spPr>
          <a:xfrm>
            <a:off x="176040" y="2149560"/>
            <a:ext cx="6046920" cy="4535280"/>
          </a:xfrm>
          <a:prstGeom prst="rect">
            <a:avLst/>
          </a:prstGeom>
          <a:ln w="0">
            <a:noFill/>
          </a:ln>
        </p:spPr>
      </p:pic>
      <p:sp>
        <p:nvSpPr>
          <p:cNvPr id="329" name="Text Box 4"/>
          <p:cNvSpPr/>
          <p:nvPr/>
        </p:nvSpPr>
        <p:spPr>
          <a:xfrm>
            <a:off x="3218040" y="1306440"/>
            <a:ext cx="564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P-V curve for an adiabat is given by </a:t>
            </a:r>
            <a:endParaRPr b="0" lang="en-US" sz="2400" spc="-1" strike="noStrike">
              <a:solidFill>
                <a:srgbClr val="000000"/>
              </a:solidFill>
              <a:latin typeface="Times New Roman"/>
            </a:endParaRPr>
          </a:p>
        </p:txBody>
      </p:sp>
      <p:pic>
        <p:nvPicPr>
          <p:cNvPr id="330" name="Picture 5" descr=""/>
          <p:cNvPicPr/>
          <p:nvPr/>
        </p:nvPicPr>
        <p:blipFill>
          <a:blip r:embed="rId2"/>
          <a:stretch/>
        </p:blipFill>
        <p:spPr>
          <a:xfrm>
            <a:off x="4560840" y="2371680"/>
            <a:ext cx="2800440" cy="638280"/>
          </a:xfrm>
          <a:prstGeom prst="rect">
            <a:avLst/>
          </a:prstGeom>
          <a:ln w="0">
            <a:noFill/>
          </a:ln>
        </p:spPr>
      </p:pic>
      <p:sp>
        <p:nvSpPr>
          <p:cNvPr id="331" name="Text Box 6"/>
          <p:cNvSpPr/>
          <p:nvPr/>
        </p:nvSpPr>
        <p:spPr>
          <a:xfrm>
            <a:off x="4035600" y="3575160"/>
            <a:ext cx="13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where</a:t>
            </a:r>
            <a:endParaRPr b="0" lang="en-US" sz="2400" spc="-1" strike="noStrike">
              <a:solidFill>
                <a:srgbClr val="000000"/>
              </a:solidFill>
              <a:latin typeface="Times New Roman"/>
            </a:endParaRPr>
          </a:p>
        </p:txBody>
      </p:sp>
      <p:pic>
        <p:nvPicPr>
          <p:cNvPr id="332" name="Picture 7" descr=""/>
          <p:cNvPicPr/>
          <p:nvPr/>
        </p:nvPicPr>
        <p:blipFill>
          <a:blip r:embed="rId3"/>
          <a:stretch/>
        </p:blipFill>
        <p:spPr>
          <a:xfrm>
            <a:off x="5186520" y="3121200"/>
            <a:ext cx="3255840" cy="141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of Engineering Thermodynamics</a:t>
            </a:r>
            <a:endParaRPr b="0" lang="en-US" sz="2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ineering Thermodynamics is the subject that deals with the </a:t>
            </a:r>
            <a:r>
              <a:rPr b="1" i="1" lang="en-US" sz="2400" spc="-1" strike="noStrike">
                <a:solidFill>
                  <a:srgbClr val="000000"/>
                </a:solidFill>
                <a:latin typeface="Calibri"/>
              </a:rPr>
              <a:t>study of the science of thermodynamics</a:t>
            </a:r>
            <a:r>
              <a:rPr b="0" lang="en-US" sz="2400" spc="-1" strike="noStrike">
                <a:solidFill>
                  <a:srgbClr val="000000"/>
                </a:solidFill>
                <a:latin typeface="Calibri"/>
              </a:rPr>
              <a:t> and the </a:t>
            </a:r>
            <a:r>
              <a:rPr b="1" i="1" lang="en-US" sz="2400" spc="-1" strike="noStrike">
                <a:solidFill>
                  <a:srgbClr val="000000"/>
                </a:solidFill>
                <a:latin typeface="Calibri"/>
              </a:rPr>
              <a:t>usefulness</a:t>
            </a:r>
            <a:r>
              <a:rPr b="0" lang="en-US" sz="2400" spc="-1" strike="noStrike">
                <a:solidFill>
                  <a:srgbClr val="000000"/>
                </a:solidFill>
                <a:latin typeface="Calibri"/>
              </a:rPr>
              <a:t> of this science in the design of each &amp; every process, device or system </a:t>
            </a:r>
            <a:r>
              <a:rPr b="1" i="1" lang="en-US" sz="2400" spc="-1" strike="noStrike">
                <a:solidFill>
                  <a:srgbClr val="000000"/>
                </a:solidFill>
                <a:latin typeface="Calibri"/>
              </a:rPr>
              <a:t>involving the effective utilization of energy and matter</a:t>
            </a:r>
            <a:r>
              <a:rPr b="0" lang="en-US" sz="2400" spc="-1" strike="noStrike">
                <a:solidFill>
                  <a:srgbClr val="000000"/>
                </a:solidFill>
                <a:latin typeface="Calibri"/>
              </a:rPr>
              <a:t> for the benefit of manki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Trio</a:t>
            </a:r>
            <a:r>
              <a:rPr b="0" lang="en-US" sz="2400" spc="-1" strike="noStrike">
                <a:solidFill>
                  <a:srgbClr val="000000"/>
                </a:solidFill>
                <a:latin typeface="Calibri"/>
              </a:rPr>
              <a:t> of Thermodynamics : </a:t>
            </a:r>
            <a:r>
              <a:rPr b="1" lang="en-US" sz="2400" spc="-1" strike="noStrike">
                <a:solidFill>
                  <a:srgbClr val="000000"/>
                </a:solidFill>
                <a:latin typeface="Calibri"/>
              </a:rPr>
              <a:t>Heat, Work &amp; Energy</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ter playing the role of a Hou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66" dur="500"/>
                                        <p:tgtEl>
                                          <p:spTgt spid="78">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78">
                                            <p:txEl>
                                              <p:pRg st="1" end="1"/>
                                            </p:txEl>
                                          </p:spTgt>
                                        </p:tgtEl>
                                        <p:attrNameLst>
                                          <p:attrName>style.visibility</p:attrName>
                                        </p:attrNameLst>
                                      </p:cBhvr>
                                      <p:to>
                                        <p:strVal val="visible"/>
                                      </p:to>
                                    </p:set>
                                    <p:animEffect filter="dissolve" transition="in">
                                      <p:cBhvr additive="repl">
                                        <p:cTn id="71" dur="500"/>
                                        <p:tgtEl>
                                          <p:spTgt spid="7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76"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 Second Law of Thermodynamics</a:t>
            </a:r>
            <a:endParaRPr b="0" lang="en-US" sz="3200" spc="-1" strike="noStrike">
              <a:solidFill>
                <a:srgbClr val="000000"/>
              </a:solidFill>
              <a:latin typeface="Times New Roman"/>
            </a:endParaRPr>
          </a:p>
        </p:txBody>
      </p:sp>
      <p:sp>
        <p:nvSpPr>
          <p:cNvPr id="334" name="Text Box 3"/>
          <p:cNvSpPr/>
          <p:nvPr/>
        </p:nvSpPr>
        <p:spPr>
          <a:xfrm>
            <a:off x="474840" y="665280"/>
            <a:ext cx="815796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We observe that heat always flows spontaneously from a warmer object to a cooler one, although the opposite would not violate the conservation of energy. This direction of heat flow is one of the ways of expressing the second law of thermodynam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objects of different temperatures are brought into thermal contact, the spontaneous flow of heat that results is always from the high temperature object to the low temperature object. Spontaneous heat flow never proceeds in the revers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Heat Engines and the Carnot Cycle</a:t>
            </a:r>
            <a:endParaRPr b="0" lang="en-US" sz="3200" spc="-1" strike="noStrike">
              <a:solidFill>
                <a:srgbClr val="000000"/>
              </a:solidFill>
              <a:latin typeface="Times New Roman"/>
            </a:endParaRPr>
          </a:p>
        </p:txBody>
      </p:sp>
      <p:sp>
        <p:nvSpPr>
          <p:cNvPr id="336" name="Text Box 3"/>
          <p:cNvSpPr/>
          <p:nvPr/>
        </p:nvSpPr>
        <p:spPr>
          <a:xfrm>
            <a:off x="293760" y="735120"/>
            <a:ext cx="8396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 heat engine is a device that converts heat into work. A classic example is the steam engine. Fuel heats the water; the vapor expands and does work against the piston; the vapor</a:t>
            </a:r>
            <a:endParaRPr b="0" lang="en-US" sz="2400" spc="-1" strike="noStrike">
              <a:solidFill>
                <a:srgbClr val="000000"/>
              </a:solidFill>
              <a:latin typeface="Times New Roman"/>
            </a:endParaRPr>
          </a:p>
        </p:txBody>
      </p:sp>
      <p:pic>
        <p:nvPicPr>
          <p:cNvPr id="337" name="Picture 4" descr="FG18_15"/>
          <p:cNvPicPr/>
          <p:nvPr/>
        </p:nvPicPr>
        <p:blipFill>
          <a:blip r:embed="rId1"/>
          <a:stretch/>
        </p:blipFill>
        <p:spPr>
          <a:xfrm>
            <a:off x="3062160" y="2438280"/>
            <a:ext cx="5892840" cy="4419720"/>
          </a:xfrm>
          <a:prstGeom prst="rect">
            <a:avLst/>
          </a:prstGeom>
          <a:ln w="0">
            <a:noFill/>
          </a:ln>
        </p:spPr>
      </p:pic>
      <p:sp>
        <p:nvSpPr>
          <p:cNvPr id="338" name="Text Box 5"/>
          <p:cNvSpPr/>
          <p:nvPr/>
        </p:nvSpPr>
        <p:spPr>
          <a:xfrm>
            <a:off x="339840" y="2427120"/>
            <a:ext cx="3389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condenses back into water again and the cycle rep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Heat Engines and the Carnot Cycle</a:t>
            </a:r>
            <a:endParaRPr b="0" lang="en-US" sz="3200" spc="-1" strike="noStrike">
              <a:solidFill>
                <a:srgbClr val="000000"/>
              </a:solidFill>
              <a:latin typeface="Times New Roman"/>
            </a:endParaRPr>
          </a:p>
        </p:txBody>
      </p:sp>
      <p:sp>
        <p:nvSpPr>
          <p:cNvPr id="340" name="Text Box 3"/>
          <p:cNvSpPr/>
          <p:nvPr/>
        </p:nvSpPr>
        <p:spPr>
          <a:xfrm>
            <a:off x="249120" y="1568520"/>
            <a:ext cx="5440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ll heat engines hav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a high-temperature reservoir</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a low-temperature reservoir</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a cyclical eng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se are illustrated schematically here.</a:t>
            </a:r>
            <a:endParaRPr b="0" lang="en-US" sz="2400" spc="-1" strike="noStrike">
              <a:solidFill>
                <a:srgbClr val="000000"/>
              </a:solidFill>
              <a:latin typeface="Times New Roman"/>
            </a:endParaRPr>
          </a:p>
        </p:txBody>
      </p:sp>
      <p:pic>
        <p:nvPicPr>
          <p:cNvPr id="341" name="Picture 4" descr="FG18_16"/>
          <p:cNvPicPr/>
          <p:nvPr/>
        </p:nvPicPr>
        <p:blipFill>
          <a:blip r:embed="rId1"/>
          <a:srcRect l="27592" t="0" r="28067" b="0"/>
          <a:stretch/>
        </p:blipFill>
        <p:spPr>
          <a:xfrm>
            <a:off x="5392800" y="768240"/>
            <a:ext cx="3416400" cy="577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Heat Engines and the Carnot Cycle</a:t>
            </a:r>
            <a:endParaRPr b="0" lang="en-US" sz="3200" spc="-1" strike="noStrike">
              <a:solidFill>
                <a:srgbClr val="000000"/>
              </a:solidFill>
              <a:latin typeface="Times New Roman"/>
            </a:endParaRPr>
          </a:p>
        </p:txBody>
      </p:sp>
      <p:sp>
        <p:nvSpPr>
          <p:cNvPr id="343" name="Text Box 3"/>
          <p:cNvSpPr/>
          <p:nvPr/>
        </p:nvSpPr>
        <p:spPr>
          <a:xfrm>
            <a:off x="379440" y="866880"/>
            <a:ext cx="850248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n amount of heat </a:t>
            </a:r>
            <a:r>
              <a:rPr b="0" i="1" lang="en-US" sz="2400" spc="-1" strike="noStrike">
                <a:solidFill>
                  <a:srgbClr val="c0504d"/>
                </a:solidFill>
                <a:latin typeface="Times New Roman"/>
              </a:rPr>
              <a:t>Q</a:t>
            </a:r>
            <a:r>
              <a:rPr b="0" lang="en-US" sz="2400" spc="-1" strike="noStrike" baseline="-25000">
                <a:solidFill>
                  <a:srgbClr val="c0504d"/>
                </a:solidFill>
                <a:latin typeface="Times New Roman"/>
              </a:rPr>
              <a:t>h</a:t>
            </a:r>
            <a:r>
              <a:rPr b="0" lang="en-US" sz="2400" spc="-1" strike="noStrike">
                <a:solidFill>
                  <a:srgbClr val="c0504d"/>
                </a:solidFill>
                <a:latin typeface="Times New Roman"/>
              </a:rPr>
              <a:t> is supplied from the hot reservoir to the engine during each cycle. Of that heat, some appears as work, and the rest, </a:t>
            </a:r>
            <a:r>
              <a:rPr b="0" i="1" lang="en-US" sz="2400" spc="-1" strike="noStrike">
                <a:solidFill>
                  <a:srgbClr val="c0504d"/>
                </a:solidFill>
                <a:latin typeface="Times New Roman"/>
              </a:rPr>
              <a:t>Q</a:t>
            </a:r>
            <a:r>
              <a:rPr b="0" lang="en-US" sz="2400" spc="-1" strike="noStrike" baseline="-25000">
                <a:solidFill>
                  <a:srgbClr val="c0504d"/>
                </a:solidFill>
                <a:latin typeface="Times New Roman"/>
              </a:rPr>
              <a:t>c</a:t>
            </a:r>
            <a:r>
              <a:rPr b="0" lang="en-US" sz="2400" spc="-1" strike="noStrike">
                <a:solidFill>
                  <a:srgbClr val="c0504d"/>
                </a:solidFill>
                <a:latin typeface="Times New Roman"/>
              </a:rPr>
              <a:t>, is given off as waste heat to the cold reservoir.</a:t>
            </a:r>
            <a:endParaRPr b="0" lang="en-US" sz="2400" spc="-1" strike="noStrike">
              <a:solidFill>
                <a:srgbClr val="000000"/>
              </a:solidFill>
              <a:latin typeface="Times New Roman"/>
            </a:endParaRPr>
          </a:p>
        </p:txBody>
      </p:sp>
      <p:pic>
        <p:nvPicPr>
          <p:cNvPr id="344" name="Picture 4" descr=""/>
          <p:cNvPicPr/>
          <p:nvPr/>
        </p:nvPicPr>
        <p:blipFill>
          <a:blip r:embed="rId1"/>
          <a:stretch/>
        </p:blipFill>
        <p:spPr>
          <a:xfrm>
            <a:off x="3274920" y="3046320"/>
            <a:ext cx="2497320" cy="476280"/>
          </a:xfrm>
          <a:prstGeom prst="rect">
            <a:avLst/>
          </a:prstGeom>
          <a:ln w="0">
            <a:noFill/>
          </a:ln>
        </p:spPr>
      </p:pic>
      <p:sp>
        <p:nvSpPr>
          <p:cNvPr id="345" name="Text Box 5"/>
          <p:cNvSpPr/>
          <p:nvPr/>
        </p:nvSpPr>
        <p:spPr>
          <a:xfrm>
            <a:off x="474840" y="3646440"/>
            <a:ext cx="800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efficiency is the fraction of the heat supplied to the engine that appears as work.</a:t>
            </a:r>
            <a:endParaRPr b="0" lang="en-US" sz="2400" spc="-1" strike="noStrike">
              <a:solidFill>
                <a:srgbClr val="000000"/>
              </a:solidFill>
              <a:latin typeface="Times New Roman"/>
            </a:endParaRPr>
          </a:p>
        </p:txBody>
      </p:sp>
      <p:pic>
        <p:nvPicPr>
          <p:cNvPr id="346" name="Picture 6" descr=""/>
          <p:cNvPicPr/>
          <p:nvPr/>
        </p:nvPicPr>
        <p:blipFill>
          <a:blip r:embed="rId2"/>
          <a:stretch/>
        </p:blipFill>
        <p:spPr>
          <a:xfrm>
            <a:off x="3735360" y="4748040"/>
            <a:ext cx="1433520" cy="1341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Heat Engines and the Carnot Cycle</a:t>
            </a:r>
            <a:endParaRPr b="0" lang="en-US" sz="3200" spc="-1" strike="noStrike">
              <a:solidFill>
                <a:srgbClr val="000000"/>
              </a:solidFill>
              <a:latin typeface="Times New Roman"/>
            </a:endParaRPr>
          </a:p>
        </p:txBody>
      </p:sp>
      <p:sp>
        <p:nvSpPr>
          <p:cNvPr id="348" name="Text Box 3"/>
          <p:cNvSpPr/>
          <p:nvPr/>
        </p:nvSpPr>
        <p:spPr>
          <a:xfrm>
            <a:off x="617400" y="855720"/>
            <a:ext cx="80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efficiency can also be written:</a:t>
            </a:r>
            <a:endParaRPr b="0" lang="en-US" sz="2400" spc="-1" strike="noStrike">
              <a:solidFill>
                <a:srgbClr val="000000"/>
              </a:solidFill>
              <a:latin typeface="Times New Roman"/>
            </a:endParaRPr>
          </a:p>
        </p:txBody>
      </p:sp>
      <p:pic>
        <p:nvPicPr>
          <p:cNvPr id="349" name="Picture 4" descr=""/>
          <p:cNvPicPr/>
          <p:nvPr/>
        </p:nvPicPr>
        <p:blipFill>
          <a:blip r:embed="rId1"/>
          <a:stretch/>
        </p:blipFill>
        <p:spPr>
          <a:xfrm>
            <a:off x="1724040" y="1779480"/>
            <a:ext cx="5383080" cy="2055960"/>
          </a:xfrm>
          <a:prstGeom prst="rect">
            <a:avLst/>
          </a:prstGeom>
          <a:ln w="0">
            <a:noFill/>
          </a:ln>
        </p:spPr>
      </p:pic>
      <p:sp>
        <p:nvSpPr>
          <p:cNvPr id="350" name="Text Box 5"/>
          <p:cNvSpPr/>
          <p:nvPr/>
        </p:nvSpPr>
        <p:spPr>
          <a:xfrm>
            <a:off x="784080" y="4168800"/>
            <a:ext cx="7159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n order for the engine to run, there must be a temperature difference; otherwise heat will not be transfer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Heat Engines and the Carnot Cycle</a:t>
            </a:r>
            <a:endParaRPr b="0" lang="en-US" sz="3200" spc="-1" strike="noStrike">
              <a:solidFill>
                <a:srgbClr val="000000"/>
              </a:solidFill>
              <a:latin typeface="Times New Roman"/>
            </a:endParaRPr>
          </a:p>
        </p:txBody>
      </p:sp>
      <p:sp>
        <p:nvSpPr>
          <p:cNvPr id="352" name="Text Box 3"/>
          <p:cNvSpPr/>
          <p:nvPr/>
        </p:nvSpPr>
        <p:spPr>
          <a:xfrm>
            <a:off x="511200" y="1095480"/>
            <a:ext cx="822960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maximum-efficiency heat engine is described in Carnot’s theor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engine operating between two constant-temperature reservoirs is to have maximum efficiency, it must be an engine in which all processes are reversible. In addition, all reversible engines operating between the same two temperatures,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nd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h</a:t>
            </a:r>
            <a:r>
              <a:rPr b="0" lang="en-US" sz="2400" spc="-1" strike="noStrike">
                <a:solidFill>
                  <a:srgbClr val="000000"/>
                </a:solidFill>
                <a:latin typeface="Times New Roman"/>
              </a:rPr>
              <a:t>, have the same efficienc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is is an idealization; no real engine can be perfectly rever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Heat Engines and the Carnot Cycle</a:t>
            </a:r>
            <a:endParaRPr b="0" lang="en-US" sz="3200" spc="-1" strike="noStrike">
              <a:solidFill>
                <a:srgbClr val="000000"/>
              </a:solidFill>
              <a:latin typeface="Times New Roman"/>
            </a:endParaRPr>
          </a:p>
        </p:txBody>
      </p:sp>
      <p:sp>
        <p:nvSpPr>
          <p:cNvPr id="354" name="Text Box 3"/>
          <p:cNvSpPr/>
          <p:nvPr/>
        </p:nvSpPr>
        <p:spPr>
          <a:xfrm>
            <a:off x="379440" y="866880"/>
            <a:ext cx="8456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the efficiency depends only on the two temperatures, the ratio of the temperatures must be the same as the ratio of the transferred heats. Therefore, the maximum efficiency of a heat engine can be written:</a:t>
            </a:r>
            <a:endParaRPr b="0" lang="en-US" sz="2400" spc="-1" strike="noStrike">
              <a:solidFill>
                <a:srgbClr val="000000"/>
              </a:solidFill>
              <a:latin typeface="Times New Roman"/>
            </a:endParaRPr>
          </a:p>
        </p:txBody>
      </p:sp>
      <p:pic>
        <p:nvPicPr>
          <p:cNvPr id="355" name="Picture 4" descr=""/>
          <p:cNvPicPr/>
          <p:nvPr/>
        </p:nvPicPr>
        <p:blipFill>
          <a:blip r:embed="rId1"/>
          <a:stretch/>
        </p:blipFill>
        <p:spPr>
          <a:xfrm>
            <a:off x="1293840" y="3511440"/>
            <a:ext cx="6483240" cy="1513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18-6 Heat Engines and the Carnot Cycle</a:t>
            </a:r>
            <a:endParaRPr b="0" lang="en-US" sz="3200" spc="-1" strike="noStrike">
              <a:solidFill>
                <a:srgbClr val="000000"/>
              </a:solidFill>
              <a:latin typeface="Times New Roman"/>
            </a:endParaRPr>
          </a:p>
        </p:txBody>
      </p:sp>
      <p:sp>
        <p:nvSpPr>
          <p:cNvPr id="357" name="Text Box 3"/>
          <p:cNvSpPr/>
          <p:nvPr/>
        </p:nvSpPr>
        <p:spPr>
          <a:xfrm>
            <a:off x="426960" y="771480"/>
            <a:ext cx="80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maximum work a heat engine can do is then:</a:t>
            </a:r>
            <a:endParaRPr b="0" lang="en-US" sz="2400" spc="-1" strike="noStrike">
              <a:solidFill>
                <a:srgbClr val="000000"/>
              </a:solidFill>
              <a:latin typeface="Times New Roman"/>
            </a:endParaRPr>
          </a:p>
        </p:txBody>
      </p:sp>
      <p:pic>
        <p:nvPicPr>
          <p:cNvPr id="358" name="Picture 4" descr=""/>
          <p:cNvPicPr/>
          <p:nvPr/>
        </p:nvPicPr>
        <p:blipFill>
          <a:blip r:embed="rId1"/>
          <a:stretch/>
        </p:blipFill>
        <p:spPr>
          <a:xfrm>
            <a:off x="1704960" y="2033640"/>
            <a:ext cx="5307120" cy="1122480"/>
          </a:xfrm>
          <a:prstGeom prst="rect">
            <a:avLst/>
          </a:prstGeom>
          <a:ln w="0">
            <a:noFill/>
          </a:ln>
        </p:spPr>
      </p:pic>
      <p:sp>
        <p:nvSpPr>
          <p:cNvPr id="359" name="Text Box 5"/>
          <p:cNvSpPr/>
          <p:nvPr/>
        </p:nvSpPr>
        <p:spPr>
          <a:xfrm>
            <a:off x="511200" y="3360600"/>
            <a:ext cx="795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the two reservoirs are at the same temperature, the efficiency is zero; the smaller the ratio of the cold temperature to the hot temperature, the closer the efficiency will be to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Refrigerators, Air Conditioners, and Heat Pumps</a:t>
            </a:r>
            <a:endParaRPr b="0" lang="en-US" sz="3200" spc="-1" strike="noStrike">
              <a:solidFill>
                <a:srgbClr val="000000"/>
              </a:solidFill>
              <a:latin typeface="Times New Roman"/>
            </a:endParaRPr>
          </a:p>
        </p:txBody>
      </p:sp>
      <p:sp>
        <p:nvSpPr>
          <p:cNvPr id="361" name="Text Box 3"/>
          <p:cNvSpPr/>
          <p:nvPr/>
        </p:nvSpPr>
        <p:spPr>
          <a:xfrm>
            <a:off x="357120" y="1911240"/>
            <a:ext cx="8086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While heat will flow spontaneously only from a higher temperature to a lower one, it can be made to flow the other way if work is done on the system. Refrigerators, air conditioners, and heat pumps all use work to transfer heat from a cold object to a hot ob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Object 2"/>
          <p:cNvGraphicFramePr/>
          <p:nvPr/>
        </p:nvGraphicFramePr>
        <p:xfrm>
          <a:off x="154080" y="1133640"/>
          <a:ext cx="5319720" cy="3676320"/>
        </p:xfrm>
        <a:graphic>
          <a:graphicData uri="http://schemas.openxmlformats.org/presentationml/2006/ole">
            <p:oleObj r:id="rId1" spid="">
              <p:embed/>
              <p:pic>
                <p:nvPicPr>
                  <p:cNvPr id="363" name="Object 2" descr=""/>
                  <p:cNvPicPr/>
                  <p:nvPr/>
                </p:nvPicPr>
                <p:blipFill>
                  <a:blip r:embed="rId2"/>
                  <a:stretch/>
                </p:blipFill>
                <p:spPr>
                  <a:xfrm>
                    <a:off x="154080" y="1133640"/>
                    <a:ext cx="5319720" cy="3676320"/>
                  </a:xfrm>
                  <a:prstGeom prst="rect">
                    <a:avLst/>
                  </a:prstGeom>
                  <a:ln w="0">
                    <a:noFill/>
                  </a:ln>
                </p:spPr>
              </p:pic>
            </p:oleObj>
          </a:graphicData>
        </a:graphic>
      </p:graphicFrame>
      <p:sp>
        <p:nvSpPr>
          <p:cNvPr id="364" name="Text Box 3"/>
          <p:cNvSpPr/>
          <p:nvPr/>
        </p:nvSpPr>
        <p:spPr>
          <a:xfrm>
            <a:off x="249120" y="0"/>
            <a:ext cx="862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18-7 Refrigerators, Air Conditioners, and Heat Pumps</a:t>
            </a:r>
            <a:endParaRPr b="0" lang="en-US" sz="3200" spc="-1" strike="noStrike">
              <a:solidFill>
                <a:srgbClr val="000000"/>
              </a:solidFill>
              <a:latin typeface="Times New Roman"/>
            </a:endParaRPr>
          </a:p>
        </p:txBody>
      </p:sp>
      <p:sp>
        <p:nvSpPr>
          <p:cNvPr id="365" name="Text Box 4"/>
          <p:cNvSpPr/>
          <p:nvPr/>
        </p:nvSpPr>
        <p:spPr>
          <a:xfrm>
            <a:off x="5460840" y="1020600"/>
            <a:ext cx="36831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we compare the heat engine and the refrigerator, we see that the refrigerator is basically a heat engine running backwards – it uses work to extract heat from the co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6" name="Text Box 5"/>
          <p:cNvSpPr/>
          <p:nvPr/>
        </p:nvSpPr>
        <p:spPr>
          <a:xfrm>
            <a:off x="237960" y="4834080"/>
            <a:ext cx="8906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reservoir (the inside of the refrigerator) and exhausts to the kitchen. Note that</a:t>
            </a:r>
            <a:endParaRPr b="0" lang="en-US" sz="2400" spc="-1" strike="noStrike">
              <a:solidFill>
                <a:srgbClr val="000000"/>
              </a:solidFill>
              <a:latin typeface="Times New Roman"/>
            </a:endParaRPr>
          </a:p>
        </p:txBody>
      </p:sp>
      <p:pic>
        <p:nvPicPr>
          <p:cNvPr id="367" name="Picture 6" descr=""/>
          <p:cNvPicPr/>
          <p:nvPr/>
        </p:nvPicPr>
        <p:blipFill>
          <a:blip r:embed="rId3"/>
          <a:stretch/>
        </p:blipFill>
        <p:spPr>
          <a:xfrm>
            <a:off x="6121440" y="5276880"/>
            <a:ext cx="2606760" cy="511200"/>
          </a:xfrm>
          <a:prstGeom prst="rect">
            <a:avLst/>
          </a:prstGeom>
          <a:ln w="0">
            <a:noFill/>
          </a:ln>
        </p:spPr>
      </p:pic>
      <p:sp>
        <p:nvSpPr>
          <p:cNvPr id="368" name="Text Box 7"/>
          <p:cNvSpPr/>
          <p:nvPr/>
        </p:nvSpPr>
        <p:spPr>
          <a:xfrm>
            <a:off x="201600" y="5675400"/>
            <a:ext cx="8656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more heat is exhausted to the kitchen than is removed from the refrig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ff"/>
                </a:solidFill>
                <a:latin typeface="Calibri"/>
              </a:rPr>
              <a:t>Albert Einstein`s</a:t>
            </a:r>
            <a:r>
              <a:rPr b="0" lang="en-US" sz="4000" spc="-1" strike="noStrike">
                <a:solidFill>
                  <a:srgbClr val="3366ff"/>
                </a:solidFill>
                <a:latin typeface="Calibri"/>
              </a:rPr>
              <a:t> </a:t>
            </a:r>
            <a:r>
              <a:rPr b="0" lang="en-US" sz="2500" spc="-1" strike="noStrike">
                <a:solidFill>
                  <a:srgbClr val="3366ff"/>
                </a:solidFill>
                <a:latin typeface="Calibri"/>
              </a:rPr>
              <a:t>Opinion on Best Theory</a:t>
            </a:r>
            <a:endParaRPr b="0" lang="en-US" sz="2500" spc="-1" strike="noStrike">
              <a:solidFill>
                <a:srgbClr val="000000"/>
              </a:solidFill>
              <a:latin typeface="Calibri"/>
            </a:endParaRPr>
          </a:p>
        </p:txBody>
      </p:sp>
      <p:sp>
        <p:nvSpPr>
          <p:cNvPr id="80"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heory is more impressive  or useful</a:t>
            </a:r>
            <a:endParaRPr b="0" lang="en-US" sz="2400" spc="-1" strike="noStrike">
              <a:solidFill>
                <a:srgbClr val="000000"/>
              </a:solidFill>
              <a:latin typeface="Calibri"/>
            </a:endParaRPr>
          </a:p>
          <a:p>
            <a:pPr lvl="1" marL="743040" indent="-28584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Calibri"/>
              </a:rPr>
              <a:t>the greater the simplicity of its premises is,</a:t>
            </a:r>
            <a:endParaRPr b="0" lang="en-US" sz="2400" spc="-1" strike="noStrike">
              <a:solidFill>
                <a:srgbClr val="000000"/>
              </a:solidFill>
              <a:latin typeface="Calibri"/>
            </a:endParaRPr>
          </a:p>
          <a:p>
            <a:pPr lvl="1" marL="743040" indent="-28584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Calibri"/>
              </a:rPr>
              <a:t>the more different kinds of things it relates,</a:t>
            </a:r>
            <a:endParaRPr b="0" lang="en-US" sz="2400" spc="-1" strike="noStrike">
              <a:solidFill>
                <a:srgbClr val="000000"/>
              </a:solidFill>
              <a:latin typeface="Calibri"/>
            </a:endParaRPr>
          </a:p>
          <a:p>
            <a:pPr lvl="1" marL="743040" indent="-28584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Calibri"/>
              </a:rPr>
              <a:t>and the more extended is its area of applicability</a:t>
            </a:r>
            <a:r>
              <a:rPr b="1" i="1"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Calibri"/>
              </a:rPr>
              <a:t>Therefore, the deep impression which </a:t>
            </a:r>
            <a:r>
              <a:rPr b="1" i="1" lang="en-US" sz="2400" spc="-1" strike="noStrike">
                <a:solidFill>
                  <a:srgbClr val="ff9900"/>
                </a:solidFill>
                <a:latin typeface="Calibri"/>
              </a:rPr>
              <a:t>Classical Thermodynamics</a:t>
            </a:r>
            <a:r>
              <a:rPr b="0" i="1" lang="en-US" sz="2400" spc="-1" strike="noStrike">
                <a:solidFill>
                  <a:srgbClr val="ff0066"/>
                </a:solidFill>
                <a:latin typeface="Calibri"/>
              </a:rPr>
              <a:t> made upon m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only physical theory of universal content concerning which I am convinced that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ithin the framework of the applicability of its basic concepts, it will never be overthrown.</a:t>
            </a:r>
            <a:endParaRPr b="0" lang="en-US" sz="2800" spc="-1" strike="noStrike">
              <a:solidFill>
                <a:srgbClr val="000000"/>
              </a:solidFill>
              <a:latin typeface="Calibri"/>
            </a:endParaRPr>
          </a:p>
        </p:txBody>
      </p:sp>
      <p:grpSp>
        <p:nvGrpSpPr>
          <p:cNvPr id="81" name="Group 4"/>
          <p:cNvGrpSpPr/>
          <p:nvPr/>
        </p:nvGrpSpPr>
        <p:grpSpPr>
          <a:xfrm>
            <a:off x="0" y="38160"/>
            <a:ext cx="9143640" cy="6819480"/>
            <a:chOff x="0" y="38160"/>
            <a:chExt cx="9143640" cy="6819480"/>
          </a:xfrm>
        </p:grpSpPr>
        <p:grpSp>
          <p:nvGrpSpPr>
            <p:cNvPr id="82" name="Group 5"/>
            <p:cNvGrpSpPr/>
            <p:nvPr/>
          </p:nvGrpSpPr>
          <p:grpSpPr>
            <a:xfrm>
              <a:off x="0" y="38160"/>
              <a:ext cx="138240" cy="6819480"/>
              <a:chOff x="0" y="38160"/>
              <a:chExt cx="138240" cy="6819480"/>
            </a:xfrm>
          </p:grpSpPr>
          <p:sp>
            <p:nvSpPr>
              <p:cNvPr id="83" name="Rectangle 6"/>
              <p:cNvSpPr/>
              <p:nvPr/>
            </p:nvSpPr>
            <p:spPr>
              <a:xfrm>
                <a:off x="0" y="38160"/>
                <a:ext cx="138240" cy="3672000"/>
              </a:xfrm>
              <a:prstGeom prst="rect">
                <a:avLst/>
              </a:prstGeom>
              <a:gradFill rotWithShape="0">
                <a:gsLst>
                  <a:gs pos="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7"/>
              <p:cNvSpPr/>
              <p:nvPr/>
            </p:nvSpPr>
            <p:spPr>
              <a:xfrm>
                <a:off x="0" y="3485520"/>
                <a:ext cx="138240" cy="3372120"/>
              </a:xfrm>
              <a:prstGeom prst="rect">
                <a:avLst/>
              </a:prstGeom>
              <a:gradFill rotWithShape="0">
                <a:gsLst>
                  <a:gs pos="0">
                    <a:srgbClr val="ffffff"/>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 name="Group 8"/>
            <p:cNvGrpSpPr/>
            <p:nvPr/>
          </p:nvGrpSpPr>
          <p:grpSpPr>
            <a:xfrm>
              <a:off x="9005400" y="38160"/>
              <a:ext cx="138240" cy="6819480"/>
              <a:chOff x="9005400" y="38160"/>
              <a:chExt cx="138240" cy="6819480"/>
            </a:xfrm>
          </p:grpSpPr>
          <p:sp>
            <p:nvSpPr>
              <p:cNvPr id="86" name="Rectangle 9"/>
              <p:cNvSpPr/>
              <p:nvPr/>
            </p:nvSpPr>
            <p:spPr>
              <a:xfrm>
                <a:off x="9005400" y="38160"/>
                <a:ext cx="138240" cy="367200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Rectangle 10"/>
              <p:cNvSpPr/>
              <p:nvPr/>
            </p:nvSpPr>
            <p:spPr>
              <a:xfrm>
                <a:off x="9005400" y="3485520"/>
                <a:ext cx="138240" cy="3372120"/>
              </a:xfrm>
              <a:prstGeom prst="rect">
                <a:avLst/>
              </a:prstGeom>
              <a:gradFill rotWithShape="0">
                <a:gsLst>
                  <a:gs pos="0">
                    <a:srgbClr val="ffffff"/>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Group 11"/>
            <p:cNvGrpSpPr/>
            <p:nvPr/>
          </p:nvGrpSpPr>
          <p:grpSpPr>
            <a:xfrm>
              <a:off x="115560" y="39600"/>
              <a:ext cx="8902080" cy="136440"/>
              <a:chOff x="115560" y="39600"/>
              <a:chExt cx="8902080" cy="136440"/>
            </a:xfrm>
          </p:grpSpPr>
          <p:sp>
            <p:nvSpPr>
              <p:cNvPr id="89" name="Rectangle 12"/>
              <p:cNvSpPr/>
              <p:nvPr/>
            </p:nvSpPr>
            <p:spPr>
              <a:xfrm>
                <a:off x="115560" y="39600"/>
                <a:ext cx="4412160" cy="13644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Rectangle 13"/>
              <p:cNvSpPr/>
              <p:nvPr/>
            </p:nvSpPr>
            <p:spPr>
              <a:xfrm>
                <a:off x="4527720" y="39600"/>
                <a:ext cx="4489920" cy="136440"/>
              </a:xfrm>
              <a:prstGeom prst="rect">
                <a:avLst/>
              </a:prstGeom>
              <a:gradFill rotWithShape="0">
                <a:gsLst>
                  <a:gs pos="0">
                    <a:srgbClr val="ffffff"/>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Group 14"/>
            <p:cNvGrpSpPr/>
            <p:nvPr/>
          </p:nvGrpSpPr>
          <p:grpSpPr>
            <a:xfrm>
              <a:off x="115560" y="6710400"/>
              <a:ext cx="8902080" cy="136440"/>
              <a:chOff x="115560" y="6710400"/>
              <a:chExt cx="8902080" cy="136440"/>
            </a:xfrm>
          </p:grpSpPr>
          <p:sp>
            <p:nvSpPr>
              <p:cNvPr id="92" name="Rectangle 15"/>
              <p:cNvSpPr/>
              <p:nvPr/>
            </p:nvSpPr>
            <p:spPr>
              <a:xfrm>
                <a:off x="115560" y="6710400"/>
                <a:ext cx="4412160" cy="136440"/>
              </a:xfrm>
              <a:prstGeom prst="rect">
                <a:avLst/>
              </a:prstGeom>
              <a:gradFill rotWithShape="0">
                <a:gsLst>
                  <a:gs pos="0">
                    <a:srgbClr val="0066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16"/>
              <p:cNvSpPr/>
              <p:nvPr/>
            </p:nvSpPr>
            <p:spPr>
              <a:xfrm>
                <a:off x="4527720" y="6710400"/>
                <a:ext cx="4489920" cy="136440"/>
              </a:xfrm>
              <a:prstGeom prst="rect">
                <a:avLst/>
              </a:prstGeom>
              <a:gradFill rotWithShape="0">
                <a:gsLst>
                  <a:gs pos="0">
                    <a:srgbClr val="ffffff"/>
                  </a:gs>
                  <a:gs pos="100000">
                    <a:srgbClr val="ff99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4" name="Picture 17" descr="CAMCQB57"/>
            <p:cNvPicPr/>
            <p:nvPr/>
          </p:nvPicPr>
          <p:blipFill>
            <a:blip r:embed="rId1"/>
            <a:stretch/>
          </p:blipFill>
          <p:spPr>
            <a:xfrm>
              <a:off x="154440" y="252360"/>
              <a:ext cx="772920" cy="762120"/>
            </a:xfrm>
            <a:prstGeom prst="rect">
              <a:avLst/>
            </a:prstGeom>
            <a:ln w="0">
              <a:noFill/>
            </a:ln>
          </p:spPr>
        </p:pic>
        <p:sp>
          <p:nvSpPr>
            <p:cNvPr id="95" name="Text Box 18"/>
            <p:cNvSpPr/>
            <p:nvPr/>
          </p:nvSpPr>
          <p:spPr>
            <a:xfrm>
              <a:off x="618120" y="252360"/>
              <a:ext cx="82710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9"/>
            <p:cNvSpPr/>
            <p:nvPr/>
          </p:nvSpPr>
          <p:spPr>
            <a:xfrm>
              <a:off x="154440" y="1014480"/>
              <a:ext cx="8812080" cy="75960"/>
            </a:xfrm>
            <a:prstGeom prst="rect">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97" name="Ink 20"/>
          <p:cNvSpPr/>
          <p:nvPr/>
        </p:nvSpPr>
        <p:spPr>
          <a:xfrm>
            <a:off x="5111640" y="1457280"/>
            <a:ext cx="1055880" cy="647640"/>
          </a:xfrm>
          <a:custGeom>
            <a:avLst/>
            <a:gdLst/>
            <a:ahLst/>
            <a:rect l="l" t="t" r="r" b="b"/>
            <a:pathLst>
              <a:path w="2935" h="1798">
                <a:moveTo>
                  <a:pt x="14308" y="5526"/>
                </a:moveTo>
                <a:cubicBezTo>
                  <a:pt x="14318" y="5517"/>
                  <a:pt x="14326" y="5495"/>
                  <a:pt x="14341" y="5489"/>
                </a:cubicBezTo>
                <a:cubicBezTo>
                  <a:pt x="14362" y="5481"/>
                  <a:pt x="14377" y="5486"/>
                  <a:pt x="14399" y="5487"/>
                </a:cubicBezTo>
                <a:cubicBezTo>
                  <a:pt x="14523" y="5495"/>
                  <a:pt x="14645" y="5527"/>
                  <a:pt x="14770" y="5534"/>
                </a:cubicBezTo>
                <a:cubicBezTo>
                  <a:pt x="14895" y="5541"/>
                  <a:pt x="15020" y="5538"/>
                  <a:pt x="15145" y="5532"/>
                </a:cubicBezTo>
                <a:cubicBezTo>
                  <a:pt x="15266" y="5526"/>
                  <a:pt x="15386" y="5510"/>
                  <a:pt x="15507" y="5497"/>
                </a:cubicBezTo>
                <a:cubicBezTo>
                  <a:pt x="15626" y="5484"/>
                  <a:pt x="15746" y="5470"/>
                  <a:pt x="15865" y="5464"/>
                </a:cubicBezTo>
                <a:cubicBezTo>
                  <a:pt x="16053" y="5455"/>
                  <a:pt x="16242" y="5462"/>
                  <a:pt x="16430" y="5476"/>
                </a:cubicBezTo>
                <a:cubicBezTo>
                  <a:pt x="16483" y="5480"/>
                  <a:pt x="16627" y="5523"/>
                  <a:pt x="16588" y="5487"/>
                </a:cubicBezTo>
                <a:cubicBezTo>
                  <a:pt x="16576" y="5476"/>
                  <a:pt x="16558" y="5482"/>
                  <a:pt x="16542" y="5478"/>
                </a:cubicBezTo>
              </a:path>
              <a:path w="2935" h="1798">
                <a:moveTo>
                  <a:pt x="14557" y="5623"/>
                </a:moveTo>
                <a:cubicBezTo>
                  <a:pt x="14576" y="5613"/>
                  <a:pt x="14574" y="5604"/>
                  <a:pt x="14598" y="5600"/>
                </a:cubicBezTo>
                <a:cubicBezTo>
                  <a:pt x="14660" y="5589"/>
                  <a:pt x="14734" y="5608"/>
                  <a:pt x="14795" y="5615"/>
                </a:cubicBezTo>
                <a:cubicBezTo>
                  <a:pt x="14894" y="5626"/>
                  <a:pt x="14995" y="5626"/>
                  <a:pt x="15095" y="5627"/>
                </a:cubicBezTo>
                <a:cubicBezTo>
                  <a:pt x="15325" y="5628"/>
                  <a:pt x="15554" y="5624"/>
                  <a:pt x="15784" y="5617"/>
                </a:cubicBezTo>
                <a:cubicBezTo>
                  <a:pt x="15978" y="5611"/>
                  <a:pt x="16172" y="5606"/>
                  <a:pt x="16366" y="5603"/>
                </a:cubicBezTo>
                <a:cubicBezTo>
                  <a:pt x="16483" y="5601"/>
                  <a:pt x="16600" y="5597"/>
                  <a:pt x="16717" y="5596"/>
                </a:cubicBezTo>
                <a:cubicBezTo>
                  <a:pt x="16749" y="5596"/>
                  <a:pt x="16862" y="5595"/>
                  <a:pt x="16862" y="5595"/>
                </a:cubicBezTo>
                <a:cubicBezTo>
                  <a:pt x="16849" y="5596"/>
                  <a:pt x="16844" y="5596"/>
                  <a:pt x="16835" y="5596"/>
                </a:cubicBezTo>
              </a:path>
              <a:path w="2935" h="1798">
                <a:moveTo>
                  <a:pt x="14212" y="4287"/>
                </a:moveTo>
                <a:cubicBezTo>
                  <a:pt x="14207" y="4261"/>
                  <a:pt x="14202" y="4236"/>
                  <a:pt x="14199" y="4209"/>
                </a:cubicBezTo>
                <a:cubicBezTo>
                  <a:pt x="14197" y="4186"/>
                  <a:pt x="14198" y="4162"/>
                  <a:pt x="14198" y="4139"/>
                </a:cubicBezTo>
                <a:cubicBezTo>
                  <a:pt x="14201" y="4169"/>
                  <a:pt x="14204" y="4198"/>
                  <a:pt x="14209" y="4228"/>
                </a:cubicBezTo>
                <a:cubicBezTo>
                  <a:pt x="14224" y="4321"/>
                  <a:pt x="14233" y="4415"/>
                  <a:pt x="14241" y="4509"/>
                </a:cubicBezTo>
                <a:cubicBezTo>
                  <a:pt x="14253" y="4661"/>
                  <a:pt x="14259" y="4813"/>
                  <a:pt x="14262" y="4965"/>
                </a:cubicBezTo>
                <a:cubicBezTo>
                  <a:pt x="14265" y="5118"/>
                  <a:pt x="14266" y="5271"/>
                  <a:pt x="14270" y="5424"/>
                </a:cubicBezTo>
                <a:cubicBezTo>
                  <a:pt x="14273" y="5533"/>
                  <a:pt x="14259" y="5686"/>
                  <a:pt x="14300" y="5791"/>
                </a:cubicBezTo>
                <a:cubicBezTo>
                  <a:pt x="14318" y="5836"/>
                  <a:pt x="14311" y="5812"/>
                  <a:pt x="14321" y="5783"/>
                </a:cubicBezTo>
              </a:path>
              <a:path w="2935" h="1798">
                <a:moveTo>
                  <a:pt x="14235" y="4317"/>
                </a:moveTo>
                <a:cubicBezTo>
                  <a:pt x="14224" y="4281"/>
                  <a:pt x="14217" y="4247"/>
                  <a:pt x="14208" y="4212"/>
                </a:cubicBezTo>
                <a:cubicBezTo>
                  <a:pt x="14256" y="4211"/>
                  <a:pt x="14303" y="4207"/>
                  <a:pt x="14353" y="4209"/>
                </a:cubicBezTo>
                <a:cubicBezTo>
                  <a:pt x="14679" y="4223"/>
                  <a:pt x="14992" y="4199"/>
                  <a:pt x="15317" y="4166"/>
                </a:cubicBezTo>
                <a:cubicBezTo>
                  <a:pt x="15830" y="4114"/>
                  <a:pt x="16342" y="4079"/>
                  <a:pt x="16857" y="4052"/>
                </a:cubicBezTo>
                <a:cubicBezTo>
                  <a:pt x="16870" y="4051"/>
                  <a:pt x="16883" y="4051"/>
                  <a:pt x="16896" y="4050"/>
                </a:cubicBezTo>
                <a:cubicBezTo>
                  <a:pt x="16899" y="4164"/>
                  <a:pt x="16916" y="4270"/>
                  <a:pt x="16938" y="4383"/>
                </a:cubicBezTo>
                <a:cubicBezTo>
                  <a:pt x="17026" y="4842"/>
                  <a:pt x="17121" y="5306"/>
                  <a:pt x="17132" y="5775"/>
                </a:cubicBezTo>
                <a:cubicBezTo>
                  <a:pt x="17132" y="5795"/>
                  <a:pt x="17132" y="5814"/>
                  <a:pt x="17132" y="5834"/>
                </a:cubicBezTo>
                <a:cubicBezTo>
                  <a:pt x="17121" y="5828"/>
                  <a:pt x="17095" y="5817"/>
                  <a:pt x="17078" y="5806"/>
                </a:cubicBezTo>
                <a:cubicBezTo>
                  <a:pt x="16893" y="5692"/>
                  <a:pt x="16662" y="5713"/>
                  <a:pt x="16452" y="5729"/>
                </a:cubicBezTo>
                <a:cubicBezTo>
                  <a:pt x="15854" y="5776"/>
                  <a:pt x="15266" y="5851"/>
                  <a:pt x="14665" y="5847"/>
                </a:cubicBezTo>
                <a:cubicBezTo>
                  <a:pt x="14530" y="5846"/>
                  <a:pt x="14381" y="5851"/>
                  <a:pt x="14249" y="5816"/>
                </a:cubicBezTo>
                <a:cubicBezTo>
                  <a:pt x="14236" y="5809"/>
                  <a:pt x="14231" y="5807"/>
                  <a:pt x="14224" y="5801"/>
                </a:cubicBezTo>
                <a:cubicBezTo>
                  <a:pt x="14226" y="5754"/>
                  <a:pt x="14233" y="5729"/>
                  <a:pt x="14242" y="5677"/>
                </a:cubicBezTo>
                <a:cubicBezTo>
                  <a:pt x="14259" y="5583"/>
                  <a:pt x="14255" y="5486"/>
                  <a:pt x="14255" y="5391"/>
                </a:cubicBezTo>
                <a:cubicBezTo>
                  <a:pt x="14256" y="5093"/>
                  <a:pt x="14261" y="4790"/>
                  <a:pt x="14216" y="4495"/>
                </a:cubicBezTo>
                <a:cubicBezTo>
                  <a:pt x="14209" y="4451"/>
                  <a:pt x="14211" y="4405"/>
                  <a:pt x="14210" y="4369"/>
                </a:cubicBezTo>
                <a:cubicBezTo>
                  <a:pt x="14267" y="4388"/>
                  <a:pt x="14330" y="4420"/>
                  <a:pt x="14389" y="4435"/>
                </a:cubicBezTo>
                <a:cubicBezTo>
                  <a:pt x="14693" y="4512"/>
                  <a:pt x="15056" y="4384"/>
                  <a:pt x="15354" y="4332"/>
                </a:cubicBezTo>
                <a:cubicBezTo>
                  <a:pt x="15735" y="4266"/>
                  <a:pt x="16116" y="4181"/>
                  <a:pt x="16498" y="4124"/>
                </a:cubicBezTo>
                <a:cubicBezTo>
                  <a:pt x="16525" y="4120"/>
                  <a:pt x="16552" y="4119"/>
                  <a:pt x="16578" y="4116"/>
                </a:cubicBezTo>
                <a:cubicBezTo>
                  <a:pt x="16583" y="4188"/>
                  <a:pt x="16586" y="4261"/>
                  <a:pt x="16589" y="4334"/>
                </a:cubicBezTo>
                <a:cubicBezTo>
                  <a:pt x="16603" y="4675"/>
                  <a:pt x="16663" y="5012"/>
                  <a:pt x="16672" y="5353"/>
                </a:cubicBezTo>
                <a:cubicBezTo>
                  <a:pt x="16672" y="5481"/>
                  <a:pt x="16672" y="5524"/>
                  <a:pt x="16671" y="56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83" dur="500"/>
                                        <p:tgtEl>
                                          <p:spTgt spid="80">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88" dur="500"/>
                                        <p:tgtEl>
                                          <p:spTgt spid="80">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93" dur="500"/>
                                        <p:tgtEl>
                                          <p:spTgt spid="80">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98" dur="500"/>
                                        <p:tgtEl>
                                          <p:spTgt spid="80">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103" dur="500"/>
                                        <p:tgtEl>
                                          <p:spTgt spid="80">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108" dur="500"/>
                                        <p:tgtEl>
                                          <p:spTgt spid="80">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113" dur="500"/>
                                        <p:tgtEl>
                                          <p:spTgt spid="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Refrigerators, Air Conditioners, and Heat Pumps</a:t>
            </a:r>
            <a:endParaRPr b="0" lang="en-US" sz="3200" spc="-1" strike="noStrike">
              <a:solidFill>
                <a:srgbClr val="000000"/>
              </a:solidFill>
              <a:latin typeface="Times New Roman"/>
            </a:endParaRPr>
          </a:p>
        </p:txBody>
      </p:sp>
      <p:sp>
        <p:nvSpPr>
          <p:cNvPr id="370" name="Text Box 3"/>
          <p:cNvSpPr/>
          <p:nvPr/>
        </p:nvSpPr>
        <p:spPr>
          <a:xfrm>
            <a:off x="344520" y="1246320"/>
            <a:ext cx="8396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n ideal refrigerator would remove the most heat from the interior while requiring the smallest amount of work. This ratio is called the coefficient of performance, COP:</a:t>
            </a:r>
            <a:endParaRPr b="0" lang="en-US" sz="2400" spc="-1" strike="noStrike">
              <a:solidFill>
                <a:srgbClr val="000000"/>
              </a:solidFill>
              <a:latin typeface="Times New Roman"/>
            </a:endParaRPr>
          </a:p>
        </p:txBody>
      </p:sp>
      <p:pic>
        <p:nvPicPr>
          <p:cNvPr id="371" name="Picture 4" descr=""/>
          <p:cNvPicPr/>
          <p:nvPr/>
        </p:nvPicPr>
        <p:blipFill>
          <a:blip r:embed="rId1"/>
          <a:stretch/>
        </p:blipFill>
        <p:spPr>
          <a:xfrm>
            <a:off x="401760" y="3246480"/>
            <a:ext cx="8227800" cy="1851120"/>
          </a:xfrm>
          <a:prstGeom prst="rect">
            <a:avLst/>
          </a:prstGeom>
          <a:ln w="0">
            <a:noFill/>
          </a:ln>
        </p:spPr>
      </p:pic>
      <p:sp>
        <p:nvSpPr>
          <p:cNvPr id="372" name="Text Box 5"/>
          <p:cNvSpPr/>
          <p:nvPr/>
        </p:nvSpPr>
        <p:spPr>
          <a:xfrm>
            <a:off x="439560" y="5213520"/>
            <a:ext cx="814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ypical refrigerators have COP values between 2 and 6. Bigger is be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Refrigerators, Air Conditioners, and Heat Pumps</a:t>
            </a:r>
            <a:endParaRPr b="0" lang="en-US" sz="3200" spc="-1" strike="noStrike">
              <a:solidFill>
                <a:srgbClr val="000000"/>
              </a:solidFill>
              <a:latin typeface="Times New Roman"/>
            </a:endParaRPr>
          </a:p>
        </p:txBody>
      </p:sp>
      <p:graphicFrame>
        <p:nvGraphicFramePr>
          <p:cNvPr id="374" name="Object 2"/>
          <p:cNvGraphicFramePr/>
          <p:nvPr/>
        </p:nvGraphicFramePr>
        <p:xfrm>
          <a:off x="343080" y="1063800"/>
          <a:ext cx="3209760" cy="5371920"/>
        </p:xfrm>
        <a:graphic>
          <a:graphicData uri="http://schemas.openxmlformats.org/presentationml/2006/ole">
            <p:oleObj r:id="rId1" spid="">
              <p:embed/>
              <p:pic>
                <p:nvPicPr>
                  <p:cNvPr id="375" name="Object 2" descr=""/>
                  <p:cNvPicPr/>
                  <p:nvPr/>
                </p:nvPicPr>
                <p:blipFill>
                  <a:blip r:embed="rId2"/>
                  <a:stretch/>
                </p:blipFill>
                <p:spPr>
                  <a:xfrm>
                    <a:off x="343080" y="1063800"/>
                    <a:ext cx="3209760" cy="5371920"/>
                  </a:xfrm>
                  <a:prstGeom prst="rect">
                    <a:avLst/>
                  </a:prstGeom>
                  <a:ln w="0">
                    <a:noFill/>
                  </a:ln>
                </p:spPr>
              </p:pic>
            </p:oleObj>
          </a:graphicData>
        </a:graphic>
      </p:graphicFrame>
      <p:sp>
        <p:nvSpPr>
          <p:cNvPr id="376" name="Text Box 4"/>
          <p:cNvSpPr/>
          <p:nvPr/>
        </p:nvSpPr>
        <p:spPr>
          <a:xfrm>
            <a:off x="3525840" y="1231920"/>
            <a:ext cx="5415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n air conditioner is essentially identical to a refrigerator; the cold reservoir is the interior of the house or other space being cooled, and the hot reservoir is outdoors. Exhausting an air conditioner within the house will result in the house becoming warmer, just as keeping the refrigerator door open will result in the kitchen becoming warm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Refrigerators, Air Conditioners, and Heat Pumps</a:t>
            </a:r>
            <a:endParaRPr b="0" lang="en-US" sz="3200" spc="-1" strike="noStrike">
              <a:solidFill>
                <a:srgbClr val="000000"/>
              </a:solidFill>
              <a:latin typeface="Times New Roman"/>
            </a:endParaRPr>
          </a:p>
        </p:txBody>
      </p:sp>
      <p:graphicFrame>
        <p:nvGraphicFramePr>
          <p:cNvPr id="378" name="Object 2"/>
          <p:cNvGraphicFramePr/>
          <p:nvPr/>
        </p:nvGraphicFramePr>
        <p:xfrm>
          <a:off x="579600" y="1027080"/>
          <a:ext cx="3257280" cy="5372280"/>
        </p:xfrm>
        <a:graphic>
          <a:graphicData uri="http://schemas.openxmlformats.org/presentationml/2006/ole">
            <p:oleObj r:id="rId1" spid="">
              <p:embed/>
              <p:pic>
                <p:nvPicPr>
                  <p:cNvPr id="379" name="Object 2" descr=""/>
                  <p:cNvPicPr/>
                  <p:nvPr/>
                </p:nvPicPr>
                <p:blipFill>
                  <a:blip r:embed="rId2"/>
                  <a:stretch/>
                </p:blipFill>
                <p:spPr>
                  <a:xfrm>
                    <a:off x="579600" y="1027080"/>
                    <a:ext cx="3257280" cy="5372280"/>
                  </a:xfrm>
                  <a:prstGeom prst="rect">
                    <a:avLst/>
                  </a:prstGeom>
                  <a:ln w="0">
                    <a:noFill/>
                  </a:ln>
                </p:spPr>
              </p:pic>
            </p:oleObj>
          </a:graphicData>
        </a:graphic>
      </p:graphicFrame>
      <p:sp>
        <p:nvSpPr>
          <p:cNvPr id="380" name="Text Box 4"/>
          <p:cNvSpPr/>
          <p:nvPr/>
        </p:nvSpPr>
        <p:spPr>
          <a:xfrm>
            <a:off x="3978360" y="1200240"/>
            <a:ext cx="48448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Finally, a heat pump is the same as an air conditioner, except with the reservoirs reversed. Heat is removed from the cold reservoir outside, and exhausted into the house, keeping it warm. Note that the work the pump does actually contributes to the desired result (a warmer house) in this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Refrigerators, Air Conditioners, and Heat Pumps</a:t>
            </a:r>
            <a:endParaRPr b="0" lang="en-US" sz="3200" spc="-1" strike="noStrike">
              <a:solidFill>
                <a:srgbClr val="000000"/>
              </a:solidFill>
              <a:latin typeface="Times New Roman"/>
            </a:endParaRPr>
          </a:p>
        </p:txBody>
      </p:sp>
      <p:sp>
        <p:nvSpPr>
          <p:cNvPr id="382" name="Text Box 3"/>
          <p:cNvSpPr/>
          <p:nvPr/>
        </p:nvSpPr>
        <p:spPr>
          <a:xfrm>
            <a:off x="0" y="1044720"/>
            <a:ext cx="914400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n an ideal heat pump with two operating temperatures (cold and hot), the Carnot relationship holds; the work needed to add heat </a:t>
            </a:r>
            <a:r>
              <a:rPr b="0" i="1" lang="en-US" sz="2400" spc="-1" strike="noStrike">
                <a:solidFill>
                  <a:srgbClr val="c0504d"/>
                </a:solidFill>
                <a:latin typeface="Times New Roman"/>
              </a:rPr>
              <a:t>Q</a:t>
            </a:r>
            <a:r>
              <a:rPr b="0" lang="en-US" sz="2400" spc="-1" strike="noStrike" baseline="-25000">
                <a:solidFill>
                  <a:srgbClr val="c0504d"/>
                </a:solidFill>
                <a:latin typeface="Times New Roman"/>
              </a:rPr>
              <a:t>h</a:t>
            </a:r>
            <a:r>
              <a:rPr b="0" lang="en-US" sz="2400" spc="-1" strike="noStrike">
                <a:solidFill>
                  <a:srgbClr val="c0504d"/>
                </a:solidFill>
                <a:latin typeface="Times New Roman"/>
              </a:rPr>
              <a:t> to a room is:</a:t>
            </a:r>
            <a:endParaRPr b="0" lang="en-US" sz="2400" spc="-1" strike="noStrike">
              <a:solidFill>
                <a:srgbClr val="000000"/>
              </a:solidFill>
              <a:latin typeface="Times New Roman"/>
            </a:endParaRPr>
          </a:p>
        </p:txBody>
      </p:sp>
      <p:pic>
        <p:nvPicPr>
          <p:cNvPr id="383" name="Picture 4" descr=""/>
          <p:cNvPicPr/>
          <p:nvPr/>
        </p:nvPicPr>
        <p:blipFill>
          <a:blip r:embed="rId1"/>
          <a:stretch/>
        </p:blipFill>
        <p:spPr>
          <a:xfrm>
            <a:off x="201600" y="2525760"/>
            <a:ext cx="8551800" cy="1197000"/>
          </a:xfrm>
          <a:prstGeom prst="rect">
            <a:avLst/>
          </a:prstGeom>
          <a:ln w="0">
            <a:noFill/>
          </a:ln>
        </p:spPr>
      </p:pic>
      <p:sp>
        <p:nvSpPr>
          <p:cNvPr id="384" name="Text Box 6"/>
          <p:cNvSpPr/>
          <p:nvPr/>
        </p:nvSpPr>
        <p:spPr>
          <a:xfrm>
            <a:off x="237960" y="3657600"/>
            <a:ext cx="857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e COP for a heat pump:</a:t>
            </a:r>
            <a:endParaRPr b="0" lang="en-US" sz="2400" spc="-1" strike="noStrike">
              <a:solidFill>
                <a:srgbClr val="000000"/>
              </a:solidFill>
              <a:latin typeface="Times New Roman"/>
            </a:endParaRPr>
          </a:p>
        </p:txBody>
      </p:sp>
      <p:pic>
        <p:nvPicPr>
          <p:cNvPr id="385" name="Picture 7" descr=""/>
          <p:cNvPicPr/>
          <p:nvPr/>
        </p:nvPicPr>
        <p:blipFill>
          <a:blip r:embed="rId2"/>
          <a:stretch/>
        </p:blipFill>
        <p:spPr>
          <a:xfrm>
            <a:off x="363600" y="4336920"/>
            <a:ext cx="8458200" cy="2089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Entropy</a:t>
            </a:r>
            <a:endParaRPr b="0" lang="en-US" sz="3200" spc="-1" strike="noStrike">
              <a:solidFill>
                <a:srgbClr val="000000"/>
              </a:solidFill>
              <a:latin typeface="Times New Roman"/>
            </a:endParaRPr>
          </a:p>
        </p:txBody>
      </p:sp>
      <p:sp>
        <p:nvSpPr>
          <p:cNvPr id="387" name="Text Box 3"/>
          <p:cNvSpPr/>
          <p:nvPr/>
        </p:nvSpPr>
        <p:spPr>
          <a:xfrm>
            <a:off x="331920" y="771480"/>
            <a:ext cx="8420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 reversible engine has the following relation between the heat transferred and the reservoir temperatures:</a:t>
            </a:r>
            <a:endParaRPr b="0" lang="en-US" sz="2400" spc="-1" strike="noStrike">
              <a:solidFill>
                <a:srgbClr val="000000"/>
              </a:solidFill>
              <a:latin typeface="Times New Roman"/>
            </a:endParaRPr>
          </a:p>
        </p:txBody>
      </p:sp>
      <p:pic>
        <p:nvPicPr>
          <p:cNvPr id="388" name="Picture 4" descr=""/>
          <p:cNvPicPr/>
          <p:nvPr/>
        </p:nvPicPr>
        <p:blipFill>
          <a:blip r:embed="rId1"/>
          <a:stretch/>
        </p:blipFill>
        <p:spPr>
          <a:xfrm>
            <a:off x="3454560" y="1893960"/>
            <a:ext cx="1879560" cy="1305000"/>
          </a:xfrm>
          <a:prstGeom prst="rect">
            <a:avLst/>
          </a:prstGeom>
          <a:ln w="0">
            <a:noFill/>
          </a:ln>
        </p:spPr>
      </p:pic>
      <p:sp>
        <p:nvSpPr>
          <p:cNvPr id="389" name="Text Box 5"/>
          <p:cNvSpPr/>
          <p:nvPr/>
        </p:nvSpPr>
        <p:spPr>
          <a:xfrm>
            <a:off x="450720" y="3325680"/>
            <a:ext cx="375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Rewriting,</a:t>
            </a:r>
            <a:endParaRPr b="0" lang="en-US" sz="2400" spc="-1" strike="noStrike">
              <a:solidFill>
                <a:srgbClr val="000000"/>
              </a:solidFill>
              <a:latin typeface="Times New Roman"/>
            </a:endParaRPr>
          </a:p>
        </p:txBody>
      </p:sp>
      <p:pic>
        <p:nvPicPr>
          <p:cNvPr id="390" name="Picture 6" descr=""/>
          <p:cNvPicPr/>
          <p:nvPr/>
        </p:nvPicPr>
        <p:blipFill>
          <a:blip r:embed="rId2"/>
          <a:stretch/>
        </p:blipFill>
        <p:spPr>
          <a:xfrm>
            <a:off x="3505320" y="3676680"/>
            <a:ext cx="1923840" cy="1136520"/>
          </a:xfrm>
          <a:prstGeom prst="rect">
            <a:avLst/>
          </a:prstGeom>
          <a:ln w="0">
            <a:noFill/>
          </a:ln>
        </p:spPr>
      </p:pic>
      <p:sp>
        <p:nvSpPr>
          <p:cNvPr id="391" name="Text Box 7"/>
          <p:cNvSpPr/>
          <p:nvPr/>
        </p:nvSpPr>
        <p:spPr>
          <a:xfrm>
            <a:off x="166680" y="5059440"/>
            <a:ext cx="874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is quantity, </a:t>
            </a:r>
            <a:r>
              <a:rPr b="0" i="1" lang="en-US" sz="2400" spc="-1" strike="noStrike">
                <a:solidFill>
                  <a:srgbClr val="c0504d"/>
                </a:solidFill>
                <a:latin typeface="Times New Roman"/>
              </a:rPr>
              <a:t>Q</a:t>
            </a:r>
            <a:r>
              <a:rPr b="0" lang="en-US" sz="2400" spc="-1" strike="noStrike">
                <a:solidFill>
                  <a:srgbClr val="c0504d"/>
                </a:solidFill>
                <a:latin typeface="Times New Roman"/>
              </a:rPr>
              <a:t>/</a:t>
            </a:r>
            <a:r>
              <a:rPr b="0" i="1" lang="en-US" sz="2400" spc="-1" strike="noStrike">
                <a:solidFill>
                  <a:srgbClr val="c0504d"/>
                </a:solidFill>
                <a:latin typeface="Times New Roman"/>
              </a:rPr>
              <a:t>T</a:t>
            </a:r>
            <a:r>
              <a:rPr b="0" lang="en-US" sz="2400" spc="-1" strike="noStrike">
                <a:solidFill>
                  <a:srgbClr val="c0504d"/>
                </a:solidFill>
                <a:latin typeface="Times New Roman"/>
              </a:rPr>
              <a:t>, is the same for both reservoirs, and is defined as the change in entro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Entropy</a:t>
            </a:r>
            <a:endParaRPr b="0" lang="en-US" sz="3200" spc="-1" strike="noStrike">
              <a:solidFill>
                <a:srgbClr val="000000"/>
              </a:solidFill>
              <a:latin typeface="Times New Roman"/>
            </a:endParaRPr>
          </a:p>
        </p:txBody>
      </p:sp>
      <p:pic>
        <p:nvPicPr>
          <p:cNvPr id="393" name="Picture 3" descr=""/>
          <p:cNvPicPr/>
          <p:nvPr/>
        </p:nvPicPr>
        <p:blipFill>
          <a:blip r:embed="rId1"/>
          <a:stretch/>
        </p:blipFill>
        <p:spPr>
          <a:xfrm>
            <a:off x="1052640" y="1085760"/>
            <a:ext cx="6964200" cy="2306880"/>
          </a:xfrm>
          <a:prstGeom prst="rect">
            <a:avLst/>
          </a:prstGeom>
          <a:ln w="0">
            <a:noFill/>
          </a:ln>
        </p:spPr>
      </p:pic>
      <p:sp>
        <p:nvSpPr>
          <p:cNvPr id="394" name="Text Box 4"/>
          <p:cNvSpPr/>
          <p:nvPr/>
        </p:nvSpPr>
        <p:spPr>
          <a:xfrm>
            <a:off x="461880" y="3741840"/>
            <a:ext cx="82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For this definition to be valid, the heat transfer must be reversi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n a reversible heat engine, it can be shown that the entropy does not cha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18-8 Entropy</a:t>
            </a:r>
            <a:endParaRPr b="0" lang="en-US" sz="3200" spc="-1" strike="noStrike">
              <a:solidFill>
                <a:srgbClr val="000000"/>
              </a:solidFill>
              <a:latin typeface="Times New Roman"/>
            </a:endParaRPr>
          </a:p>
        </p:txBody>
      </p:sp>
      <p:sp>
        <p:nvSpPr>
          <p:cNvPr id="396" name="Text Box 3"/>
          <p:cNvSpPr/>
          <p:nvPr/>
        </p:nvSpPr>
        <p:spPr>
          <a:xfrm>
            <a:off x="297000" y="808200"/>
            <a:ext cx="851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 real engine will operate at a lower efficiency than a reversible engine; this means that less heat is converted to work. Therefore,</a:t>
            </a:r>
            <a:endParaRPr b="0" lang="en-US" sz="2400" spc="-1" strike="noStrike">
              <a:solidFill>
                <a:srgbClr val="000000"/>
              </a:solidFill>
              <a:latin typeface="Times New Roman"/>
            </a:endParaRPr>
          </a:p>
        </p:txBody>
      </p:sp>
      <p:pic>
        <p:nvPicPr>
          <p:cNvPr id="397" name="Picture 4" descr=""/>
          <p:cNvPicPr/>
          <p:nvPr/>
        </p:nvPicPr>
        <p:blipFill>
          <a:blip r:embed="rId1"/>
          <a:stretch/>
        </p:blipFill>
        <p:spPr>
          <a:xfrm>
            <a:off x="1766880" y="2455920"/>
            <a:ext cx="5254560" cy="1271520"/>
          </a:xfrm>
          <a:prstGeom prst="rect">
            <a:avLst/>
          </a:prstGeom>
          <a:ln w="0">
            <a:noFill/>
          </a:ln>
        </p:spPr>
      </p:pic>
      <p:sp>
        <p:nvSpPr>
          <p:cNvPr id="398" name="Text Box 5"/>
          <p:cNvSpPr/>
          <p:nvPr/>
        </p:nvSpPr>
        <p:spPr>
          <a:xfrm>
            <a:off x="511200" y="4145040"/>
            <a:ext cx="80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ny irreversible process results in an increase of entro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Entropy</a:t>
            </a:r>
            <a:endParaRPr b="0" lang="en-US" sz="3200" spc="-1" strike="noStrike">
              <a:solidFill>
                <a:srgbClr val="000000"/>
              </a:solidFill>
              <a:latin typeface="Times New Roman"/>
            </a:endParaRPr>
          </a:p>
        </p:txBody>
      </p:sp>
      <p:sp>
        <p:nvSpPr>
          <p:cNvPr id="400" name="Text Box 3"/>
          <p:cNvSpPr/>
          <p:nvPr/>
        </p:nvSpPr>
        <p:spPr>
          <a:xfrm>
            <a:off x="298440" y="1092240"/>
            <a:ext cx="83836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o generaliz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000000"/>
                </a:solidFill>
                <a:latin typeface="Times New Roman"/>
              </a:rPr>
              <a:t>The total entropy of the universe increases whenever an irreversible process occu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otal entropy of the universe is unchanged whenever a reversible process occu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Since all real processes are irreversible, the entropy of the universe continually increases. If entropy decreases in a system due to work being done on it, a greater increase in entropy occurs outside the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Entropy</a:t>
            </a:r>
            <a:endParaRPr b="0" lang="en-US" sz="3200" spc="-1" strike="noStrike">
              <a:solidFill>
                <a:srgbClr val="000000"/>
              </a:solidFill>
              <a:latin typeface="Times New Roman"/>
            </a:endParaRPr>
          </a:p>
        </p:txBody>
      </p:sp>
      <p:sp>
        <p:nvSpPr>
          <p:cNvPr id="402" name="Text Box 3"/>
          <p:cNvSpPr/>
          <p:nvPr/>
        </p:nvSpPr>
        <p:spPr>
          <a:xfrm>
            <a:off x="712800" y="1947960"/>
            <a:ext cx="747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s the total entropy of the universe increases, its ability to do work decreases. The excess heat exhausted during an irreversible process cannot be recovered; doing that would require a decrease in entropy, which is not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18-9 Order, Disorder, and Entropy</a:t>
            </a:r>
            <a:endParaRPr b="0" lang="en-US" sz="3200" spc="-1" strike="noStrike">
              <a:solidFill>
                <a:srgbClr val="000000"/>
              </a:solidFill>
              <a:latin typeface="Times New Roman"/>
            </a:endParaRPr>
          </a:p>
        </p:txBody>
      </p:sp>
      <p:sp>
        <p:nvSpPr>
          <p:cNvPr id="404" name="Text Box 3"/>
          <p:cNvSpPr/>
          <p:nvPr/>
        </p:nvSpPr>
        <p:spPr>
          <a:xfrm>
            <a:off x="392040" y="771480"/>
            <a:ext cx="8277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Entropy can be thought of as the increase in disorder in the universe. In this diagram, the end state is less ordered than the initial state – the separation between low and high temperature areas has been lost.</a:t>
            </a:r>
            <a:endParaRPr b="0" lang="en-US" sz="2400" spc="-1" strike="noStrike">
              <a:solidFill>
                <a:srgbClr val="000000"/>
              </a:solidFill>
              <a:latin typeface="Times New Roman"/>
            </a:endParaRPr>
          </a:p>
        </p:txBody>
      </p:sp>
      <p:pic>
        <p:nvPicPr>
          <p:cNvPr id="405" name="Picture 4" descr="FG18_18"/>
          <p:cNvPicPr/>
          <p:nvPr/>
        </p:nvPicPr>
        <p:blipFill>
          <a:blip r:embed="rId1"/>
          <a:srcRect l="0" t="21878" r="0" b="20938"/>
          <a:stretch/>
        </p:blipFill>
        <p:spPr>
          <a:xfrm>
            <a:off x="290520" y="3147840"/>
            <a:ext cx="8650440" cy="37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Inspiring Words : Albert Einstein</a:t>
            </a:r>
            <a:endParaRPr b="0" lang="en-US" sz="2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asked what he wished to become, as a young man,  Nobel Laureate Albert Einstein sai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 want to become a useful person, not a successful per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sked what he meant by it, the eminent physicist repl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 successful person is one who takes from society more than what he gives i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 useful person is one who gives the society more than what he takes from 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20" dur="500"/>
                                        <p:tgtEl>
                                          <p:spTgt spid="9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25" dur="500"/>
                                        <p:tgtEl>
                                          <p:spTgt spid="9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30" dur="500"/>
                                        <p:tgtEl>
                                          <p:spTgt spid="9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35" dur="500"/>
                                        <p:tgtEl>
                                          <p:spTgt spid="99">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140"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Order, Disorder, and Entropy</a:t>
            </a:r>
            <a:endParaRPr b="0" lang="en-US" sz="3200" spc="-1" strike="noStrike">
              <a:solidFill>
                <a:srgbClr val="000000"/>
              </a:solidFill>
              <a:latin typeface="Times New Roman"/>
            </a:endParaRPr>
          </a:p>
        </p:txBody>
      </p:sp>
      <p:sp>
        <p:nvSpPr>
          <p:cNvPr id="407" name="Text Box 3"/>
          <p:cNvSpPr/>
          <p:nvPr/>
        </p:nvSpPr>
        <p:spPr>
          <a:xfrm>
            <a:off x="250920" y="1258920"/>
            <a:ext cx="85262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f we look at the ultimate fate of the universe in light of the continual increase in entropy, we might envision a future in which the entire universe would have come to the same temperature. At this point, it would no longer be possible to do any work, nor would any type of life be possible. This is referred to as the “heat death” of the unive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Order, Disorder, and Entropy</a:t>
            </a:r>
            <a:endParaRPr b="0" lang="en-US" sz="3200" spc="-1" strike="noStrike">
              <a:solidFill>
                <a:srgbClr val="000000"/>
              </a:solidFill>
              <a:latin typeface="Times New Roman"/>
            </a:endParaRPr>
          </a:p>
        </p:txBody>
      </p:sp>
      <p:sp>
        <p:nvSpPr>
          <p:cNvPr id="409" name="Text Box 3"/>
          <p:cNvSpPr/>
          <p:nvPr/>
        </p:nvSpPr>
        <p:spPr>
          <a:xfrm>
            <a:off x="379440" y="866880"/>
            <a:ext cx="82533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So if entropy is continually increasing, how is life possible? How is it that species can evolve into ever more complex forms? Doesn’t this violate the second law of thermodynam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No – life and increasing complexity can exist because they use energy to drive their functioning. The overall entropy of the universe is still increasing. When a living entity stops using energy, it dies, and its entropy can increase rather quick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249120" y="0"/>
            <a:ext cx="862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rPr>
              <a:t>The Third Law of Thermodynamics</a:t>
            </a:r>
            <a:endParaRPr b="0" lang="en-US" sz="3200" spc="-1" strike="noStrike">
              <a:solidFill>
                <a:srgbClr val="000000"/>
              </a:solidFill>
              <a:latin typeface="Times New Roman"/>
            </a:endParaRPr>
          </a:p>
        </p:txBody>
      </p:sp>
      <p:sp>
        <p:nvSpPr>
          <p:cNvPr id="411" name="Text Box 3"/>
          <p:cNvSpPr/>
          <p:nvPr/>
        </p:nvSpPr>
        <p:spPr>
          <a:xfrm>
            <a:off x="331920" y="843120"/>
            <a:ext cx="848016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Absolute zero is a temperature that an object can get arbitrarily close to, but never attain. Temperatures as low as 2.0 x 10</a:t>
            </a:r>
            <a:r>
              <a:rPr b="0" lang="en-US" sz="2400" spc="-1" strike="noStrike" baseline="30000">
                <a:solidFill>
                  <a:srgbClr val="c0504d"/>
                </a:solidFill>
                <a:latin typeface="Times New Roman"/>
              </a:rPr>
              <a:t>-8</a:t>
            </a:r>
            <a:r>
              <a:rPr b="0" lang="en-US" sz="2400" spc="-1" strike="noStrike">
                <a:solidFill>
                  <a:srgbClr val="c0504d"/>
                </a:solidFill>
                <a:latin typeface="Times New Roman"/>
              </a:rPr>
              <a:t> K have been achieved in the laboratory, but absolute zero will remain ever elusive – there is simply nowhere to “put” that last little bit of ener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This is the third law of thermodynam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ssible to lower the temperature of an object to absolute zero in a finite number of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3"/>
          <p:cNvSpPr/>
          <p:nvPr/>
        </p:nvSpPr>
        <p:spPr>
          <a:xfrm>
            <a:off x="355680" y="628560"/>
            <a:ext cx="846756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When two objects have the same temperature, they are in thermal equilibrium.</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first law of thermodynamics is a statement of energy conservation that includes heat.</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internal energy of a system depends only on its temperature, pressure, and volum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A quasi-static process is one in which the system may be considered to be in equilibrium at all times.</a:t>
            </a:r>
            <a:endParaRPr b="0" lang="en-US" sz="2400" spc="-1" strike="noStrike">
              <a:solidFill>
                <a:srgbClr val="000000"/>
              </a:solidFill>
              <a:latin typeface="Times New Roman"/>
            </a:endParaRPr>
          </a:p>
        </p:txBody>
      </p:sp>
      <p:pic>
        <p:nvPicPr>
          <p:cNvPr id="413" name="Picture 4" descr=""/>
          <p:cNvPicPr/>
          <p:nvPr/>
        </p:nvPicPr>
        <p:blipFill>
          <a:blip r:embed="rId1"/>
          <a:stretch/>
        </p:blipFill>
        <p:spPr>
          <a:xfrm>
            <a:off x="838080" y="2631960"/>
            <a:ext cx="2643480" cy="685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3"/>
          <p:cNvSpPr/>
          <p:nvPr/>
        </p:nvSpPr>
        <p:spPr>
          <a:xfrm>
            <a:off x="165240" y="843120"/>
            <a:ext cx="85978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In a reversible process it is possible to return the system and its surroundings to their initial states.</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Irreversible processes cannot be undon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work done during a process is equal to the area under the curve in the </a:t>
            </a:r>
            <a:r>
              <a:rPr b="0" i="1" lang="en-US" sz="2400" spc="-1" strike="noStrike">
                <a:solidFill>
                  <a:srgbClr val="c0504d"/>
                </a:solidFill>
                <a:latin typeface="Times New Roman"/>
              </a:rPr>
              <a:t>PV</a:t>
            </a:r>
            <a:r>
              <a:rPr b="0" lang="en-US" sz="2400" spc="-1" strike="noStrike">
                <a:solidFill>
                  <a:srgbClr val="c0504d"/>
                </a:solidFill>
                <a:latin typeface="Times New Roman"/>
              </a:rPr>
              <a:t> plot.</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work done at constant pressure is </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work done at constant volume is zero.</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work done in an isothermal expansion is</a:t>
            </a:r>
            <a:endParaRPr b="0" lang="en-US" sz="2400" spc="-1" strike="noStrike">
              <a:solidFill>
                <a:srgbClr val="000000"/>
              </a:solidFill>
              <a:latin typeface="Times New Roman"/>
            </a:endParaRPr>
          </a:p>
        </p:txBody>
      </p:sp>
      <p:pic>
        <p:nvPicPr>
          <p:cNvPr id="415" name="Picture 4" descr=""/>
          <p:cNvPicPr/>
          <p:nvPr/>
        </p:nvPicPr>
        <p:blipFill>
          <a:blip r:embed="rId1"/>
          <a:stretch/>
        </p:blipFill>
        <p:spPr>
          <a:xfrm>
            <a:off x="7077240" y="4108320"/>
            <a:ext cx="1923840" cy="416160"/>
          </a:xfrm>
          <a:prstGeom prst="rect">
            <a:avLst/>
          </a:prstGeom>
          <a:ln w="0">
            <a:noFill/>
          </a:ln>
        </p:spPr>
      </p:pic>
      <p:pic>
        <p:nvPicPr>
          <p:cNvPr id="416" name="Picture 5" descr=""/>
          <p:cNvPicPr/>
          <p:nvPr/>
        </p:nvPicPr>
        <p:blipFill>
          <a:blip r:embed="rId2"/>
          <a:stretch/>
        </p:blipFill>
        <p:spPr>
          <a:xfrm>
            <a:off x="2414520" y="5925960"/>
            <a:ext cx="3408480" cy="4384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7"/>
          <p:cNvGrpSpPr/>
          <p:nvPr/>
        </p:nvGrpSpPr>
        <p:grpSpPr>
          <a:xfrm>
            <a:off x="309600" y="760320"/>
            <a:ext cx="8443800" cy="5842080"/>
            <a:chOff x="309600" y="760320"/>
            <a:chExt cx="8443800" cy="5842080"/>
          </a:xfrm>
        </p:grpSpPr>
        <p:sp>
          <p:nvSpPr>
            <p:cNvPr id="418" name="Text Box 3"/>
            <p:cNvSpPr/>
            <p:nvPr/>
          </p:nvSpPr>
          <p:spPr>
            <a:xfrm>
              <a:off x="309600" y="760320"/>
              <a:ext cx="8443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An adiabatic process is one where no heat transfer occurs.</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value of the specific heat depends on whether it is at constant pressure or at constant volum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Molar specific heat is defined by:</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For a monatomic gas at constant volum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For a monatomic gas at constant pressure:</a:t>
              </a:r>
              <a:endParaRPr b="0" lang="en-US" sz="2400" spc="-1" strike="noStrike">
                <a:solidFill>
                  <a:srgbClr val="000000"/>
                </a:solidFill>
                <a:latin typeface="Times New Roman"/>
              </a:endParaRPr>
            </a:p>
          </p:txBody>
        </p:sp>
        <p:pic>
          <p:nvPicPr>
            <p:cNvPr id="419" name="Picture 4" descr=""/>
            <p:cNvPicPr/>
            <p:nvPr/>
          </p:nvPicPr>
          <p:blipFill>
            <a:blip r:embed="rId1"/>
            <a:stretch/>
          </p:blipFill>
          <p:spPr>
            <a:xfrm>
              <a:off x="6335640" y="3303360"/>
              <a:ext cx="2103480" cy="550800"/>
            </a:xfrm>
            <a:prstGeom prst="rect">
              <a:avLst/>
            </a:prstGeom>
            <a:ln w="0">
              <a:noFill/>
            </a:ln>
          </p:spPr>
        </p:pic>
        <p:pic>
          <p:nvPicPr>
            <p:cNvPr id="420" name="Picture 5" descr=""/>
            <p:cNvPicPr/>
            <p:nvPr/>
          </p:nvPicPr>
          <p:blipFill>
            <a:blip r:embed="rId2"/>
            <a:stretch/>
          </p:blipFill>
          <p:spPr>
            <a:xfrm>
              <a:off x="3465360" y="4539960"/>
              <a:ext cx="1833840" cy="787680"/>
            </a:xfrm>
            <a:prstGeom prst="rect">
              <a:avLst/>
            </a:prstGeom>
            <a:ln w="0">
              <a:noFill/>
            </a:ln>
          </p:spPr>
        </p:pic>
        <p:pic>
          <p:nvPicPr>
            <p:cNvPr id="421" name="Picture 6" descr=""/>
            <p:cNvPicPr/>
            <p:nvPr/>
          </p:nvPicPr>
          <p:blipFill>
            <a:blip r:embed="rId3"/>
            <a:stretch/>
          </p:blipFill>
          <p:spPr>
            <a:xfrm>
              <a:off x="3584520" y="5781600"/>
              <a:ext cx="1833480" cy="820800"/>
            </a:xfrm>
            <a:prstGeom prst="rect">
              <a:avLst/>
            </a:prstGeom>
            <a:ln w="0">
              <a:noFill/>
            </a:ln>
          </p:spPr>
        </p:pic>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3"/>
          <p:cNvSpPr/>
          <p:nvPr/>
        </p:nvSpPr>
        <p:spPr>
          <a:xfrm>
            <a:off x="272880" y="795240"/>
            <a:ext cx="86457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In a PV plot,            is constant, wher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For a monatomic ideal gas,</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spontaneous flow of heat between objects in thermal equilibrium is always from the hotter one to the colder on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A heat engine converts heat into work.</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Efficiency of a heat engine:  </a:t>
            </a:r>
            <a:endParaRPr b="0" lang="en-US" sz="2400" spc="-1" strike="noStrike">
              <a:solidFill>
                <a:srgbClr val="000000"/>
              </a:solidFill>
              <a:latin typeface="Times New Roman"/>
            </a:endParaRPr>
          </a:p>
        </p:txBody>
      </p:sp>
      <p:pic>
        <p:nvPicPr>
          <p:cNvPr id="423" name="Picture 4" descr=""/>
          <p:cNvPicPr/>
          <p:nvPr/>
        </p:nvPicPr>
        <p:blipFill>
          <a:blip r:embed="rId1"/>
          <a:stretch/>
        </p:blipFill>
        <p:spPr>
          <a:xfrm>
            <a:off x="2784600" y="760320"/>
            <a:ext cx="844560" cy="528840"/>
          </a:xfrm>
          <a:prstGeom prst="rect">
            <a:avLst/>
          </a:prstGeom>
          <a:ln w="0">
            <a:noFill/>
          </a:ln>
        </p:spPr>
      </p:pic>
      <p:pic>
        <p:nvPicPr>
          <p:cNvPr id="424" name="Picture 5" descr=""/>
          <p:cNvPicPr/>
          <p:nvPr/>
        </p:nvPicPr>
        <p:blipFill>
          <a:blip r:embed="rId2"/>
          <a:stretch/>
        </p:blipFill>
        <p:spPr>
          <a:xfrm>
            <a:off x="7124760" y="347760"/>
            <a:ext cx="1519200" cy="1384200"/>
          </a:xfrm>
          <a:prstGeom prst="rect">
            <a:avLst/>
          </a:prstGeom>
          <a:ln w="0">
            <a:noFill/>
          </a:ln>
        </p:spPr>
      </p:pic>
      <p:pic>
        <p:nvPicPr>
          <p:cNvPr id="425" name="Picture 6" descr=""/>
          <p:cNvPicPr/>
          <p:nvPr/>
        </p:nvPicPr>
        <p:blipFill>
          <a:blip r:embed="rId3"/>
          <a:stretch/>
        </p:blipFill>
        <p:spPr>
          <a:xfrm>
            <a:off x="5330880" y="1446120"/>
            <a:ext cx="1473120" cy="540000"/>
          </a:xfrm>
          <a:prstGeom prst="rect">
            <a:avLst/>
          </a:prstGeom>
          <a:ln w="0">
            <a:noFill/>
          </a:ln>
        </p:spPr>
      </p:pic>
      <p:pic>
        <p:nvPicPr>
          <p:cNvPr id="426" name="Picture 7" descr=""/>
          <p:cNvPicPr/>
          <p:nvPr/>
        </p:nvPicPr>
        <p:blipFill>
          <a:blip r:embed="rId4"/>
          <a:stretch/>
        </p:blipFill>
        <p:spPr>
          <a:xfrm>
            <a:off x="1611360" y="4948200"/>
            <a:ext cx="5613480" cy="1181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5"/>
          <p:cNvSpPr/>
          <p:nvPr/>
        </p:nvSpPr>
        <p:spPr>
          <a:xfrm>
            <a:off x="166680" y="80820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A reversible engine has the maximum possible efficiency, </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maximum possible work:</a:t>
            </a:r>
            <a:endParaRPr b="0" lang="en-US" sz="2400" spc="-1" strike="noStrike">
              <a:solidFill>
                <a:srgbClr val="000000"/>
              </a:solidFill>
              <a:latin typeface="Times New Roman"/>
            </a:endParaRPr>
          </a:p>
        </p:txBody>
      </p:sp>
      <p:pic>
        <p:nvPicPr>
          <p:cNvPr id="428" name="Picture 6" descr=""/>
          <p:cNvPicPr/>
          <p:nvPr/>
        </p:nvPicPr>
        <p:blipFill>
          <a:blip r:embed="rId1"/>
          <a:stretch/>
        </p:blipFill>
        <p:spPr>
          <a:xfrm>
            <a:off x="2697120" y="1384200"/>
            <a:ext cx="2778120" cy="1181160"/>
          </a:xfrm>
          <a:prstGeom prst="rect">
            <a:avLst/>
          </a:prstGeom>
          <a:ln w="0">
            <a:noFill/>
          </a:ln>
        </p:spPr>
      </p:pic>
      <p:pic>
        <p:nvPicPr>
          <p:cNvPr id="429" name="Picture 7" descr=""/>
          <p:cNvPicPr/>
          <p:nvPr/>
        </p:nvPicPr>
        <p:blipFill>
          <a:blip r:embed="rId2"/>
          <a:stretch/>
        </p:blipFill>
        <p:spPr>
          <a:xfrm>
            <a:off x="1474920" y="3146400"/>
            <a:ext cx="5929200" cy="1103400"/>
          </a:xfrm>
          <a:prstGeom prst="rect">
            <a:avLst/>
          </a:prstGeom>
          <a:ln w="0">
            <a:noFill/>
          </a:ln>
        </p:spPr>
      </p:pic>
      <p:sp>
        <p:nvSpPr>
          <p:cNvPr id="430" name="Text Box 8"/>
          <p:cNvSpPr/>
          <p:nvPr/>
        </p:nvSpPr>
        <p:spPr>
          <a:xfrm>
            <a:off x="272880" y="4441680"/>
            <a:ext cx="849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Refrigerators, air conditioners, and heat pumps use work to transfer heat from a cold region to a hot reg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3"/>
          <p:cNvSpPr/>
          <p:nvPr/>
        </p:nvSpPr>
        <p:spPr>
          <a:xfrm>
            <a:off x="392040" y="665280"/>
            <a:ext cx="83599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Coefficient of performance of a refrigerator:</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Work done by an ideal heat pump:</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Coefficient of performance for a heat pump:</a:t>
            </a:r>
            <a:endParaRPr b="0" lang="en-US" sz="2400" spc="-1" strike="noStrike">
              <a:solidFill>
                <a:srgbClr val="000000"/>
              </a:solidFill>
              <a:latin typeface="Times New Roman"/>
            </a:endParaRPr>
          </a:p>
        </p:txBody>
      </p:sp>
      <p:pic>
        <p:nvPicPr>
          <p:cNvPr id="432" name="Picture 4" descr=""/>
          <p:cNvPicPr/>
          <p:nvPr/>
        </p:nvPicPr>
        <p:blipFill>
          <a:blip r:embed="rId1"/>
          <a:srcRect l="0" t="13218" r="0" b="13333"/>
          <a:stretch/>
        </p:blipFill>
        <p:spPr>
          <a:xfrm>
            <a:off x="3359160" y="1420920"/>
            <a:ext cx="2284560" cy="917640"/>
          </a:xfrm>
          <a:prstGeom prst="rect">
            <a:avLst/>
          </a:prstGeom>
          <a:ln w="0">
            <a:noFill/>
          </a:ln>
        </p:spPr>
      </p:pic>
      <p:pic>
        <p:nvPicPr>
          <p:cNvPr id="433" name="Picture 5" descr=""/>
          <p:cNvPicPr/>
          <p:nvPr/>
        </p:nvPicPr>
        <p:blipFill>
          <a:blip r:embed="rId2"/>
          <a:stretch/>
        </p:blipFill>
        <p:spPr>
          <a:xfrm>
            <a:off x="212760" y="3111480"/>
            <a:ext cx="8718480" cy="1360440"/>
          </a:xfrm>
          <a:prstGeom prst="rect">
            <a:avLst/>
          </a:prstGeom>
          <a:ln w="0">
            <a:noFill/>
          </a:ln>
        </p:spPr>
      </p:pic>
      <p:pic>
        <p:nvPicPr>
          <p:cNvPr id="434" name="Picture 6" descr=""/>
          <p:cNvPicPr/>
          <p:nvPr/>
        </p:nvPicPr>
        <p:blipFill>
          <a:blip r:embed="rId3"/>
          <a:stretch/>
        </p:blipFill>
        <p:spPr>
          <a:xfrm>
            <a:off x="3508200" y="5154480"/>
            <a:ext cx="2103480" cy="1079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3"/>
          <p:cNvSpPr/>
          <p:nvPr/>
        </p:nvSpPr>
        <p:spPr>
          <a:xfrm>
            <a:off x="379440" y="795240"/>
            <a:ext cx="843264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Change of entropy during a reversible heat exchange:</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otal entropy of the universe increases whenever an irreversible process occurs; total entropy is unchanged after an ideal reversible process.</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Entropy is a measure of disorder.</a:t>
            </a:r>
            <a:endParaRPr b="0" lang="en-US" sz="2400" spc="-1" strike="noStrike">
              <a:solidFill>
                <a:srgbClr val="000000"/>
              </a:solidFill>
              <a:latin typeface="Times New Roman"/>
            </a:endParaRPr>
          </a:p>
          <a:p>
            <a:pPr>
              <a:spcBef>
                <a:spcPts val="1500"/>
              </a:spcBef>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0" lang="en-US" sz="2400" spc="-1" strike="noStrike">
                <a:solidFill>
                  <a:srgbClr val="c0504d"/>
                </a:solidFill>
                <a:latin typeface="Times New Roman"/>
              </a:rPr>
              <a:t>The heat death of the universe will occur when everything is the same temperature and no more work can be done.</a:t>
            </a:r>
            <a:endParaRPr b="0" lang="en-US" sz="2400" spc="-1" strike="noStrike">
              <a:solidFill>
                <a:srgbClr val="000000"/>
              </a:solidFill>
              <a:latin typeface="Times New Roman"/>
            </a:endParaRPr>
          </a:p>
        </p:txBody>
      </p:sp>
      <p:pic>
        <p:nvPicPr>
          <p:cNvPr id="436" name="Picture 4" descr=""/>
          <p:cNvPicPr/>
          <p:nvPr/>
        </p:nvPicPr>
        <p:blipFill>
          <a:blip r:embed="rId1"/>
          <a:stretch/>
        </p:blipFill>
        <p:spPr>
          <a:xfrm>
            <a:off x="3054240" y="1341360"/>
            <a:ext cx="1608120" cy="103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457200" y="556272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Script MT Bold"/>
              </a:rPr>
              <a:t>http://www.humanthermodynamics.com</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Rectangle 2"/>
          <p:cNvSpPr/>
          <p:nvPr/>
        </p:nvSpPr>
        <p:spPr>
          <a:xfrm>
            <a:off x="8380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Thermodynamics</a:t>
            </a:r>
            <a:r>
              <a:rPr b="1" lang="en-US" sz="2400" spc="-1" strike="noStrike">
                <a:solidFill>
                  <a:srgbClr val="000000"/>
                </a:solidFill>
                <a:latin typeface="Times New Roman"/>
              </a:rPr>
              <a:t> </a:t>
            </a:r>
            <a:r>
              <a:rPr b="0" lang="en-US" sz="2400" spc="-1" strike="noStrike">
                <a:solidFill>
                  <a:srgbClr val="000000"/>
                </a:solidFill>
                <a:latin typeface="Times New Roman"/>
              </a:rPr>
              <a:t>(HT) is the study of heat and work transformations involved in the processes of human existenc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sychodynamics : Originated the application of the First Law of Thermodynamics to the realm of conserved conscious and unconscious and mental processe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Thermodynamics. Invented by Gibb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a:t>
            </a:r>
            <a:r>
              <a:rPr b="0" i="1" lang="en-US" sz="2400" spc="-1" strike="noStrike">
                <a:solidFill>
                  <a:srgbClr val="000000"/>
                </a:solidFill>
                <a:latin typeface="Times New Roman"/>
              </a:rPr>
              <a:t>You are a big chemical reaction. Everything you say, all that you do, all that you see, decide or remember, think or feel is nothing but the manifestation of the chemical reaction that is you.”</a:t>
            </a:r>
            <a:r>
              <a:rPr b="0" lang="en-US" sz="2400" spc="-1" strike="noStrike">
                <a:solidFill>
                  <a:srgbClr val="000000"/>
                </a:solidFill>
                <a:latin typeface="Times New Roman"/>
              </a:rPr>
              <a:t> – Jim Eadon</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8380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modynamics beyond Engineering</a:t>
            </a:r>
            <a:endParaRPr b="0" lang="en-US" sz="2800" spc="-1" strike="noStrike">
              <a:solidFill>
                <a:srgbClr val="000000"/>
              </a:solidFill>
              <a:latin typeface="Calibri"/>
            </a:endParaRPr>
          </a:p>
        </p:txBody>
      </p:sp>
      <p:grpSp>
        <p:nvGrpSpPr>
          <p:cNvPr id="103" name="Group 4"/>
          <p:cNvGrpSpPr/>
          <p:nvPr/>
        </p:nvGrpSpPr>
        <p:grpSpPr>
          <a:xfrm>
            <a:off x="0" y="38160"/>
            <a:ext cx="9143640" cy="6819480"/>
            <a:chOff x="0" y="38160"/>
            <a:chExt cx="9143640" cy="6819480"/>
          </a:xfrm>
        </p:grpSpPr>
        <p:grpSp>
          <p:nvGrpSpPr>
            <p:cNvPr id="104" name="Group 5"/>
            <p:cNvGrpSpPr/>
            <p:nvPr/>
          </p:nvGrpSpPr>
          <p:grpSpPr>
            <a:xfrm>
              <a:off x="0" y="38160"/>
              <a:ext cx="138240" cy="6819480"/>
              <a:chOff x="0" y="38160"/>
              <a:chExt cx="138240" cy="6819480"/>
            </a:xfrm>
          </p:grpSpPr>
          <p:sp>
            <p:nvSpPr>
              <p:cNvPr id="105" name="Rectangle 6"/>
              <p:cNvSpPr/>
              <p:nvPr/>
            </p:nvSpPr>
            <p:spPr>
              <a:xfrm>
                <a:off x="0" y="38160"/>
                <a:ext cx="138240" cy="3672000"/>
              </a:xfrm>
              <a:prstGeom prst="rect">
                <a:avLst/>
              </a:prstGeom>
              <a:gradFill rotWithShape="0">
                <a:gsLst>
                  <a:gs pos="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7"/>
              <p:cNvSpPr/>
              <p:nvPr/>
            </p:nvSpPr>
            <p:spPr>
              <a:xfrm>
                <a:off x="0" y="3485520"/>
                <a:ext cx="138240" cy="3372120"/>
              </a:xfrm>
              <a:prstGeom prst="rect">
                <a:avLst/>
              </a:prstGeom>
              <a:gradFill rotWithShape="0">
                <a:gsLst>
                  <a:gs pos="0">
                    <a:srgbClr val="ffffff"/>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Group 8"/>
            <p:cNvGrpSpPr/>
            <p:nvPr/>
          </p:nvGrpSpPr>
          <p:grpSpPr>
            <a:xfrm>
              <a:off x="9005400" y="38160"/>
              <a:ext cx="138240" cy="6819480"/>
              <a:chOff x="9005400" y="38160"/>
              <a:chExt cx="138240" cy="6819480"/>
            </a:xfrm>
          </p:grpSpPr>
          <p:sp>
            <p:nvSpPr>
              <p:cNvPr id="108" name="Rectangle 9"/>
              <p:cNvSpPr/>
              <p:nvPr/>
            </p:nvSpPr>
            <p:spPr>
              <a:xfrm>
                <a:off x="9005400" y="38160"/>
                <a:ext cx="138240" cy="367200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0"/>
              <p:cNvSpPr/>
              <p:nvPr/>
            </p:nvSpPr>
            <p:spPr>
              <a:xfrm>
                <a:off x="9005400" y="3485520"/>
                <a:ext cx="138240" cy="3372120"/>
              </a:xfrm>
              <a:prstGeom prst="rect">
                <a:avLst/>
              </a:prstGeom>
              <a:gradFill rotWithShape="0">
                <a:gsLst>
                  <a:gs pos="0">
                    <a:srgbClr val="ffffff"/>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Group 11"/>
            <p:cNvGrpSpPr/>
            <p:nvPr/>
          </p:nvGrpSpPr>
          <p:grpSpPr>
            <a:xfrm>
              <a:off x="115560" y="39600"/>
              <a:ext cx="8902080" cy="136440"/>
              <a:chOff x="115560" y="39600"/>
              <a:chExt cx="8902080" cy="136440"/>
            </a:xfrm>
          </p:grpSpPr>
          <p:sp>
            <p:nvSpPr>
              <p:cNvPr id="111" name="Rectangle 12"/>
              <p:cNvSpPr/>
              <p:nvPr/>
            </p:nvSpPr>
            <p:spPr>
              <a:xfrm>
                <a:off x="115560" y="39600"/>
                <a:ext cx="4412160" cy="13644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13"/>
              <p:cNvSpPr/>
              <p:nvPr/>
            </p:nvSpPr>
            <p:spPr>
              <a:xfrm>
                <a:off x="4527720" y="39600"/>
                <a:ext cx="4489920" cy="136440"/>
              </a:xfrm>
              <a:prstGeom prst="rect">
                <a:avLst/>
              </a:prstGeom>
              <a:gradFill rotWithShape="0">
                <a:gsLst>
                  <a:gs pos="0">
                    <a:srgbClr val="ffffff"/>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Group 14"/>
            <p:cNvGrpSpPr/>
            <p:nvPr/>
          </p:nvGrpSpPr>
          <p:grpSpPr>
            <a:xfrm>
              <a:off x="115560" y="6710400"/>
              <a:ext cx="8902080" cy="136440"/>
              <a:chOff x="115560" y="6710400"/>
              <a:chExt cx="8902080" cy="136440"/>
            </a:xfrm>
          </p:grpSpPr>
          <p:sp>
            <p:nvSpPr>
              <p:cNvPr id="114" name="Rectangle 15"/>
              <p:cNvSpPr/>
              <p:nvPr/>
            </p:nvSpPr>
            <p:spPr>
              <a:xfrm>
                <a:off x="115560" y="6710400"/>
                <a:ext cx="4412160" cy="136440"/>
              </a:xfrm>
              <a:prstGeom prst="rect">
                <a:avLst/>
              </a:prstGeom>
              <a:gradFill rotWithShape="0">
                <a:gsLst>
                  <a:gs pos="0">
                    <a:srgbClr val="0066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Rectangle 16"/>
              <p:cNvSpPr/>
              <p:nvPr/>
            </p:nvSpPr>
            <p:spPr>
              <a:xfrm>
                <a:off x="4527720" y="6710400"/>
                <a:ext cx="4489920" cy="136440"/>
              </a:xfrm>
              <a:prstGeom prst="rect">
                <a:avLst/>
              </a:prstGeom>
              <a:gradFill rotWithShape="0">
                <a:gsLst>
                  <a:gs pos="0">
                    <a:srgbClr val="ffffff"/>
                  </a:gs>
                  <a:gs pos="100000">
                    <a:srgbClr val="ff99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6" name="Picture 17" descr="CAMCQB57"/>
            <p:cNvPicPr/>
            <p:nvPr/>
          </p:nvPicPr>
          <p:blipFill>
            <a:blip r:embed="rId1"/>
            <a:stretch/>
          </p:blipFill>
          <p:spPr>
            <a:xfrm>
              <a:off x="154440" y="252360"/>
              <a:ext cx="772920" cy="762120"/>
            </a:xfrm>
            <a:prstGeom prst="rect">
              <a:avLst/>
            </a:prstGeom>
            <a:ln w="0">
              <a:noFill/>
            </a:ln>
          </p:spPr>
        </p:pic>
        <p:sp>
          <p:nvSpPr>
            <p:cNvPr id="117" name="Text Box 18"/>
            <p:cNvSpPr/>
            <p:nvPr/>
          </p:nvSpPr>
          <p:spPr>
            <a:xfrm>
              <a:off x="618120" y="252360"/>
              <a:ext cx="82710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9"/>
            <p:cNvSpPr/>
            <p:nvPr/>
          </p:nvSpPr>
          <p:spPr>
            <a:xfrm>
              <a:off x="154440" y="1014480"/>
              <a:ext cx="8812080" cy="75960"/>
            </a:xfrm>
            <a:prstGeom prst="rect">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47" dur="500"/>
                                        <p:tgtEl>
                                          <p:spTgt spid="10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52" dur="500"/>
                                        <p:tgtEl>
                                          <p:spTgt spid="10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57" dur="500"/>
                                        <p:tgtEl>
                                          <p:spTgt spid="101">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62" dur="500"/>
                                        <p:tgtEl>
                                          <p:spTgt spid="101">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0"/>
                                        </p:tgtEl>
                                        <p:attrNameLst>
                                          <p:attrName>style.visibility</p:attrName>
                                        </p:attrNameLst>
                                      </p:cBhvr>
                                      <p:to>
                                        <p:strVal val="visible"/>
                                      </p:to>
                                    </p:set>
                                    <p:animEffect filter="dissolve" transition="in">
                                      <p:cBhvr additive="repl">
                                        <p:cTn id="16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modynamic Vision of Science &amp; Engineering</a:t>
            </a:r>
            <a:endParaRPr b="0" lang="en-US" sz="2800" spc="-1" strike="noStrike">
              <a:solidFill>
                <a:srgbClr val="000000"/>
              </a:solidFill>
              <a:latin typeface="Calibri"/>
            </a:endParaRPr>
          </a:p>
        </p:txBody>
      </p:sp>
      <p:grpSp>
        <p:nvGrpSpPr>
          <p:cNvPr id="120" name="Group 3"/>
          <p:cNvGrpSpPr/>
          <p:nvPr/>
        </p:nvGrpSpPr>
        <p:grpSpPr>
          <a:xfrm>
            <a:off x="0" y="38160"/>
            <a:ext cx="9143640" cy="6819480"/>
            <a:chOff x="0" y="38160"/>
            <a:chExt cx="9143640" cy="6819480"/>
          </a:xfrm>
        </p:grpSpPr>
        <p:grpSp>
          <p:nvGrpSpPr>
            <p:cNvPr id="121" name="Group 4"/>
            <p:cNvGrpSpPr/>
            <p:nvPr/>
          </p:nvGrpSpPr>
          <p:grpSpPr>
            <a:xfrm>
              <a:off x="0" y="38160"/>
              <a:ext cx="138240" cy="6819480"/>
              <a:chOff x="0" y="38160"/>
              <a:chExt cx="138240" cy="6819480"/>
            </a:xfrm>
          </p:grpSpPr>
          <p:sp>
            <p:nvSpPr>
              <p:cNvPr id="122" name="Rectangle 5"/>
              <p:cNvSpPr/>
              <p:nvPr/>
            </p:nvSpPr>
            <p:spPr>
              <a:xfrm>
                <a:off x="0" y="38160"/>
                <a:ext cx="138240" cy="3672000"/>
              </a:xfrm>
              <a:prstGeom prst="rect">
                <a:avLst/>
              </a:prstGeom>
              <a:gradFill rotWithShape="0">
                <a:gsLst>
                  <a:gs pos="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6"/>
              <p:cNvSpPr/>
              <p:nvPr/>
            </p:nvSpPr>
            <p:spPr>
              <a:xfrm>
                <a:off x="0" y="3485520"/>
                <a:ext cx="138240" cy="3372120"/>
              </a:xfrm>
              <a:prstGeom prst="rect">
                <a:avLst/>
              </a:prstGeom>
              <a:gradFill rotWithShape="0">
                <a:gsLst>
                  <a:gs pos="0">
                    <a:srgbClr val="ffffff"/>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Group 7"/>
            <p:cNvGrpSpPr/>
            <p:nvPr/>
          </p:nvGrpSpPr>
          <p:grpSpPr>
            <a:xfrm>
              <a:off x="9005400" y="38160"/>
              <a:ext cx="138240" cy="6819480"/>
              <a:chOff x="9005400" y="38160"/>
              <a:chExt cx="138240" cy="6819480"/>
            </a:xfrm>
          </p:grpSpPr>
          <p:sp>
            <p:nvSpPr>
              <p:cNvPr id="125" name="Rectangle 8"/>
              <p:cNvSpPr/>
              <p:nvPr/>
            </p:nvSpPr>
            <p:spPr>
              <a:xfrm>
                <a:off x="9005400" y="38160"/>
                <a:ext cx="138240" cy="367200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Rectangle 9"/>
              <p:cNvSpPr/>
              <p:nvPr/>
            </p:nvSpPr>
            <p:spPr>
              <a:xfrm>
                <a:off x="9005400" y="3485520"/>
                <a:ext cx="138240" cy="3372120"/>
              </a:xfrm>
              <a:prstGeom prst="rect">
                <a:avLst/>
              </a:prstGeom>
              <a:gradFill rotWithShape="0">
                <a:gsLst>
                  <a:gs pos="0">
                    <a:srgbClr val="ffffff"/>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Group 10"/>
            <p:cNvGrpSpPr/>
            <p:nvPr/>
          </p:nvGrpSpPr>
          <p:grpSpPr>
            <a:xfrm>
              <a:off x="115560" y="39600"/>
              <a:ext cx="8902080" cy="136440"/>
              <a:chOff x="115560" y="39600"/>
              <a:chExt cx="8902080" cy="136440"/>
            </a:xfrm>
          </p:grpSpPr>
          <p:sp>
            <p:nvSpPr>
              <p:cNvPr id="128" name="Rectangle 11"/>
              <p:cNvSpPr/>
              <p:nvPr/>
            </p:nvSpPr>
            <p:spPr>
              <a:xfrm>
                <a:off x="115560" y="39600"/>
                <a:ext cx="4412160" cy="13644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Rectangle 12"/>
              <p:cNvSpPr/>
              <p:nvPr/>
            </p:nvSpPr>
            <p:spPr>
              <a:xfrm>
                <a:off x="4527720" y="39600"/>
                <a:ext cx="4489920" cy="136440"/>
              </a:xfrm>
              <a:prstGeom prst="rect">
                <a:avLst/>
              </a:prstGeom>
              <a:gradFill rotWithShape="0">
                <a:gsLst>
                  <a:gs pos="0">
                    <a:srgbClr val="ffffff"/>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Group 13"/>
            <p:cNvGrpSpPr/>
            <p:nvPr/>
          </p:nvGrpSpPr>
          <p:grpSpPr>
            <a:xfrm>
              <a:off x="115560" y="6710400"/>
              <a:ext cx="8902080" cy="136440"/>
              <a:chOff x="115560" y="6710400"/>
              <a:chExt cx="8902080" cy="136440"/>
            </a:xfrm>
          </p:grpSpPr>
          <p:sp>
            <p:nvSpPr>
              <p:cNvPr id="131" name="Rectangle 14"/>
              <p:cNvSpPr/>
              <p:nvPr/>
            </p:nvSpPr>
            <p:spPr>
              <a:xfrm>
                <a:off x="115560" y="6710400"/>
                <a:ext cx="4412160" cy="136440"/>
              </a:xfrm>
              <a:prstGeom prst="rect">
                <a:avLst/>
              </a:prstGeom>
              <a:gradFill rotWithShape="0">
                <a:gsLst>
                  <a:gs pos="0">
                    <a:srgbClr val="0066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Rectangle 15"/>
              <p:cNvSpPr/>
              <p:nvPr/>
            </p:nvSpPr>
            <p:spPr>
              <a:xfrm>
                <a:off x="4527720" y="6710400"/>
                <a:ext cx="4489920" cy="136440"/>
              </a:xfrm>
              <a:prstGeom prst="rect">
                <a:avLst/>
              </a:prstGeom>
              <a:gradFill rotWithShape="0">
                <a:gsLst>
                  <a:gs pos="0">
                    <a:srgbClr val="ffffff"/>
                  </a:gs>
                  <a:gs pos="100000">
                    <a:srgbClr val="ff99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3" name="Picture 16" descr="CAMCQB57"/>
            <p:cNvPicPr/>
            <p:nvPr/>
          </p:nvPicPr>
          <p:blipFill>
            <a:blip r:embed="rId1"/>
            <a:stretch/>
          </p:blipFill>
          <p:spPr>
            <a:xfrm>
              <a:off x="154440" y="252360"/>
              <a:ext cx="772920" cy="762120"/>
            </a:xfrm>
            <a:prstGeom prst="rect">
              <a:avLst/>
            </a:prstGeom>
            <a:ln w="0">
              <a:noFill/>
            </a:ln>
          </p:spPr>
        </p:pic>
        <p:sp>
          <p:nvSpPr>
            <p:cNvPr id="134" name="Text Box 17"/>
            <p:cNvSpPr/>
            <p:nvPr/>
          </p:nvSpPr>
          <p:spPr>
            <a:xfrm>
              <a:off x="618120" y="252360"/>
              <a:ext cx="82710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18"/>
            <p:cNvSpPr/>
            <p:nvPr/>
          </p:nvSpPr>
          <p:spPr>
            <a:xfrm>
              <a:off x="154440" y="1014480"/>
              <a:ext cx="8812080" cy="75960"/>
            </a:xfrm>
            <a:prstGeom prst="rect">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36" name="Oval 19"/>
          <p:cNvSpPr/>
          <p:nvPr/>
        </p:nvSpPr>
        <p:spPr>
          <a:xfrm>
            <a:off x="152280" y="5486400"/>
            <a:ext cx="221004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s</a:t>
            </a:r>
            <a:endParaRPr b="0" lang="en-US" sz="2400" spc="-1" strike="noStrike">
              <a:solidFill>
                <a:srgbClr val="000000"/>
              </a:solidFill>
              <a:latin typeface="Times New Roman"/>
            </a:endParaRPr>
          </a:p>
        </p:txBody>
      </p:sp>
      <p:sp>
        <p:nvSpPr>
          <p:cNvPr id="137" name="Oval 20"/>
          <p:cNvSpPr/>
          <p:nvPr/>
        </p:nvSpPr>
        <p:spPr>
          <a:xfrm>
            <a:off x="3581280" y="1066680"/>
            <a:ext cx="221004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a:t>
            </a:r>
            <a:endParaRPr b="0" lang="en-US" sz="2400" spc="-1" strike="noStrike">
              <a:solidFill>
                <a:srgbClr val="000000"/>
              </a:solidFill>
              <a:latin typeface="Times New Roman"/>
            </a:endParaRPr>
          </a:p>
        </p:txBody>
      </p:sp>
      <p:sp>
        <p:nvSpPr>
          <p:cNvPr id="138" name="Oval 21"/>
          <p:cNvSpPr/>
          <p:nvPr/>
        </p:nvSpPr>
        <p:spPr>
          <a:xfrm>
            <a:off x="685800" y="4267080"/>
            <a:ext cx="220968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s</a:t>
            </a:r>
            <a:endParaRPr b="0" lang="en-US" sz="2400" spc="-1" strike="noStrike">
              <a:solidFill>
                <a:srgbClr val="000000"/>
              </a:solidFill>
              <a:latin typeface="Times New Roman"/>
            </a:endParaRPr>
          </a:p>
        </p:txBody>
      </p:sp>
      <p:sp>
        <p:nvSpPr>
          <p:cNvPr id="139" name="Oval 22"/>
          <p:cNvSpPr/>
          <p:nvPr/>
        </p:nvSpPr>
        <p:spPr>
          <a:xfrm>
            <a:off x="1219320" y="2971800"/>
            <a:ext cx="220968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a:t>
            </a:r>
            <a:endParaRPr b="0" lang="en-US" sz="2400" spc="-1" strike="noStrike">
              <a:solidFill>
                <a:srgbClr val="000000"/>
              </a:solidFill>
              <a:latin typeface="Times New Roman"/>
            </a:endParaRPr>
          </a:p>
        </p:txBody>
      </p:sp>
      <p:sp>
        <p:nvSpPr>
          <p:cNvPr id="140" name="Oval 23"/>
          <p:cNvSpPr/>
          <p:nvPr/>
        </p:nvSpPr>
        <p:spPr>
          <a:xfrm>
            <a:off x="1828800" y="1752480"/>
            <a:ext cx="220968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a:t>
            </a:r>
            <a:endParaRPr b="0" lang="en-US" sz="2400" spc="-1" strike="noStrike">
              <a:solidFill>
                <a:srgbClr val="000000"/>
              </a:solidFill>
              <a:latin typeface="Times New Roman"/>
            </a:endParaRPr>
          </a:p>
        </p:txBody>
      </p:sp>
      <p:sp>
        <p:nvSpPr>
          <p:cNvPr id="141" name="Oval 24"/>
          <p:cNvSpPr/>
          <p:nvPr/>
        </p:nvSpPr>
        <p:spPr>
          <a:xfrm>
            <a:off x="6934320" y="5562720"/>
            <a:ext cx="220968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a:t>
            </a:r>
            <a:endParaRPr b="0" lang="en-US" sz="2400" spc="-1" strike="noStrike">
              <a:solidFill>
                <a:srgbClr val="000000"/>
              </a:solidFill>
              <a:latin typeface="Times New Roman"/>
            </a:endParaRPr>
          </a:p>
        </p:txBody>
      </p:sp>
      <p:sp>
        <p:nvSpPr>
          <p:cNvPr id="142" name="Oval 25"/>
          <p:cNvSpPr/>
          <p:nvPr/>
        </p:nvSpPr>
        <p:spPr>
          <a:xfrm>
            <a:off x="6400800" y="4343400"/>
            <a:ext cx="220968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143" name="Oval 26"/>
          <p:cNvSpPr/>
          <p:nvPr/>
        </p:nvSpPr>
        <p:spPr>
          <a:xfrm>
            <a:off x="5867280" y="3048120"/>
            <a:ext cx="221004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a:t>
            </a:r>
            <a:endParaRPr b="0" lang="en-US" sz="2400" spc="-1" strike="noStrike">
              <a:solidFill>
                <a:srgbClr val="000000"/>
              </a:solidFill>
              <a:latin typeface="Times New Roman"/>
            </a:endParaRPr>
          </a:p>
        </p:txBody>
      </p:sp>
      <p:sp>
        <p:nvSpPr>
          <p:cNvPr id="144" name="Oval 27"/>
          <p:cNvSpPr/>
          <p:nvPr/>
        </p:nvSpPr>
        <p:spPr>
          <a:xfrm>
            <a:off x="5257800" y="1828800"/>
            <a:ext cx="2209680" cy="1143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ul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a:t>
            </a:r>
            <a:endParaRPr b="0" lang="en-US" sz="2400" spc="-1" strike="noStrike">
              <a:solidFill>
                <a:srgbClr val="000000"/>
              </a:solidFill>
              <a:latin typeface="Times New Roman"/>
            </a:endParaRPr>
          </a:p>
        </p:txBody>
      </p:sp>
      <p:sp>
        <p:nvSpPr>
          <p:cNvPr id="145" name="Line 38"/>
          <p:cNvSpPr/>
          <p:nvPr/>
        </p:nvSpPr>
        <p:spPr>
          <a:xfrm flipV="1">
            <a:off x="1371600" y="525780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9"/>
          <p:cNvSpPr/>
          <p:nvPr/>
        </p:nvSpPr>
        <p:spPr>
          <a:xfrm flipV="1">
            <a:off x="1828800" y="396252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40"/>
          <p:cNvSpPr/>
          <p:nvPr/>
        </p:nvSpPr>
        <p:spPr>
          <a:xfrm flipV="1">
            <a:off x="2438280" y="274320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1"/>
          <p:cNvSpPr/>
          <p:nvPr/>
        </p:nvSpPr>
        <p:spPr>
          <a:xfrm flipV="1">
            <a:off x="3581280" y="167652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42"/>
          <p:cNvSpPr/>
          <p:nvPr/>
        </p:nvSpPr>
        <p:spPr>
          <a:xfrm>
            <a:off x="5334120" y="182880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3"/>
          <p:cNvSpPr/>
          <p:nvPr/>
        </p:nvSpPr>
        <p:spPr>
          <a:xfrm>
            <a:off x="6400800" y="2895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4"/>
          <p:cNvSpPr/>
          <p:nvPr/>
        </p:nvSpPr>
        <p:spPr>
          <a:xfrm>
            <a:off x="7620120" y="5334120"/>
            <a:ext cx="3045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45"/>
          <p:cNvSpPr/>
          <p:nvPr/>
        </p:nvSpPr>
        <p:spPr>
          <a:xfrm>
            <a:off x="7162920" y="4114800"/>
            <a:ext cx="304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46"/>
          <p:cNvSpPr/>
          <p:nvPr/>
        </p:nvSpPr>
        <p:spPr>
          <a:xfrm rot="12753600">
            <a:off x="686160" y="1829160"/>
            <a:ext cx="546120" cy="1784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ON</a:t>
            </a:r>
            <a:endParaRPr b="0" lang="en-US" sz="2400" spc="-1" strike="noStrike">
              <a:solidFill>
                <a:srgbClr val="000000"/>
              </a:solidFill>
              <a:latin typeface="Times New Roman"/>
            </a:endParaRPr>
          </a:p>
        </p:txBody>
      </p:sp>
      <p:sp>
        <p:nvSpPr>
          <p:cNvPr id="154" name="Line 47"/>
          <p:cNvSpPr/>
          <p:nvPr/>
        </p:nvSpPr>
        <p:spPr>
          <a:xfrm flipV="1">
            <a:off x="990720" y="2362320"/>
            <a:ext cx="761760" cy="13716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48"/>
          <p:cNvSpPr/>
          <p:nvPr/>
        </p:nvSpPr>
        <p:spPr>
          <a:xfrm rot="3998400">
            <a:off x="7227360" y="26305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UCTION</a:t>
            </a:r>
            <a:endParaRPr b="0" lang="en-US" sz="2400" spc="-1" strike="noStrike">
              <a:solidFill>
                <a:srgbClr val="000000"/>
              </a:solidFill>
              <a:latin typeface="Times New Roman"/>
            </a:endParaRPr>
          </a:p>
        </p:txBody>
      </p:sp>
      <p:sp>
        <p:nvSpPr>
          <p:cNvPr id="156" name="Line 49"/>
          <p:cNvSpPr/>
          <p:nvPr/>
        </p:nvSpPr>
        <p:spPr>
          <a:xfrm>
            <a:off x="7620120" y="2362320"/>
            <a:ext cx="609480" cy="13716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Ink 8"/>
          <p:cNvSpPr/>
          <p:nvPr/>
        </p:nvSpPr>
        <p:spPr>
          <a:xfrm>
            <a:off x="6302520" y="3909960"/>
            <a:ext cx="14040" cy="47520"/>
          </a:xfrm>
          <a:custGeom>
            <a:avLst/>
            <a:gdLst/>
            <a:ahLst/>
            <a:rect l="l" t="t" r="r" b="b"/>
            <a:pathLst>
              <a:path w="38" h="134">
                <a:moveTo>
                  <a:pt x="17545" y="10992"/>
                </a:moveTo>
                <a:cubicBezTo>
                  <a:pt x="17522" y="10976"/>
                  <a:pt x="17510" y="10964"/>
                  <a:pt x="17508" y="10935"/>
                </a:cubicBezTo>
                <a:cubicBezTo>
                  <a:pt x="17506" y="10910"/>
                  <a:pt x="17510" y="10883"/>
                  <a:pt x="17515" y="10859"/>
                </a:cubicBezTo>
              </a:path>
            </a:pathLst>
          </a:custGeom>
          <a:noFill/>
          <a:ln cap="rnd" w="19080">
            <a:solidFill>
              <a:srgbClr val="1f497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36"/>
                                        </p:tgtEl>
                                        <p:attrNameLst>
                                          <p:attrName>style.visibility</p:attrName>
                                        </p:attrNameLst>
                                      </p:cBhvr>
                                      <p:to>
                                        <p:strVal val="visible"/>
                                      </p:to>
                                    </p:set>
                                    <p:animEffect filter="dissolve" transition="in">
                                      <p:cBhvr additive="repl">
                                        <p:cTn id="174" dur="500"/>
                                        <p:tgtEl>
                                          <p:spTgt spid="13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45"/>
                                        </p:tgtEl>
                                        <p:attrNameLst>
                                          <p:attrName>style.visibility</p:attrName>
                                        </p:attrNameLst>
                                      </p:cBhvr>
                                      <p:to>
                                        <p:strVal val="visible"/>
                                      </p:to>
                                    </p:set>
                                    <p:animEffect filter="dissolve" transition="in">
                                      <p:cBhvr additive="repl">
                                        <p:cTn id="179" dur="500"/>
                                        <p:tgtEl>
                                          <p:spTgt spid="14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46"/>
                                        </p:tgtEl>
                                        <p:attrNameLst>
                                          <p:attrName>style.visibility</p:attrName>
                                        </p:attrNameLst>
                                      </p:cBhvr>
                                      <p:to>
                                        <p:strVal val="visible"/>
                                      </p:to>
                                    </p:set>
                                    <p:animEffect filter="dissolve" transition="in">
                                      <p:cBhvr additive="repl">
                                        <p:cTn id="189" dur="500"/>
                                        <p:tgtEl>
                                          <p:spTgt spid="14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39"/>
                                        </p:tgtEl>
                                        <p:attrNameLst>
                                          <p:attrName>style.visibility</p:attrName>
                                        </p:attrNameLst>
                                      </p:cBhvr>
                                      <p:to>
                                        <p:strVal val="visible"/>
                                      </p:to>
                                    </p:set>
                                    <p:animEffect filter="dissolve" transition="in">
                                      <p:cBhvr additive="repl">
                                        <p:cTn id="194" dur="500"/>
                                        <p:tgtEl>
                                          <p:spTgt spid="13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47"/>
                                        </p:tgtEl>
                                        <p:attrNameLst>
                                          <p:attrName>style.visibility</p:attrName>
                                        </p:attrNameLst>
                                      </p:cBhvr>
                                      <p:to>
                                        <p:strVal val="visible"/>
                                      </p:to>
                                    </p:set>
                                    <p:animEffect filter="dissolve" transition="in">
                                      <p:cBhvr additive="repl">
                                        <p:cTn id="199" dur="500"/>
                                        <p:tgtEl>
                                          <p:spTgt spid="14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40"/>
                                        </p:tgtEl>
                                        <p:attrNameLst>
                                          <p:attrName>style.visibility</p:attrName>
                                        </p:attrNameLst>
                                      </p:cBhvr>
                                      <p:to>
                                        <p:strVal val="visible"/>
                                      </p:to>
                                    </p:set>
                                    <p:animEffect filter="dissolve" transition="in">
                                      <p:cBhvr additive="repl">
                                        <p:cTn id="204" dur="500"/>
                                        <p:tgtEl>
                                          <p:spTgt spid="14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8"/>
                                        </p:tgtEl>
                                        <p:attrNameLst>
                                          <p:attrName>style.visibility</p:attrName>
                                        </p:attrNameLst>
                                      </p:cBhvr>
                                      <p:to>
                                        <p:strVal val="visible"/>
                                      </p:to>
                                    </p:set>
                                    <p:animEffect filter="dissolve" transition="in">
                                      <p:cBhvr additive="repl">
                                        <p:cTn id="209" dur="500"/>
                                        <p:tgtEl>
                                          <p:spTgt spid="14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37"/>
                                        </p:tgtEl>
                                        <p:attrNameLst>
                                          <p:attrName>style.visibility</p:attrName>
                                        </p:attrNameLst>
                                      </p:cBhvr>
                                      <p:to>
                                        <p:strVal val="visible"/>
                                      </p:to>
                                    </p:set>
                                    <p:animEffect filter="dissolve" transition="in">
                                      <p:cBhvr additive="repl">
                                        <p:cTn id="214" dur="500"/>
                                        <p:tgtEl>
                                          <p:spTgt spid="13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54"/>
                                        </p:tgtEl>
                                        <p:attrNameLst>
                                          <p:attrName>style.visibility</p:attrName>
                                        </p:attrNameLst>
                                      </p:cBhvr>
                                      <p:to>
                                        <p:strVal val="visible"/>
                                      </p:to>
                                    </p:set>
                                    <p:animEffect filter="dissolve" transition="in">
                                      <p:cBhvr additive="repl">
                                        <p:cTn id="219" dur="500"/>
                                        <p:tgtEl>
                                          <p:spTgt spid="15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2" name="camera.wav"/>
                                        </p:tgtEl>
                                      </p:cMediaNode>
                                    </p:audio>
                                    <p:set>
                                      <p:cBhvr>
                                        <p:cTn id="223"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224" dur="500"/>
                                        <p:tgtEl>
                                          <p:spTgt spid="153">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49"/>
                                        </p:tgtEl>
                                        <p:attrNameLst>
                                          <p:attrName>style.visibility</p:attrName>
                                        </p:attrNameLst>
                                      </p:cBhvr>
                                      <p:to>
                                        <p:strVal val="visible"/>
                                      </p:to>
                                    </p:set>
                                    <p:animEffect filter="dissolve" transition="in">
                                      <p:cBhvr additive="repl">
                                        <p:cTn id="229" dur="500"/>
                                        <p:tgtEl>
                                          <p:spTgt spid="14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44"/>
                                        </p:tgtEl>
                                        <p:attrNameLst>
                                          <p:attrName>style.visibility</p:attrName>
                                        </p:attrNameLst>
                                      </p:cBhvr>
                                      <p:to>
                                        <p:strVal val="visible"/>
                                      </p:to>
                                    </p:set>
                                    <p:animEffect filter="dissolve" transition="in">
                                      <p:cBhvr additive="repl">
                                        <p:cTn id="234" dur="500"/>
                                        <p:tgtEl>
                                          <p:spTgt spid="1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50"/>
                                        </p:tgtEl>
                                        <p:attrNameLst>
                                          <p:attrName>style.visibility</p:attrName>
                                        </p:attrNameLst>
                                      </p:cBhvr>
                                      <p:to>
                                        <p:strVal val="visible"/>
                                      </p:to>
                                    </p:set>
                                    <p:animEffect filter="dissolve" transition="in">
                                      <p:cBhvr additive="repl">
                                        <p:cTn id="239" dur="500"/>
                                        <p:tgtEl>
                                          <p:spTgt spid="15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43"/>
                                        </p:tgtEl>
                                        <p:attrNameLst>
                                          <p:attrName>style.visibility</p:attrName>
                                        </p:attrNameLst>
                                      </p:cBhvr>
                                      <p:to>
                                        <p:strVal val="visible"/>
                                      </p:to>
                                    </p:set>
                                    <p:animEffect filter="dissolve" transition="in">
                                      <p:cBhvr additive="repl">
                                        <p:cTn id="244" dur="500"/>
                                        <p:tgtEl>
                                          <p:spTgt spid="14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52"/>
                                        </p:tgtEl>
                                        <p:attrNameLst>
                                          <p:attrName>style.visibility</p:attrName>
                                        </p:attrNameLst>
                                      </p:cBhvr>
                                      <p:to>
                                        <p:strVal val="visible"/>
                                      </p:to>
                                    </p:set>
                                    <p:animEffect filter="dissolve" transition="in">
                                      <p:cBhvr additive="repl">
                                        <p:cTn id="249" dur="500"/>
                                        <p:tgtEl>
                                          <p:spTgt spid="15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42"/>
                                        </p:tgtEl>
                                        <p:attrNameLst>
                                          <p:attrName>style.visibility</p:attrName>
                                        </p:attrNameLst>
                                      </p:cBhvr>
                                      <p:to>
                                        <p:strVal val="visible"/>
                                      </p:to>
                                    </p:set>
                                    <p:animEffect filter="dissolve" transition="in">
                                      <p:cBhvr additive="repl">
                                        <p:cTn id="254" dur="500"/>
                                        <p:tgtEl>
                                          <p:spTgt spid="14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51"/>
                                        </p:tgtEl>
                                        <p:attrNameLst>
                                          <p:attrName>style.visibility</p:attrName>
                                        </p:attrNameLst>
                                      </p:cBhvr>
                                      <p:to>
                                        <p:strVal val="visible"/>
                                      </p:to>
                                    </p:set>
                                    <p:animEffect filter="dissolve" transition="in">
                                      <p:cBhvr additive="repl">
                                        <p:cTn id="259" dur="500"/>
                                        <p:tgtEl>
                                          <p:spTgt spid="15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41"/>
                                        </p:tgtEl>
                                        <p:attrNameLst>
                                          <p:attrName>style.visibility</p:attrName>
                                        </p:attrNameLst>
                                      </p:cBhvr>
                                      <p:to>
                                        <p:strVal val="visible"/>
                                      </p:to>
                                    </p:set>
                                    <p:animEffect filter="dissolve" transition="in">
                                      <p:cBhvr additive="repl">
                                        <p:cTn id="264" dur="500"/>
                                        <p:tgtEl>
                                          <p:spTgt spid="14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6"/>
                                        </p:tgtEl>
                                        <p:attrNameLst>
                                          <p:attrName>style.visibility</p:attrName>
                                        </p:attrNameLst>
                                      </p:cBhvr>
                                      <p:to>
                                        <p:strVal val="visible"/>
                                      </p:to>
                                    </p:set>
                                    <p:animEffect filter="dissolve" transition="in">
                                      <p:cBhvr additive="repl">
                                        <p:cTn id="269" dur="500"/>
                                        <p:tgtEl>
                                          <p:spTgt spid="15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32">
                                  <p:stCondLst>
                                    <p:cond delay="0"/>
                                  </p:stCondLst>
                                  <p:childTnLst>
                                    <p:audio isNarration="0">
                                      <p:cMediaNode showWhenStopped="1">
                                        <p:cTn/>
                                        <p:tgtEl>
                                          <p:sndTgt r:embed="rId3" name="camera.wav"/>
                                        </p:tgtEl>
                                      </p:cMediaNode>
                                    </p:audio>
                                    <p:set>
                                      <p:cBhvr>
                                        <p:cTn id="273"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274"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of Thermodynamics</a:t>
            </a:r>
            <a:endParaRPr b="0" lang="en-US" sz="2800" spc="-1" strike="noStrike">
              <a:solidFill>
                <a:srgbClr val="000000"/>
              </a:solidFill>
              <a:latin typeface="Calibri"/>
            </a:endParaRPr>
          </a:p>
        </p:txBody>
      </p:sp>
      <p:sp>
        <p:nvSpPr>
          <p:cNvPr id="159" name="Rectangle 4"/>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5"/>
          <p:cNvSpPr/>
          <p:nvPr/>
        </p:nvSpPr>
        <p:spPr>
          <a:xfrm>
            <a:off x="3276720" y="1066680"/>
            <a:ext cx="3809880" cy="8254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le Resources (Energy, matter etc.,)</a:t>
            </a:r>
            <a:endParaRPr b="0" lang="en-US" sz="2400" spc="-1" strike="noStrike">
              <a:solidFill>
                <a:srgbClr val="000000"/>
              </a:solidFill>
              <a:latin typeface="Times New Roman"/>
            </a:endParaRPr>
          </a:p>
        </p:txBody>
      </p:sp>
      <p:sp>
        <p:nvSpPr>
          <p:cNvPr id="161" name="Line 6"/>
          <p:cNvSpPr/>
          <p:nvPr/>
        </p:nvSpPr>
        <p:spPr>
          <a:xfrm>
            <a:off x="54100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Text Box 7"/>
          <p:cNvSpPr/>
          <p:nvPr/>
        </p:nvSpPr>
        <p:spPr>
          <a:xfrm>
            <a:off x="3581280" y="2743200"/>
            <a:ext cx="388620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 of Thermal processes, devices and systems.</a:t>
            </a:r>
            <a:endParaRPr b="0" lang="en-US" sz="2400" spc="-1" strike="noStrike">
              <a:solidFill>
                <a:srgbClr val="000000"/>
              </a:solidFill>
              <a:latin typeface="Times New Roman"/>
            </a:endParaRPr>
          </a:p>
        </p:txBody>
      </p:sp>
      <p:sp>
        <p:nvSpPr>
          <p:cNvPr id="163" name="Line 8"/>
          <p:cNvSpPr/>
          <p:nvPr/>
        </p:nvSpPr>
        <p:spPr>
          <a:xfrm>
            <a:off x="533412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Text Box 9"/>
          <p:cNvSpPr/>
          <p:nvPr/>
        </p:nvSpPr>
        <p:spPr>
          <a:xfrm>
            <a:off x="3505320" y="4495680"/>
            <a:ext cx="327636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esign meeting Human’s NEED?</a:t>
            </a:r>
            <a:endParaRPr b="0" lang="en-US" sz="2400" spc="-1" strike="noStrike">
              <a:solidFill>
                <a:srgbClr val="000000"/>
              </a:solidFill>
              <a:latin typeface="Times New Roman"/>
            </a:endParaRPr>
          </a:p>
        </p:txBody>
      </p:sp>
      <p:sp>
        <p:nvSpPr>
          <p:cNvPr id="165" name="Line 10"/>
          <p:cNvSpPr/>
          <p:nvPr/>
        </p:nvSpPr>
        <p:spPr>
          <a:xfrm>
            <a:off x="685800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11"/>
          <p:cNvSpPr/>
          <p:nvPr/>
        </p:nvSpPr>
        <p:spPr>
          <a:xfrm flipV="1">
            <a:off x="8001000" y="32763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12"/>
          <p:cNvSpPr/>
          <p:nvPr/>
        </p:nvSpPr>
        <p:spPr>
          <a:xfrm flipH="1">
            <a:off x="7467480" y="3276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13"/>
          <p:cNvSpPr/>
          <p:nvPr/>
        </p:nvSpPr>
        <p:spPr>
          <a:xfrm>
            <a:off x="5257800" y="5105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Text Box 14"/>
          <p:cNvSpPr/>
          <p:nvPr/>
        </p:nvSpPr>
        <p:spPr>
          <a:xfrm>
            <a:off x="3809880" y="5867280"/>
            <a:ext cx="26672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sk completed)</a:t>
            </a:r>
            <a:endParaRPr b="0" lang="en-US" sz="2400" spc="-1" strike="noStrike">
              <a:solidFill>
                <a:srgbClr val="000000"/>
              </a:solidFill>
              <a:latin typeface="Times New Roman"/>
            </a:endParaRPr>
          </a:p>
        </p:txBody>
      </p:sp>
      <p:sp>
        <p:nvSpPr>
          <p:cNvPr id="170" name="Text Box 15"/>
          <p:cNvSpPr/>
          <p:nvPr/>
        </p:nvSpPr>
        <p:spPr>
          <a:xfrm>
            <a:off x="6934320" y="4191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p:txBody>
      </p:sp>
      <p:sp>
        <p:nvSpPr>
          <p:cNvPr id="171" name="Text Box 16"/>
          <p:cNvSpPr/>
          <p:nvPr/>
        </p:nvSpPr>
        <p:spPr>
          <a:xfrm>
            <a:off x="76320" y="1905120"/>
            <a:ext cx="2971800" cy="1015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dynam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s and information</a:t>
            </a:r>
            <a:endParaRPr b="0" lang="en-US" sz="2400" spc="-1" strike="noStrike">
              <a:solidFill>
                <a:srgbClr val="000000"/>
              </a:solidFill>
              <a:latin typeface="Times New Roman"/>
            </a:endParaRPr>
          </a:p>
        </p:txBody>
      </p:sp>
      <p:sp>
        <p:nvSpPr>
          <p:cNvPr id="172" name="Text Box 17"/>
          <p:cNvSpPr/>
          <p:nvPr/>
        </p:nvSpPr>
        <p:spPr>
          <a:xfrm>
            <a:off x="228600" y="3657600"/>
            <a:ext cx="2743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Engineering Sciences</a:t>
            </a:r>
            <a:endParaRPr b="0" lang="en-US" sz="2400" spc="-1" strike="noStrike">
              <a:solidFill>
                <a:srgbClr val="000000"/>
              </a:solidFill>
              <a:latin typeface="Times New Roman"/>
            </a:endParaRPr>
          </a:p>
        </p:txBody>
      </p:sp>
      <p:sp>
        <p:nvSpPr>
          <p:cNvPr id="173" name="Text Box 18"/>
          <p:cNvSpPr/>
          <p:nvPr/>
        </p:nvSpPr>
        <p:spPr>
          <a:xfrm>
            <a:off x="304920" y="5641920"/>
            <a:ext cx="266688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ocial Sciences and Humanities</a:t>
            </a:r>
            <a:endParaRPr b="0" lang="en-US" sz="2400" spc="-1" strike="noStrike">
              <a:solidFill>
                <a:srgbClr val="000000"/>
              </a:solidFill>
              <a:latin typeface="Times New Roman"/>
            </a:endParaRPr>
          </a:p>
        </p:txBody>
      </p:sp>
      <p:sp>
        <p:nvSpPr>
          <p:cNvPr id="174" name="Line 19"/>
          <p:cNvSpPr/>
          <p:nvPr/>
        </p:nvSpPr>
        <p:spPr>
          <a:xfrm>
            <a:off x="2819520" y="2438280"/>
            <a:ext cx="761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20"/>
          <p:cNvSpPr/>
          <p:nvPr/>
        </p:nvSpPr>
        <p:spPr>
          <a:xfrm flipV="1">
            <a:off x="2971800" y="3352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Group 21"/>
          <p:cNvGrpSpPr/>
          <p:nvPr/>
        </p:nvGrpSpPr>
        <p:grpSpPr>
          <a:xfrm>
            <a:off x="0" y="38160"/>
            <a:ext cx="9143640" cy="6819480"/>
            <a:chOff x="0" y="38160"/>
            <a:chExt cx="9143640" cy="6819480"/>
          </a:xfrm>
        </p:grpSpPr>
        <p:grpSp>
          <p:nvGrpSpPr>
            <p:cNvPr id="177" name="Group 22"/>
            <p:cNvGrpSpPr/>
            <p:nvPr/>
          </p:nvGrpSpPr>
          <p:grpSpPr>
            <a:xfrm>
              <a:off x="0" y="38160"/>
              <a:ext cx="138240" cy="6819480"/>
              <a:chOff x="0" y="38160"/>
              <a:chExt cx="138240" cy="6819480"/>
            </a:xfrm>
          </p:grpSpPr>
          <p:sp>
            <p:nvSpPr>
              <p:cNvPr id="178" name="Rectangle 23"/>
              <p:cNvSpPr/>
              <p:nvPr/>
            </p:nvSpPr>
            <p:spPr>
              <a:xfrm>
                <a:off x="0" y="38160"/>
                <a:ext cx="138240" cy="3672000"/>
              </a:xfrm>
              <a:prstGeom prst="rect">
                <a:avLst/>
              </a:prstGeom>
              <a:gradFill rotWithShape="0">
                <a:gsLst>
                  <a:gs pos="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Rectangle 24"/>
              <p:cNvSpPr/>
              <p:nvPr/>
            </p:nvSpPr>
            <p:spPr>
              <a:xfrm>
                <a:off x="0" y="3485520"/>
                <a:ext cx="138240" cy="3372120"/>
              </a:xfrm>
              <a:prstGeom prst="rect">
                <a:avLst/>
              </a:prstGeom>
              <a:gradFill rotWithShape="0">
                <a:gsLst>
                  <a:gs pos="0">
                    <a:srgbClr val="ffffff"/>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Group 25"/>
            <p:cNvGrpSpPr/>
            <p:nvPr/>
          </p:nvGrpSpPr>
          <p:grpSpPr>
            <a:xfrm>
              <a:off x="9005400" y="38160"/>
              <a:ext cx="138240" cy="6819480"/>
              <a:chOff x="9005400" y="38160"/>
              <a:chExt cx="138240" cy="6819480"/>
            </a:xfrm>
          </p:grpSpPr>
          <p:sp>
            <p:nvSpPr>
              <p:cNvPr id="181" name="Rectangle 26"/>
              <p:cNvSpPr/>
              <p:nvPr/>
            </p:nvSpPr>
            <p:spPr>
              <a:xfrm>
                <a:off x="9005400" y="38160"/>
                <a:ext cx="138240" cy="367200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Rectangle 27"/>
              <p:cNvSpPr/>
              <p:nvPr/>
            </p:nvSpPr>
            <p:spPr>
              <a:xfrm>
                <a:off x="9005400" y="3485520"/>
                <a:ext cx="138240" cy="3372120"/>
              </a:xfrm>
              <a:prstGeom prst="rect">
                <a:avLst/>
              </a:prstGeom>
              <a:gradFill rotWithShape="0">
                <a:gsLst>
                  <a:gs pos="0">
                    <a:srgbClr val="ffffff"/>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Group 28"/>
            <p:cNvGrpSpPr/>
            <p:nvPr/>
          </p:nvGrpSpPr>
          <p:grpSpPr>
            <a:xfrm>
              <a:off x="115560" y="39600"/>
              <a:ext cx="8902080" cy="136440"/>
              <a:chOff x="115560" y="39600"/>
              <a:chExt cx="8902080" cy="136440"/>
            </a:xfrm>
          </p:grpSpPr>
          <p:sp>
            <p:nvSpPr>
              <p:cNvPr id="184" name="Rectangle 29"/>
              <p:cNvSpPr/>
              <p:nvPr/>
            </p:nvSpPr>
            <p:spPr>
              <a:xfrm>
                <a:off x="115560" y="39600"/>
                <a:ext cx="4412160" cy="13644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30"/>
              <p:cNvSpPr/>
              <p:nvPr/>
            </p:nvSpPr>
            <p:spPr>
              <a:xfrm>
                <a:off x="4527720" y="39600"/>
                <a:ext cx="4489920" cy="136440"/>
              </a:xfrm>
              <a:prstGeom prst="rect">
                <a:avLst/>
              </a:prstGeom>
              <a:gradFill rotWithShape="0">
                <a:gsLst>
                  <a:gs pos="0">
                    <a:srgbClr val="ffffff"/>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Group 31"/>
            <p:cNvGrpSpPr/>
            <p:nvPr/>
          </p:nvGrpSpPr>
          <p:grpSpPr>
            <a:xfrm>
              <a:off x="115560" y="6710400"/>
              <a:ext cx="8902080" cy="136440"/>
              <a:chOff x="115560" y="6710400"/>
              <a:chExt cx="8902080" cy="136440"/>
            </a:xfrm>
          </p:grpSpPr>
          <p:sp>
            <p:nvSpPr>
              <p:cNvPr id="187" name="Rectangle 32"/>
              <p:cNvSpPr/>
              <p:nvPr/>
            </p:nvSpPr>
            <p:spPr>
              <a:xfrm>
                <a:off x="115560" y="6710400"/>
                <a:ext cx="4412160" cy="136440"/>
              </a:xfrm>
              <a:prstGeom prst="rect">
                <a:avLst/>
              </a:prstGeom>
              <a:gradFill rotWithShape="0">
                <a:gsLst>
                  <a:gs pos="0">
                    <a:srgbClr val="0066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Rectangle 33"/>
              <p:cNvSpPr/>
              <p:nvPr/>
            </p:nvSpPr>
            <p:spPr>
              <a:xfrm>
                <a:off x="4527720" y="6710400"/>
                <a:ext cx="4489920" cy="136440"/>
              </a:xfrm>
              <a:prstGeom prst="rect">
                <a:avLst/>
              </a:prstGeom>
              <a:gradFill rotWithShape="0">
                <a:gsLst>
                  <a:gs pos="0">
                    <a:srgbClr val="ffffff"/>
                  </a:gs>
                  <a:gs pos="100000">
                    <a:srgbClr val="ff99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9" name="Picture 34" descr="CAMCQB57"/>
            <p:cNvPicPr/>
            <p:nvPr/>
          </p:nvPicPr>
          <p:blipFill>
            <a:blip r:embed="rId1"/>
            <a:stretch/>
          </p:blipFill>
          <p:spPr>
            <a:xfrm>
              <a:off x="154440" y="252360"/>
              <a:ext cx="772920" cy="762120"/>
            </a:xfrm>
            <a:prstGeom prst="rect">
              <a:avLst/>
            </a:prstGeom>
            <a:ln w="0">
              <a:noFill/>
            </a:ln>
          </p:spPr>
        </p:pic>
        <p:sp>
          <p:nvSpPr>
            <p:cNvPr id="190" name="Text Box 35"/>
            <p:cNvSpPr/>
            <p:nvPr/>
          </p:nvSpPr>
          <p:spPr>
            <a:xfrm>
              <a:off x="618120" y="252360"/>
              <a:ext cx="82710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36"/>
            <p:cNvSpPr/>
            <p:nvPr/>
          </p:nvSpPr>
          <p:spPr>
            <a:xfrm>
              <a:off x="154440" y="1014480"/>
              <a:ext cx="8812080" cy="75960"/>
            </a:xfrm>
            <a:prstGeom prst="rect">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92" name="Ink 36"/>
          <p:cNvSpPr/>
          <p:nvPr/>
        </p:nvSpPr>
        <p:spPr>
          <a:xfrm>
            <a:off x="2884320" y="5168880"/>
            <a:ext cx="652680" cy="689040"/>
          </a:xfrm>
          <a:custGeom>
            <a:avLst/>
            <a:gdLst/>
            <a:ahLst/>
            <a:rect l="l" t="t" r="r" b="b"/>
            <a:pathLst>
              <a:path w="1813" h="1914">
                <a:moveTo>
                  <a:pt x="8153" y="15816"/>
                </a:moveTo>
                <a:cubicBezTo>
                  <a:pt x="8131" y="15805"/>
                  <a:pt x="8113" y="15795"/>
                  <a:pt x="8090" y="15786"/>
                </a:cubicBezTo>
                <a:cubicBezTo>
                  <a:pt x="8086" y="15786"/>
                  <a:pt x="8082" y="15785"/>
                  <a:pt x="8078" y="15785"/>
                </a:cubicBezTo>
                <a:cubicBezTo>
                  <a:pt x="8106" y="15777"/>
                  <a:pt x="8135" y="15777"/>
                  <a:pt x="8163" y="15765"/>
                </a:cubicBezTo>
                <a:cubicBezTo>
                  <a:pt x="8227" y="15738"/>
                  <a:pt x="8292" y="15699"/>
                  <a:pt x="8347" y="15657"/>
                </a:cubicBezTo>
                <a:cubicBezTo>
                  <a:pt x="8457" y="15574"/>
                  <a:pt x="8555" y="15477"/>
                  <a:pt x="8651" y="15378"/>
                </a:cubicBezTo>
                <a:cubicBezTo>
                  <a:pt x="8846" y="15177"/>
                  <a:pt x="9034" y="14967"/>
                  <a:pt x="9246" y="14784"/>
                </a:cubicBezTo>
                <a:cubicBezTo>
                  <a:pt x="9372" y="14676"/>
                  <a:pt x="9512" y="14583"/>
                  <a:pt x="9647" y="14487"/>
                </a:cubicBezTo>
                <a:cubicBezTo>
                  <a:pt x="9701" y="14448"/>
                  <a:pt x="9755" y="14409"/>
                  <a:pt x="9809" y="14371"/>
                </a:cubicBezTo>
                <a:cubicBezTo>
                  <a:pt x="9814" y="14367"/>
                  <a:pt x="9820" y="14364"/>
                  <a:pt x="9825" y="14360"/>
                </a:cubicBezTo>
                <a:cubicBezTo>
                  <a:pt x="9808" y="14377"/>
                  <a:pt x="9788" y="14409"/>
                  <a:pt x="9768" y="14425"/>
                </a:cubicBezTo>
                <a:cubicBezTo>
                  <a:pt x="9729" y="14448"/>
                  <a:pt x="9715" y="14457"/>
                  <a:pt x="9692" y="14479"/>
                </a:cubicBezTo>
              </a:path>
              <a:path w="1813" h="1914">
                <a:moveTo>
                  <a:pt x="8779" y="14699"/>
                </a:moveTo>
                <a:cubicBezTo>
                  <a:pt x="8761" y="14693"/>
                  <a:pt x="8756" y="14691"/>
                  <a:pt x="8744" y="14695"/>
                </a:cubicBezTo>
                <a:cubicBezTo>
                  <a:pt x="8734" y="14732"/>
                  <a:pt x="8729" y="14769"/>
                  <a:pt x="8723" y="14807"/>
                </a:cubicBezTo>
                <a:cubicBezTo>
                  <a:pt x="8709" y="14899"/>
                  <a:pt x="8694" y="14990"/>
                  <a:pt x="8674" y="15081"/>
                </a:cubicBezTo>
                <a:cubicBezTo>
                  <a:pt x="8651" y="15187"/>
                  <a:pt x="8622" y="15292"/>
                  <a:pt x="8586" y="15395"/>
                </a:cubicBezTo>
                <a:cubicBezTo>
                  <a:pt x="8569" y="15444"/>
                  <a:pt x="8547" y="15489"/>
                  <a:pt x="8523" y="15533"/>
                </a:cubicBezTo>
                <a:cubicBezTo>
                  <a:pt x="8539" y="15503"/>
                  <a:pt x="8547" y="15486"/>
                  <a:pt x="8585" y="15472"/>
                </a:cubicBezTo>
                <a:cubicBezTo>
                  <a:pt x="8625" y="15457"/>
                  <a:pt x="8675" y="15466"/>
                  <a:pt x="8716" y="15472"/>
                </a:cubicBezTo>
                <a:cubicBezTo>
                  <a:pt x="8770" y="15480"/>
                  <a:pt x="8822" y="15487"/>
                  <a:pt x="8877" y="15488"/>
                </a:cubicBezTo>
                <a:cubicBezTo>
                  <a:pt x="8934" y="15489"/>
                  <a:pt x="8996" y="15489"/>
                  <a:pt x="9051" y="15471"/>
                </a:cubicBezTo>
                <a:cubicBezTo>
                  <a:pt x="9083" y="15460"/>
                  <a:pt x="9115" y="15443"/>
                  <a:pt x="9147" y="15434"/>
                </a:cubicBezTo>
                <a:cubicBezTo>
                  <a:pt x="9154" y="15432"/>
                  <a:pt x="9162" y="15431"/>
                  <a:pt x="9169" y="15429"/>
                </a:cubicBezTo>
              </a:path>
              <a:path w="1813" h="1914">
                <a:moveTo>
                  <a:pt x="8048" y="15339"/>
                </a:moveTo>
                <a:cubicBezTo>
                  <a:pt x="8028" y="15351"/>
                  <a:pt x="8025" y="15353"/>
                  <a:pt x="8013" y="15358"/>
                </a:cubicBezTo>
                <a:cubicBezTo>
                  <a:pt x="8131" y="15358"/>
                  <a:pt x="8250" y="15354"/>
                  <a:pt x="8361" y="15403"/>
                </a:cubicBezTo>
                <a:cubicBezTo>
                  <a:pt x="8440" y="15438"/>
                  <a:pt x="8497" y="15497"/>
                  <a:pt x="8527" y="15578"/>
                </a:cubicBezTo>
                <a:cubicBezTo>
                  <a:pt x="8574" y="15703"/>
                  <a:pt x="8561" y="15850"/>
                  <a:pt x="8550" y="15980"/>
                </a:cubicBezTo>
                <a:cubicBezTo>
                  <a:pt x="8542" y="16070"/>
                  <a:pt x="8528" y="16158"/>
                  <a:pt x="8526" y="16248"/>
                </a:cubicBezTo>
                <a:cubicBezTo>
                  <a:pt x="8526" y="16256"/>
                  <a:pt x="8526" y="16265"/>
                  <a:pt x="8526" y="162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60"/>
                                        </p:tgtEl>
                                        <p:attrNameLst>
                                          <p:attrName>style.visibility</p:attrName>
                                        </p:attrNameLst>
                                      </p:cBhvr>
                                      <p:to>
                                        <p:strVal val="visible"/>
                                      </p:to>
                                    </p:set>
                                    <p:animEffect filter="dissolve" transition="in">
                                      <p:cBhvr additive="repl">
                                        <p:cTn id="281" dur="500"/>
                                        <p:tgtEl>
                                          <p:spTgt spid="16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71"/>
                                        </p:tgtEl>
                                        <p:attrNameLst>
                                          <p:attrName>style.visibility</p:attrName>
                                        </p:attrNameLst>
                                      </p:cBhvr>
                                      <p:to>
                                        <p:strVal val="visible"/>
                                      </p:to>
                                    </p:set>
                                    <p:animEffect filter="dissolve" transition="in">
                                      <p:cBhvr additive="repl">
                                        <p:cTn id="286" dur="500"/>
                                        <p:tgtEl>
                                          <p:spTgt spid="171"/>
                                        </p:tgtEl>
                                      </p:cBhvr>
                                    </p:animEffect>
                                  </p:childTnLst>
                                </p:cTn>
                              </p:par>
                              <p:par>
                                <p:cTn id="287" nodeType="withEffect" fill="hold" presetClass="entr" presetID="9">
                                  <p:stCondLst>
                                    <p:cond delay="0"/>
                                  </p:stCondLst>
                                  <p:childTnLst>
                                    <p:set>
                                      <p:cBhvr>
                                        <p:cTn id="288" dur="1" fill="hold">
                                          <p:stCondLst>
                                            <p:cond delay="0"/>
                                          </p:stCondLst>
                                        </p:cTn>
                                        <p:tgtEl>
                                          <p:spTgt spid="174"/>
                                        </p:tgtEl>
                                        <p:attrNameLst>
                                          <p:attrName>style.visibility</p:attrName>
                                        </p:attrNameLst>
                                      </p:cBhvr>
                                      <p:to>
                                        <p:strVal val="visible"/>
                                      </p:to>
                                    </p:set>
                                    <p:animEffect filter="dissolve" transition="in">
                                      <p:cBhvr additive="repl">
                                        <p:cTn id="289" dur="500"/>
                                        <p:tgtEl>
                                          <p:spTgt spid="174"/>
                                        </p:tgtEl>
                                      </p:cBhvr>
                                    </p:animEffect>
                                  </p:childTnLst>
                                </p:cTn>
                              </p:par>
                              <p:par>
                                <p:cTn id="290" nodeType="withEffect" fill="hold" presetClass="entr" presetID="9">
                                  <p:stCondLst>
                                    <p:cond delay="0"/>
                                  </p:stCondLst>
                                  <p:childTnLst>
                                    <p:set>
                                      <p:cBhvr>
                                        <p:cTn id="291" dur="1" fill="hold">
                                          <p:stCondLst>
                                            <p:cond delay="0"/>
                                          </p:stCondLst>
                                        </p:cTn>
                                        <p:tgtEl>
                                          <p:spTgt spid="161"/>
                                        </p:tgtEl>
                                        <p:attrNameLst>
                                          <p:attrName>style.visibility</p:attrName>
                                        </p:attrNameLst>
                                      </p:cBhvr>
                                      <p:to>
                                        <p:strVal val="visible"/>
                                      </p:to>
                                    </p:set>
                                    <p:animEffect filter="dissolve" transition="in">
                                      <p:cBhvr additive="repl">
                                        <p:cTn id="292" dur="5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72"/>
                                        </p:tgtEl>
                                        <p:attrNameLst>
                                          <p:attrName>style.visibility</p:attrName>
                                        </p:attrNameLst>
                                      </p:cBhvr>
                                      <p:to>
                                        <p:strVal val="visible"/>
                                      </p:to>
                                    </p:set>
                                    <p:animEffect filter="dissolve" transition="in">
                                      <p:cBhvr additive="repl">
                                        <p:cTn id="297" dur="500"/>
                                        <p:tgtEl>
                                          <p:spTgt spid="172"/>
                                        </p:tgtEl>
                                      </p:cBhvr>
                                    </p:animEffect>
                                  </p:childTnLst>
                                </p:cTn>
                              </p:par>
                              <p:par>
                                <p:cTn id="298" nodeType="withEffect" fill="hold" presetClass="entr" presetID="9">
                                  <p:stCondLst>
                                    <p:cond delay="0"/>
                                  </p:stCondLst>
                                  <p:childTnLst>
                                    <p:set>
                                      <p:cBhvr>
                                        <p:cTn id="299" dur="1" fill="hold">
                                          <p:stCondLst>
                                            <p:cond delay="0"/>
                                          </p:stCondLst>
                                        </p:cTn>
                                        <p:tgtEl>
                                          <p:spTgt spid="175"/>
                                        </p:tgtEl>
                                        <p:attrNameLst>
                                          <p:attrName>style.visibility</p:attrName>
                                        </p:attrNameLst>
                                      </p:cBhvr>
                                      <p:to>
                                        <p:strVal val="visible"/>
                                      </p:to>
                                    </p:set>
                                    <p:animEffect filter="dissolve" transition="in">
                                      <p:cBhvr additive="repl">
                                        <p:cTn id="300" dur="500"/>
                                        <p:tgtEl>
                                          <p:spTgt spid="17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62"/>
                                        </p:tgtEl>
                                        <p:attrNameLst>
                                          <p:attrName>style.visibility</p:attrName>
                                        </p:attrNameLst>
                                      </p:cBhvr>
                                      <p:to>
                                        <p:strVal val="visible"/>
                                      </p:to>
                                    </p:set>
                                    <p:animEffect filter="dissolve" transition="in">
                                      <p:cBhvr additive="repl">
                                        <p:cTn id="305" dur="500"/>
                                        <p:tgtEl>
                                          <p:spTgt spid="16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63"/>
                                        </p:tgtEl>
                                        <p:attrNameLst>
                                          <p:attrName>style.visibility</p:attrName>
                                        </p:attrNameLst>
                                      </p:cBhvr>
                                      <p:to>
                                        <p:strVal val="visible"/>
                                      </p:to>
                                    </p:set>
                                    <p:animEffect filter="dissolve" transition="in">
                                      <p:cBhvr additive="repl">
                                        <p:cTn id="310" dur="500"/>
                                        <p:tgtEl>
                                          <p:spTgt spid="163"/>
                                        </p:tgtEl>
                                      </p:cBhvr>
                                    </p:animEffect>
                                  </p:childTnLst>
                                </p:cTn>
                              </p:par>
                              <p:par>
                                <p:cTn id="311" nodeType="withEffect" fill="hold" presetClass="entr" presetID="9">
                                  <p:stCondLst>
                                    <p:cond delay="0"/>
                                  </p:stCondLst>
                                  <p:childTnLst>
                                    <p:set>
                                      <p:cBhvr>
                                        <p:cTn id="312" dur="1" fill="hold">
                                          <p:stCondLst>
                                            <p:cond delay="0"/>
                                          </p:stCondLst>
                                        </p:cTn>
                                        <p:tgtEl>
                                          <p:spTgt spid="164"/>
                                        </p:tgtEl>
                                        <p:attrNameLst>
                                          <p:attrName>style.visibility</p:attrName>
                                        </p:attrNameLst>
                                      </p:cBhvr>
                                      <p:to>
                                        <p:strVal val="visible"/>
                                      </p:to>
                                    </p:set>
                                    <p:animEffect filter="dissolve" transition="in">
                                      <p:cBhvr additive="repl">
                                        <p:cTn id="313" dur="500"/>
                                        <p:tgtEl>
                                          <p:spTgt spid="16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65"/>
                                        </p:tgtEl>
                                        <p:attrNameLst>
                                          <p:attrName>style.visibility</p:attrName>
                                        </p:attrNameLst>
                                      </p:cBhvr>
                                      <p:to>
                                        <p:strVal val="visible"/>
                                      </p:to>
                                    </p:set>
                                    <p:animEffect filter="dissolve" transition="in">
                                      <p:cBhvr additive="repl">
                                        <p:cTn id="318" dur="500"/>
                                        <p:tgtEl>
                                          <p:spTgt spid="165"/>
                                        </p:tgtEl>
                                      </p:cBhvr>
                                    </p:animEffect>
                                  </p:childTnLst>
                                </p:cTn>
                              </p:par>
                              <p:par>
                                <p:cTn id="319" nodeType="withEffect" fill="hold" presetClass="entr" presetID="9">
                                  <p:stCondLst>
                                    <p:cond delay="0"/>
                                  </p:stCondLst>
                                  <p:childTnLst>
                                    <p:set>
                                      <p:cBhvr>
                                        <p:cTn id="320" dur="1" fill="hold">
                                          <p:stCondLst>
                                            <p:cond delay="0"/>
                                          </p:stCondLst>
                                        </p:cTn>
                                        <p:tgtEl>
                                          <p:spTgt spid="170"/>
                                        </p:tgtEl>
                                        <p:attrNameLst>
                                          <p:attrName>style.visibility</p:attrName>
                                        </p:attrNameLst>
                                      </p:cBhvr>
                                      <p:to>
                                        <p:strVal val="visible"/>
                                      </p:to>
                                    </p:set>
                                    <p:animEffect filter="dissolve" transition="in">
                                      <p:cBhvr additive="repl">
                                        <p:cTn id="321" dur="500"/>
                                        <p:tgtEl>
                                          <p:spTgt spid="170"/>
                                        </p:tgtEl>
                                      </p:cBhvr>
                                    </p:animEffect>
                                  </p:childTnLst>
                                </p:cTn>
                              </p:par>
                              <p:par>
                                <p:cTn id="322" nodeType="withEffect" fill="hold" presetClass="entr" presetID="9">
                                  <p:stCondLst>
                                    <p:cond delay="0"/>
                                  </p:stCondLst>
                                  <p:childTnLst>
                                    <p:set>
                                      <p:cBhvr>
                                        <p:cTn id="323" dur="1" fill="hold">
                                          <p:stCondLst>
                                            <p:cond delay="0"/>
                                          </p:stCondLst>
                                        </p:cTn>
                                        <p:tgtEl>
                                          <p:spTgt spid="166"/>
                                        </p:tgtEl>
                                        <p:attrNameLst>
                                          <p:attrName>style.visibility</p:attrName>
                                        </p:attrNameLst>
                                      </p:cBhvr>
                                      <p:to>
                                        <p:strVal val="visible"/>
                                      </p:to>
                                    </p:set>
                                    <p:animEffect filter="dissolve" transition="in">
                                      <p:cBhvr additive="repl">
                                        <p:cTn id="324" dur="500"/>
                                        <p:tgtEl>
                                          <p:spTgt spid="166"/>
                                        </p:tgtEl>
                                      </p:cBhvr>
                                    </p:animEffect>
                                  </p:childTnLst>
                                </p:cTn>
                              </p:par>
                              <p:par>
                                <p:cTn id="325" nodeType="withEffect" fill="hold" presetClass="entr" presetID="9">
                                  <p:stCondLst>
                                    <p:cond delay="0"/>
                                  </p:stCondLst>
                                  <p:childTnLst>
                                    <p:set>
                                      <p:cBhvr>
                                        <p:cTn id="326" dur="1" fill="hold">
                                          <p:stCondLst>
                                            <p:cond delay="0"/>
                                          </p:stCondLst>
                                        </p:cTn>
                                        <p:tgtEl>
                                          <p:spTgt spid="167"/>
                                        </p:tgtEl>
                                        <p:attrNameLst>
                                          <p:attrName>style.visibility</p:attrName>
                                        </p:attrNameLst>
                                      </p:cBhvr>
                                      <p:to>
                                        <p:strVal val="visible"/>
                                      </p:to>
                                    </p:set>
                                    <p:animEffect filter="dissolve" transition="in">
                                      <p:cBhvr additive="repl">
                                        <p:cTn id="327" dur="500"/>
                                        <p:tgtEl>
                                          <p:spTgt spid="16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68"/>
                                        </p:tgtEl>
                                        <p:attrNameLst>
                                          <p:attrName>style.visibility</p:attrName>
                                        </p:attrNameLst>
                                      </p:cBhvr>
                                      <p:to>
                                        <p:strVal val="visible"/>
                                      </p:to>
                                    </p:set>
                                    <p:animEffect filter="dissolve" transition="in">
                                      <p:cBhvr additive="repl">
                                        <p:cTn id="332" dur="500"/>
                                        <p:tgtEl>
                                          <p:spTgt spid="168"/>
                                        </p:tgtEl>
                                      </p:cBhvr>
                                    </p:animEffect>
                                  </p:childTnLst>
                                </p:cTn>
                              </p:par>
                              <p:par>
                                <p:cTn id="333" nodeType="withEffect" fill="hold" presetClass="entr" presetID="9">
                                  <p:stCondLst>
                                    <p:cond delay="0"/>
                                  </p:stCondLst>
                                  <p:childTnLst>
                                    <p:set>
                                      <p:cBhvr>
                                        <p:cTn id="334" dur="1" fill="hold">
                                          <p:stCondLst>
                                            <p:cond delay="0"/>
                                          </p:stCondLst>
                                        </p:cTn>
                                        <p:tgtEl>
                                          <p:spTgt spid="169"/>
                                        </p:tgtEl>
                                        <p:attrNameLst>
                                          <p:attrName>style.visibility</p:attrName>
                                        </p:attrNameLst>
                                      </p:cBhvr>
                                      <p:to>
                                        <p:strVal val="visible"/>
                                      </p:to>
                                    </p:set>
                                    <p:animEffect filter="dissolve" transition="in">
                                      <p:cBhvr additive="repl">
                                        <p:cTn id="335" dur="500"/>
                                        <p:tgtEl>
                                          <p:spTgt spid="16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73"/>
                                        </p:tgtEl>
                                        <p:attrNameLst>
                                          <p:attrName>style.visibility</p:attrName>
                                        </p:attrNameLst>
                                      </p:cBhvr>
                                      <p:to>
                                        <p:strVal val="visible"/>
                                      </p:to>
                                    </p:set>
                                    <p:animEffect filter="dissolve" transition="in">
                                      <p:cBhvr additive="repl">
                                        <p:cTn id="34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6T01:39:54Z</dcterms:created>
  <dc:creator>P.M.V.S</dc:creator>
  <dc:description/>
  <dc:language>en-US</dc:language>
  <cp:lastModifiedBy>hp</cp:lastModifiedBy>
  <cp:lastPrinted>2002-07-26T02:11:33Z</cp:lastPrinted>
  <dcterms:modified xsi:type="dcterms:W3CDTF">2017-10-06T05:05:21Z</dcterms:modified>
  <cp:revision>170</cp:revision>
  <dc:subject/>
  <dc:title>A Science Lead to Development of Civilization</dc:title>
</cp:coreProperties>
</file>