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jpeg" ContentType="image/jpeg"/>
  <Override PartName="/ppt/media/image2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2EA2B-6537-4694-9488-263EE70AD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76949-D892-4189-8561-3344D8AFB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CFEBB-E843-40A5-B892-F8FF6A400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39F76-BDCC-4D3E-861F-9F898F6AF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49415-98D6-4AB5-B998-34591D2B1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B9488-65FF-40D6-8B09-5F96E5442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4A7D0-D0C9-4819-8A04-E4714EF75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2396E-A6C0-4BBC-8773-64E0AF16E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CEE8A-5C3E-492A-9A38-203FF27FF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F76B1-5927-4038-BD79-6F61FC110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4BECE-7598-48C4-9794-C6E27A00B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EE2CB-7C58-42C2-8335-9159B2ECD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AFEE9-32BD-4810-B0C9-EB903F66A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E7845-00B6-43FA-A547-B91D1BB98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4BEE3-9536-448A-B552-4C3F91E0F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FE626-3713-4387-AB62-B1856BAAE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0FAC5-9C63-4824-8007-4923F2841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5788CF-6090-4BEB-96DE-C9EFF16C3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A4054B-2148-4E6D-8C4C-D3FCCEE27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4B6193-8E2A-4E87-99BB-D177C34D4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6B8E67-2538-483D-BE2C-288ECF992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2C1EEF-4DB7-4764-AA5C-50EE7C624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70D3F-BA19-4C6C-9478-A7CC88AB1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09912F-1BC6-4E24-95B0-5D07CCE14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5D8E54-CCAF-4FD5-B1D1-D9F73117C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58FC78-2E86-435A-9D18-47799DB9E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3FC681-E48F-431C-B553-3644E3938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E44472-268F-4FCF-BEC0-4F112490A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E3C25A-C9F8-4944-9658-D7283F5E0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633EB9-3256-4AD3-AB28-A28D730B9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4D1685-3105-4637-BD09-A1B8D3444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FAAB23-5B71-4366-A4DE-57979ECD9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72F90E-5759-47D2-90A8-BB5C8D154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A081A-D872-4C2D-8696-243F4D54F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A4703A-CA8A-477F-B13A-89A536A37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4F20A9-67E1-48E0-87E1-FA2B1F14A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251C22-E24B-4B37-B6F0-15F4A565A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7E6369-F245-41A4-8B56-79D257696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65C5D2-1F6E-4184-A160-BD3832709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AE324A-1954-4EC7-9E51-4A78D355E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7EB38C-58CA-40EA-9CD5-3BD4A7302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4A03BF-E66C-4A8C-A8C4-14C15CDE9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762024-80D1-4EEA-8ED6-FD20B2F38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5A33E-1B69-4828-8B9A-4278E958C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182B4-F2D7-479A-847D-E0CA9BFF1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8511B-E6ED-4F0F-9AEE-BF866FF20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E4CC0-563B-41E7-A232-ACC2EEDEF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188D7-B63E-4694-B3BF-68435AB3F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8C998-0546-4E58-A208-D2F03AF726C0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41B21-6780-4ABB-9BB5-F4EAC9EFE43C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CD501-F0C3-4536-955C-9A3D8C6372C3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CE420-F44A-451E-8713-11CB6A83CCC8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1" descr=""/>
          <p:cNvPicPr/>
          <p:nvPr/>
        </p:nvPicPr>
        <p:blipFill>
          <a:blip r:embed="rId1"/>
          <a:stretch/>
        </p:blipFill>
        <p:spPr>
          <a:xfrm>
            <a:off x="1517760" y="530280"/>
            <a:ext cx="7254720" cy="104940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228600" y="2057040"/>
            <a:ext cx="8686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cca62"/>
                </a:solidFill>
                <a:latin typeface="Constantia"/>
              </a:rPr>
              <a:t>Content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spcBef>
                <a:spcPts val="649"/>
              </a:spcBef>
              <a:buClr>
                <a:srgbClr val="ffffff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Introduction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spcBef>
                <a:spcPts val="649"/>
              </a:spcBef>
              <a:buClr>
                <a:srgbClr val="ffffff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ypes and configurations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spcBef>
                <a:spcPts val="649"/>
              </a:spcBef>
              <a:buClr>
                <a:srgbClr val="ffffff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Parts delivery at workstation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spcBef>
                <a:spcPts val="649"/>
              </a:spcBef>
              <a:buClr>
                <a:srgbClr val="ffffff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Various vibratory and non-vibratory devices for feeding and orientation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spcBef>
                <a:spcPts val="649"/>
              </a:spcBef>
              <a:buClr>
                <a:srgbClr val="ffffff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Product design for automated assembly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228600" y="1066680"/>
            <a:ext cx="8610480" cy="548640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cca62"/>
                </a:solidFill>
                <a:latin typeface="Constantia"/>
              </a:rPr>
              <a:t>Feed track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—the pathway along which the components pass from the hopper and parts feeder to the assembly workhead, whilst maintaining proper orientation of the parts via selectors/orientors along the way; it generally operates by gravity, though powered feed tracks (operated by vibratory action or air pressure) may also be encountered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cca62"/>
                </a:solidFill>
                <a:latin typeface="Constantia"/>
              </a:rPr>
              <a:t>Escapement and placement devices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—devices used to remove components from the feedtrack (escapement), and to place them at the workstation for the assembly operation (placement); there are a number of different device designs to accomplish this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228600" y="837720"/>
            <a:ext cx="8610480" cy="579132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cca62"/>
                </a:solidFill>
                <a:latin typeface="Constantia"/>
              </a:rPr>
              <a:t>Hardware elements used to delivery parts to workstation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16" name="Picture 2" descr=""/>
          <p:cNvPicPr/>
          <p:nvPr/>
        </p:nvPicPr>
        <p:blipFill>
          <a:blip r:embed="rId1"/>
          <a:stretch/>
        </p:blipFill>
        <p:spPr>
          <a:xfrm>
            <a:off x="533520" y="1523880"/>
            <a:ext cx="838188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228600" y="609480"/>
            <a:ext cx="8610480" cy="601992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cca62"/>
                </a:solidFill>
                <a:latin typeface="Constantia"/>
              </a:rPr>
              <a:t>Hopper and parts feeder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18" name="Picture 2" descr=""/>
          <p:cNvPicPr/>
          <p:nvPr/>
        </p:nvPicPr>
        <p:blipFill>
          <a:blip r:embed="rId1"/>
          <a:stretch/>
        </p:blipFill>
        <p:spPr>
          <a:xfrm>
            <a:off x="1295280" y="1371600"/>
            <a:ext cx="6248520" cy="524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228600" y="609480"/>
            <a:ext cx="8610480" cy="601992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cca62"/>
                </a:solidFill>
                <a:latin typeface="Constantia"/>
              </a:rPr>
              <a:t>Hopper and parts feeder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20" name="Picture 2" descr=""/>
          <p:cNvPicPr/>
          <p:nvPr/>
        </p:nvPicPr>
        <p:blipFill>
          <a:blip r:embed="rId1"/>
          <a:stretch/>
        </p:blipFill>
        <p:spPr>
          <a:xfrm>
            <a:off x="1143000" y="1219320"/>
            <a:ext cx="609588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228600" y="609480"/>
            <a:ext cx="8610480" cy="601992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marL="514440" indent="-51444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cca62"/>
                </a:solidFill>
                <a:latin typeface="Constantia"/>
              </a:rPr>
              <a:t>Selector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514440" indent="-51444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cca62"/>
                </a:solidFill>
                <a:latin typeface="Constantia"/>
              </a:rPr>
              <a:t>Orientor devices used upon the feedtrack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514440" indent="-5144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514440" indent="-5144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514440" indent="-5144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22" name="Picture 2" descr=""/>
          <p:cNvPicPr/>
          <p:nvPr/>
        </p:nvPicPr>
        <p:blipFill>
          <a:blip r:embed="rId1"/>
          <a:stretch/>
        </p:blipFill>
        <p:spPr>
          <a:xfrm>
            <a:off x="838080" y="1676520"/>
            <a:ext cx="72392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228600" y="609480"/>
            <a:ext cx="8610480" cy="601992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cca62"/>
                </a:solidFill>
                <a:latin typeface="Constantia"/>
              </a:rPr>
              <a:t>Horizontal placement device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24" name="Picture 2" descr=""/>
          <p:cNvPicPr/>
          <p:nvPr/>
        </p:nvPicPr>
        <p:blipFill>
          <a:blip r:embed="rId1"/>
          <a:stretch/>
        </p:blipFill>
        <p:spPr>
          <a:xfrm>
            <a:off x="1752480" y="1447920"/>
            <a:ext cx="579132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228600" y="609480"/>
            <a:ext cx="8610480" cy="601992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cca62"/>
                </a:solidFill>
                <a:latin typeface="Constantia"/>
              </a:rPr>
              <a:t>Vertical placement device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26" name="Picture 2" descr=""/>
          <p:cNvPicPr/>
          <p:nvPr/>
        </p:nvPicPr>
        <p:blipFill>
          <a:blip r:embed="rId1"/>
          <a:stretch/>
        </p:blipFill>
        <p:spPr>
          <a:xfrm>
            <a:off x="1295280" y="1219320"/>
            <a:ext cx="67820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228600" y="609480"/>
            <a:ext cx="8610480" cy="601992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cca62"/>
                </a:solidFill>
                <a:latin typeface="Constantia"/>
              </a:rPr>
              <a:t>Escapement device 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28" name="Picture 2" descr=""/>
          <p:cNvPicPr/>
          <p:nvPr/>
        </p:nvPicPr>
        <p:blipFill>
          <a:blip r:embed="rId1"/>
          <a:stretch/>
        </p:blipFill>
        <p:spPr>
          <a:xfrm>
            <a:off x="1143000" y="1295280"/>
            <a:ext cx="731520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228600" y="609480"/>
            <a:ext cx="8610480" cy="601992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cca62"/>
                </a:solidFill>
                <a:latin typeface="Constantia"/>
              </a:rPr>
              <a:t>Pick-and-place mechanism (1) </a:t>
            </a:r>
            <a:r>
              <a:rPr b="0" lang="en-US" sz="2600" spc="-1" strike="noStrike">
                <a:solidFill>
                  <a:srgbClr val="7cca62"/>
                </a:solidFill>
                <a:latin typeface="Constantia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30" name="Picture 2" descr=""/>
          <p:cNvPicPr/>
          <p:nvPr/>
        </p:nvPicPr>
        <p:blipFill>
          <a:blip r:embed="rId1"/>
          <a:stretch/>
        </p:blipFill>
        <p:spPr>
          <a:xfrm>
            <a:off x="1371600" y="1447920"/>
            <a:ext cx="68580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228600" y="609480"/>
            <a:ext cx="8610480" cy="601992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cca62"/>
                </a:solidFill>
                <a:latin typeface="Constantia"/>
              </a:rPr>
              <a:t>Pick-and-place mechanism (2) </a:t>
            </a:r>
            <a:r>
              <a:rPr b="0" lang="en-US" sz="2600" spc="-1" strike="noStrike">
                <a:solidFill>
                  <a:srgbClr val="7cca62"/>
                </a:solidFill>
                <a:latin typeface="Constantia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32" name="Picture 2" descr=""/>
          <p:cNvPicPr/>
          <p:nvPr/>
        </p:nvPicPr>
        <p:blipFill>
          <a:blip r:embed="rId1"/>
          <a:stretch/>
        </p:blipFill>
        <p:spPr>
          <a:xfrm>
            <a:off x="762120" y="1447920"/>
            <a:ext cx="76960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Title 1" descr=""/>
          <p:cNvPicPr/>
          <p:nvPr/>
        </p:nvPicPr>
        <p:blipFill>
          <a:blip r:embed="rId1"/>
          <a:stretch/>
        </p:blipFill>
        <p:spPr>
          <a:xfrm>
            <a:off x="-317520" y="-6480"/>
            <a:ext cx="9090000" cy="1054080"/>
          </a:xfrm>
          <a:prstGeom prst="rect">
            <a:avLst/>
          </a:prstGeom>
          <a:ln w="0">
            <a:noFill/>
          </a:ln>
        </p:spPr>
      </p:pic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228600" y="114300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Automated assembly refers to the use of mechanized and automated devices to perform the various assembly tasks in an assembly line or cell.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The vast majority of automated assembly systems are designed to perform a fixed sequence of assembly steps on a specific product.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Automated assembly is considered appropriate if it meets the following conditions: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Title 1" descr=""/>
          <p:cNvPicPr/>
          <p:nvPr/>
        </p:nvPicPr>
        <p:blipFill>
          <a:blip r:embed="rId1"/>
          <a:stretch/>
        </p:blipFill>
        <p:spPr>
          <a:xfrm>
            <a:off x="-317520" y="281160"/>
            <a:ext cx="9090000" cy="766440"/>
          </a:xfrm>
          <a:prstGeom prst="rect">
            <a:avLst/>
          </a:prstGeom>
          <a:ln w="0">
            <a:noFill/>
          </a:ln>
        </p:spPr>
      </p:pic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228600" y="114300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cca62"/>
                </a:solidFill>
                <a:latin typeface="Constantia"/>
              </a:rPr>
              <a:t>Design for Assembly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Includes part features such as chamfers and tapers on mating parts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Use base part to which other components are added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nstantia"/>
              </a:rPr>
              <a:t>Use modular design-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Each sub-assembly should consists of 5-15 parts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Easier maintenance and field service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Facilitates automated assembly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Reduces inventory requirement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Reduces final assembly time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Avoid threaded fasteners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Use fast assembly technique such as snap fits and adhesive bonding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Minimum no. of distinct fasteners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Box 5"/>
          <p:cNvSpPr/>
          <p:nvPr/>
        </p:nvSpPr>
        <p:spPr>
          <a:xfrm>
            <a:off x="457200" y="99072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ed Assembly – Application Character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Box 6"/>
          <p:cNvSpPr/>
          <p:nvPr/>
        </p:nvSpPr>
        <p:spPr>
          <a:xfrm>
            <a:off x="453600" y="2209680"/>
            <a:ext cx="7090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 product  de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ble  product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assembly consists of no more than a limi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umber of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The product is designed for automated assemb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Box 8"/>
          <p:cNvSpPr/>
          <p:nvPr/>
        </p:nvSpPr>
        <p:spPr>
          <a:xfrm>
            <a:off x="1022760" y="1676520"/>
            <a:ext cx="599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000"/>
                </a:solidFill>
                <a:latin typeface="Arial"/>
              </a:rPr>
              <a:t>Where is automated  assembly appropr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Title 1" descr=""/>
          <p:cNvPicPr/>
          <p:nvPr/>
        </p:nvPicPr>
        <p:blipFill>
          <a:blip r:embed="rId1"/>
          <a:stretch/>
        </p:blipFill>
        <p:spPr>
          <a:xfrm>
            <a:off x="-49320" y="281160"/>
            <a:ext cx="6053400" cy="84132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228600" y="1143000"/>
            <a:ext cx="8610480" cy="548640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cca62"/>
                </a:solidFill>
                <a:latin typeface="Constantia"/>
              </a:rPr>
              <a:t>Inline configuration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4" name="Picture 2" descr=""/>
          <p:cNvPicPr/>
          <p:nvPr/>
        </p:nvPicPr>
        <p:blipFill>
          <a:blip r:embed="rId2"/>
          <a:stretch/>
        </p:blipFill>
        <p:spPr>
          <a:xfrm>
            <a:off x="609480" y="1828800"/>
            <a:ext cx="82296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228600" y="837720"/>
            <a:ext cx="8610480" cy="579132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cca62"/>
                </a:solidFill>
                <a:latin typeface="Constantia"/>
              </a:rPr>
              <a:t>Dial type configuration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6" name="Picture 2" descr=""/>
          <p:cNvPicPr/>
          <p:nvPr/>
        </p:nvPicPr>
        <p:blipFill>
          <a:blip r:embed="rId1"/>
          <a:stretch/>
        </p:blipFill>
        <p:spPr>
          <a:xfrm>
            <a:off x="2133720" y="1676520"/>
            <a:ext cx="54864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228600" y="837720"/>
            <a:ext cx="8610480" cy="579132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cca62"/>
                </a:solidFill>
                <a:latin typeface="Constantia"/>
              </a:rPr>
              <a:t>Carousel configuration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8" name="Picture 2" descr=""/>
          <p:cNvPicPr/>
          <p:nvPr/>
        </p:nvPicPr>
        <p:blipFill>
          <a:blip r:embed="rId1"/>
          <a:stretch/>
        </p:blipFill>
        <p:spPr>
          <a:xfrm>
            <a:off x="685800" y="1447920"/>
            <a:ext cx="762012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228600" y="837720"/>
            <a:ext cx="8610480" cy="579132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cca62"/>
                </a:solidFill>
                <a:latin typeface="Constantia"/>
              </a:rPr>
              <a:t>Single-station configuration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10" name="Picture 2" descr=""/>
          <p:cNvPicPr/>
          <p:nvPr/>
        </p:nvPicPr>
        <p:blipFill>
          <a:blip r:embed="rId1"/>
          <a:stretch/>
        </p:blipFill>
        <p:spPr>
          <a:xfrm>
            <a:off x="1371600" y="1447920"/>
            <a:ext cx="67816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Title 1" descr=""/>
          <p:cNvPicPr/>
          <p:nvPr/>
        </p:nvPicPr>
        <p:blipFill>
          <a:blip r:embed="rId1"/>
          <a:stretch/>
        </p:blipFill>
        <p:spPr>
          <a:xfrm>
            <a:off x="-122400" y="353880"/>
            <a:ext cx="7182000" cy="846360"/>
          </a:xfrm>
          <a:prstGeom prst="rect">
            <a:avLst/>
          </a:prstGeom>
          <a:ln w="0">
            <a:noFill/>
          </a:ln>
        </p:spPr>
      </p:pic>
      <p:sp>
        <p:nvSpPr>
          <p:cNvPr id="212" name="PlaceHolder 1"/>
          <p:cNvSpPr>
            <a:spLocks noGrp="1"/>
          </p:cNvSpPr>
          <p:nvPr>
            <p:ph type="subTitle"/>
          </p:nvPr>
        </p:nvSpPr>
        <p:spPr>
          <a:xfrm>
            <a:off x="228600" y="1143000"/>
            <a:ext cx="8610480" cy="548640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Parts delivery to workstations depends upon specific pieces of delivery equipment, particularly associated with automatic assembly.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ese pieces of equipment are connected together to create the parts delivery system.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e following hardware for parts delivery consists of: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228600" y="1066680"/>
            <a:ext cx="8610480" cy="548640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cca62"/>
                </a:solidFill>
                <a:latin typeface="Constantia"/>
              </a:rPr>
              <a:t>Hopper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—a container into which components are loaded at the workstation, and which passes components to the parts feeder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cca62"/>
                </a:solidFill>
                <a:latin typeface="Constantia"/>
              </a:rPr>
              <a:t>Parts feeder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—a mechanism used for removing components from the hopper, and passing them to the feed track; the parts feeder is often connected to the hopper to form one unit.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cca62"/>
                </a:solidFill>
                <a:latin typeface="Constantia"/>
              </a:rPr>
              <a:t>Selector and/or orientor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—devices found on the feedtrack that establish the proper orientation of the components for the assembly workhead: a selector is a filter device that only-correctly oriented parts to pass; while an orientor re-orients parts that are not properly oriented initially on the feed track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31T18:41:47Z</dcterms:created>
  <dc:creator>prithviraj Sadanand Ghanavat</dc:creator>
  <dc:description/>
  <dc:language>en-US</dc:language>
  <cp:lastModifiedBy>user</cp:lastModifiedBy>
  <dcterms:modified xsi:type="dcterms:W3CDTF">2017-02-16T11:37:53Z</dcterms:modified>
  <cp:revision>60</cp:revision>
  <dc:subject/>
  <dc:title>PRESENTATION ON  FINITE ELEMENT ANALYSIS</dc:title>
</cp:coreProperties>
</file>