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AC6C-B61F-4706-96D1-80078322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9A30-9073-46ED-86E7-3C0E26F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95D3-A9D0-4832-AA9F-A98F5C16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CD5E-AC81-40BF-BEFA-712D319B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80BB-B577-4344-9F2F-20621876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124C-4006-485E-9EDD-6B91AA1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2312-067B-4F46-A075-AD3D5B01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33C-5D15-46C5-940B-046F72BA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5323-C4BC-498C-8EEA-4A9C6B0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9525-76B7-4FEB-BC97-C0BFAD49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DDD-FF9B-4413-87C8-9401086A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E2FB-BFC7-4624-9425-92C7F3B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C747-9809-4866-8B3B-A97C7930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CD1-BD7C-4C80-B874-3BE65F1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1FE7-A0F4-4C7F-A5D0-6642142D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A1FA-0AFD-4E94-9C43-42C6B00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33EE-D5CD-4BAC-839D-D9052C43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61E6-1C1E-4FC5-9BEE-EA5E21AD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C082-97FC-42F8-9AE7-C31D2BDA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EF6B-16AB-4B40-ADE1-0DA2BE7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774A-C582-45EA-A558-5A30756A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FED7-9964-4574-9D63-8877E8F2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985A-3207-439D-9185-C98A010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D844-009B-4176-9B58-2A46398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D03-7C96-4A76-823C-1D84CA316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8B0-6F3F-4C79-A7A7-256BBCA5C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ite Element Analysi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MEEN 53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stin Gr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amlesh Borgaonk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sha Madde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pakkumar Pat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ndeep Yarlagad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9376" t="43752" r="53129" b="28124"/>
          <a:stretch/>
        </p:blipFill>
        <p:spPr>
          <a:xfrm>
            <a:off x="2073240" y="304920"/>
            <a:ext cx="4956120" cy="2787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8594" t="26042" r="60157" b="37501"/>
          <a:stretch/>
        </p:blipFill>
        <p:spPr>
          <a:xfrm>
            <a:off x="1981080" y="3048120"/>
            <a:ext cx="4130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9376" t="18753" r="39846" b="10420"/>
          <a:stretch/>
        </p:blipFill>
        <p:spPr>
          <a:xfrm>
            <a:off x="1905120" y="380880"/>
            <a:ext cx="5900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Stiffnes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of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30573" t="28668" r="35715" b="34572"/>
          <a:stretch/>
        </p:blipFill>
        <p:spPr>
          <a:xfrm>
            <a:off x="4495680" y="762120"/>
            <a:ext cx="358164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5486400" y="4343400"/>
          <a:ext cx="308124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4343400"/>
                    <a:ext cx="308124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Cos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62120" y="4267080"/>
                <a:ext cx="3124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895480"/>
                <a:ext cx="3429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62720" y="4038480"/>
                <a:ext cx="26668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562720" y="52578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4160" y="5455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Stiffnes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657600"/>
                <a:ext cx="5562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discus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638680" y="1828800"/>
          <a:ext cx="302904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302904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defection at the constraint to equal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828800" y="2743200"/>
          <a:ext cx="29718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743200"/>
                    <a:ext cx="29718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257800" y="3429000"/>
          <a:ext cx="2138400" cy="25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429000"/>
                    <a:ext cx="21384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57200" y="4343400"/>
          <a:ext cx="4419720" cy="236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343400"/>
                    <a:ext cx="44197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F’s 1,2,4,7,8 equal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14400" y="3962520"/>
          <a:ext cx="4419720" cy="18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62520"/>
                    <a:ext cx="441972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943600" y="3276720"/>
          <a:ext cx="267012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276720"/>
                    <a:ext cx="2670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St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Reaction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105520" y="2514600"/>
                <a:ext cx="35812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172200" y="4343400"/>
                <a:ext cx="1828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it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Cosines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181480" y="2438280"/>
          <a:ext cx="388620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8862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inite element analysis, F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EA us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Rod Elements, 2D Tru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257800" y="2666880"/>
          <a:ext cx="388620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666880"/>
                    <a:ext cx="38862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2895480"/>
          <a:ext cx="4267080" cy="24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95480"/>
                    <a:ext cx="426708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it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257800" y="2666880"/>
          <a:ext cx="388620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666880"/>
                    <a:ext cx="38862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0880" y="2590920"/>
          <a:ext cx="4724640" cy="21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90920"/>
                    <a:ext cx="472464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7200" y="4724280"/>
          <a:ext cx="42480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724280"/>
                    <a:ext cx="4248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Cosines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19920" y="609480"/>
          <a:ext cx="289548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609480"/>
                    <a:ext cx="289548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33520" y="4800600"/>
          <a:ext cx="8305560" cy="16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800600"/>
                    <a:ext cx="83055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267080" y="2895480"/>
          <a:ext cx="403884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895480"/>
                    <a:ext cx="40388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 rot="10800000">
                <a:off x="1066680" y="2666880"/>
                <a:ext cx="2286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 rot="10800000">
                <a:off x="1295280" y="3352680"/>
                <a:ext cx="17780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 rot="10800000">
                <a:off x="1295280" y="419112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D Tr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10155" t="20835" r="21093" b="47920"/>
          <a:stretch/>
        </p:blipFill>
        <p:spPr>
          <a:xfrm>
            <a:off x="304920" y="1523880"/>
            <a:ext cx="7924680" cy="2700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26564" t="14584" r="35158" b="10420"/>
          <a:stretch/>
        </p:blipFill>
        <p:spPr>
          <a:xfrm>
            <a:off x="6291360" y="2666880"/>
            <a:ext cx="2852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0155" t="13540" r="21093" b="9376"/>
          <a:stretch/>
        </p:blipFill>
        <p:spPr>
          <a:xfrm>
            <a:off x="1066680" y="609480"/>
            <a:ext cx="7162920" cy="6024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26564" t="14584" r="35158" b="10420"/>
          <a:stretch/>
        </p:blipFill>
        <p:spPr>
          <a:xfrm>
            <a:off x="6095880" y="2895480"/>
            <a:ext cx="2697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9376" t="26042" r="50002" b="32293"/>
          <a:stretch/>
        </p:blipFill>
        <p:spPr>
          <a:xfrm>
            <a:off x="762120" y="609480"/>
            <a:ext cx="3962160" cy="3048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10155" t="52084" r="53907" b="27086"/>
          <a:stretch/>
        </p:blipFill>
        <p:spPr>
          <a:xfrm>
            <a:off x="5257800" y="1371600"/>
            <a:ext cx="35053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762120" y="3657600"/>
            <a:ext cx="4800600" cy="2971800"/>
            <a:chOff x="762120" y="3657600"/>
            <a:chExt cx="4800600" cy="297180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rcRect l="9376" t="67712" r="50002" b="27086"/>
            <a:stretch/>
          </p:blipFill>
          <p:spPr>
            <a:xfrm>
              <a:off x="838080" y="3657600"/>
              <a:ext cx="3962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4"/>
            <a:srcRect l="10155" t="14584" r="40625" b="48959"/>
            <a:stretch/>
          </p:blipFill>
          <p:spPr>
            <a:xfrm>
              <a:off x="762120" y="3962520"/>
              <a:ext cx="480060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8594" t="13540" r="20315" b="25004"/>
          <a:stretch/>
        </p:blipFill>
        <p:spPr>
          <a:xfrm>
            <a:off x="533520" y="914400"/>
            <a:ext cx="82296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8594" t="17709" r="46096" b="30211"/>
          <a:stretch/>
        </p:blipFill>
        <p:spPr>
          <a:xfrm>
            <a:off x="1523880" y="914400"/>
            <a:ext cx="57913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rcRect l="9376" t="21878" r="28908" b="36462"/>
          <a:stretch/>
        </p:blipFill>
        <p:spPr>
          <a:xfrm>
            <a:off x="533520" y="1295280"/>
            <a:ext cx="8229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LAB Program TRUSS2D.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495680" cy="3909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1600200"/>
                <a:ext cx="39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86200" y="1600200"/>
                <a:ext cx="436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19720" y="1676520"/>
                <a:ext cx="406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57600" y="2743200"/>
                <a:ext cx="205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Truss Stiffness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Cos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666880" y="3429000"/>
                <a:ext cx="3429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057400" y="4800600"/>
                <a:ext cx="5029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219320" y="5791320"/>
                <a:ext cx="18288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5791320"/>
                <a:ext cx="2057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248520" y="5791320"/>
                <a:ext cx="1981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17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0" y="4803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Truss Stiffness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Stiffnes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3124080"/>
                <a:ext cx="5867280" cy="243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m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t Hand Calculations, Powerful when applied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limitations are the computer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10155" t="33337" r="18749" b="15627"/>
          <a:stretch/>
        </p:blipFill>
        <p:spPr>
          <a:xfrm>
            <a:off x="457200" y="1828800"/>
            <a:ext cx="7924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17970" t="14584" r="18749" b="10420"/>
          <a:stretch/>
        </p:blipFill>
        <p:spPr>
          <a:xfrm>
            <a:off x="1371600" y="1371600"/>
            <a:ext cx="6172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leigh-Ritz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otential energy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erkin’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D Ro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and solve 2D and 3D problems we must understand basic of 1D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D rod  elements can be done using Rayleigh-Ritz and Galerkin’s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EA problems same are modified in the Potential-Energy approach and Galerkin’s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D Ro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ing consists of three types : body force f , traction force T, point loa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force: distributed force , acting on every elemental volume of body i.e. self weight of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tion force: distributed force , acting on surface of body i.e. frictional resistance, viscous drag and surface s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load: a force acting on any single point of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D Ro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strai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stiffnes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body load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traction-force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791320" y="1447920"/>
                <a:ext cx="23619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]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2743200"/>
                <a:ext cx="2819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248520" y="4267080"/>
                <a:ext cx="1752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248520" y="5181480"/>
                <a:ext cx="144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181480" y="838080"/>
            <a:ext cx="34290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-1            Element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D Ro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4479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: (Problem 3.1 from Chandrupatla and Belegunda’s 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bar in Fig.1, determine the following by hand calcul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isplacement at point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Strain and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Element stiffness matr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strain energy in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696080" cy="191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14600" y="6248520"/>
          <a:ext cx="1219320" cy="3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6248520"/>
                    <a:ext cx="1219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5715000"/>
          <a:ext cx="1752840" cy="40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5715000"/>
                    <a:ext cx="17528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648320" y="5791320"/>
          <a:ext cx="1143000" cy="37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791320"/>
                    <a:ext cx="11430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0" y="6248520"/>
          <a:ext cx="1295280" cy="36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248520"/>
                    <a:ext cx="1295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523880" y="5257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04920" y="685800"/>
          <a:ext cx="861048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9:24:03Z</dcterms:created>
  <dc:creator>meie-wkstudy</dc:creator>
  <dc:description/>
  <dc:language>en-US</dc:language>
  <cp:lastModifiedBy>lpeel</cp:lastModifiedBy>
  <dcterms:modified xsi:type="dcterms:W3CDTF">2006-11-28T15:53:06Z</dcterms:modified>
  <cp:revision>8</cp:revision>
  <dc:subject/>
  <dc:title>Finite Element Analysis</dc:title>
</cp:coreProperties>
</file>