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4.jpeg" ContentType="image/jpeg"/>
  <Override PartName="/ppt/media/image1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6D07-1592-4E30-B85A-7E3709BB8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523520"/>
            <a:ext cx="77281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320" y="3872160"/>
            <a:ext cx="77281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2DB5-ED8D-4068-9150-4773615F0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523520"/>
            <a:ext cx="37710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26320" y="1523520"/>
            <a:ext cx="37710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320" y="3872160"/>
            <a:ext cx="37710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26320" y="3872160"/>
            <a:ext cx="37710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4171-3F79-4662-A3DB-33D064692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320" y="1523520"/>
            <a:ext cx="2488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79560" y="1523520"/>
            <a:ext cx="2488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92440" y="1523520"/>
            <a:ext cx="2488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320" y="3872160"/>
            <a:ext cx="2488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79560" y="3872160"/>
            <a:ext cx="2488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92440" y="3872160"/>
            <a:ext cx="2488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F63E-CA83-4A00-AA9D-475911592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320" y="1523520"/>
            <a:ext cx="77281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284D-8F16-455B-8831-6564EF85B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320" y="1523520"/>
            <a:ext cx="77281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C97D-8B11-480A-B748-8561EAC7C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523520"/>
            <a:ext cx="3771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26320" y="1523520"/>
            <a:ext cx="3771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931D-0173-485D-8492-45EFBA683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43E3-30BB-4CE7-B371-B9FE86BB2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E8E2-8A5B-444D-B0ED-063E54435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320" y="1523520"/>
            <a:ext cx="37710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26320" y="1523520"/>
            <a:ext cx="3771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320" y="3872160"/>
            <a:ext cx="37710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32E6-67C4-4817-A1E9-745BD4CA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523520"/>
            <a:ext cx="3771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26320" y="1523520"/>
            <a:ext cx="37710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26320" y="3872160"/>
            <a:ext cx="37710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2DA6-3448-45AE-B721-7EAA3924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320" y="1523520"/>
            <a:ext cx="37710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26320" y="1523520"/>
            <a:ext cx="37710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320" y="3872160"/>
            <a:ext cx="77281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72C7-7EA1-4EDF-B1AE-DF959B4E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1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A1C95-A62B-4A54-B108-342623A12B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43000"/>
            <a:ext cx="802656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6320" y="1523520"/>
            <a:ext cx="77281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161240" y="648468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32D5C-9EA1-4BCD-ABC6-E9705AB3E866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9088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F39E0-17BC-4D4A-B54A-F5E5355E43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" Target="slide19.xml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1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Finite Element Metho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General Overvi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1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l Overview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08120" y="2133720"/>
            <a:ext cx="77277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in each small domain, we assume a simple general solution to the governing equ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lution for each element is a function of the unknown solutions at the no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600200" y="1219320"/>
          <a:ext cx="566748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219320"/>
                    <a:ext cx="566748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1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4797360" y="1220760"/>
          <a:ext cx="399888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7360" y="1220760"/>
                    <a:ext cx="399888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228600" y="1219320"/>
          <a:ext cx="4037040" cy="258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219320"/>
                    <a:ext cx="4037040" cy="25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365040" y="498600"/>
            <a:ext cx="618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damental concept of F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3733920"/>
            <a:ext cx="4724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undamental concept of FEM is that continuous function of a continuum (given doma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having infinite degrees of freedom is replaced by a discrete model, approximated by a set of piecewise continuous function having a finite  degree of freedo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4876920" y="4035600"/>
          <a:ext cx="3938400" cy="203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76920" y="4035600"/>
                    <a:ext cx="3938400" cy="20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1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2743200" y="4114800"/>
          <a:ext cx="2495520" cy="6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4114800"/>
                    <a:ext cx="2495520" cy="6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898560" y="4003560"/>
            <a:ext cx="6492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33520" y="1143000"/>
            <a:ext cx="7407000" cy="2743200"/>
            <a:chOff x="533520" y="1143000"/>
            <a:chExt cx="7407000" cy="2743200"/>
          </a:xfrm>
        </p:grpSpPr>
        <p:sp>
          <p:nvSpPr>
            <p:cNvPr id="90" name=""/>
            <p:cNvSpPr/>
            <p:nvPr/>
          </p:nvSpPr>
          <p:spPr>
            <a:xfrm>
              <a:off x="533520" y="1143000"/>
              <a:ext cx="740700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ince the discrete model has finite degrees of freedom, hence the method got the name ‘FINITE ELEMENTS’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oined by Clough (1960)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pplication of the general solution to all the elements results in a finite set of algebraic equations which are solved for the unknown nodal valu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91" name=""/>
            <p:cNvGraphicFramePr/>
            <p:nvPr/>
          </p:nvGraphicFramePr>
          <p:xfrm>
            <a:off x="5181480" y="3429000"/>
            <a:ext cx="457200" cy="457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181480" y="3429000"/>
                      <a:ext cx="45720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93" name=""/>
          <p:cNvGrpSpPr/>
          <p:nvPr/>
        </p:nvGrpSpPr>
        <p:grpSpPr>
          <a:xfrm>
            <a:off x="1143000" y="5029200"/>
            <a:ext cx="6340320" cy="825480"/>
            <a:chOff x="1143000" y="5029200"/>
            <a:chExt cx="6340320" cy="825480"/>
          </a:xfrm>
        </p:grpSpPr>
        <p:sp>
          <p:nvSpPr>
            <p:cNvPr id="94" name=""/>
            <p:cNvSpPr/>
            <p:nvPr/>
          </p:nvSpPr>
          <p:spPr>
            <a:xfrm>
              <a:off x="1143000" y="5029200"/>
              <a:ext cx="6340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pplying boundary conditions solution for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is obtained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95" name=""/>
            <p:cNvGraphicFramePr/>
            <p:nvPr/>
          </p:nvGraphicFramePr>
          <p:xfrm>
            <a:off x="6553080" y="5105520"/>
            <a:ext cx="457200" cy="457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553080" y="5105520"/>
                      <a:ext cx="45720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1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l Overview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523520"/>
            <a:ext cx="77281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urces of err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sumed solution within the element is rarely the exact s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rror between exact and assumed solu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gnitude depends on the size of the elements relative to the solution var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most cases, assumed solution converges to the correct as element size decre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1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l Overview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523520"/>
            <a:ext cx="77281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solid structures could be modeled with three-dimensional solid elements, but for many cases this is overki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y structures can be simplified by making some assumptions e.g. plane stress and plane strain assumptions, simple beam the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1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l Overview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523520"/>
            <a:ext cx="77281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ments are categorized as either structural or continu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uctural elements include trusses, beams, plates and she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mulations are based on same assumptions as in their structural theo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ite element solution is no more accurate than a solution using conventional beam or plate the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1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l Overview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523520"/>
            <a:ext cx="77281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um elements are two- and three dimensional solid el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mulation based on the theory of elasticity (provides the governing equations for deformation and stres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ew closed form or numerical solutions exist for these 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1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Using a Computer Progra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523520"/>
            <a:ext cx="77281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stag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proces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cess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tproces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1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ing a Computer Progra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320" y="1523520"/>
            <a:ext cx="77281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743200" y="1395360"/>
          <a:ext cx="3460680" cy="506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395360"/>
                    <a:ext cx="3460680" cy="50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>
            <a:hlinkClick r:id="rId3" action="ppaction://hlinksldjump"/>
          </p:cNvPr>
          <p:cNvSpPr/>
          <p:nvPr/>
        </p:nvSpPr>
        <p:spPr>
          <a:xfrm>
            <a:off x="8083440" y="6102360"/>
            <a:ext cx="596880" cy="29196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1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ing a Computer Progra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523520"/>
            <a:ext cx="77281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process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eate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dal point lo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ement sel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dal connectiv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terial proper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placement boundary cond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ds and load c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processor assembles data into a format for exec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1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568080"/>
            <a:ext cx="7772400" cy="39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l Overview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1181160"/>
            <a:ext cx="82612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despread use in many engineering appl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Applications of FEM in Engine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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chanical/Aerospace/Civil/Automobile Engine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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ucture analysis (static/dynamic,linear/nonlinea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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mal/fluid flo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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romagnet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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omechan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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omechan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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>
            <a:hlinkClick r:id="rId1" action="ppaction://hlinksldjump"/>
          </p:cNvPr>
          <p:cNvSpPr/>
          <p:nvPr/>
        </p:nvSpPr>
        <p:spPr>
          <a:xfrm>
            <a:off x="8312040" y="6026040"/>
            <a:ext cx="596880" cy="3682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1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ing a Computer Progra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523520"/>
            <a:ext cx="77281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cess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de that solves the system equ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erates element stiffness matr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ores data in fi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embles the structure stiffness matri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st provide enough displacement boundary conditions to prevent rigid body mo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lution gives nodal displac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 element information, get strain and st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1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ing a Computer Progra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523520"/>
            <a:ext cx="77281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tprocess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meric output data difficult to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uces data to graphic displays (contour plots, graph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gnifies nodal displac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dal displacements are single valu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ess at a node can be multivalued if multiple elements are attached to the n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stress is found from within each elemen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>
            <a:hlinkClick r:id="rId1" action="ppaction://hlinksldjump"/>
          </p:cNvPr>
          <p:cNvSpPr/>
          <p:nvPr/>
        </p:nvSpPr>
        <p:spPr>
          <a:xfrm>
            <a:off x="8083440" y="6102360"/>
            <a:ext cx="596880" cy="29196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1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-analysis/redsig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523520"/>
            <a:ext cx="77281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tprocess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ok at deformed displacements and check for consistency with expected resul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ok at stresses and compare to approximate s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1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-analysis/redsig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523520"/>
            <a:ext cx="77281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ine model by considering the results of the first analy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 stress and rapid variations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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uce element siz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w stress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crease element siz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o analysis and check if results are converg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>
            <a:hlinkClick r:id="rId1" action="ppaction://hlinksldjump"/>
          </p:cNvPr>
          <p:cNvSpPr/>
          <p:nvPr/>
        </p:nvSpPr>
        <p:spPr>
          <a:xfrm>
            <a:off x="8083440" y="6102360"/>
            <a:ext cx="596880" cy="29196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1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fig16a" descr=""/>
          <p:cNvPicPr/>
          <p:nvPr/>
        </p:nvPicPr>
        <p:blipFill>
          <a:blip r:embed="rId1"/>
          <a:stretch/>
        </p:blipFill>
        <p:spPr>
          <a:xfrm>
            <a:off x="-835200" y="304920"/>
            <a:ext cx="1081260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1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fig16b" descr=""/>
          <p:cNvPicPr/>
          <p:nvPr/>
        </p:nvPicPr>
        <p:blipFill>
          <a:blip r:embed="rId1"/>
          <a:stretch/>
        </p:blipFill>
        <p:spPr>
          <a:xfrm>
            <a:off x="-833400" y="6480"/>
            <a:ext cx="1081260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1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-analysis/redsig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523520"/>
            <a:ext cx="77281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gure 1-7 is a refined model of 1-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e how the maximum stress has increa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vergence has not yet been achie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rious mistake if only one model is analyz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gure 1-6 is in error by 23%, while Figure 1-7 is in error by 19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is no guarantee that results will be accur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1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l Overview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320" y="1523520"/>
            <a:ext cx="77281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duction heat transfer, solve for the temperature distribution throughout the body with known boundary conditions and material proper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uid mechanics problems range from steady inviscid incompressible flow to complex viscous compressible flow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1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l Overview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320" y="1523520"/>
            <a:ext cx="77281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oustics uses finite element and boundary element numerical method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romagnetic solution for magnetic field strength provide insight to the design of electromagnetic de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pabilities extended to include fluid-structure interactions, convective heat transf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o-mechanics-bone structural analysis, blood flow in blood vess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>
            <a:hlinkClick r:id="rId1" action="ppaction://hlinksldjump"/>
          </p:cNvPr>
          <p:cNvSpPr/>
          <p:nvPr/>
        </p:nvSpPr>
        <p:spPr>
          <a:xfrm>
            <a:off x="8312040" y="6026040"/>
            <a:ext cx="596880" cy="3682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1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l Overview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320" y="1523520"/>
            <a:ext cx="77281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ite element method is a numerical method of solving a system of governing equations over the domain of a continuous physical 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hod applies the many fields of science and engine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engineering use, fields of continuum mechanics and the theory of elasticity provide the governing equ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1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284400" y="476280"/>
            <a:ext cx="8716680" cy="5948280"/>
            <a:chOff x="284400" y="476280"/>
            <a:chExt cx="8716680" cy="5948280"/>
          </a:xfrm>
        </p:grpSpPr>
        <p:sp>
          <p:nvSpPr>
            <p:cNvPr id="57" name=""/>
            <p:cNvSpPr/>
            <p:nvPr/>
          </p:nvSpPr>
          <p:spPr>
            <a:xfrm>
              <a:off x="284400" y="476280"/>
              <a:ext cx="40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Why numerical method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53880" y="1085760"/>
              <a:ext cx="77932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Most engineering problem involve solution of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governing differential equations.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59" name=""/>
            <p:cNvGraphicFramePr/>
            <p:nvPr/>
          </p:nvGraphicFramePr>
          <p:xfrm>
            <a:off x="5257800" y="2133720"/>
            <a:ext cx="3743280" cy="1714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57800" y="2133720"/>
                      <a:ext cx="3743280" cy="1714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" name=""/>
            <p:cNvGraphicFramePr/>
            <p:nvPr/>
          </p:nvGraphicFramePr>
          <p:xfrm>
            <a:off x="457200" y="2209680"/>
            <a:ext cx="5191200" cy="4214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" y="2209680"/>
                      <a:ext cx="5191200" cy="4214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3" name=""/>
            <p:cNvGraphicFramePr/>
            <p:nvPr/>
          </p:nvGraphicFramePr>
          <p:xfrm>
            <a:off x="5638680" y="4343400"/>
            <a:ext cx="3229200" cy="13622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638680" y="4343400"/>
                      <a:ext cx="3229200" cy="136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1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86480" y="1447920"/>
            <a:ext cx="7823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heat transfer, torsion of shafts, irrotation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ow, seepage through porous med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762120" y="2644920"/>
          <a:ext cx="6964200" cy="42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644920"/>
                    <a:ext cx="6964200" cy="42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1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46400" y="0"/>
            <a:ext cx="7870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ution of differential equation is tedious an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times impossibl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828800" y="2514600"/>
          <a:ext cx="5886360" cy="313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514600"/>
                    <a:ext cx="5886360" cy="31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441360" y="1184400"/>
            <a:ext cx="7407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ex geometry, boundary conditions, loading conditions and mate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1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l Overview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1523520"/>
            <a:ext cx="77281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ite element method can be summarized in the following step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all parts called elements subdivide the domain of the solid structur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ments assemble through interconnections at a finite number of points (nodes) on each el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sembly provides a model of the struc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1-11T06:44:14Z</dcterms:created>
  <dc:creator>Patrick J. Hollis</dc:creator>
  <dc:description/>
  <dc:language>en-US</dc:language>
  <cp:lastModifiedBy>shet</cp:lastModifiedBy>
  <dcterms:modified xsi:type="dcterms:W3CDTF">2002-09-09T14:37:17Z</dcterms:modified>
  <cp:revision>26</cp:revision>
  <dc:subject/>
  <dc:title>The Finite Element Method</dc:title>
</cp:coreProperties>
</file>