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523-C626-4919-AB2A-C5FC39D5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A83-984B-4B28-B187-39E6A677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F30-E55A-4858-9470-82EAE508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B791-B792-46D5-9F84-95C3A65B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60C7-8117-43A6-B86E-1B78C521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C09-BA6B-4CBC-8D7C-E4CA1FBF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E05E-FD3F-4163-BA18-A8EC8D31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C8E-759D-4CFE-BAD0-113D4C41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3BA1-A2A4-4819-A18B-C372D116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754-B491-4EDF-BEB5-DFD6F1AA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009-6D8D-4CA4-98F5-47A9906C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C9E6-44E5-4D08-9674-93EBD04C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B750-6DCF-4FE4-8F07-7391ACEFE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71600" y="1143000"/>
            <a:ext cx="5484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587240" cy="78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217400" y="35496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6720" y="6550200"/>
            <a:ext cx="8464680" cy="2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3880" y="6489720"/>
            <a:ext cx="84628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80" y="4348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80" y="673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0" y="91116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1127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13460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1563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1800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80" y="20178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80" y="2236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80" y="2473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80" y="26906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80" y="290988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0" y="3146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80" y="33638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80" y="3602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80" y="38178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0" y="405612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80" y="4275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80" y="4491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80" y="47102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80" y="4948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80" y="5164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80" y="53816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80" y="5618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" y="5837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0" y="6054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0" y="6291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80" y="65102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80" y="6727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2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6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50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92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572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717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082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239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384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764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129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494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431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796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180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32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48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24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149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674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039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196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56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72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86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24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388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771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13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27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438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80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96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106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485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631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99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69840" y="336600"/>
            <a:ext cx="7237440" cy="6313320"/>
            <a:chOff x="969840" y="336600"/>
            <a:chExt cx="7237440" cy="6313320"/>
          </a:xfrm>
        </p:grpSpPr>
        <p:sp>
          <p:nvSpPr>
            <p:cNvPr id="117" name=""/>
            <p:cNvSpPr/>
            <p:nvPr/>
          </p:nvSpPr>
          <p:spPr>
            <a:xfrm>
              <a:off x="992160" y="336600"/>
              <a:ext cx="7215120" cy="6313320"/>
            </a:xfrm>
            <a:custGeom>
              <a:avLst/>
              <a:gdLst/>
              <a:ahLst/>
              <a:rect l="l" t="t" r="r" b="b"/>
              <a:pathLst>
                <a:path w="4545" h="3977">
                  <a:moveTo>
                    <a:pt x="0" y="445"/>
                  </a:moveTo>
                  <a:lnTo>
                    <a:pt x="445" y="3976"/>
                  </a:lnTo>
                  <a:lnTo>
                    <a:pt x="4544" y="3437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336600"/>
              <a:ext cx="7237440" cy="6313320"/>
            </a:xfrm>
            <a:custGeom>
              <a:avLst/>
              <a:gdLst/>
              <a:ahLst/>
              <a:rect l="l" t="t" r="r" b="b"/>
              <a:pathLst>
                <a:path w="4559" h="3977">
                  <a:moveTo>
                    <a:pt x="0" y="445"/>
                  </a:moveTo>
                  <a:lnTo>
                    <a:pt x="446" y="3976"/>
                  </a:lnTo>
                  <a:lnTo>
                    <a:pt x="4558" y="3437"/>
                  </a:lnTo>
                  <a:lnTo>
                    <a:pt x="4104" y="0"/>
                  </a:lnTo>
                  <a:lnTo>
                    <a:pt x="0" y="4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925560" y="276120"/>
            <a:ext cx="7215120" cy="6332760"/>
            <a:chOff x="925560" y="276120"/>
            <a:chExt cx="7215120" cy="6332760"/>
          </a:xfrm>
        </p:grpSpPr>
        <p:sp>
          <p:nvSpPr>
            <p:cNvPr id="120" name=""/>
            <p:cNvSpPr/>
            <p:nvPr/>
          </p:nvSpPr>
          <p:spPr>
            <a:xfrm>
              <a:off x="925560" y="297000"/>
              <a:ext cx="7215120" cy="6311880"/>
            </a:xfrm>
            <a:custGeom>
              <a:avLst/>
              <a:gdLst/>
              <a:ahLst/>
              <a:rect l="l" t="t" r="r" b="b"/>
              <a:pathLst>
                <a:path w="4545" h="3976">
                  <a:moveTo>
                    <a:pt x="0" y="445"/>
                  </a:moveTo>
                  <a:lnTo>
                    <a:pt x="445" y="3975"/>
                  </a:lnTo>
                  <a:lnTo>
                    <a:pt x="4544" y="3436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25560" y="276120"/>
              <a:ext cx="7215120" cy="6332760"/>
            </a:xfrm>
            <a:custGeom>
              <a:avLst/>
              <a:gdLst/>
              <a:ahLst/>
              <a:rect l="l" t="t" r="r" b="b"/>
              <a:pathLst>
                <a:path w="4545" h="3989">
                  <a:moveTo>
                    <a:pt x="0" y="447"/>
                  </a:moveTo>
                  <a:lnTo>
                    <a:pt x="445" y="3988"/>
                  </a:lnTo>
                  <a:lnTo>
                    <a:pt x="4544" y="3447"/>
                  </a:lnTo>
                  <a:lnTo>
                    <a:pt x="4091" y="0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81000" y="48560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02360" y="915840"/>
            <a:ext cx="897120" cy="561960"/>
          </a:xfrm>
          <a:prstGeom prst="rect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9000" y="878040"/>
            <a:ext cx="912600" cy="56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8280" y="985680"/>
            <a:ext cx="89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-4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30200" y="2498760"/>
            <a:ext cx="6264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amuel Ch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pair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TAR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1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oundary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04BB-B9F6-4A20-A0EF-36ACD162044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lure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s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ly to be a common problem because of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communication, if it is not available, should be covered by a wired alter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robust error recovery is beyond the scope of this phase of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nitialization of each system is the easy solution for crash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EE7-B586-47E5-A1B0-AEED51AF3F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ubsystems will have to wait until communications are restored to retriev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gmented Re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xternal communications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ersistent data to back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E57A-CB68-49B8-A2DB-8E97F33C0A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orkflow is unavailable, no submissions are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 control can provide limited protection from data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es somewhat on the Workflow database for some necessary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ersistent data to back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E5B-D518-419C-B9E9-B8E87924D88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pection and Re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orkflow database is down, no data can be retrieved or sub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ersistent data is stored in Workflow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3E9D-B85F-4DEC-BE78-387D1A56BF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bsystem Breakdown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gmented Re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p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33E2-E52C-48AB-BCCF-01BE25C9A0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system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layers_and_partitions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200920" cy="46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54C-2E7C-41B6-9B13-CA1619ACC56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mented Re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I service 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ata required, no other system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s widgets from Modeling, Inspection, and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into the workflow database must b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itialization data file must b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 document sources must b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4F5-38E9-4B9C-A384-97143CD4B7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ization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p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mented Reality must provide its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mented Reality must provide its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flow database must be available for data on the air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DE97-9B06-455E-86D1-0659D071D3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ization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pection should provide its visual UI for workorder and sticky nav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flow database should provide documents such as workorders and IET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requires a user data file for authorization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has no initialization depend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BC6-5D09-43CF-B6EF-E61779C7F0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hould be highly available; i.e. termination is not a normal occur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has no restrictions on 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flow is unaffected by the termination of oth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is only required during creation and modification of digital documents, and will terminate once that is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on does not affect other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F66-2927-4235-8108-4B53F56DD3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gmented Re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erminate only when PEDD is not being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erminated, other subsystems running on the PEDD will no longer receive input events except through spe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erminate once the repair i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erminated, other subsystems running on the PEDD can no longer be speech-contro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EDA-D0A3-4F07-837B-2A024F553A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erminate when maintenance is 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affect other subsystems when termin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p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erminate once maintenance is 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ust be saved to Workflow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ion will render Repair subsystem non-fun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82CA-6821-45BE-85DD-4596F9C5DE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9:50:21Z</dcterms:created>
  <dc:creator>Eric Stein</dc:creator>
  <dc:description/>
  <dc:language>en-US</dc:language>
  <cp:lastModifiedBy>Samuel Chong</cp:lastModifiedBy>
  <cp:lastPrinted>1999-11-04T21:32:38Z</cp:lastPrinted>
  <dcterms:modified xsi:type="dcterms:W3CDTF">1999-11-11T06:04:34Z</dcterms:modified>
  <cp:revision>13</cp:revision>
  <dc:subject/>
  <dc:title>Title</dc:title>
</cp:coreProperties>
</file>