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3CD-2CD2-4042-9492-7B973D5F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EC4-1817-458E-93AA-0CEE9A26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3FC-5278-46DC-86E3-D951DB4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8C8-3A3A-487B-AF59-F21E8297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85A5-F64C-4CF5-A192-9DC1CE9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0FE-7BC3-4C78-A0F9-52D7A74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8EC-7F59-4FCB-8FBD-6789DD6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09BE-9F1A-4633-BF4D-5773E42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235-DBB8-4F69-A693-DC4638A1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F83-12CC-4770-AC33-C8657F6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A15-637D-47AF-8BA2-0F2A2DD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3D4-A1A3-4DEE-B6AB-C8DC780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DE81-A04D-4105-A233-880CA06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2CAD-9B59-483B-8491-DE4890A2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5568-D238-46CA-8E28-8AA432D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1B7-B5E5-4858-A85C-A79CD97A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6C21-88A7-4921-A5DA-5688D71F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50F-9617-4005-A35B-21C5D20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C1F-7848-48B9-B69D-A5E981C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51D-9443-422A-9646-B11E0A9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B16-12FB-4CFE-94B0-F9737F6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FF8-F55A-4386-9BE9-228E4F9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A66-B0FE-4438-9B51-B884664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CF3-FD08-41C2-8C3F-4859D6F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B97B-BD7A-4365-B117-9CCB9FF1524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BD79-26FB-4D37-99A2-0ECC6C3B332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Introduction to Finite Element Method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Mathema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Elem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tical Process of F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of F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Programs for F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55760" y="57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352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tical Processes of Finite El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65840" y="1066680"/>
            <a:ext cx="47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stress analysi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5360" y="1600200"/>
            <a:ext cx="790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that solution must satis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onstitutiv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conditions are used to generate a system of equ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ing system behav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orce (flexibility) method: internal forces as unknow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isplacement (stiffness) method: nodal disp. As unknow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utational purpose, the displacement method is m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able because its formulation is simple.  A vast major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purpose FE softwares have incorporated the dis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for solving structural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55760" y="57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08880" y="5335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procedures of linear static structu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2971800"/>
            <a:ext cx="45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uild up geometr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3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3210120" cy="1619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1390680" cy="819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1295640" cy="247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3809880" y="4876920"/>
            <a:ext cx="1467000" cy="25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3657600" y="5715000"/>
            <a:ext cx="1733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71600" y="609480"/>
            <a:ext cx="5410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onstruct the finite elemen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iscretize and select the ele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elemen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 line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brick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 total number of element (me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285920" cy="247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1130400" cy="409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876920" y="3048120"/>
            <a:ext cx="610920" cy="5443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1162080" cy="1238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352680" y="4724280"/>
            <a:ext cx="1123920" cy="352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12096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4572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elect a shap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 line element: u=ax+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1800" y="1420920"/>
            <a:ext cx="50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Define the compatibility and constitutiv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743120" y="1878120"/>
            <a:ext cx="4610160" cy="730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357920" y="2514600"/>
            <a:ext cx="53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orm the element stiffness matrix and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19440" y="294480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Direct equilibrium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Work or energy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Method of weight 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276640" y="4316400"/>
            <a:ext cx="2238120" cy="4586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441440" y="48006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Form the system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19440" y="51544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the element equations to obtain global system equation and introduce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2362320" y="5943600"/>
            <a:ext cx="177804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95280" y="609480"/>
            <a:ext cx="457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olve the system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limina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’s method (Nast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itera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 Seidel’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752480" y="3124080"/>
            <a:ext cx="6172200" cy="685800"/>
            <a:chOff x="1752480" y="3124080"/>
            <a:chExt cx="6172200" cy="685800"/>
          </a:xfrm>
        </p:grpSpPr>
        <p:sp>
          <p:nvSpPr>
            <p:cNvPr id="373" name=""/>
            <p:cNvSpPr/>
            <p:nvPr/>
          </p:nvSpPr>
          <p:spPr>
            <a:xfrm>
              <a:off x="1752480" y="3124080"/>
              <a:ext cx="2057400" cy="609480"/>
            </a:xfrm>
            <a:prstGeom prst="flowChartAlternateProcess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lacement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2000" y="3124080"/>
              <a:ext cx="1219320" cy="609480"/>
            </a:xfrm>
            <a:prstGeom prst="flowChartAlternateProcess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rain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3200400"/>
              <a:ext cx="1371600" cy="609480"/>
            </a:xfrm>
            <a:prstGeom prst="flowChartAlternateProcess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ress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335268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1320" y="335268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295280" y="38862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Interpret the results (postproces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ormation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2781360" cy="1390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5406120" y="43434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tress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486400" y="4724280"/>
            <a:ext cx="26384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42280" y="76212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of Finite El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23880" y="1905120"/>
          <a:ext cx="6553080" cy="2728800"/>
        </p:xfrm>
        <a:graphic>
          <a:graphicData uri="http://schemas.openxmlformats.org/drawingml/2006/table">
            <a:tbl>
              <a:tblPr/>
              <a:tblGrid>
                <a:gridCol w="3352680"/>
                <a:gridCol w="320040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structural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s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truss &amp; fram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tress concentrated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ckling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bration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id Mechan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or Magnetic Pot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43720" y="45720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 for Finite El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1143000"/>
          <a:ext cx="7086600" cy="4268880"/>
        </p:xfrm>
        <a:graphic>
          <a:graphicData uri="http://schemas.openxmlformats.org/drawingml/2006/table">
            <a:tbl>
              <a:tblPr/>
              <a:tblGrid>
                <a:gridCol w="1067040"/>
                <a:gridCol w="533160"/>
                <a:gridCol w="533520"/>
                <a:gridCol w="533520"/>
                <a:gridCol w="533160"/>
                <a:gridCol w="533520"/>
                <a:gridCol w="609480"/>
                <a:gridCol w="609840"/>
                <a:gridCol w="533160"/>
                <a:gridCol w="533520"/>
                <a:gridCol w="533520"/>
                <a:gridCol w="533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結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線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佳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複合材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碰撞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疲勞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機構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噪音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流力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模流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熱傳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T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Q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DYNA3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C/DY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S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D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-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E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.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Mathematical Model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05120" y="1752480"/>
            <a:ext cx="5484600" cy="2102040"/>
            <a:chOff x="1905120" y="1752480"/>
            <a:chExt cx="5484600" cy="2102040"/>
          </a:xfrm>
        </p:grpSpPr>
        <p:sp>
          <p:nvSpPr>
            <p:cNvPr id="94" name=""/>
            <p:cNvSpPr/>
            <p:nvPr/>
          </p:nvSpPr>
          <p:spPr>
            <a:xfrm>
              <a:off x="1905120" y="1752480"/>
              <a:ext cx="1096920" cy="7318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ysical Probl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1752480"/>
              <a:ext cx="1369800" cy="7318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thematical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2800" y="1752480"/>
              <a:ext cx="1096920" cy="7318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2040" y="2027160"/>
              <a:ext cx="960480" cy="136440"/>
            </a:xfrm>
            <a:prstGeom prst="rightArrow">
              <a:avLst>
                <a:gd name="adj1" fmla="val 50000"/>
                <a:gd name="adj2" fmla="val 1759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2320" y="2027160"/>
              <a:ext cx="960480" cy="136440"/>
            </a:xfrm>
            <a:prstGeom prst="rightArrow">
              <a:avLst>
                <a:gd name="adj1" fmla="val 50000"/>
                <a:gd name="adj2" fmla="val 1759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54120" y="3122640"/>
              <a:ext cx="2803680" cy="7318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dentify 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umptions (empirical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3160" y="2163600"/>
              <a:ext cx="138240" cy="959040"/>
            </a:xfrm>
            <a:prstGeom prst="upArrow">
              <a:avLst>
                <a:gd name="adj1" fmla="val 50000"/>
                <a:gd name="adj2" fmla="val 1734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447560" y="11430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18280" y="499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5440" y="38098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0" y="4495680"/>
          <a:ext cx="5410080" cy="156240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 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. 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 S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. S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430440" y="449568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9720" y="45720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31000" y="879480"/>
            <a:ext cx="31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of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9627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4200" y="5335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of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89280" y="156672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219320"/>
            <a:ext cx="70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cal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offer a high degree of insight, but the problems are difficult or impossible to solve  for anything but simple geometries and loa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90920"/>
            <a:ext cx="7162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Numerical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) Energy: Minimize an expression for the potential energy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over the whole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I) Boundary element: Approximates functions satisfying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ing differential equations not the boundar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II) Finite difference: Replaces governing differential equa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boundary conditions with algebraic finite differen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) Finite element: Approximates the behavior of an irregula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tructure under general loadings and constrai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n assembly of discrete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20040" y="4572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El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0" y="121932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90512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 is a numerical method for solving a system of governing equations over the domain of a continuous physical system, which is discretized into simple geometric shapes called finit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2438280" cy="1600200"/>
          </a:xfrm>
          <a:prstGeom prst="flowChartDocumen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independent P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dependent P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3809880"/>
            <a:ext cx="2514600" cy="1600200"/>
          </a:xfrm>
          <a:prstGeom prst="flowChartDocumen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algebraic 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434340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267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7337160" cy="328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68720" y="685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6200" y="1219320"/>
            <a:ext cx="64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a body by dividing it into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finite elements interconnected at a fin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ints on each element called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360" y="53352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1523880"/>
            <a:ext cx="5891040" cy="3858480"/>
            <a:chOff x="1523880" y="1523880"/>
            <a:chExt cx="5891040" cy="38584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3880" y="1523880"/>
              <a:ext cx="5891040" cy="35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29440" y="5022360"/>
              <a:ext cx="4759200" cy="36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3808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nicle of Finite Element Metho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95280" y="762120"/>
            <a:ext cx="7197480" cy="5398920"/>
            <a:chOff x="1295280" y="762120"/>
            <a:chExt cx="7197480" cy="5398920"/>
          </a:xfrm>
        </p:grpSpPr>
        <p:grpSp>
          <p:nvGrpSpPr>
            <p:cNvPr id="130" name=""/>
            <p:cNvGrpSpPr/>
            <p:nvPr/>
          </p:nvGrpSpPr>
          <p:grpSpPr>
            <a:xfrm>
              <a:off x="1301400" y="764280"/>
              <a:ext cx="7183440" cy="5394240"/>
              <a:chOff x="1301400" y="764280"/>
              <a:chExt cx="7183440" cy="53942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301400" y="764280"/>
                <a:ext cx="675360" cy="407880"/>
                <a:chOff x="1301400" y="764280"/>
                <a:chExt cx="675360" cy="407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24440" y="76428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Y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01400" y="76428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977120" y="764280"/>
                <a:ext cx="1409760" cy="407880"/>
                <a:chOff x="1977120" y="764280"/>
                <a:chExt cx="1409760" cy="407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999800" y="76428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chol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977120" y="76428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87240" y="764280"/>
                <a:ext cx="5097600" cy="407880"/>
                <a:chOff x="3387240" y="764280"/>
                <a:chExt cx="5097600" cy="407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410280" y="76428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heo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87240" y="76428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301400" y="1172160"/>
                <a:ext cx="675360" cy="407880"/>
                <a:chOff x="1301400" y="1172160"/>
                <a:chExt cx="675360" cy="407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24440" y="117216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301400" y="117216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977120" y="1172160"/>
                <a:ext cx="1409760" cy="407880"/>
                <a:chOff x="1977120" y="1172160"/>
                <a:chExt cx="1409760" cy="4078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99800" y="117216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rennikof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77120" y="117216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387240" y="1172160"/>
                <a:ext cx="5097600" cy="407880"/>
                <a:chOff x="3387240" y="1172160"/>
                <a:chExt cx="5097600" cy="4078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410280" y="117216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sented a solution of elasticity problem using one-dimensional element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87240" y="117216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01400" y="1580040"/>
                <a:ext cx="675360" cy="407880"/>
                <a:chOff x="1301400" y="1580040"/>
                <a:chExt cx="675360" cy="4078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324440" y="158004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01400" y="158004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77120" y="1580040"/>
                <a:ext cx="1409760" cy="407880"/>
                <a:chOff x="1977120" y="1580040"/>
                <a:chExt cx="1409760" cy="407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99800" y="158004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cHen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77120" y="158004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387240" y="1580040"/>
                <a:ext cx="5097600" cy="407880"/>
                <a:chOff x="3387240" y="1580040"/>
                <a:chExt cx="5097600" cy="407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410280" y="158004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ame as abov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87240" y="158004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01400" y="1988280"/>
                <a:ext cx="675360" cy="407880"/>
                <a:chOff x="1301400" y="1988280"/>
                <a:chExt cx="675360" cy="4078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324440" y="198828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01400" y="198828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977120" y="1988280"/>
                <a:ext cx="1409760" cy="407880"/>
                <a:chOff x="1977120" y="1988280"/>
                <a:chExt cx="1409760" cy="4078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999800" y="198828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ur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977120" y="198828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387240" y="1988280"/>
                <a:ext cx="5097600" cy="407880"/>
                <a:chOff x="3387240" y="1988280"/>
                <a:chExt cx="5097600" cy="407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10280" y="198828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roduced shape functions over triangular subregions to model the whole regio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87240" y="198828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301400" y="2396160"/>
                <a:ext cx="675360" cy="407880"/>
                <a:chOff x="1301400" y="2396160"/>
                <a:chExt cx="675360" cy="407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324440" y="239616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01400" y="239616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977120" y="2396160"/>
                <a:ext cx="1409760" cy="407880"/>
                <a:chOff x="1977120" y="2396160"/>
                <a:chExt cx="1409760" cy="407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999800" y="239616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Lev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77120" y="239616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87240" y="2396160"/>
                <a:ext cx="5097600" cy="407880"/>
                <a:chOff x="3387240" y="2396160"/>
                <a:chExt cx="5097600" cy="407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410280" y="239616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the force (flexibility) method for structure proble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87240" y="239616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301400" y="2804040"/>
                <a:ext cx="675360" cy="407880"/>
                <a:chOff x="1301400" y="2804040"/>
                <a:chExt cx="675360" cy="407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324440" y="280404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301400" y="280404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77120" y="2804040"/>
                <a:ext cx="1409760" cy="407880"/>
                <a:chOff x="1977120" y="2804040"/>
                <a:chExt cx="1409760" cy="4078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99800" y="280404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Lev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77120" y="280404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387240" y="2804040"/>
                <a:ext cx="5097600" cy="407880"/>
                <a:chOff x="3387240" y="2804040"/>
                <a:chExt cx="5097600" cy="4078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10280" y="280404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the displacement (stiffness) method for structure proble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387240" y="280404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301400" y="3211920"/>
                <a:ext cx="675360" cy="407880"/>
                <a:chOff x="1301400" y="3211920"/>
                <a:chExt cx="675360" cy="4078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324440" y="321192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301400" y="321192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977120" y="3211920"/>
                <a:ext cx="1409760" cy="407880"/>
                <a:chOff x="1977120" y="3211920"/>
                <a:chExt cx="1409760" cy="4078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999800" y="321192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rgyris &amp; Kelse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77120" y="321192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387240" y="3211920"/>
                <a:ext cx="5097600" cy="407880"/>
                <a:chOff x="3387240" y="3211920"/>
                <a:chExt cx="5097600" cy="4078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410280" y="321192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matrix structural analysis methods using energy princip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387240" y="321192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301400" y="3620160"/>
                <a:ext cx="675360" cy="498240"/>
                <a:chOff x="1301400" y="3620160"/>
                <a:chExt cx="675360" cy="498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324440" y="3620160"/>
                  <a:ext cx="6285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301400" y="3620160"/>
                  <a:ext cx="67536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977120" y="3620160"/>
                <a:ext cx="1409760" cy="498240"/>
                <a:chOff x="1977120" y="3620160"/>
                <a:chExt cx="1409760" cy="4982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99800" y="3620160"/>
                  <a:ext cx="136404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urner, Clough, Martin, To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120" y="3620160"/>
                  <a:ext cx="140976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387240" y="3620160"/>
                <a:ext cx="5097600" cy="498240"/>
                <a:chOff x="3387240" y="3620160"/>
                <a:chExt cx="5097600" cy="498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410280" y="3620160"/>
                  <a:ext cx="505152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rived stiffness matrices for truss, beam and 2D plane stress elements. Direct stiffness metho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387240" y="3620160"/>
                  <a:ext cx="509760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301400" y="4118760"/>
                <a:ext cx="675360" cy="407880"/>
                <a:chOff x="1301400" y="4118760"/>
                <a:chExt cx="675360" cy="4078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24440" y="411876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301400" y="411876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77120" y="4118760"/>
                <a:ext cx="1409760" cy="407880"/>
                <a:chOff x="1977120" y="4118760"/>
                <a:chExt cx="1409760" cy="407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99800" y="411876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loug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77120" y="411876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387240" y="4118760"/>
                <a:ext cx="5097600" cy="407880"/>
                <a:chOff x="3387240" y="4118760"/>
                <a:chExt cx="5097600" cy="4078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410280" y="411876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roduced the phrase finite element 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387240" y="411876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301400" y="4526640"/>
                <a:ext cx="675360" cy="407880"/>
                <a:chOff x="1301400" y="4526640"/>
                <a:chExt cx="675360" cy="4078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324440" y="452664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01400" y="452664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977120" y="4526640"/>
                <a:ext cx="1409760" cy="407880"/>
                <a:chOff x="1977120" y="4526640"/>
                <a:chExt cx="1409760" cy="407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999800" y="452664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urner et.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977120" y="452664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387240" y="4526640"/>
                <a:ext cx="5097600" cy="407880"/>
                <a:chOff x="3387240" y="4526640"/>
                <a:chExt cx="5097600" cy="407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410280" y="452664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Large deflection and thermal analys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87240" y="452664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301400" y="4934520"/>
                <a:ext cx="675360" cy="407880"/>
                <a:chOff x="1301400" y="4934520"/>
                <a:chExt cx="675360" cy="407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24440" y="493452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301400" y="493452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977120" y="4934520"/>
                <a:ext cx="1409760" cy="407880"/>
                <a:chOff x="1977120" y="4934520"/>
                <a:chExt cx="1409760" cy="407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999800" y="493452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lo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977120" y="493452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387240" y="4934520"/>
                <a:ext cx="5097600" cy="407880"/>
                <a:chOff x="3387240" y="4934520"/>
                <a:chExt cx="5097600" cy="4078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410280" y="493452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plate bending element stiffness matrix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87240" y="493452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301400" y="5342760"/>
                <a:ext cx="675360" cy="407880"/>
                <a:chOff x="1301400" y="5342760"/>
                <a:chExt cx="675360" cy="4078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324440" y="534276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01400" y="534276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77120" y="5342760"/>
                <a:ext cx="1409760" cy="407880"/>
                <a:chOff x="1977120" y="5342760"/>
                <a:chExt cx="1409760" cy="4078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99800" y="534276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t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77120" y="534276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387240" y="5342760"/>
                <a:ext cx="5097600" cy="407880"/>
                <a:chOff x="3387240" y="5342760"/>
                <a:chExt cx="5097600" cy="407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410280" y="534276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the tetrahedral stiffness matrix for 3D problem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87240" y="534276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01400" y="5750640"/>
                <a:ext cx="675360" cy="407880"/>
                <a:chOff x="1301400" y="5750640"/>
                <a:chExt cx="675360" cy="4078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24440" y="5750640"/>
                  <a:ext cx="628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301400" y="5750640"/>
                  <a:ext cx="6753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977120" y="5750640"/>
                <a:ext cx="1409760" cy="407880"/>
                <a:chOff x="1977120" y="5750640"/>
                <a:chExt cx="1409760" cy="407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999800" y="5750640"/>
                  <a:ext cx="13640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allagher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977120" y="5750640"/>
                  <a:ext cx="140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387240" y="5750640"/>
                <a:ext cx="5097600" cy="407880"/>
                <a:chOff x="3387240" y="5750640"/>
                <a:chExt cx="5097600" cy="4078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410280" y="5750640"/>
                  <a:ext cx="505152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aterial nonlinearit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387240" y="5750640"/>
                  <a:ext cx="50976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1295280" y="762120"/>
              <a:ext cx="7197480" cy="5398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19320" y="3808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nicle of Finite Element Metho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371600" y="762120"/>
            <a:ext cx="7197480" cy="5398920"/>
            <a:chOff x="1371600" y="762120"/>
            <a:chExt cx="7197480" cy="5398920"/>
          </a:xfrm>
        </p:grpSpPr>
        <p:grpSp>
          <p:nvGrpSpPr>
            <p:cNvPr id="251" name=""/>
            <p:cNvGrpSpPr/>
            <p:nvPr/>
          </p:nvGrpSpPr>
          <p:grpSpPr>
            <a:xfrm>
              <a:off x="1377720" y="765000"/>
              <a:ext cx="7183440" cy="5392800"/>
              <a:chOff x="1377720" y="765000"/>
              <a:chExt cx="7183440" cy="53928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1377720" y="765000"/>
                <a:ext cx="675360" cy="516240"/>
                <a:chOff x="1377720" y="765000"/>
                <a:chExt cx="675360" cy="516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400760" y="76500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Y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7720" y="76500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053440" y="765000"/>
                <a:ext cx="1409760" cy="516240"/>
                <a:chOff x="2053440" y="765000"/>
                <a:chExt cx="1409760" cy="516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076120" y="76500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chol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053440" y="76500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463560" y="765000"/>
                <a:ext cx="5097600" cy="516240"/>
                <a:chOff x="3463560" y="765000"/>
                <a:chExt cx="5097600" cy="51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486600" y="76500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heo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463560" y="76500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377720" y="1281240"/>
                <a:ext cx="675360" cy="516240"/>
                <a:chOff x="1377720" y="1281240"/>
                <a:chExt cx="675360" cy="516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400760" y="128124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377720" y="128124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053440" y="1281240"/>
                <a:ext cx="1409760" cy="516240"/>
                <a:chOff x="2053440" y="1281240"/>
                <a:chExt cx="1409760" cy="516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076120" y="128124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rafton, Stro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53440" y="128124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463560" y="1281240"/>
                <a:ext cx="5097600" cy="516240"/>
                <a:chOff x="3463560" y="1281240"/>
                <a:chExt cx="5097600" cy="516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486600" y="128124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veloped curved-shell bending element stiffness matrix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463560" y="128124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377720" y="1797480"/>
                <a:ext cx="675360" cy="516240"/>
                <a:chOff x="1377720" y="1797480"/>
                <a:chExt cx="675360" cy="516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400760" y="179748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377720" y="179748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053440" y="1797480"/>
                <a:ext cx="1409760" cy="516240"/>
                <a:chOff x="2053440" y="1797480"/>
                <a:chExt cx="1409760" cy="516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076120" y="179748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lo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53440" y="179748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463560" y="1797480"/>
                <a:ext cx="5097600" cy="516240"/>
                <a:chOff x="3463560" y="1797480"/>
                <a:chExt cx="5097600" cy="516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486600" y="179748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pplied variational formulation to solve nonstructural problem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463560" y="179748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1377720" y="2314080"/>
                <a:ext cx="675360" cy="516240"/>
                <a:chOff x="1377720" y="2314080"/>
                <a:chExt cx="675360" cy="516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400760" y="231408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377720" y="231408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053440" y="2314080"/>
                <a:ext cx="1409760" cy="516240"/>
                <a:chOff x="2053440" y="2314080"/>
                <a:chExt cx="1409760" cy="516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76120" y="231408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lough et.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053440" y="231408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463560" y="2314080"/>
                <a:ext cx="5097600" cy="516240"/>
                <a:chOff x="3463560" y="2314080"/>
                <a:chExt cx="5097600" cy="516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486600" y="231408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 elements of axisymmetric solid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63560" y="231408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377720" y="2830320"/>
                <a:ext cx="675360" cy="516240"/>
                <a:chOff x="1377720" y="2830320"/>
                <a:chExt cx="675360" cy="5162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400760" y="283032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377720" y="283032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053440" y="2830320"/>
                <a:ext cx="1409760" cy="516240"/>
                <a:chOff x="2053440" y="2830320"/>
                <a:chExt cx="1409760" cy="51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076120" y="283032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Zienkiewicz 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53440" y="283032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463560" y="2830320"/>
                <a:ext cx="5097600" cy="516240"/>
                <a:chOff x="3463560" y="2830320"/>
                <a:chExt cx="5097600" cy="5162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86600" y="283032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ublished the first book on finite elemen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63560" y="283032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377720" y="3346560"/>
                <a:ext cx="675360" cy="516240"/>
                <a:chOff x="1377720" y="3346560"/>
                <a:chExt cx="675360" cy="516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00760" y="334656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377720" y="334656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053440" y="3346560"/>
                <a:ext cx="1409760" cy="516240"/>
                <a:chOff x="2053440" y="3346560"/>
                <a:chExt cx="1409760" cy="516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076120" y="334656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Zienkiewicz 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3440" y="334656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463560" y="3346560"/>
                <a:ext cx="5097600" cy="516240"/>
                <a:chOff x="3463560" y="3346560"/>
                <a:chExt cx="5097600" cy="516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486600" y="334656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Visco-elasticity problem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63560" y="334656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377720" y="3863160"/>
                <a:ext cx="675360" cy="516240"/>
                <a:chOff x="1377720" y="3863160"/>
                <a:chExt cx="675360" cy="51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400760" y="386316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6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77720" y="386316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053440" y="3863160"/>
                <a:ext cx="1409760" cy="516240"/>
                <a:chOff x="2053440" y="3863160"/>
                <a:chExt cx="1409760" cy="516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076120" y="386316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zabo &amp; L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053440" y="386316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463560" y="3863160"/>
                <a:ext cx="5097600" cy="516240"/>
                <a:chOff x="3463560" y="3863160"/>
                <a:chExt cx="5097600" cy="5162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486600" y="386316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dapted weighted residual methods in structural analys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63560" y="386316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377720" y="4379760"/>
                <a:ext cx="675360" cy="516240"/>
                <a:chOff x="1377720" y="4379760"/>
                <a:chExt cx="675360" cy="5162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400760" y="437976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377720" y="437976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053440" y="4379760"/>
                <a:ext cx="1409760" cy="516240"/>
                <a:chOff x="2053440" y="4379760"/>
                <a:chExt cx="1409760" cy="51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076120" y="437976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53440" y="437976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463560" y="4379760"/>
                <a:ext cx="5097600" cy="516240"/>
                <a:chOff x="3463560" y="4379760"/>
                <a:chExt cx="5097600" cy="5162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486600" y="437976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Book on nonlinear continu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463560" y="437976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377720" y="4896000"/>
                <a:ext cx="675360" cy="516240"/>
                <a:chOff x="1377720" y="4896000"/>
                <a:chExt cx="675360" cy="516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400760" y="4896000"/>
                  <a:ext cx="6285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19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377720" y="4896000"/>
                  <a:ext cx="6753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053440" y="4896000"/>
                <a:ext cx="1409760" cy="516240"/>
                <a:chOff x="2053440" y="4896000"/>
                <a:chExt cx="1409760" cy="516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076120" y="4896000"/>
                  <a:ext cx="13640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Belytschk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053440" y="4896000"/>
                  <a:ext cx="140976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463560" y="4896000"/>
                <a:ext cx="5097600" cy="516240"/>
                <a:chOff x="3463560" y="4896000"/>
                <a:chExt cx="5097600" cy="5162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486600" y="4896000"/>
                  <a:ext cx="50515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Large-displacement nonlinear dynamic behavio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63560" y="4896000"/>
                  <a:ext cx="5097600" cy="51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377720" y="5412240"/>
                <a:ext cx="675360" cy="745560"/>
                <a:chOff x="1377720" y="5412240"/>
                <a:chExt cx="675360" cy="745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400760" y="5412240"/>
                  <a:ext cx="62856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~19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377720" y="5412240"/>
                  <a:ext cx="67536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053440" y="5412240"/>
                <a:ext cx="1409760" cy="745560"/>
                <a:chOff x="2053440" y="5412240"/>
                <a:chExt cx="1409760" cy="745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076120" y="5412240"/>
                  <a:ext cx="13640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053440" y="5412240"/>
                  <a:ext cx="140976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463560" y="5412240"/>
                <a:ext cx="5097600" cy="745560"/>
                <a:chOff x="3463560" y="5412240"/>
                <a:chExt cx="5097600" cy="7455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486600" y="5412240"/>
                  <a:ext cx="5051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ew element development, convergence studies, the developments of supercomputers, the availability of powerful microcomputers, the development of user-friendly general-purpose finite element software packag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463560" y="5412240"/>
                  <a:ext cx="509760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1371600" y="762120"/>
              <a:ext cx="7197480" cy="5398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2:08:31Z</dcterms:created>
  <dc:creator>billy</dc:creator>
  <dc:description/>
  <dc:language>en-US</dc:language>
  <cp:lastModifiedBy>billy</cp:lastModifiedBy>
  <dcterms:modified xsi:type="dcterms:W3CDTF">2004-09-19T07:46:42Z</dcterms:modified>
  <cp:revision>23</cp:revision>
  <dc:subject/>
  <dc:title>Introduction to Finite Element Method</dc:title>
</cp:coreProperties>
</file>