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A5A-C90B-4A45-ABC2-961A6604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D96-F638-40EA-A436-6EDBA57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127-06D9-4005-9F62-2D431BC8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63A-71A5-42D0-B59B-D41BEADB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D4D9-8DD3-4AF8-9697-765D0FC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27DB-C856-4AAB-B050-B9C17F2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891C-37CE-466C-8426-0ADD3A6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7196-0AB9-45A4-BAD0-5C5E3CF5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DB69-02DD-455B-B00E-A2093FF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C43-84B2-490A-9E13-FA5D187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645-D19E-474D-9AF6-0606350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7A0-FFB7-4B09-8C7D-2F6C4D71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2958-16EC-4C90-8416-676527B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8ECB-2561-406A-BF93-4E3E6FD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0E3-29AA-454F-B584-2E0B1BD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4DE-4861-4CB1-A2F8-1409EE98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174A-408A-484E-8C42-8AD8E22D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B88-F7D1-4DF6-8CB4-32D5310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D1F-7A2E-4A75-9EF7-A016C87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D0E-C4A6-4678-80A3-BBB8333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A99-5FE7-4306-8185-F5218AA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414-FFDA-4EA1-914A-88785DA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01F-B6D3-49E9-99AC-C9E4984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C81-DC66-4797-904A-E0D6E76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828A-2A6C-4C17-B714-1FD5ECD61D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E12-AF02-4B33-8A4F-468FE7D917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ng. 6002 Ship Structures 1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 to the Finite Element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4354560"/>
            <a:ext cx="457200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ep 2: Find the Constants in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The total displacement can be written by combining the 3 nodes of the c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Where A is the connectivity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185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The unknown polynomial coefficients, C, can now be determined by inverting the connectivity matri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 = A</a:t>
            </a:r>
            <a:r>
              <a:rPr b="0" lang="en-CA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we can now express the unknown coefficients, C, in terms of the nodal displa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5640" y="4870440"/>
            <a:ext cx="532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3: Find the Strain on th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the strain to get the stress, and the stress to get the stiffn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ain at any point in the element has three par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00360" y="3933720"/>
            <a:ext cx="5113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3: Find the Strain on th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ubstitute the polynomials for u and v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6945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3: Find the Strain on th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matrix for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0080" y="2690640"/>
            <a:ext cx="7683840" cy="1484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19280" y="4900680"/>
            <a:ext cx="61531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ep 3: Find the Strain on th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This can also be written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G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G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B is known as the strain coefficient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4: Find expression for st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lane stress the relationship between stress and strain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16814" b="0"/>
          <a:stretch/>
        </p:blipFill>
        <p:spPr>
          <a:xfrm>
            <a:off x="539640" y="3645000"/>
            <a:ext cx="6840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ep 4: Find expression for st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n matrix no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x,y) = D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x,y) = DB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D is the elasticity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0534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ep 4: Find expression for st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inally,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S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S=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tep 5: Obtain the element stiffness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element stiffness matrix is obtained by using the principle of virtual wor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2349360"/>
                <a:ext cx="381636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area of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triangle and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icknes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n this lecture we will outline the basic ideas and features of the finite element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We will als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e the 2D finite element called the constant stress tri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blem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ind the stiffness matrix for the following cst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6469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blem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ind the stiffness matrix for a cst element with nodes at (0.1,0.1), (0.5,0.2) and (0.1,0.3). The thickness is 0.01m and E = 200,000 M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Hint: use Matlab (or Maple) for the matrix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concept for the FE method is similar to that for matrix fram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e can be represented as an assemblage of individual structural elements interconnected at a discrete number of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ubdivision is natural for beam elements connected at a number of joints, but for panels the subdivision is not as obvi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have to divide the panel into a number of artificial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known as finite elements and generally take the shape of a triangle or rect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The accuracy of the FE method increases with the number of elements used (but this also computationally expensi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 graded mesh is used that is more dense in areas of higher stress concentration (eg cut-ou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Experience with similar structures is often necessary, but there are also automatic refinement algorithms to optimise the number of mesh elements (and their location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consider only two-dimensional stress elements. These are sufficient for hull module analysis and for the analysis of individual panels of pl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-dimensional elements are usually only required for very local and detailed stress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onstant Stress Triangle (CST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llustrate the way that finite elements are formulated, we will look at an element called the constant stress triangle (cst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standard 2D element that is available in most finite elemen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a 2D element which is only able to take in-plane stress. The three corners of the triangle can only move in the pla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87640" y="4573440"/>
            <a:ext cx="30495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onstant Stress Triangle (CST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lement is extremely versati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lmost any 2D shape can be represented by an assemblage of triang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3D curved surfaces can also be model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87640" y="4573440"/>
            <a:ext cx="30495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onstant Stress Triangle (CST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his element the force balance i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{6} =[6x 6]{6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4573440"/>
            <a:ext cx="30495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use steps similar to that for matrix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 1. Select a suitable displacement fun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represent each displacement component by a linear polynomial in x and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 = c1 + c2(x) + c3(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 = c4 + c5(x) + c6(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he displacement function in matrix form is given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4619520"/>
            <a:ext cx="70534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3:32:27Z</dcterms:created>
  <dc:creator>Dave</dc:creator>
  <dc:description/>
  <dc:language>en-US</dc:language>
  <cp:lastModifiedBy>Dave</cp:lastModifiedBy>
  <dcterms:modified xsi:type="dcterms:W3CDTF">2007-11-28T02:46:36Z</dcterms:modified>
  <cp:revision>181</cp:revision>
  <dc:subject/>
  <dc:title>Slide 1</dc:title>
</cp:coreProperties>
</file>