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0.wmf" ContentType="image/x-wmf"/>
  <Override PartName="/ppt/media/image6.png" ContentType="image/png"/>
  <Override PartName="/ppt/media/image18.png" ContentType="image/png"/>
  <Override PartName="/ppt/media/image42.jpeg" ContentType="image/jpeg"/>
  <Override PartName="/ppt/media/image83.png" ContentType="image/png"/>
  <Override PartName="/ppt/media/image57.jpeg" ContentType="image/jpeg"/>
  <Override PartName="/ppt/media/image56.png" ContentType="image/png"/>
  <Override PartName="/ppt/media/image52.png" ContentType="image/png"/>
  <Override PartName="/ppt/media/image50.png" ContentType="image/png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3.wmf" ContentType="image/x-wmf"/>
  <Override PartName="/ppt/media/image76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60.wmf" ContentType="image/x-wmf"/>
  <Override PartName="/ppt/media/image21.png" ContentType="image/png"/>
  <Override PartName="/ppt/media/image22.png" ContentType="image/png"/>
  <Override PartName="/ppt/media/image64.png" ContentType="image/png"/>
  <Override PartName="/ppt/media/image24.png" ContentType="image/png"/>
  <Override PartName="/ppt/media/image11.jpeg" ContentType="image/jpeg"/>
  <Override PartName="/ppt/media/image61.png" ContentType="image/png"/>
  <Override PartName="/ppt/media/image2.png" ContentType="image/png"/>
  <Override PartName="/ppt/media/image32.png" ContentType="image/png"/>
  <Override PartName="/ppt/media/image69.png" ContentType="image/png"/>
  <Override PartName="/ppt/media/image62.png" ContentType="image/png"/>
  <Override PartName="/ppt/media/image85.jpeg" ContentType="image/jpeg"/>
  <Override PartName="/ppt/media/image23.png" ContentType="image/png"/>
  <Override PartName="/ppt/media/image82.jpeg" ContentType="image/jpeg"/>
  <Override PartName="/ppt/media/image3.png" ContentType="image/png"/>
  <Override PartName="/ppt/media/image79.png" ContentType="image/png"/>
  <Override PartName="/ppt/media/image67.png" ContentType="image/png"/>
  <Override PartName="/ppt/media/image19.jpeg" ContentType="image/jpeg"/>
  <Override PartName="/ppt/media/image29.wmf" ContentType="image/x-wmf"/>
  <Override PartName="/ppt/media/image25.wmf" ContentType="image/x-wmf"/>
  <Override PartName="/ppt/media/image68.png" ContentType="image/png"/>
  <Override PartName="/ppt/media/image63.jpeg" ContentType="image/jpeg"/>
  <Override PartName="/ppt/media/image72.png" ContentType="image/png"/>
  <Override PartName="/ppt/media/image16.wmf" ContentType="image/x-wmf"/>
  <Override PartName="/ppt/media/image70.png" ContentType="image/png"/>
  <Override PartName="/ppt/media/image28.png" ContentType="image/png"/>
  <Override PartName="/ppt/media/image71.png" ContentType="image/png"/>
  <Override PartName="/ppt/media/image75.png" ContentType="image/png"/>
  <Override PartName="/ppt/media/image80.jpeg" ContentType="image/jpeg"/>
  <Override PartName="/ppt/media/image65.png" ContentType="image/png"/>
  <Override PartName="/ppt/media/image26.png" ContentType="image/png"/>
  <Override PartName="/ppt/media/image17.jpeg" ContentType="image/jpeg"/>
  <Override PartName="/ppt/media/image31.wmf" ContentType="image/x-wmf"/>
  <Override PartName="/ppt/media/image74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14.wmf" ContentType="image/x-wmf"/>
  <Override PartName="/ppt/media/image53.png" ContentType="image/png"/>
  <Override PartName="/ppt/media/image36.png" ContentType="image/png"/>
  <Override PartName="/ppt/media/image58.png" ContentType="image/png"/>
  <Override PartName="/ppt/media/image15.wmf" ContentType="image/x-wmf"/>
  <Override PartName="/ppt/media/image54.png" ContentType="image/png"/>
  <Override PartName="/ppt/media/image41.jpeg" ContentType="image/jpeg"/>
  <Override PartName="/ppt/media/image66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27.png" ContentType="image/png"/>
  <Override PartName="/ppt/media/image30.wmf" ContentType="image/x-wmf"/>
  <Override PartName="/ppt/media/image73.png" ContentType="image/png"/>
  <Override PartName="/ppt/media/image81.png" ContentType="image/png"/>
  <Override PartName="/ppt/media/image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7148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864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784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1516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79784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21516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7497720" cy="24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2864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47148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2864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784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1516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79784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21516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7497720" cy="24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2864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0880" y="347148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52864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9784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21516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088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79784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21516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7497720" cy="24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52864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80880" y="347148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52864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79784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215160" y="68544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8088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179784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3215160" y="3471480"/>
            <a:ext cx="1349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7497720" cy="24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8640" y="347148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8640" y="685440"/>
            <a:ext cx="2045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71480"/>
            <a:ext cx="4191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ddeb"/>
            </a:gs>
            <a:gs pos="100000">
              <a:srgbClr val="8898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380880" y="0"/>
            <a:ext cx="8763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62904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8898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Times New Roman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808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ddeb"/>
            </a:gs>
            <a:gs pos="100000">
              <a:srgbClr val="8898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80880" y="0"/>
            <a:ext cx="8763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3808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 flipH="1">
            <a:off x="609480" y="685800"/>
            <a:ext cx="8229600" cy="0"/>
          </a:xfrm>
          <a:prstGeom prst="line">
            <a:avLst/>
          </a:prstGeom>
          <a:ln w="34920">
            <a:solidFill>
              <a:srgbClr val="b0ba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>
            <a:off x="6705720" y="6629400"/>
            <a:ext cx="2438280" cy="0"/>
          </a:xfrm>
          <a:prstGeom prst="line">
            <a:avLst/>
          </a:prstGeom>
          <a:ln w="12600">
            <a:solidFill>
              <a:srgbClr val="b0ba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662904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8898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Times New Roman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ddeb"/>
            </a:gs>
            <a:gs pos="100000">
              <a:srgbClr val="8898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380880" y="0"/>
            <a:ext cx="8763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3808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7"/>
          <p:cNvSpPr/>
          <p:nvPr/>
        </p:nvSpPr>
        <p:spPr>
          <a:xfrm flipH="1">
            <a:off x="609480" y="685800"/>
            <a:ext cx="8229600" cy="0"/>
          </a:xfrm>
          <a:prstGeom prst="line">
            <a:avLst/>
          </a:prstGeom>
          <a:ln w="34920">
            <a:solidFill>
              <a:srgbClr val="b0ba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9"/>
          <p:cNvSpPr/>
          <p:nvPr/>
        </p:nvSpPr>
        <p:spPr>
          <a:xfrm>
            <a:off x="6705720" y="6629400"/>
            <a:ext cx="2438280" cy="0"/>
          </a:xfrm>
          <a:prstGeom prst="line">
            <a:avLst/>
          </a:prstGeom>
          <a:ln w="12600">
            <a:solidFill>
              <a:srgbClr val="b0ba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662904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8898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Times New Roman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ddeb"/>
            </a:gs>
            <a:gs pos="100000">
              <a:srgbClr val="8898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380880" y="0"/>
            <a:ext cx="8763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3808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9"/>
          <p:cNvSpPr/>
          <p:nvPr/>
        </p:nvSpPr>
        <p:spPr>
          <a:xfrm>
            <a:off x="6705720" y="6629400"/>
            <a:ext cx="2438280" cy="0"/>
          </a:xfrm>
          <a:prstGeom prst="line">
            <a:avLst/>
          </a:prstGeom>
          <a:ln w="12600">
            <a:solidFill>
              <a:srgbClr val="b0ba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4977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6854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4"/>
          </p:nvPr>
        </p:nvSpPr>
        <p:spPr>
          <a:xfrm>
            <a:off x="662904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8898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Times New Roman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7.png"/><Relationship Id="rId7" Type="http://schemas.openxmlformats.org/officeDocument/2006/relationships/image" Target="../media/image76.png"/><Relationship Id="rId8" Type="http://schemas.openxmlformats.org/officeDocument/2006/relationships/image" Target="../media/image68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77.png"/><Relationship Id="rId13" Type="http://schemas.openxmlformats.org/officeDocument/2006/relationships/image" Target="../media/image80.jpeg"/><Relationship Id="rId1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7621" t="0" r="23782" b="29910"/>
          <a:stretch/>
        </p:blipFill>
        <p:spPr>
          <a:xfrm>
            <a:off x="609480" y="76212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2209680" y="838080"/>
            <a:ext cx="6629400" cy="1828800"/>
          </a:xfrm>
          <a:prstGeom prst="rect">
            <a:avLst/>
          </a:prstGeom>
          <a:solidFill>
            <a:srgbClr val="3891a7">
              <a:alpha val="50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209680" y="3048120"/>
            <a:ext cx="6629400" cy="1828800"/>
          </a:xfrm>
          <a:prstGeom prst="rect">
            <a:avLst/>
          </a:prstGeom>
          <a:solidFill>
            <a:srgbClr val="3891a7">
              <a:alpha val="50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ss Concentration for Static and Ductile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8380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tatic loads and ductil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stressed fibers yield (cold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is shared with next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orking is 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part does not see damage unless ultimate strength is 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 concentration effect is commonly ignored for static loads on ductil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 concentration must be included for dynamic loading (See Ch.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 concentration must be included for brittle materials, since localized yielding may reach brittle failure rather than cold-working and sharing the 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for Static Failure 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5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axial stress element (e.g. tension tes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axial stress 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strength, multiple 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compare stress state to single streng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bud21932_0308"/>
          <p:cNvPicPr/>
          <p:nvPr/>
        </p:nvPicPr>
        <p:blipFill>
          <a:blip r:embed="rId1"/>
          <a:srcRect l="0" t="3272" r="0" b="0"/>
          <a:stretch/>
        </p:blipFill>
        <p:spPr>
          <a:xfrm>
            <a:off x="1828800" y="3809880"/>
            <a:ext cx="4857840" cy="2713320"/>
          </a:xfrm>
          <a:prstGeom prst="rect">
            <a:avLst/>
          </a:prstGeom>
          <a:ln w="0">
            <a:noFill/>
          </a:ln>
        </p:spPr>
      </p:pic>
      <p:pic>
        <p:nvPicPr>
          <p:cNvPr id="219" name="Object 2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2352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for Static Failure 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5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heories propose appropriate means of comparing multi-axial stress states to single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based on some hypothesis of what aspect of the stress state is 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ailure theories have gained recognition of usefulness for various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Normal (Principal) Stres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5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  Yielding begins when the maximum principal stress in a stress element exceeds the yield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stress element, use Mohr’s circle to find the principal stress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largest principal stress to the yield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the first theory to be proposed by engineering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a good the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Normal (Principal) Stres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520" y="838080"/>
            <a:ext cx="35053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data shows the theory is unsafe in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dr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heor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sa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se for ducti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3809880" y="1066680"/>
            <a:ext cx="5264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Shear Stress Theory (M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5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  Yielding begins whe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imum shear st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stress element exceed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maximum shear stress in a tension test specimen of the same material when that specimen begins to y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tension test specimen, the maximum shear stress i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yielding, whe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maximum shear stress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restate the theory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  Yielding begins whe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imum shear st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stress element exceed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Shear Stress Theory (M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5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stress element, use Mohr’s circle to find the maximum shear stress. Compare the maximum shear stres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the principal stresses such th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ting a design fac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solving for factor of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ject 2" descr=""/>
          <p:cNvPicPr/>
          <p:nvPr/>
        </p:nvPicPr>
        <p:blipFill>
          <a:blip r:embed="rId1"/>
          <a:stretch/>
        </p:blipFill>
        <p:spPr>
          <a:xfrm>
            <a:off x="3276720" y="5029200"/>
            <a:ext cx="1130040" cy="8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8153640" cy="731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3"/>
          <a:stretch/>
        </p:blipFill>
        <p:spPr>
          <a:xfrm>
            <a:off x="1523880" y="3614760"/>
            <a:ext cx="746784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Shear Stress Theory (M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052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are to experimental data, expres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erms of principal stresses and p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implify, consider a plane stres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the two non-zero principal stresses, then order them with the zero principal stress such th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hree cases to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: 0 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Shear Stress Theory (M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052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case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. (5–1) reduces to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≥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case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. (5–1) reduces to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−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≥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: 0 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case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. (5–1) reduces to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≤ −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Shear Stress Theory (M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838080"/>
            <a:ext cx="3276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three cases on principal stress 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≥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−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≥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: 0 ≥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≤ −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lines are symmetric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ide envelope is predicted saf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bud29281_0507"/>
          <p:cNvPicPr/>
          <p:nvPr/>
        </p:nvPicPr>
        <p:blipFill>
          <a:blip r:embed="rId1"/>
          <a:srcRect l="2882" t="4237" r="4581" b="0"/>
          <a:stretch/>
        </p:blipFill>
        <p:spPr>
          <a:xfrm>
            <a:off x="3505320" y="1371600"/>
            <a:ext cx="5622840" cy="48006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8"/>
          <p:cNvSpPr/>
          <p:nvPr/>
        </p:nvSpPr>
        <p:spPr>
          <a:xfrm>
            <a:off x="5334120" y="6095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lur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520" y="4419360"/>
            <a:ext cx="8610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of truck driveshaft spline due to corrosion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933960" cy="28861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3809880" y="3809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Shear Stress Theory (M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838080"/>
            <a:ext cx="3276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to experiment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rvative in all quad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for design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53053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ortion Energy (DE) Failur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8380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know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hedral Shear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ar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Mises – Hen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ortion Energy (DE) Failur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880" y="8380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ted from observation that ductile materials stressed hydrostatically (equal principal stresses) exhibited yield strengths greatly in excess of expected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zes that if strain energy is divided into hydrostatic volume changing energy and angular distortion energy, the yielding is primarily affected by the distortion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bud29281_0508"/>
          <p:cNvPicPr/>
          <p:nvPr/>
        </p:nvPicPr>
        <p:blipFill>
          <a:blip r:embed="rId1"/>
          <a:srcRect l="0" t="8917" r="0" b="0"/>
          <a:stretch/>
        </p:blipFill>
        <p:spPr>
          <a:xfrm>
            <a:off x="1295280" y="3505320"/>
            <a:ext cx="7266240" cy="27064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3657600" y="6248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ortion Energy (DE) Failur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8380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  Yielding occurs whe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tortion strain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unit volume reaches the distortion strain energy per unit volume for yiel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imple tension or compression of the same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bud29281_0508"/>
          <p:cNvPicPr/>
          <p:nvPr/>
        </p:nvPicPr>
        <p:blipFill>
          <a:blip r:embed="rId1"/>
          <a:srcRect l="0" t="8917" r="0" b="0"/>
          <a:stretch/>
        </p:blipFill>
        <p:spPr>
          <a:xfrm>
            <a:off x="1066680" y="2743200"/>
            <a:ext cx="7266240" cy="27068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5"/>
          <p:cNvSpPr/>
          <p:nvPr/>
        </p:nvSpPr>
        <p:spPr>
          <a:xfrm>
            <a:off x="3505320" y="5486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ing the Distor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8380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static stress is average of principal 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energy per unit volu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ing Eq. (3–19) for principal strains into strain energy equ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572000" y="2257560"/>
            <a:ext cx="2752560" cy="342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"/>
          <p:cNvPicPr/>
          <p:nvPr/>
        </p:nvPicPr>
        <p:blipFill>
          <a:blip r:embed="rId2"/>
          <a:stretch/>
        </p:blipFill>
        <p:spPr>
          <a:xfrm>
            <a:off x="1447920" y="3419640"/>
            <a:ext cx="6553080" cy="2225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1676520" y="5762520"/>
            <a:ext cx="7029360" cy="638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4"/>
          <a:stretch/>
        </p:blipFill>
        <p:spPr>
          <a:xfrm>
            <a:off x="1371600" y="1295280"/>
            <a:ext cx="54579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ing the Distor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energy for producing only volume change is obtained by substituting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ing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Eq. (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distortion energy by subtracting volume changing energy, Eq. (5–7), from total strain energy, Eq.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523880" y="704880"/>
            <a:ext cx="7029720" cy="638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5457960" cy="647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3"/>
          <a:stretch/>
        </p:blipFill>
        <p:spPr>
          <a:xfrm>
            <a:off x="533520" y="3162240"/>
            <a:ext cx="8381880" cy="781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4"/>
          <a:stretch/>
        </p:blipFill>
        <p:spPr>
          <a:xfrm>
            <a:off x="457200" y="4876920"/>
            <a:ext cx="85345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ing the Distor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ion test specimen at yield ha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to Eq. (5–8), distortion energy for tension test specimen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theory predicts failure when distortion energy, Eq. (5–8), exceeds distortion energy of tension test specimen, Eq. (5–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534160" cy="925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"/>
          <p:cNvPicPr/>
          <p:nvPr/>
        </p:nvPicPr>
        <p:blipFill>
          <a:blip r:embed="rId2"/>
          <a:stretch/>
        </p:blipFill>
        <p:spPr>
          <a:xfrm>
            <a:off x="2666880" y="2895480"/>
            <a:ext cx="5943600" cy="709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784872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n Mises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hand side is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n Mises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lane stress, simplif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s, in three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s, for plane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846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"/>
          <p:cNvPicPr/>
          <p:nvPr/>
        </p:nvPicPr>
        <p:blipFill>
          <a:blip r:embed="rId2"/>
          <a:stretch/>
        </p:blipFill>
        <p:spPr>
          <a:xfrm>
            <a:off x="1066680" y="2147760"/>
            <a:ext cx="7620120" cy="824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3"/>
          <a:stretch/>
        </p:blipFill>
        <p:spPr>
          <a:xfrm>
            <a:off x="1676520" y="3446640"/>
            <a:ext cx="7010280" cy="514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457200" y="4695840"/>
            <a:ext cx="8534520" cy="6681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5"/>
          <a:stretch/>
        </p:blipFill>
        <p:spPr>
          <a:xfrm>
            <a:off x="1676520" y="6019920"/>
            <a:ext cx="701028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ortion Energy Theory With Von Mises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Mises Stress can be thought of as a single, equivalent, or effective stress for the entire general state of stress in a stress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tion Energy failure theory simply compares von Mises stress to yield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ing a design fact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as factor of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5943600" cy="471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6095880" cy="833400"/>
          </a:xfrm>
          <a:prstGeom prst="rect">
            <a:avLst/>
          </a:prstGeom>
          <a:ln w="0">
            <a:noFill/>
          </a:ln>
        </p:spPr>
      </p:pic>
      <p:pic>
        <p:nvPicPr>
          <p:cNvPr id="300" name="Object 2" descr=""/>
          <p:cNvPicPr/>
          <p:nvPr/>
        </p:nvPicPr>
        <p:blipFill>
          <a:blip r:embed="rId3"/>
          <a:stretch/>
        </p:blipFill>
        <p:spPr>
          <a:xfrm>
            <a:off x="2209680" y="5029200"/>
            <a:ext cx="997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ahedral St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0880" y="83772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results obtained by evalu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ctahedral str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hedral stresses are identical on 8 surfaces symmetric to the principal stress dir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hedral stresses allow representation of any stress situation with a set of normal and shear st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3357360" cy="3283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31543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TextBox 7"/>
          <p:cNvSpPr/>
          <p:nvPr/>
        </p:nvSpPr>
        <p:spPr>
          <a:xfrm>
            <a:off x="914400" y="590724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cipal stress element with single octahedral plane sh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8"/>
          <p:cNvSpPr/>
          <p:nvPr/>
        </p:nvSpPr>
        <p:spPr>
          <a:xfrm>
            <a:off x="5410080" y="60310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8 octahedral planes sh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lur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520" y="4266720"/>
            <a:ext cx="86108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failure of a lawn-mower blade driver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ade impacted a surveying pipe mar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3552840" cy="28573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3657600" y="3505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ahedral Shear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0880" y="8377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hedral normal stresses are normal to the octahedral surfaces, and are equal to the average of the principal st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hedral shear stresses lie on the octahedral su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8076960" cy="647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357720" cy="3283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6"/>
          <p:cNvSpPr/>
          <p:nvPr/>
        </p:nvSpPr>
        <p:spPr>
          <a:xfrm>
            <a:off x="3352680" y="6095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ahedral Shear Stress Failur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880" y="83772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  Yielding begins whe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ctahedral shear st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stress element exceed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octahedral shear stress in a tension test specimen at yiel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ctahedral shear stres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tension test specimen at yielding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   Substituting into Eq. (5–16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ory predicts failure when Eq. (5–16) excee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. (5–17).  This condition reduc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543800" cy="60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"/>
          <p:cNvPicPr/>
          <p:nvPr/>
        </p:nvPicPr>
        <p:blipFill>
          <a:blip r:embed="rId2"/>
          <a:stretch/>
        </p:blipFill>
        <p:spPr>
          <a:xfrm>
            <a:off x="2895480" y="4114800"/>
            <a:ext cx="5791320" cy="750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3"/>
          <a:stretch/>
        </p:blipFill>
        <p:spPr>
          <a:xfrm>
            <a:off x="914400" y="5751360"/>
            <a:ext cx="7772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lure Theory in Terms of von Mises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52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 is identical to Eq. (5–10) from Distortion Energy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conclusion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tion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hedral Shear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ar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Mises – Hen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Object 2" descr=""/>
          <p:cNvPicPr/>
          <p:nvPr/>
        </p:nvPicPr>
        <p:blipFill>
          <a:blip r:embed="rId1"/>
          <a:stretch/>
        </p:blipFill>
        <p:spPr>
          <a:xfrm>
            <a:off x="3962520" y="4800600"/>
            <a:ext cx="996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Theory Compared to Experiment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0520" y="838080"/>
            <a:ext cx="3886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von Mises stress on principal stress axes to compare to experimental data (and to other failure theo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curv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yp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yp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quates to a 50% reliability from a design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for analysis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S theory useful for design situations where higher reliability is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ud29281_0515"/>
          <p:cNvPicPr/>
          <p:nvPr/>
        </p:nvPicPr>
        <p:blipFill>
          <a:blip r:embed="rId1"/>
          <a:srcRect l="0" t="3808" r="21267" b="0"/>
          <a:stretch/>
        </p:blipFill>
        <p:spPr>
          <a:xfrm>
            <a:off x="4346640" y="762120"/>
            <a:ext cx="4797360" cy="46479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5"/>
          <p:cNvSpPr/>
          <p:nvPr/>
        </p:nvSpPr>
        <p:spPr>
          <a:xfrm>
            <a:off x="5791320" y="5486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bud29281_0509"/>
          <p:cNvPicPr/>
          <p:nvPr/>
        </p:nvPicPr>
        <p:blipFill>
          <a:blip r:embed="rId1"/>
          <a:srcRect l="0" t="7980" r="0" b="0"/>
          <a:stretch/>
        </p:blipFill>
        <p:spPr>
          <a:xfrm>
            <a:off x="1806480" y="3124080"/>
            <a:ext cx="5356440" cy="37339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ar Strength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520" y="69480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ure shear loading, Mohr’s circle shows th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−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ting this equation on principal stress axes gives load line for pure shea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 of pure shear load line with failure curve indicates shear strength has been 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ailure theory predicts shear strength to be some fraction of normal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143000" y="6396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bud29281_0509"/>
          <p:cNvPicPr/>
          <p:nvPr/>
        </p:nvPicPr>
        <p:blipFill>
          <a:blip r:embed="rId1"/>
          <a:srcRect l="0" t="7980" r="0" b="0"/>
          <a:stretch/>
        </p:blipFill>
        <p:spPr>
          <a:xfrm>
            <a:off x="1371600" y="2514600"/>
            <a:ext cx="5356080" cy="37339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ar Strength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0520" y="695160"/>
            <a:ext cx="85345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SS theory, intersecting pure shear load line with failure line [Eq. (5–5)] result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6477120" cy="4744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2286000" y="6248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bud29281_0509"/>
          <p:cNvPicPr/>
          <p:nvPr/>
        </p:nvPicPr>
        <p:blipFill>
          <a:blip r:embed="rId1"/>
          <a:srcRect l="0" t="7980" r="0" b="0"/>
          <a:stretch/>
        </p:blipFill>
        <p:spPr>
          <a:xfrm>
            <a:off x="1295280" y="3048120"/>
            <a:ext cx="5356440" cy="37335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ar Strength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0520" y="695160"/>
            <a:ext cx="8534520" cy="23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E theory, intersection pure shear load line with failure curve [Eq. (5–11)] g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DE theory predicts shear strengt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762120" y="1486080"/>
            <a:ext cx="8159760" cy="761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3"/>
          <a:stretch/>
        </p:blipFill>
        <p:spPr>
          <a:xfrm>
            <a:off x="2819520" y="2808360"/>
            <a:ext cx="6172200" cy="6015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8"/>
          <p:cNvSpPr/>
          <p:nvPr/>
        </p:nvSpPr>
        <p:spPr>
          <a:xfrm>
            <a:off x="533520" y="6396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399960" y="733320"/>
            <a:ext cx="8734680" cy="2114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8763120" cy="914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8859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438120" y="3772080"/>
            <a:ext cx="8696520" cy="29620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399960" y="685800"/>
            <a:ext cx="87249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2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399960" y="738360"/>
            <a:ext cx="870588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lur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520" y="38858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of an overhead-pulley retaining bolt on a weightlifting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nufacturing error caused a gap that forced the bolt to take the entire moment 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076800" cy="22478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6"/>
          <p:cNvSpPr/>
          <p:nvPr/>
        </p:nvSpPr>
        <p:spPr>
          <a:xfrm>
            <a:off x="3581280" y="3124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390600" y="704880"/>
            <a:ext cx="8705880" cy="6124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2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2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47840" y="704880"/>
            <a:ext cx="8667720" cy="3181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438120" y="3857760"/>
            <a:ext cx="84772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2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rcRect l="0" t="0" r="4036" b="0"/>
          <a:stretch/>
        </p:blipFill>
        <p:spPr>
          <a:xfrm>
            <a:off x="380880" y="838080"/>
            <a:ext cx="86108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2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rcRect l="0" t="0" r="0" b="29645"/>
          <a:stretch/>
        </p:blipFill>
        <p:spPr>
          <a:xfrm>
            <a:off x="399960" y="723960"/>
            <a:ext cx="8686800" cy="2781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bud29281_0511"/>
          <p:cNvPicPr/>
          <p:nvPr/>
        </p:nvPicPr>
        <p:blipFill>
          <a:blip r:embed="rId2"/>
          <a:srcRect l="9717" t="5809" r="11731" b="0"/>
          <a:stretch/>
        </p:blipFill>
        <p:spPr>
          <a:xfrm>
            <a:off x="2819520" y="3505320"/>
            <a:ext cx="3485880" cy="33526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6"/>
          <p:cNvSpPr/>
          <p:nvPr/>
        </p:nvSpPr>
        <p:spPr>
          <a:xfrm>
            <a:off x="1981080" y="6396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−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2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bud29281_0511"/>
          <p:cNvPicPr/>
          <p:nvPr/>
        </p:nvPicPr>
        <p:blipFill>
          <a:blip r:embed="rId1"/>
          <a:srcRect l="9717" t="5809" r="11731" b="0"/>
          <a:stretch/>
        </p:blipFill>
        <p:spPr>
          <a:xfrm>
            <a:off x="1600200" y="1981080"/>
            <a:ext cx="5072040" cy="4876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686800" cy="12096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6"/>
          <p:cNvSpPr/>
          <p:nvPr/>
        </p:nvSpPr>
        <p:spPr>
          <a:xfrm>
            <a:off x="3048120" y="6396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−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lure Theories for Brittl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520" y="7621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data indicates some differences in failure for britt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criteria is generally ultimate fracture rather than yie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ve strengths are usually larger than tensile str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bud29281_0519"/>
          <p:cNvPicPr/>
          <p:nvPr/>
        </p:nvPicPr>
        <p:blipFill>
          <a:blip r:embed="rId1"/>
          <a:srcRect l="0" t="4856" r="0" b="0"/>
          <a:stretch/>
        </p:blipFill>
        <p:spPr>
          <a:xfrm>
            <a:off x="1447920" y="2438280"/>
            <a:ext cx="4849560" cy="441972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2514600" y="6396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−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Normal Stres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520" y="8377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  Failure occurs when the maximum principal stress in a stress element exceeds th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s failur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lane stre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ting design fact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1447920" y="2000160"/>
            <a:ext cx="7543800" cy="671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772400" cy="701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3"/>
          <a:stretch/>
        </p:blipFill>
        <p:spPr>
          <a:xfrm>
            <a:off x="1600200" y="4743360"/>
            <a:ext cx="73915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Normal Stres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520" y="8377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on principal stress 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afe in part of fourth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recommended fo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d for 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bud29281_0518"/>
          <p:cNvPicPr/>
          <p:nvPr/>
        </p:nvPicPr>
        <p:blipFill>
          <a:blip r:embed="rId1"/>
          <a:srcRect l="8560" t="6137" r="9690" b="6356"/>
          <a:stretch/>
        </p:blipFill>
        <p:spPr>
          <a:xfrm>
            <a:off x="2286000" y="2666880"/>
            <a:ext cx="4172040" cy="38862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"/>
          <p:cNvSpPr/>
          <p:nvPr/>
        </p:nvSpPr>
        <p:spPr>
          <a:xfrm>
            <a:off x="3581280" y="6396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−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tle Coulomb-M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previously derived, using ultimate strengths for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equations dependent on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5759280" y="1828800"/>
            <a:ext cx="3384720" cy="2971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762120" y="2457360"/>
            <a:ext cx="1352520" cy="3621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62120" y="3914640"/>
            <a:ext cx="1371600" cy="428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4"/>
          <a:stretch/>
        </p:blipFill>
        <p:spPr>
          <a:xfrm>
            <a:off x="2895480" y="2314440"/>
            <a:ext cx="981360" cy="561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"/>
          <p:cNvPicPr/>
          <p:nvPr/>
        </p:nvPicPr>
        <p:blipFill>
          <a:blip r:embed="rId5"/>
          <a:stretch/>
        </p:blipFill>
        <p:spPr>
          <a:xfrm>
            <a:off x="2895480" y="3886200"/>
            <a:ext cx="1152720" cy="5526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9"/>
          <p:cNvSpPr/>
          <p:nvPr/>
        </p:nvSpPr>
        <p:spPr>
          <a:xfrm>
            <a:off x="380880" y="1828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an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0"/>
          <p:cNvSpPr/>
          <p:nvPr/>
        </p:nvSpPr>
        <p:spPr>
          <a:xfrm>
            <a:off x="2666880" y="1905120"/>
            <a:ext cx="0" cy="266688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1"/>
          <p:cNvSpPr/>
          <p:nvPr/>
        </p:nvSpPr>
        <p:spPr>
          <a:xfrm>
            <a:off x="457200" y="2286000"/>
            <a:ext cx="4267080" cy="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6"/>
          <a:stretch/>
        </p:blipFill>
        <p:spPr>
          <a:xfrm>
            <a:off x="762120" y="3200400"/>
            <a:ext cx="1333440" cy="380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7"/>
          <a:stretch/>
        </p:blipFill>
        <p:spPr>
          <a:xfrm>
            <a:off x="2895480" y="3105000"/>
            <a:ext cx="1476360" cy="552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8"/>
          <a:stretch/>
        </p:blipFill>
        <p:spPr>
          <a:xfrm>
            <a:off x="4743360" y="2467080"/>
            <a:ext cx="819360" cy="314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9"/>
          <a:stretch/>
        </p:blipFill>
        <p:spPr>
          <a:xfrm>
            <a:off x="4734000" y="3209760"/>
            <a:ext cx="819000" cy="285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10"/>
          <a:stretch/>
        </p:blipFill>
        <p:spPr>
          <a:xfrm>
            <a:off x="4724280" y="4038480"/>
            <a:ext cx="809640" cy="324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9"/>
          <p:cNvSpPr/>
          <p:nvPr/>
        </p:nvSpPr>
        <p:spPr>
          <a:xfrm>
            <a:off x="2819520" y="1828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ilur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0"/>
          <p:cNvSpPr/>
          <p:nvPr/>
        </p:nvSpPr>
        <p:spPr>
          <a:xfrm>
            <a:off x="64008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−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tle Failure Experiment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0520" y="83808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omb-Mohr is conservative in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ified Moh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iteria adjusts to better fit the data in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bud29281_0519"/>
          <p:cNvPicPr/>
          <p:nvPr/>
        </p:nvPicPr>
        <p:blipFill>
          <a:blip r:embed="rId1"/>
          <a:srcRect l="0" t="4856" r="0" b="0"/>
          <a:stretch/>
        </p:blipFill>
        <p:spPr>
          <a:xfrm>
            <a:off x="4294080" y="762120"/>
            <a:ext cx="4849920" cy="441936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4952880" y="4800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−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lur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520" y="4266720"/>
            <a:ext cx="86108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in test fixture that failed in one cycle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alleviate complaints of excessive wear, the manufacturer decided to case-harden the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a) Two halves showing brittle fracture initiated by stress conc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b) Enlarged view showing cracks induced by stress concentration at the support-pin ho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05720" cy="34891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6"/>
          <p:cNvSpPr/>
          <p:nvPr/>
        </p:nvSpPr>
        <p:spPr>
          <a:xfrm>
            <a:off x="77724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ified-M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533520" y="1171440"/>
            <a:ext cx="1352520" cy="362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"/>
          <p:cNvPicPr/>
          <p:nvPr/>
        </p:nvPicPr>
        <p:blipFill>
          <a:blip r:embed="rId2"/>
          <a:stretch/>
        </p:blipFill>
        <p:spPr>
          <a:xfrm>
            <a:off x="533520" y="1800360"/>
            <a:ext cx="2962080" cy="59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"/>
          <p:cNvPicPr/>
          <p:nvPr/>
        </p:nvPicPr>
        <p:blipFill>
          <a:blip r:embed="rId3"/>
          <a:stretch/>
        </p:blipFill>
        <p:spPr>
          <a:xfrm>
            <a:off x="533520" y="2657520"/>
            <a:ext cx="290484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"/>
          <p:cNvPicPr/>
          <p:nvPr/>
        </p:nvPicPr>
        <p:blipFill>
          <a:blip r:embed="rId4"/>
          <a:stretch/>
        </p:blipFill>
        <p:spPr>
          <a:xfrm>
            <a:off x="533520" y="3533760"/>
            <a:ext cx="1371600" cy="428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"/>
          <p:cNvPicPr/>
          <p:nvPr/>
        </p:nvPicPr>
        <p:blipFill>
          <a:blip r:embed="rId5"/>
          <a:stretch/>
        </p:blipFill>
        <p:spPr>
          <a:xfrm>
            <a:off x="3962520" y="1171440"/>
            <a:ext cx="981000" cy="5619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"/>
          <p:cNvPicPr/>
          <p:nvPr/>
        </p:nvPicPr>
        <p:blipFill>
          <a:blip r:embed="rId6"/>
          <a:stretch/>
        </p:blipFill>
        <p:spPr>
          <a:xfrm>
            <a:off x="3962520" y="1889280"/>
            <a:ext cx="981000" cy="561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"/>
          <p:cNvPicPr/>
          <p:nvPr/>
        </p:nvPicPr>
        <p:blipFill>
          <a:blip r:embed="rId7"/>
          <a:stretch/>
        </p:blipFill>
        <p:spPr>
          <a:xfrm>
            <a:off x="3962520" y="2606760"/>
            <a:ext cx="2533680" cy="619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"/>
          <p:cNvPicPr/>
          <p:nvPr/>
        </p:nvPicPr>
        <p:blipFill>
          <a:blip r:embed="rId8"/>
          <a:stretch/>
        </p:blipFill>
        <p:spPr>
          <a:xfrm>
            <a:off x="3962520" y="3381480"/>
            <a:ext cx="1152360" cy="5522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12"/>
          <p:cNvSpPr/>
          <p:nvPr/>
        </p:nvSpPr>
        <p:spPr>
          <a:xfrm>
            <a:off x="533520" y="685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an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3"/>
          <p:cNvSpPr/>
          <p:nvPr/>
        </p:nvSpPr>
        <p:spPr>
          <a:xfrm>
            <a:off x="3962520" y="7142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ilur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4"/>
          <p:cNvSpPr/>
          <p:nvPr/>
        </p:nvSpPr>
        <p:spPr>
          <a:xfrm>
            <a:off x="3581280" y="762120"/>
            <a:ext cx="0" cy="320040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5"/>
          <p:cNvSpPr/>
          <p:nvPr/>
        </p:nvSpPr>
        <p:spPr>
          <a:xfrm>
            <a:off x="609480" y="1143000"/>
            <a:ext cx="5105520" cy="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9"/>
          <a:stretch/>
        </p:blipFill>
        <p:spPr>
          <a:xfrm>
            <a:off x="6781680" y="1371600"/>
            <a:ext cx="790560" cy="285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10"/>
          <a:stretch/>
        </p:blipFill>
        <p:spPr>
          <a:xfrm>
            <a:off x="6781680" y="2743200"/>
            <a:ext cx="800280" cy="295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11"/>
          <a:stretch/>
        </p:blipFill>
        <p:spPr>
          <a:xfrm>
            <a:off x="6781680" y="3505320"/>
            <a:ext cx="781200" cy="2854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12"/>
          <a:stretch/>
        </p:blipFill>
        <p:spPr>
          <a:xfrm>
            <a:off x="6781680" y="2057400"/>
            <a:ext cx="790560" cy="285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bud29281_0519"/>
          <p:cNvPicPr/>
          <p:nvPr/>
        </p:nvPicPr>
        <p:blipFill>
          <a:blip r:embed="rId13"/>
          <a:srcRect l="710" t="4848" r="0" b="5218"/>
          <a:stretch/>
        </p:blipFill>
        <p:spPr>
          <a:xfrm>
            <a:off x="1447920" y="3886200"/>
            <a:ext cx="3425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2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419040" y="733320"/>
            <a:ext cx="8677440" cy="1457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bud29281_0516"/>
          <p:cNvPicPr/>
          <p:nvPr/>
        </p:nvPicPr>
        <p:blipFill>
          <a:blip r:embed="rId2"/>
          <a:srcRect l="0" t="3654" r="0" b="0"/>
          <a:stretch/>
        </p:blipFill>
        <p:spPr>
          <a:xfrm>
            <a:off x="1600200" y="2178000"/>
            <a:ext cx="4876920" cy="46800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5"/>
          <p:cNvSpPr/>
          <p:nvPr/>
        </p:nvSpPr>
        <p:spPr>
          <a:xfrm>
            <a:off x="4267080" y="6248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−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2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399960" y="704880"/>
            <a:ext cx="87058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2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409680" y="762120"/>
            <a:ext cx="8705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on of Failur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0520" y="838080"/>
            <a:ext cx="8610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determine ductile vs. br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uc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S is conservative, often used for design where higher reliability is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is typical, often used for analysis where agreement with experimental data is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ensile and compressive strengths differ, use Ductile Coulomb-Mo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r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hr theory is best, but difficult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ttle Coulomb-Mohr is very conservative in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Mohr is still slightly conservative in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drant, but closer to typ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on of Failure Criteria in Flowchar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3" descr="bud29281_0521"/>
          <p:cNvPicPr/>
          <p:nvPr/>
        </p:nvPicPr>
        <p:blipFill>
          <a:blip r:embed="rId1"/>
          <a:srcRect l="0" t="4489" r="0" b="0"/>
          <a:stretch/>
        </p:blipFill>
        <p:spPr>
          <a:xfrm>
            <a:off x="560520" y="755640"/>
            <a:ext cx="8022960" cy="5873760"/>
          </a:xfrm>
          <a:prstGeom prst="rect">
            <a:avLst/>
          </a:prstGeom>
          <a:ln w="0">
            <a:noFill/>
          </a:ln>
        </p:spPr>
      </p:pic>
      <p:sp>
        <p:nvSpPr>
          <p:cNvPr id="454" name="TextBox 5"/>
          <p:cNvSpPr/>
          <p:nvPr/>
        </p:nvSpPr>
        <p:spPr>
          <a:xfrm>
            <a:off x="3048120" y="6019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−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lur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520" y="487656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ve-spring failure caused by spring surge in an oversped eng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actures exhibit the classic 45 degree shear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741760" y="762120"/>
            <a:ext cx="4192560" cy="38862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6"/>
          <p:cNvSpPr/>
          <p:nvPr/>
        </p:nvSpPr>
        <p:spPr>
          <a:xfrm>
            <a:off x="7010280" y="4191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 5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c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necessary to design using published streng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test data is better, but generally only warranted for large quantities or when failure is very costly (in time, expense, or li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needed to safely and efficiently use published strength values for a variety of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ss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8377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ized increase of stress near discontinu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oretical (Geometric) Stress Concentratio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4118040" cy="4191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571500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82160"/>
            <a:ext cx="749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tical Stress Concentra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0880" y="837720"/>
            <a:ext cx="3810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vailable for standard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ppendix A–15 and A–16 for common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mor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son’s Stress-Concentration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trend for hig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harper discontinuity radius, and at greater dis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898c3"/>
                </a:solidFill>
                <a:latin typeface="Arial"/>
              </a:rPr>
              <a:t>Shigley’s Mechanical Engineering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216320" y="1371600"/>
            <a:ext cx="4927680" cy="2209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4181400" y="4038480"/>
            <a:ext cx="4962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4:25:24Z</dcterms:created>
  <dc:creator>nisbett</dc:creator>
  <dc:description/>
  <dc:language>en-US</dc:language>
  <cp:lastModifiedBy>HuskyPC</cp:lastModifiedBy>
  <dcterms:modified xsi:type="dcterms:W3CDTF">2011-10-12T15:36:15Z</dcterms:modified>
  <cp:revision>1754</cp:revision>
  <dc:subject/>
  <dc:title>Slide 1</dc:title>
</cp:coreProperties>
</file>