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B822-30DC-42ED-8DF4-AC69DF9411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5F9B-D2EF-47EA-944B-F6F1160DC4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DB31-CB37-4E43-B292-DE2AA2283F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AC04-538F-489E-9199-F8D1B19231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22BC-5D0F-4BF0-8449-761257BE18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071C-62B6-4F4F-B6BB-2452F18293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9CD4-F644-458B-87D6-BA814B0C21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04FF-6710-470D-BF96-551C8F6029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BA6E-FB28-408E-8881-FEB2447B8C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CFF7-86D7-4F31-90E9-1921CCFABD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5D37-E395-4E24-BD1E-360BBBB0DE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DC2A-6481-4FD4-93B7-2AEE72652A1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128-ECB9-4C30-A21B-B2CDC1DC66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1EA8-418D-40D6-A443-F3BB4D5DC8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963-DE6C-4F5A-ACFB-34EA12F81C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95B9-7894-4844-AE51-74201914D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F2DA-6A40-4463-9035-1AEAE532D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8F866-DB73-4DBF-8D64-4EF1C0E3A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319A-17FF-4BBF-92D9-5EAC8A2E7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6CBA-152A-4CFB-9876-29F4D3E331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0232-C2F4-40D9-9954-475C7655D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F76E-0385-4F4B-AE2C-12B261DB7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EB69-8606-4D55-9201-4CE20E501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AB98-FE52-4CC8-844C-878651D1D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D160-EAB9-496C-99AE-3AD2E120F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78E5-F169-43ED-90B0-50CAAC7CF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EA53-D14D-4101-A81A-B8D6DD14A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160" y="6613200"/>
            <a:ext cx="41907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BEC0-5F94-40DA-B133-66D39950A9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13560"/>
            <a:ext cx="365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nite element method – basis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nite Elements: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D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D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basis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atic basis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bic basis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D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ular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basis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atic basis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ular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basis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atic basis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derstand the origin and shape of basis functions used in classical finite element techniqu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A543-26DA-446F-9836-EA92AAB93B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D elements: coeffic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3800" y="1220760"/>
            <a:ext cx="53672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and we 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42" name=""/>
          <p:cNvGrpSpPr/>
          <p:nvPr/>
        </p:nvGrpSpPr>
        <p:grpSpPr>
          <a:xfrm>
            <a:off x="6913800" y="868320"/>
            <a:ext cx="1931760" cy="1728720"/>
            <a:chOff x="6913800" y="868320"/>
            <a:chExt cx="1931760" cy="1728720"/>
          </a:xfrm>
        </p:grpSpPr>
        <p:sp>
          <p:nvSpPr>
            <p:cNvPr id="143" name=""/>
            <p:cNvSpPr/>
            <p:nvPr/>
          </p:nvSpPr>
          <p:spPr>
            <a:xfrm flipV="1">
              <a:off x="7156440" y="116964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9040" y="2282760"/>
              <a:ext cx="13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8880" y="11858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0360" y="19130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3800" y="22608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22640" y="220356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56000" y="9763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78600" y="868320"/>
              <a:ext cx="1866960" cy="16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48520" y="1455840"/>
              <a:ext cx="839520" cy="825480"/>
            </a:xfrm>
            <a:custGeom>
              <a:avLst/>
              <a:gdLst/>
              <a:ahLst/>
              <a:rect l="l" t="t" r="r" b="b"/>
              <a:pathLst>
                <a:path w="1010" h="908">
                  <a:moveTo>
                    <a:pt x="0" y="908"/>
                  </a:moveTo>
                  <a:lnTo>
                    <a:pt x="1010" y="908"/>
                  </a:lnTo>
                  <a:lnTo>
                    <a:pt x="0" y="0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06120" y="10350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94960" y="15588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90280" y="129708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166760" y="3227400"/>
            <a:ext cx="600552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and we obtain the coefficients as a function of the values at the grid nodes by matrix i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735280" y="1625760"/>
                <a:ext cx="21733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852640" y="4181400"/>
            <a:ext cx="801720" cy="212760"/>
          </a:xfrm>
          <a:prstGeom prst="rightArrow">
            <a:avLst>
              <a:gd name="adj1" fmla="val 50000"/>
              <a:gd name="adj2" fmla="val 9420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72120" y="3968640"/>
                <a:ext cx="1473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60560" y="4917960"/>
                <a:ext cx="19904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573360" y="5283360"/>
            <a:ext cx="168588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 the 1-D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57880" y="5143680"/>
                <a:ext cx="14367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690560" y="4948200"/>
            <a:ext cx="827280" cy="801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7840" y="5737320"/>
            <a:ext cx="2843280" cy="31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7840" y="4935600"/>
            <a:ext cx="2881080" cy="1998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1630-27F5-4736-A949-3DA5CFA7DD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ngles: linear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220760"/>
            <a:ext cx="53672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trix A we can calculate the linear basis functions for tri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68" name=""/>
          <p:cNvGrpSpPr/>
          <p:nvPr/>
        </p:nvGrpSpPr>
        <p:grpSpPr>
          <a:xfrm>
            <a:off x="6913800" y="868320"/>
            <a:ext cx="1931760" cy="1728720"/>
            <a:chOff x="6913800" y="868320"/>
            <a:chExt cx="1931760" cy="1728720"/>
          </a:xfrm>
        </p:grpSpPr>
        <p:sp>
          <p:nvSpPr>
            <p:cNvPr id="169" name=""/>
            <p:cNvSpPr/>
            <p:nvPr/>
          </p:nvSpPr>
          <p:spPr>
            <a:xfrm flipV="1">
              <a:off x="7156440" y="116964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9040" y="2282760"/>
              <a:ext cx="13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48880" y="11858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0360" y="19130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3800" y="22608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22640" y="220356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56000" y="9763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78600" y="868320"/>
              <a:ext cx="1866960" cy="16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48520" y="1455840"/>
              <a:ext cx="839520" cy="825480"/>
            </a:xfrm>
            <a:custGeom>
              <a:avLst/>
              <a:gdLst/>
              <a:ahLst/>
              <a:rect l="l" t="t" r="r" b="b"/>
              <a:pathLst>
                <a:path w="1010" h="908">
                  <a:moveTo>
                    <a:pt x="0" y="908"/>
                  </a:moveTo>
                  <a:lnTo>
                    <a:pt x="1010" y="908"/>
                  </a:lnTo>
                  <a:lnTo>
                    <a:pt x="0" y="0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6120" y="10350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94960" y="15588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90280" y="129708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62360" y="1938240"/>
                <a:ext cx="272232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,</m:t>
                          </m:r>
                          <m:r>
                            <m:t xml:space="preserve">η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ξ</m:t>
                          </m:r>
                          <m:r>
                            <m:t xml:space="preserve">−</m:t>
                          </m:r>
                          <m:r>
                            <m:t xml:space="preserve">η</m:t>
                          </m:r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,</m:t>
                          </m:r>
                          <m:r>
                            <m:t xml:space="preserve">η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</m:e>
                        <m:e>
                          <m:r>
                            <m:t xml:space="preserve">ξ</m:t>
                          </m:r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,</m:t>
                          </m:r>
                          <m:r>
                            <m:t xml:space="preserve">η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</m:e>
                        <m:e>
                          <m:r>
                            <m:t xml:space="preserve">η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12920" y="3373560"/>
            <a:ext cx="6507000" cy="313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6280-603D-4C61-960F-C6682D8797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ngles: quadrat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4640" y="958680"/>
            <a:ext cx="763596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function defined on a triangle can be approximated by the quadrat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17880" y="1338120"/>
                <a:ext cx="4940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776160" y="1738440"/>
            <a:ext cx="76359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 the transformed system we 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992320" y="2128680"/>
                <a:ext cx="46674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η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ξη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205680" y="3432240"/>
            <a:ext cx="2198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the 1-D case we need additional points on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73320" y="2760840"/>
            <a:ext cx="4282920" cy="3686040"/>
            <a:chOff x="1273320" y="2760840"/>
            <a:chExt cx="4282920" cy="3686040"/>
          </a:xfrm>
        </p:grpSpPr>
        <p:sp>
          <p:nvSpPr>
            <p:cNvPr id="191" name=""/>
            <p:cNvSpPr/>
            <p:nvPr/>
          </p:nvSpPr>
          <p:spPr>
            <a:xfrm flipV="1">
              <a:off x="1681200" y="3422520"/>
              <a:ext cx="0" cy="24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09640" y="5864400"/>
              <a:ext cx="31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5720" y="34574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3040" y="545292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8840" y="582948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15000" y="569124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9360" y="29973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73320" y="2760840"/>
              <a:ext cx="4282920" cy="36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2120" y="4049640"/>
              <a:ext cx="1927080" cy="1811520"/>
            </a:xfrm>
            <a:custGeom>
              <a:avLst/>
              <a:gdLst/>
              <a:ahLst/>
              <a:rect l="l" t="t" r="r" b="b"/>
              <a:pathLst>
                <a:path w="1010" h="908">
                  <a:moveTo>
                    <a:pt x="0" y="908"/>
                  </a:moveTo>
                  <a:lnTo>
                    <a:pt x="1010" y="908"/>
                  </a:lnTo>
                  <a:lnTo>
                    <a:pt x="0" y="0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5160" y="312588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25360" y="37638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2360" y="345132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2640" y="4416480"/>
              <a:ext cx="107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21760" y="407052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25000" y="472284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7000" y="5665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6960" y="5667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08760" y="3889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0200" y="4703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87960" y="4767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26400" y="5670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73800" y="46022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3440" y="59324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88080" y="47196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6F38-DE6B-4944-A49C-D246141096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ngles: quadrat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4640" y="958680"/>
            <a:ext cx="528012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the coefficients we calculate the function u at each grid point to 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347840" y="1674720"/>
                <a:ext cx="446256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9" name=""/>
          <p:cNvGrpSpPr/>
          <p:nvPr/>
        </p:nvGrpSpPr>
        <p:grpSpPr>
          <a:xfrm>
            <a:off x="6575400" y="744480"/>
            <a:ext cx="2546640" cy="2387160"/>
            <a:chOff x="6575400" y="744480"/>
            <a:chExt cx="2546640" cy="2387160"/>
          </a:xfrm>
        </p:grpSpPr>
        <p:sp>
          <p:nvSpPr>
            <p:cNvPr id="220" name=""/>
            <p:cNvSpPr/>
            <p:nvPr/>
          </p:nvSpPr>
          <p:spPr>
            <a:xfrm flipV="1">
              <a:off x="6807960" y="1172160"/>
              <a:ext cx="0" cy="156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24160" y="2752200"/>
              <a:ext cx="178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97880" y="11948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14240" y="248616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07440" y="27284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580240" y="264024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67200" y="8960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75400" y="744480"/>
              <a:ext cx="2441880" cy="23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96800" y="1578240"/>
              <a:ext cx="1098720" cy="1171800"/>
            </a:xfrm>
            <a:custGeom>
              <a:avLst/>
              <a:gdLst/>
              <a:ahLst/>
              <a:rect l="l" t="t" r="r" b="b"/>
              <a:pathLst>
                <a:path w="1010" h="908">
                  <a:moveTo>
                    <a:pt x="0" y="908"/>
                  </a:moveTo>
                  <a:lnTo>
                    <a:pt x="1010" y="908"/>
                  </a:lnTo>
                  <a:lnTo>
                    <a:pt x="0" y="0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47440" y="98064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33040" y="13932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48880" y="11898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49600" y="1816560"/>
              <a:ext cx="107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38440" y="159264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40240" y="201456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01560" y="262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6360" y="262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96360" y="1474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97800" y="2001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5440" y="2043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20160" y="2626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30040" y="19346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200" y="27954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83680" y="201168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27200" y="3979800"/>
            <a:ext cx="7861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and by matrix inversion we can calculate the coefficients as a function of the values at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421080" y="4870440"/>
                <a:ext cx="1473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A92C-EDB2-4A73-8607-5833BE5538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ngles: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63680" y="1074600"/>
                <a:ext cx="328140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6575400" y="744480"/>
            <a:ext cx="2546640" cy="2387160"/>
            <a:chOff x="6575400" y="744480"/>
            <a:chExt cx="2546640" cy="2387160"/>
          </a:xfrm>
        </p:grpSpPr>
        <p:sp>
          <p:nvSpPr>
            <p:cNvPr id="250" name=""/>
            <p:cNvSpPr/>
            <p:nvPr/>
          </p:nvSpPr>
          <p:spPr>
            <a:xfrm flipV="1">
              <a:off x="6807960" y="1172160"/>
              <a:ext cx="0" cy="156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24160" y="2752200"/>
              <a:ext cx="178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97880" y="11948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14240" y="248616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07440" y="27284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80240" y="264024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67200" y="8960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75400" y="744480"/>
              <a:ext cx="2441880" cy="23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6800" y="1578240"/>
              <a:ext cx="1098720" cy="1171800"/>
            </a:xfrm>
            <a:custGeom>
              <a:avLst/>
              <a:gdLst/>
              <a:ahLst/>
              <a:rect l="l" t="t" r="r" b="b"/>
              <a:pathLst>
                <a:path w="1010" h="908">
                  <a:moveTo>
                    <a:pt x="0" y="908"/>
                  </a:moveTo>
                  <a:lnTo>
                    <a:pt x="1010" y="908"/>
                  </a:lnTo>
                  <a:lnTo>
                    <a:pt x="0" y="0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47440" y="98064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3040" y="13932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48880" y="11898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49600" y="1816560"/>
              <a:ext cx="107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38440" y="159264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40240" y="201456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1560" y="262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96360" y="262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96360" y="1474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7800" y="2001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55440" y="2043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20160" y="2626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30040" y="19346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25200" y="27954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83680" y="201168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89040" y="3441600"/>
            <a:ext cx="7861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to obtain the basi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4200" y="1138320"/>
                <a:ext cx="1473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679840" y="3897360"/>
                <a:ext cx="318132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η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766800" y="6111720"/>
            <a:ext cx="7861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and they look lik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FB13-029E-4F55-A918-04C5B6FCA28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ngles: quadratic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80" name=""/>
          <p:cNvGrpSpPr/>
          <p:nvPr/>
        </p:nvGrpSpPr>
        <p:grpSpPr>
          <a:xfrm>
            <a:off x="7151760" y="744480"/>
            <a:ext cx="2221560" cy="1892160"/>
            <a:chOff x="7151760" y="744480"/>
            <a:chExt cx="2221560" cy="1892160"/>
          </a:xfrm>
        </p:grpSpPr>
        <p:sp>
          <p:nvSpPr>
            <p:cNvPr id="281" name=""/>
            <p:cNvSpPr/>
            <p:nvPr/>
          </p:nvSpPr>
          <p:spPr>
            <a:xfrm flipV="1">
              <a:off x="7332120" y="1068840"/>
              <a:ext cx="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44720" y="2266920"/>
              <a:ext cx="13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23120" y="10854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90360" y="206532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3720" y="224892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06960" y="218268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22680" y="8604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51760" y="744480"/>
              <a:ext cx="1894320" cy="180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23480" y="1376640"/>
              <a:ext cx="852120" cy="888480"/>
            </a:xfrm>
            <a:custGeom>
              <a:avLst/>
              <a:gdLst/>
              <a:ahLst/>
              <a:rect l="l" t="t" r="r" b="b"/>
              <a:pathLst>
                <a:path w="1010" h="908">
                  <a:moveTo>
                    <a:pt x="0" y="908"/>
                  </a:moveTo>
                  <a:lnTo>
                    <a:pt x="1010" y="908"/>
                  </a:lnTo>
                  <a:lnTo>
                    <a:pt x="0" y="0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96200" y="9234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83960" y="123624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96560" y="108216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00880" y="1557360"/>
              <a:ext cx="107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90800" y="138744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92240" y="170784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1440" y="216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4280" y="216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44280" y="1298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5720" y="1697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77720" y="173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50720" y="21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14160" y="164772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55400" y="23004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58240" y="17046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98600" y="2728800"/>
            <a:ext cx="7219800" cy="34768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77720" y="1703520"/>
            <a:ext cx="7861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three quadratic basis function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6C92-1612-43B2-9BFD-75BB19DD13C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ngles: quadratic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7151760" y="744480"/>
            <a:ext cx="2221560" cy="1892160"/>
            <a:chOff x="7151760" y="744480"/>
            <a:chExt cx="2221560" cy="1892160"/>
          </a:xfrm>
        </p:grpSpPr>
        <p:sp>
          <p:nvSpPr>
            <p:cNvPr id="310" name=""/>
            <p:cNvSpPr/>
            <p:nvPr/>
          </p:nvSpPr>
          <p:spPr>
            <a:xfrm flipV="1">
              <a:off x="7332120" y="1068840"/>
              <a:ext cx="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44720" y="2266920"/>
              <a:ext cx="13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23120" y="10854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90360" y="206532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73720" y="224892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06960" y="218268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22680" y="8604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51760" y="744480"/>
              <a:ext cx="1894320" cy="180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23480" y="1376640"/>
              <a:ext cx="852120" cy="888480"/>
            </a:xfrm>
            <a:custGeom>
              <a:avLst/>
              <a:gdLst/>
              <a:ahLst/>
              <a:rect l="l" t="t" r="r" b="b"/>
              <a:pathLst>
                <a:path w="1010" h="908">
                  <a:moveTo>
                    <a:pt x="0" y="908"/>
                  </a:moveTo>
                  <a:lnTo>
                    <a:pt x="1010" y="908"/>
                  </a:lnTo>
                  <a:lnTo>
                    <a:pt x="0" y="0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96200" y="9234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83960" y="123624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96560" y="108216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00880" y="1557360"/>
              <a:ext cx="107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90800" y="138744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/2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92240" y="1707840"/>
              <a:ext cx="90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/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01440" y="216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44280" y="216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44280" y="1298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45720" y="1697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77720" y="173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50720" y="21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14160" y="164772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55400" y="23004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58240" y="17046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966960" y="1654200"/>
            <a:ext cx="78609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and the res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36720" y="2716200"/>
            <a:ext cx="7219800" cy="34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FFDD-B1B2-4B27-A6AD-CFEB8EE8B43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ngles: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838080" y="1447920"/>
            <a:ext cx="786132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consider rectangular elements, and transform them into a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39680" y="3132000"/>
            <a:ext cx="0" cy="19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3800" y="5073480"/>
            <a:ext cx="26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413520" y="28465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38600" y="42512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00240" y="43164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90360" y="48690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80560" y="27273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1640" y="2604960"/>
            <a:ext cx="3557520" cy="29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000760" y="3135240"/>
            <a:ext cx="0" cy="19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24520" y="5076720"/>
            <a:ext cx="26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96480" y="33130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12320" y="508176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23200" y="5095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643880" y="4862520"/>
            <a:ext cx="3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39480" y="27208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62360" y="2608200"/>
            <a:ext cx="3557880" cy="29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80280" y="5738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2360" y="57135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590840" y="3281400"/>
            <a:ext cx="1915920" cy="1165320"/>
          </a:xfrm>
          <a:custGeom>
            <a:avLst/>
            <a:gdLst/>
            <a:ahLst/>
            <a:rect l="l" t="t" r="r" b="b"/>
            <a:pathLst>
              <a:path w="1207" h="734">
                <a:moveTo>
                  <a:pt x="0" y="734"/>
                </a:moveTo>
                <a:lnTo>
                  <a:pt x="316" y="119"/>
                </a:lnTo>
                <a:lnTo>
                  <a:pt x="1207" y="0"/>
                </a:lnTo>
                <a:lnTo>
                  <a:pt x="876" y="639"/>
                </a:lnTo>
                <a:lnTo>
                  <a:pt x="0" y="7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11440" y="30607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10120" y="3657600"/>
            <a:ext cx="1403280" cy="1428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56240" y="3414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F316-9557-44B3-8310-094188789B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ngles: linear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741240" y="1139760"/>
            <a:ext cx="7861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linea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s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709720" y="1701720"/>
                <a:ext cx="3249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η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ξ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830160" y="2382840"/>
            <a:ext cx="7861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btain matrix A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066680" y="2774880"/>
                <a:ext cx="22212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882720" y="4264200"/>
            <a:ext cx="7861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basi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060560" y="4780080"/>
                <a:ext cx="226044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η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035600" y="2344680"/>
            <a:ext cx="4933800" cy="38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6719-9E63-4FEE-8A8D-FA49CC00C66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ngles: quadratic 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541440" y="825480"/>
            <a:ext cx="7861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quadrat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s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25360" y="1306440"/>
                <a:ext cx="5780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η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ξη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η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154080" y="1817640"/>
            <a:ext cx="583236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btain an 8x8 matrix A ... and a basis function looks e.g.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913040" y="3630600"/>
                <a:ext cx="179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76" name=""/>
          <p:cNvGrpSpPr/>
          <p:nvPr/>
        </p:nvGrpSpPr>
        <p:grpSpPr>
          <a:xfrm>
            <a:off x="6376680" y="843120"/>
            <a:ext cx="2556360" cy="2341080"/>
            <a:chOff x="6376680" y="843120"/>
            <a:chExt cx="2556360" cy="2341080"/>
          </a:xfrm>
        </p:grpSpPr>
        <p:sp>
          <p:nvSpPr>
            <p:cNvPr id="377" name=""/>
            <p:cNvSpPr/>
            <p:nvPr/>
          </p:nvSpPr>
          <p:spPr>
            <a:xfrm flipV="1">
              <a:off x="6667560" y="1241640"/>
              <a:ext cx="0" cy="14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84480" y="2710080"/>
              <a:ext cx="183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48920" y="137592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59360" y="271224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7040" y="272448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28040" y="2548080"/>
              <a:ext cx="30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53440" y="92808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29600" y="843120"/>
              <a:ext cx="2503440" cy="221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74040" y="1636560"/>
              <a:ext cx="987120" cy="1080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24560" y="14529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69320" y="2538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20400" y="198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37640" y="146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6160" y="1976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26120" y="27435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32440" y="197748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92640" y="12405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76680" y="203868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857240" y="2301840"/>
                <a:ext cx="342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839880" y="3537000"/>
            <a:ext cx="3411360" cy="26938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932360" y="3535200"/>
            <a:ext cx="3475080" cy="2745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233800" y="3095640"/>
            <a:ext cx="43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31320" y="3110040"/>
            <a:ext cx="43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A8B5-32EE-4427-A4FD-8A265E440C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D elements: coordinate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41480" y="1006560"/>
            <a:ext cx="53672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sh to approximate a function u(x) defined  in an interval [a,b] by some set of basi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298680" y="1778040"/>
                <a:ext cx="1741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968480" y="2774880"/>
            <a:ext cx="536724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 is the number of grid points (the edges of our elements) defined at loca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s the basis functions look the same in all elements (apart from some constant) we make life easier by moving to a local coordinat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576600" y="4437000"/>
                <a:ext cx="1513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031840" y="5533920"/>
            <a:ext cx="5367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 element is defined for x=[0,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3536-7BA2-4BAC-9898-1EB5A69357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D and 2-D elements: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0280" y="2116080"/>
            <a:ext cx="7861320" cy="2840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marL="457200" indent="-457200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is functions for finite element problems can be obta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ing the system in to a local (to the element)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a linear (quadratic, cubic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sat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function defined across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interpolation condition (which states that the particular basis  functions should be one at the corresponding grid node) to obtain the coefficients as a function of the function values at the grid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se coefficients to deriv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is  functions for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points (or cond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2E74-7F98-4F34-A2A7-3CDE5764B1A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D elements – linear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41480" y="1006560"/>
            <a:ext cx="536724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t much choice for the shape of a  (straight) 1-D element! Notably the length can vary across the dom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quire that our function u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e approximated locally by the linear fun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551400" y="2982960"/>
                <a:ext cx="1815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2031840" y="3476520"/>
            <a:ext cx="5367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node points are defined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1  and we requir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78000" y="4373640"/>
                <a:ext cx="3530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⇒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⇒</m:t>
                          </m:r>
                        </m:e>
                      </m:mr>
                    </m:m>
                    <m:m>
                      <m:m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45000" y="4697280"/>
            <a:ext cx="801720" cy="212760"/>
          </a:xfrm>
          <a:prstGeom prst="rightArrow">
            <a:avLst>
              <a:gd name="adj1" fmla="val 50000"/>
              <a:gd name="adj2" fmla="val 9420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097680" y="4614840"/>
                <a:ext cx="957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903840" y="5494320"/>
                <a:ext cx="14364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556000" y="5827680"/>
            <a:ext cx="801720" cy="212760"/>
          </a:xfrm>
          <a:prstGeom prst="rightArrow">
            <a:avLst>
              <a:gd name="adj1" fmla="val 50000"/>
              <a:gd name="adj2" fmla="val 9420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9AB5-E394-4638-AADE-D4789241C3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D elements – linear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41480" y="1006560"/>
            <a:ext cx="536724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 have expressed the coefficients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 function of the function values at node point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 can now expres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roximat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the node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135240" y="2230560"/>
                <a:ext cx="277488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ξ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ξ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ξ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451480" y="4740120"/>
            <a:ext cx="30877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and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 are the linear basis functions for 1-D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28880" y="3722760"/>
            <a:ext cx="3663720" cy="27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7125-9AA5-428B-9B58-CBB822D694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D quadrat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41480" y="1006560"/>
            <a:ext cx="53672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require that our function u(x) be approximated locally by the quadratic fun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73240" y="1905120"/>
                <a:ext cx="2598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944720" y="2536920"/>
            <a:ext cx="53672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node points are defined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1/2,1  and we requir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816120" y="3219480"/>
                <a:ext cx="28238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281480" y="3770280"/>
            <a:ext cx="801720" cy="212760"/>
          </a:xfrm>
          <a:prstGeom prst="rightArrow">
            <a:avLst>
              <a:gd name="adj1" fmla="val 50000"/>
              <a:gd name="adj2" fmla="val 9420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710320" y="3687840"/>
                <a:ext cx="957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387600" y="4879800"/>
                <a:ext cx="2419560" cy="14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455920" y="5451480"/>
            <a:ext cx="801720" cy="212760"/>
          </a:xfrm>
          <a:prstGeom prst="rightArrow">
            <a:avLst>
              <a:gd name="adj1" fmla="val 50000"/>
              <a:gd name="adj2" fmla="val 9420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0AFC-2E8B-4ACC-85A9-74C25C0478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D quadratic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41480" y="1006560"/>
            <a:ext cx="5367240" cy="9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again we can now express our approximated function as a sum over our basis functions weighted by the values at three nod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500800" y="3840120"/>
            <a:ext cx="257328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note that now we re using three grid points per elemen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 we approximate a constant f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25520" y="3125880"/>
            <a:ext cx="4606920" cy="345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61920" y="2014560"/>
                <a:ext cx="75978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ξ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076F-8C2D-4AF1-8467-36B61A74F5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D cubic basis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1480" y="1006560"/>
            <a:ext cx="53672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using similar arguments the cubic basis functions can be deriv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672160" y="1724040"/>
                <a:ext cx="3067200" cy="22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ξ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002280" y="4064040"/>
            <a:ext cx="25732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note that here we need derivative information at the boundarie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w can we approximate a constant f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6120" y="21337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04B9-11D3-43CD-86EE-287C22A2DE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D elements: coordinate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41480" y="1006560"/>
            <a:ext cx="536724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now discuss the geometry and basis functions of 2-D elements, again we want to consider the problems in a local coordinate system, first we look a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701640" y="2604960"/>
            <a:ext cx="3557520" cy="2932200"/>
            <a:chOff x="701640" y="2604960"/>
            <a:chExt cx="3557520" cy="2932200"/>
          </a:xfrm>
        </p:grpSpPr>
        <p:sp>
          <p:nvSpPr>
            <p:cNvPr id="99" name=""/>
            <p:cNvSpPr/>
            <p:nvPr/>
          </p:nvSpPr>
          <p:spPr>
            <a:xfrm flipV="1">
              <a:off x="1039680" y="3132000"/>
              <a:ext cx="0" cy="19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3800" y="5073480"/>
              <a:ext cx="26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77880" y="3483000"/>
              <a:ext cx="1690920" cy="976320"/>
            </a:xfrm>
            <a:custGeom>
              <a:avLst/>
              <a:gdLst/>
              <a:ahLst/>
              <a:rect l="l" t="t" r="r" b="b"/>
              <a:pathLst>
                <a:path w="1065" h="615">
                  <a:moveTo>
                    <a:pt x="0" y="615"/>
                  </a:moveTo>
                  <a:lnTo>
                    <a:pt x="434" y="0"/>
                  </a:lnTo>
                  <a:lnTo>
                    <a:pt x="1065" y="46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35360" y="302112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5920" y="387504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00240" y="431640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90360" y="48690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80560" y="27273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1640" y="2604960"/>
              <a:ext cx="3557520" cy="293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5000760" y="3135240"/>
            <a:ext cx="0" cy="19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4520" y="5076720"/>
            <a:ext cx="26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54800" y="3387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12320" y="508176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3200" y="5095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43880" y="4862520"/>
            <a:ext cx="3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39480" y="27208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62360" y="2608200"/>
            <a:ext cx="3557880" cy="29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84920" y="3632040"/>
            <a:ext cx="1603080" cy="1441440"/>
          </a:xfrm>
          <a:custGeom>
            <a:avLst/>
            <a:gdLst/>
            <a:ahLst/>
            <a:rect l="l" t="t" r="r" b="b"/>
            <a:pathLst>
              <a:path w="1010" h="908">
                <a:moveTo>
                  <a:pt x="0" y="908"/>
                </a:moveTo>
                <a:lnTo>
                  <a:pt x="1010" y="908"/>
                </a:lnTo>
                <a:lnTo>
                  <a:pt x="0" y="0"/>
                </a:lnTo>
                <a:lnTo>
                  <a:pt x="0" y="90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80280" y="5738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2360" y="57135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E773-A635-4C98-8667-CAF28E47A1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D elements: coordinate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3800" y="1220760"/>
            <a:ext cx="5367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triangle with corners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=1,2,3 can be transformed into a rectangular, equilateral triangl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921280" y="1685880"/>
                <a:ext cx="254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6913800" y="868320"/>
            <a:ext cx="1931760" cy="1728720"/>
            <a:chOff x="6913800" y="868320"/>
            <a:chExt cx="1931760" cy="1728720"/>
          </a:xfrm>
        </p:grpSpPr>
        <p:sp>
          <p:nvSpPr>
            <p:cNvPr id="123" name=""/>
            <p:cNvSpPr/>
            <p:nvPr/>
          </p:nvSpPr>
          <p:spPr>
            <a:xfrm flipV="1">
              <a:off x="7156440" y="116964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69040" y="2282760"/>
              <a:ext cx="13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48880" y="11858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20360" y="191304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13800" y="2260800"/>
              <a:ext cx="348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22640" y="220356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56000" y="9763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8600" y="868320"/>
              <a:ext cx="1866960" cy="16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48520" y="1455840"/>
              <a:ext cx="839520" cy="825480"/>
            </a:xfrm>
            <a:custGeom>
              <a:avLst/>
              <a:gdLst/>
              <a:ahLst/>
              <a:rect l="l" t="t" r="r" b="b"/>
              <a:pathLst>
                <a:path w="1010" h="908">
                  <a:moveTo>
                    <a:pt x="0" y="908"/>
                  </a:moveTo>
                  <a:lnTo>
                    <a:pt x="1010" y="908"/>
                  </a:lnTo>
                  <a:lnTo>
                    <a:pt x="0" y="0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06120" y="10350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94960" y="155880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90280" y="1297080"/>
              <a:ext cx="73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1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63880" y="2457360"/>
                <a:ext cx="33876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η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η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130400" y="3540240"/>
            <a:ext cx="536724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ounterclockwise numbering. Note that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 then these equations are equivalent to the 1-D tranformations. We seek to approximate a function by the linear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74800" y="4919760"/>
                <a:ext cx="24940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270080" y="5584680"/>
            <a:ext cx="53672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ceed in the same way as in the 1-D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9515-B073-4F44-9819-9A735CB175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iner Igel</cp:lastModifiedBy>
  <dcterms:modified xsi:type="dcterms:W3CDTF">2010-07-05T19:42:02Z</dcterms:modified>
  <cp:revision>1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