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6.wmf" ContentType="image/x-wmf"/>
  <Override PartName="/ppt/media/image124.wmf" ContentType="image/x-wmf"/>
  <Override PartName="/ppt/media/image123.wmf" ContentType="image/x-wmf"/>
  <Override PartName="/ppt/media/image51.jpeg" ContentType="image/jpeg"/>
  <Override PartName="/ppt/media/image121.wmf" ContentType="image/x-wmf"/>
  <Override PartName="/ppt/media/image116.wmf" ContentType="image/x-wmf"/>
  <Override PartName="/ppt/media/image115.wmf" ContentType="image/x-wmf"/>
  <Override PartName="/ppt/media/image57.jpeg" ContentType="image/jpeg"/>
  <Override PartName="/ppt/media/image113.wmf" ContentType="image/x-wmf"/>
  <Override PartName="/ppt/media/image112.jpeg" ContentType="image/jpeg"/>
  <Override PartName="/ppt/media/image111.wmf" ContentType="image/x-wmf"/>
  <Override PartName="/ppt/media/image14.jpeg" ContentType="image/jpeg"/>
  <Override PartName="/ppt/media/image1.jpeg" ContentType="image/jpeg"/>
  <Override PartName="/ppt/media/image89.wmf" ContentType="image/x-wmf"/>
  <Override PartName="/ppt/media/image50.wmf" ContentType="image/x-wmf"/>
  <Override PartName="/ppt/media/image99.wmf" ContentType="image/x-wmf"/>
  <Override PartName="/ppt/media/image36.jpeg" ContentType="image/jpeg"/>
  <Override PartName="/ppt/media/image3.wmf" ContentType="image/x-wmf"/>
  <Override PartName="/ppt/media/image33.wmf" ContentType="image/x-wmf"/>
  <Override PartName="/ppt/media/image105.wmf" ContentType="image/x-wmf"/>
  <Override PartName="/ppt/media/image4.jpeg" ContentType="image/jpeg"/>
  <Override PartName="/ppt/media/image127.wmf" ContentType="image/x-wmf"/>
  <Override PartName="/ppt/media/image30.wmf" ContentType="image/x-wmf"/>
  <Override PartName="/ppt/media/image8.wmf" ContentType="image/x-wmf"/>
  <Override PartName="/ppt/media/image38.wmf" ContentType="image/x-wmf"/>
  <Override PartName="/ppt/media/image7.wmf" ContentType="image/x-wmf"/>
  <Override PartName="/ppt/media/image11.jpeg" ContentType="image/jpeg"/>
  <Override PartName="/ppt/media/image106.jpeg" ContentType="image/jpeg"/>
  <Override PartName="/ppt/media/image82.wmf" ContentType="image/x-wmf"/>
  <Override PartName="/ppt/media/image10.jpeg" ContentType="image/jpeg"/>
  <Override PartName="/ppt/media/image5.wmf" ContentType="image/x-wmf"/>
  <Override PartName="/ppt/media/image52.wmf" ContentType="image/x-wmf"/>
  <Override PartName="/ppt/media/image56.wmf" ContentType="image/x-wmf"/>
  <Override PartName="/ppt/media/image128.wmf" ContentType="image/x-wmf"/>
  <Override PartName="/ppt/media/image117.wmf" ContentType="image/x-wmf"/>
  <Override PartName="/ppt/media/image129.wmf" ContentType="image/x-wmf"/>
  <Override PartName="/ppt/media/image32.wmf" ContentType="image/x-wmf"/>
  <Override PartName="/ppt/media/image131.wmf" ContentType="image/x-wmf"/>
  <Override PartName="/ppt/media/image39.wmf" ContentType="image/x-wmf"/>
  <Override PartName="/ppt/media/image55.jpeg" ContentType="image/jpeg"/>
  <Override PartName="/ppt/media/image46.wmf" ContentType="image/x-wmf"/>
  <Override PartName="/ppt/media/image42.wmf" ContentType="image/x-wmf"/>
  <Override PartName="/ppt/media/image23.wmf" ContentType="image/x-wmf"/>
  <Override PartName="/ppt/media/image91.wmf" ContentType="image/x-wmf"/>
  <Override PartName="/ppt/media/image86.jpeg" ContentType="image/jpeg"/>
  <Override PartName="/ppt/media/image12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136.wmf" ContentType="image/x-wmf"/>
  <Override PartName="/ppt/media/image130.wmf" ContentType="image/x-wmf"/>
  <Override PartName="/ppt/media/image28.jpeg" ContentType="image/jpeg"/>
  <Override PartName="/ppt/media/image79.wmf" ContentType="image/x-wmf"/>
  <Override PartName="/ppt/media/image44.wmf" ContentType="image/x-wmf"/>
  <Override PartName="/ppt/media/image25.wmf" ContentType="image/x-wmf"/>
  <Override PartName="/ppt/media/image93.wmf" ContentType="image/x-wmf"/>
  <Override PartName="/ppt/media/image31.jpeg" ContentType="image/jpeg"/>
  <Override PartName="/ppt/media/image137.wmf" ContentType="image/x-wmf"/>
  <Override PartName="/ppt/media/image40.wmf" ContentType="image/x-wmf"/>
  <Override PartName="/ppt/media/image134.wmf" ContentType="image/x-wmf"/>
  <Override PartName="/ppt/media/image48.wmf" ContentType="image/x-wmf"/>
  <Override PartName="/ppt/media/image109.jpeg" ContentType="image/jpeg"/>
  <Override PartName="/ppt/media/image47.wmf" ContentType="image/x-wmf"/>
  <Override PartName="/ppt/media/image37.jpeg" ContentType="image/jpeg"/>
  <Override PartName="/ppt/media/image88.wmf" ContentType="image/x-wmf"/>
  <Override PartName="/ppt/media/image9.jpeg" ContentType="image/jpeg"/>
  <Override PartName="/ppt/media/image34.wmf" ContentType="image/x-wmf"/>
  <Override PartName="/ppt/media/image133.wmf" ContentType="image/x-wmf"/>
  <Override PartName="/ppt/media/image54.wmf" ContentType="image/x-wmf"/>
  <Override PartName="/ppt/media/image35.wmf" ContentType="image/x-wmf"/>
  <Override PartName="/ppt/media/image41.jpeg" ContentType="image/jpeg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45.wmf" ContentType="image/x-wmf"/>
  <Override PartName="/ppt/media/image17.jpeg" ContentType="image/jpeg"/>
  <Override PartName="/ppt/media/image19.wmf" ContentType="image/x-wmf"/>
  <Override PartName="/ppt/media/image87.wmf" ContentType="image/x-wmf"/>
  <Override PartName="/ppt/media/image18.jpeg" ContentType="image/jpeg"/>
  <Override PartName="/ppt/media/image58.wmf" ContentType="image/x-wmf"/>
  <Override PartName="/ppt/media/image6.jpeg" ContentType="image/jpeg"/>
  <Override PartName="/ppt/media/image125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90.wmf" ContentType="image/x-wmf"/>
  <Override PartName="/ppt/media/image22.wmf" ContentType="image/x-wmf"/>
  <Override PartName="/ppt/media/image20.wmf" ContentType="image/x-wmf"/>
  <Override PartName="/ppt/media/image80.jpeg" ContentType="image/jpeg"/>
  <Override PartName="/ppt/media/image119.wmf" ContentType="image/x-wmf"/>
  <Override PartName="/ppt/media/image92.wmf" ContentType="image/x-wmf"/>
  <Override PartName="/ppt/media/image24.wmf" ContentType="image/x-wmf"/>
  <Override PartName="/ppt/media/image122.wmf" ContentType="image/x-wmf"/>
  <Override PartName="/ppt/media/image97.wmf" ContentType="image/x-wmf"/>
  <Override PartName="/ppt/media/image29.wmf" ContentType="image/x-wmf"/>
  <Override PartName="/ppt/media/image26.wmf" ContentType="image/x-wmf"/>
  <Override PartName="/ppt/media/image94.wmf" ContentType="image/x-wmf"/>
  <Override PartName="/ppt/media/image60.wmf" ContentType="image/x-wmf"/>
  <Override PartName="/ppt/media/image61.wmf" ContentType="image/x-wmf"/>
  <Override PartName="/ppt/media/image64.jpeg" ContentType="image/jpeg"/>
  <Override PartName="/ppt/media/image53.wmf" ContentType="image/x-wmf"/>
  <Override PartName="/ppt/media/image62.wmf" ContentType="image/x-wmf"/>
  <Override PartName="/ppt/media/image85.wmf" ContentType="image/x-wmf"/>
  <Override PartName="/ppt/media/image104.jpeg" ContentType="image/jpeg"/>
  <Override PartName="/ppt/media/image43.wmf" ContentType="image/x-wmf"/>
  <Override PartName="/ppt/media/image63.jpeg" ContentType="image/jpeg"/>
  <Override PartName="/ppt/media/image65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66.jpeg" ContentType="image/jpeg"/>
  <Override PartName="/ppt/media/image73.wmf" ContentType="image/x-wmf"/>
  <Override PartName="/ppt/media/image74.jpeg" ContentType="image/jpeg"/>
  <Override PartName="/ppt/media/image75.wmf" ContentType="image/x-wmf"/>
  <Override PartName="/ppt/media/image76.wmf" ContentType="image/x-wmf"/>
  <Override PartName="/ppt/media/image77.wmf" ContentType="image/x-wmf"/>
  <Override PartName="/ppt/media/image78.jpeg" ContentType="image/jpeg"/>
  <Override PartName="/ppt/media/image132.wmf" ContentType="image/x-wmf"/>
  <Override PartName="/ppt/media/image15.wmf" ContentType="image/x-wmf"/>
  <Override PartName="/ppt/media/image67.jpeg" ContentType="image/jpeg"/>
  <Override PartName="/ppt/media/image83.wmf" ContentType="image/x-wmf"/>
  <Override PartName="/ppt/media/image27.wmf" ContentType="image/x-wmf"/>
  <Override PartName="/ppt/media/image95.wmf" ContentType="image/x-wmf"/>
  <Override PartName="/ppt/media/image96.wmf" ContentType="image/x-wmf"/>
  <Override PartName="/ppt/media/image98.wmf" ContentType="image/x-wmf"/>
  <Override PartName="/ppt/media/image101.wmf" ContentType="image/x-wmf"/>
  <Override PartName="/ppt/media/image102.wmf" ContentType="image/x-wmf"/>
  <Override PartName="/ppt/media/image138.jpeg" ContentType="image/jpeg"/>
  <Override PartName="/ppt/media/image103.wmf" ContentType="image/x-wmf"/>
  <Override PartName="/ppt/media/image2.jpeg" ContentType="image/jpeg"/>
  <Override PartName="/ppt/media/image107.wmf" ContentType="image/x-wmf"/>
  <Override PartName="/ppt/media/image108.wmf" ContentType="image/x-wmf"/>
  <Override PartName="/ppt/media/image110.jpeg" ContentType="image/jpeg"/>
  <Override PartName="/ppt/media/image1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BC933-0946-4E94-895D-8D00DBF3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92DFA-1B9E-4C72-9CB7-4B081381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02032-4FC2-42D6-8AF2-21AD0BCF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70429-59DE-4CF8-97D0-3C6B7309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222D7-0B28-44CD-A149-27F68D7D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6C030-E585-4632-B33A-8290D29E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1B903-D219-4BBB-8923-78609541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E831A-7407-413A-BB85-11BA0763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B0EFD-082F-47E9-BD2E-93D540C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B7A60-5B3F-4F5E-B827-7985A8B3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E3461-D046-4034-B233-73B7B24D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5A575-AF43-44D6-A1F0-259059A4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25320" y="6330960"/>
            <a:ext cx="24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lementation of FEA: the C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05680" y="6324480"/>
            <a:ext cx="1352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fld id="{DBF0054B-0C90-481C-8654-AE600AA064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2125-0B58-4DD8-8258-43B220E5003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CA2F-7C6C-44D3-8236-72D3D0E37C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324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hool of Civil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311120" cy="43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48520" y="63244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ring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2.wmf"/><Relationship Id="rId1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image" Target="../media/image106.jpe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image" Target="../media/image109.jpeg"/><Relationship Id="rId6" Type="http://schemas.openxmlformats.org/officeDocument/2006/relationships/image" Target="../media/image110.jpeg"/><Relationship Id="rId7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image" Target="../media/image112.jpe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1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5.wmf"/><Relationship Id="rId5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7.wmf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0.wmf"/><Relationship Id="rId5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2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image" Target="../media/image13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520" y="29016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33"/>
                </a:solidFill>
                <a:latin typeface="Times New Roman"/>
              </a:rPr>
              <a:t>Section 3: Implementation of Finite Element Analysis – the Constant Strain Triangl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ce and Othe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4280" y="4708440"/>
            <a:ext cx="7221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llustrate the details of these ideas in the context of a specific “simple” finite element called the Constant Strain Triangle (CS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321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Properties of the Approximate Solu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516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id body motio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ate strain energy, so no strains pres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ant displacem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52680" y="2881440"/>
            <a:ext cx="62211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321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Properties of the Approximate Solu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516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element size becomes very small, expect internal strains to change very little at different points in element. If approximate solution cannot support this, expect problems in conver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96880" y="3170160"/>
            <a:ext cx="6880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3217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Properties of the Approximate Solu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ti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f two elements share a boundary, the shape functions must permit an appropriate level of continuity across the bound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“gaps” or “kinks” from developing in global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with this property are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or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complicated elements, compatibility may be required only at selected points on the boundary. (Such elements are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conform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321760" cy="51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wo constant strain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lement #1, displacements 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 on coordinates of point and the valu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1, v1, u2, v2, u3, v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lement #2, displacements 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 on coordinates of point and the valu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1, v1, u2, v2, u4, v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90760" y="4800600"/>
          <a:ext cx="582912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4800600"/>
                    <a:ext cx="5829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486080" y="5830920"/>
          <a:ext cx="590544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6080" y="5830920"/>
                    <a:ext cx="5905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206880" y="1974960"/>
            <a:ext cx="2912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321760" cy="51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cement continuity the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1, v1, u2, v2, u3, v3, u4, v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how that this requirement will be satisfie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placements on a boundary depe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on the nodes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boundary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82760" y="2025720"/>
          <a:ext cx="59054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2025720"/>
                    <a:ext cx="59054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754280" y="4210200"/>
          <a:ext cx="5854680" cy="93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4280" y="4210200"/>
                    <a:ext cx="585468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Section 3.2: Element Formulatio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ant Strain Triangle el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79960" y="2444760"/>
            <a:ext cx="280368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7360" indent="-1173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element used in plane stress and plane strain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thickness = 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mall; can be 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corner nodes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egrees of freedom per nod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8040" y="2503440"/>
            <a:ext cx="52815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9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pproaches for generating shape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on approac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x-based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 best for small numbers of d.o.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approac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geometric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 best for higher-order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ther methods also exist; will not discuss these muc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5040" y="1507680"/>
            <a:ext cx="799128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basic ideas (for both approach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d.o.f. tot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shap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unknowns are horizontal displace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(x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vertical displace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(x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isplacement expected to use 3 shap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thumb: simple shape functions = better shape func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asier to integrate, more widely applicable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2D elements, polynomial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most common choice for shap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derivatives of or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your variational principle, it is best to choose your shape functions so that they can form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lete polynom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or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ives control over errors, faster convergence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cal’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40160" y="587376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o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upon expan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x+y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57560" y="2141640"/>
            <a:ext cx="5708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7120" y="1599840"/>
            <a:ext cx="851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on approac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(x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(x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complet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der polynom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ach node, requi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8000" y="2584440"/>
          <a:ext cx="58802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584440"/>
                    <a:ext cx="5880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255760" y="3605040"/>
          <a:ext cx="514368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5760" y="3605040"/>
                    <a:ext cx="51436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585880" y="5208480"/>
            <a:ext cx="35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equations for the 6 unknow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33"/>
                </a:solidFill>
                <a:latin typeface="Times New Roman"/>
              </a:rPr>
              <a:t>Section 3: Implementation of FEA – the CS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17840"/>
            <a:ext cx="83329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Overview: What is Finite Element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 given problem is to be solved globally over some object. FEA proceed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e the problem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“local” approximate problems on regio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nd solve each of the local approximat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e the local solutions into a global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convergence. (If not converged, repeat steps #2 and #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converged, evaluate th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5040" y="6327720"/>
            <a:ext cx="50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r responsibility! (Program does the re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7120" y="1599840"/>
            <a:ext cx="851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on approac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this in matrix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(in symbolic form)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92120" y="2457360"/>
          <a:ext cx="6693120" cy="27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2457360"/>
                    <a:ext cx="669312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42000" y="5268960"/>
          <a:ext cx="184140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2000" y="5268960"/>
                    <a:ext cx="18414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7120" y="1599840"/>
            <a:ext cx="851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on approac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, rewrite interpolation functions in matrix/vector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 previous res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95400" y="2457360"/>
          <a:ext cx="7746840" cy="27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2457360"/>
                    <a:ext cx="774684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470480" y="5286240"/>
          <a:ext cx="321300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0480" y="5286240"/>
                    <a:ext cx="32130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5089680" y="6234120"/>
            <a:ext cx="33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 of shape func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7120" y="1599840"/>
            <a:ext cx="851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on approac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CST, can show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511280" y="2405160"/>
          <a:ext cx="6807240" cy="39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405160"/>
                    <a:ext cx="680724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7120" y="1599840"/>
            <a:ext cx="851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on “Interpolation approac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pproach generalizes to different shapes, different node locations, and different numbers of d.o.f. (See Prob. 3.1 and 3.2 in Schaum’s Outline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the matrix [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is no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vertible for general choices of nodal lo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number of d.o.f. increases, matrix inversion becomes more difficult, and thus exact functions become harder to determ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7120" y="1599840"/>
            <a:ext cx="851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approach”: Need two “facts” about shape function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(x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(x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mplet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der polynom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I know the shape functions alread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79480" y="2370240"/>
          <a:ext cx="77468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9480" y="2370240"/>
                    <a:ext cx="77468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6320" y="3913200"/>
          <a:ext cx="6959520" cy="23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6320" y="3913200"/>
                    <a:ext cx="695952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36680" y="3235320"/>
            <a:ext cx="527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ape functions must b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in bot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16480" y="5624640"/>
            <a:ext cx="26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ronecker delta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, this look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1080" y="2100240"/>
            <a:ext cx="7869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shape function corresponding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get a set of equations to s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procedure to construct other shap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82720" y="2070000"/>
          <a:ext cx="773424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2720" y="2070000"/>
                    <a:ext cx="77342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20680" y="3659040"/>
          <a:ext cx="7201080" cy="18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0680" y="3659040"/>
                    <a:ext cx="720108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7120" y="1599840"/>
            <a:ext cx="851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on “Direct approac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pproach is more commonly used as number of d.o.f. and/or order of polynomials used incr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 best if shape functions are computed on “standard” geometries – leads to so-called “isoparametric formulation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87400" y="3652920"/>
            <a:ext cx="60357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7120" y="1599840"/>
            <a:ext cx="851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required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posedness: 6 d.o.f and 6 shape functions.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bility: Will show that only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rivatives show up in variational principle, so need continuous shape functions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nes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igid body motion: Suppo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11800" y="3637080"/>
          <a:ext cx="283212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1800" y="3637080"/>
                    <a:ext cx="28321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84280" y="4013280"/>
          <a:ext cx="855972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4280" y="4013280"/>
                    <a:ext cx="855972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8108640" y="5832360"/>
            <a:ext cx="37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7120" y="1599840"/>
            <a:ext cx="851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required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ness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tant strain: C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ity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65600" y="2422440"/>
          <a:ext cx="25020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0" y="2422440"/>
                    <a:ext cx="25020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824040" y="3152880"/>
          <a:ext cx="75564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040" y="3152880"/>
                    <a:ext cx="7556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8408520" y="3233880"/>
            <a:ext cx="37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89120" y="3606840"/>
            <a:ext cx="372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fact, strai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a constan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09560" y="4297320"/>
            <a:ext cx="4260960" cy="2327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261040" y="4317840"/>
            <a:ext cx="34923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x,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influence what happens on the line between pt. 1 and pt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d.o.f. at pt. 1 and pt. 2 mat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3680" y="5607000"/>
            <a:ext cx="37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Section 3.1: Fundamental Concept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5160" y="2207880"/>
            <a:ext cx="451944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ment is a sm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ce of an overall object characteriz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(truss, beam, plate, solid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o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(1D, 2D, or 3D; line, triangle, rectangle, tetrahedron, “brick”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(corner, interior,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grees of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(displacement, rotation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hap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040" y="1633680"/>
            <a:ext cx="482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9560" y="2327400"/>
            <a:ext cx="3297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9164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issue: deriving the approximate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 (local) stiffness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s forces (stresses) to displacements (strai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 is used f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lements, not just elastic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 (local) forc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both body forces and surface tr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change during the course of solving a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9164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obtain approximate solution to 2D elasticity equation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04800" y="2544840"/>
            <a:ext cx="4605480" cy="307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5856120" y="2238480"/>
          <a:ext cx="2455920" cy="36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56120" y="2238480"/>
                    <a:ext cx="245592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828800" y="5934240"/>
            <a:ext cx="56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alerkin, Calculus of Variations, Rayleigh-Ritz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Calculus of Variations (aka Principle of Virtual Displacements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: sol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le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46200" y="2633760"/>
          <a:ext cx="7939080" cy="9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2633760"/>
                    <a:ext cx="793908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98320" y="4151160"/>
          <a:ext cx="8156880" cy="16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4151160"/>
                    <a:ext cx="81568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9164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Goal: obtain approximate solution to 2D elasticity equations on each elemen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948280" y="2617920"/>
          <a:ext cx="245592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8280" y="2617920"/>
                    <a:ext cx="245592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06600" y="2649600"/>
            <a:ext cx="5067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-Displacement Relation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shape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63600" y="2514600"/>
          <a:ext cx="52704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2514600"/>
                    <a:ext cx="52704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195800" y="2496960"/>
            <a:ext cx="1076400" cy="14353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1680" y="214956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rivative operator matri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443320" y="4064040"/>
          <a:ext cx="40384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3320" y="4064040"/>
                    <a:ext cx="4038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7542360" y="2124000"/>
          <a:ext cx="39348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2360" y="2124000"/>
                    <a:ext cx="393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943280" y="4935600"/>
          <a:ext cx="5194080" cy="14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43280" y="4935600"/>
                    <a:ext cx="5194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-Strain Relation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previous 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351080" y="2577960"/>
          <a:ext cx="557532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1080" y="2577960"/>
                    <a:ext cx="55753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198960" y="5043600"/>
          <a:ext cx="28321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8960" y="5043600"/>
                    <a:ext cx="28321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 flipH="1">
            <a:off x="6316560" y="2733840"/>
            <a:ext cx="176400" cy="3236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46800" y="1830240"/>
            <a:ext cx="233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the same as used in interpolation approa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(Local) Stiffness Matrix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these results into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 of PV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73120" y="2595600"/>
          <a:ext cx="857088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595600"/>
                    <a:ext cx="857088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740040" y="4618080"/>
            <a:ext cx="4803840" cy="11635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35640" y="5875200"/>
            <a:ext cx="306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ment stiffness matrix, [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 on Element (Local) Stiffness Matrix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ement stiffness matrix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lastic element will follow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ct same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(Details will chang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 stiffness matrix is sym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080" y="3387600"/>
          <a:ext cx="912492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3387600"/>
                    <a:ext cx="91249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 on Element (Local) Stiffness Matrix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for the CST elemen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07960" y="5070600"/>
          <a:ext cx="8121600" cy="2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0600"/>
                    <a:ext cx="8121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962000" y="5592600"/>
            <a:ext cx="51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See Probs. 3.14, 3.19, and 3.40 in Schaum’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91440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(Local) Force Vector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ms of PV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797120" y="2584440"/>
          <a:ext cx="5727600" cy="33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2584440"/>
                    <a:ext cx="572760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2660760" y="4896000"/>
            <a:ext cx="4470120" cy="10332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03680" y="6068880"/>
            <a:ext cx="263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ment force vector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9200" y="1590480"/>
            <a:ext cx="8524800" cy="50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nd Degrees of Freedom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tri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how they can be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beam element from HW #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eft/right motion allowed; only certain types of bending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required that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mplete range of possible behavi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determined by the locations of the nodes, the basic behaviors allowed at each node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and the shape function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51000" y="5808600"/>
          <a:ext cx="57531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1000" y="5808600"/>
                    <a:ext cx="5753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68480" y="2855880"/>
            <a:ext cx="47116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 on Element (Local) Force Vector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gener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pend upon position, so they are left inside of the integr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“physical” interpret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031840" y="3414600"/>
          <a:ext cx="5096160" cy="21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3414600"/>
                    <a:ext cx="50961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808360" y="5624640"/>
            <a:ext cx="322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lle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equivalent nodal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truss analogy” for element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013120" y="5108400"/>
          <a:ext cx="521316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5108400"/>
                    <a:ext cx="521316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639720" y="2095560"/>
            <a:ext cx="80406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CST element shown has no body force and a surface traction applied to ed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press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qui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Find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900600" y="2955960"/>
          <a:ext cx="15746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0600" y="2955960"/>
                    <a:ext cx="15746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303800" y="3886200"/>
            <a:ext cx="3120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739960" y="2125800"/>
          <a:ext cx="459756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9960" y="2125800"/>
                    <a:ext cx="45975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028880" y="4572000"/>
          <a:ext cx="744192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4572000"/>
                    <a:ext cx="74419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644920" y="1801800"/>
          <a:ext cx="520668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4920" y="1801800"/>
                    <a:ext cx="520668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2: Element Formulation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9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549520" y="2022480"/>
          <a:ext cx="534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9520" y="2022480"/>
                    <a:ext cx="534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33"/>
                </a:solidFill>
                <a:latin typeface="Times New Roman"/>
              </a:rPr>
              <a:t>Section 3: Implementation of FEA – the CS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617840"/>
            <a:ext cx="83329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Overview: What is Finite Element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 given problem is to be solved globally over some object. FEA proceed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e the problem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“local” approximate problems on regio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each of the local approximat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e the local problems into a global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the global problem and check convergenc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not converged, repeat steps #2 and #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440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converged, evaluate th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79520" y="4349880"/>
            <a:ext cx="6973920" cy="3571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Section 3.3: Assembly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70240" y="1746000"/>
            <a:ext cx="497376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degree of freedo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given element corresponds to a unique degree of freedo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overall ob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local stiffness matri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k]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tributes 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he global stiffness matrix of the object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K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, each local force vect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tributes 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he global force vector of the object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2040" y="1633680"/>
            <a:ext cx="482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of assemb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95640" y="5413320"/>
          <a:ext cx="40006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5413320"/>
                    <a:ext cx="4000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3981600" y="5541840"/>
            <a:ext cx="1422360" cy="471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61200" y="5587920"/>
            <a:ext cx="1469880" cy="398520"/>
          </a:xfrm>
          <a:prstGeom prst="rect">
            <a:avLst/>
          </a:prstGeom>
          <a:noFill/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8880" y="6076800"/>
            <a:ext cx="139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61200" y="6083280"/>
            <a:ext cx="139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09480" y="2166840"/>
            <a:ext cx="32720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3: Assembly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9200" y="1590480"/>
            <a:ext cx="8524800" cy="50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of Assemb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aight additio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371760" y="2689200"/>
            <a:ext cx="42800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3: Assembly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5248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assembly done in FEA progra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has an associated “map” that contains connectivity information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links each local d.o.f. to corresponding global d.o.f. for the given ele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names: “Connectivity vector”, “destination array”, “element-node array”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icture on Slid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136600" y="4662360"/>
          <a:ext cx="51055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4662360"/>
                    <a:ext cx="51055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0840"/>
            <a:ext cx="80629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Properties of the Approximate Solu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l-posed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number of shape functions u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pproximate solution must equal the number of degrees of freedo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 of freedom ar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local problem; need one equation per unknown to get unique solution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Galerkin’s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09720" y="5227560"/>
          <a:ext cx="57783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5227560"/>
                    <a:ext cx="5778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3: Assembly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3217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code for Assembl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90680" y="2306520"/>
            <a:ext cx="605628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e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← sum over al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= 1, numdof(e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sum over all local d.o.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= i, numdof(e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local d.o.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i = map(e,i); jj = map(e,j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get global d.o.f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(ii,jj) = K(ii,jj) + k(e,i,j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assemb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ii) = F(ii) + f(e,i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assemb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3: Assembly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3217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by han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117440" y="2119320"/>
            <a:ext cx="6962760" cy="41338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338560" y="2533680"/>
            <a:ext cx="83952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57720" y="2413080"/>
            <a:ext cx="0" cy="1350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57720" y="2712960"/>
            <a:ext cx="0" cy="1123920"/>
          </a:xfrm>
          <a:prstGeom prst="line">
            <a:avLst/>
          </a:prstGeom>
          <a:ln cap="sq" w="1260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2548080"/>
            <a:ext cx="1184400" cy="0"/>
          </a:xfrm>
          <a:prstGeom prst="line">
            <a:avLst/>
          </a:prstGeom>
          <a:ln cap="sq" w="1260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81520" y="2803680"/>
            <a:ext cx="2187720" cy="47916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3: Assembly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5248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: what if local and global degrees of freedom are not parall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Roller support in global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46480" y="5703840"/>
            <a:ext cx="557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express boundary condition this w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738440" y="3022560"/>
            <a:ext cx="59799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3: Assembly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7812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set of “new” local coordinat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rallel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show tha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also need to transform element force vec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66720" y="2108160"/>
          <a:ext cx="786132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108160"/>
                    <a:ext cx="786132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2817720" y="4816440"/>
          <a:ext cx="15620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7720" y="4816440"/>
                    <a:ext cx="1562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500280" y="5695920"/>
          <a:ext cx="138456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0280" y="5695920"/>
                    <a:ext cx="1384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3: Assembly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7812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ffness matrix then transforms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show that same approach works for other types of “transformations”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umbering d.o.f., linking d.o.f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693800" y="2117880"/>
          <a:ext cx="547380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2117880"/>
                    <a:ext cx="547380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H="1">
            <a:off x="5320800" y="3379680"/>
            <a:ext cx="55260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56120" y="3195720"/>
            <a:ext cx="36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se can now be assembl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10320" y="3095280"/>
            <a:ext cx="117360" cy="1839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Section 3.4: Boundary Conditio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tion boundary conditions used in PVD, b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pla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undary conditions are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pe functions must have Kronecker delta proper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“choose” them to satisf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enforce displacement boundary conditions 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lobal probl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254240" y="2548080"/>
          <a:ext cx="7167600" cy="14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2548080"/>
                    <a:ext cx="7167600" cy="14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210360" y="4403880"/>
          <a:ext cx="134604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0360" y="4403880"/>
                    <a:ext cx="1346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general techniques for enforcing displacement boundary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nalty Meth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grange Multipli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ll methods, mu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iscretiz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boundary conditions to app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the no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: formal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mo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strained d.o.f. from the calculation, but keep their effects on other d.o.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69920" y="3321000"/>
            <a:ext cx="4537080" cy="26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6369120" y="3747960"/>
          <a:ext cx="90180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9120" y="3747960"/>
                    <a:ext cx="901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onstrained d.o.f.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mo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“condense out”) corresponding row and column from global equ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79680" y="3024360"/>
          <a:ext cx="577836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24360"/>
                    <a:ext cx="577836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1671480" y="3108240"/>
            <a:ext cx="465156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71480" y="3344760"/>
            <a:ext cx="463716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71480" y="4259160"/>
            <a:ext cx="459900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711080" y="3095640"/>
            <a:ext cx="12600" cy="265284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28680" y="3095640"/>
            <a:ext cx="0" cy="26128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709800" y="3122640"/>
            <a:ext cx="12600" cy="263844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002360" y="3147840"/>
            <a:ext cx="300240" cy="129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00920" y="3354120"/>
            <a:ext cx="299880" cy="1260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33120" bIns="-33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7013520" y="4255920"/>
            <a:ext cx="300240" cy="129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78160" y="3448080"/>
            <a:ext cx="1149120" cy="719280"/>
          </a:xfrm>
          <a:prstGeom prst="rect">
            <a:avLst/>
          </a:pr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03360" y="4389480"/>
            <a:ext cx="1096920" cy="1396800"/>
          </a:xfrm>
          <a:prstGeom prst="rect">
            <a:avLst/>
          </a:pr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84480" y="3475080"/>
            <a:ext cx="2416320" cy="679320"/>
          </a:xfrm>
          <a:prstGeom prst="rect">
            <a:avLst/>
          </a:pr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57480" y="4389480"/>
            <a:ext cx="2443320" cy="1409760"/>
          </a:xfrm>
          <a:prstGeom prst="rect">
            <a:avLst/>
          </a:pr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31160" y="3492360"/>
            <a:ext cx="223560" cy="675000"/>
          </a:xfrm>
          <a:prstGeom prst="rect">
            <a:avLst/>
          </a:pr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45200" y="4451400"/>
            <a:ext cx="225720" cy="1319040"/>
          </a:xfrm>
          <a:prstGeom prst="rect">
            <a:avLst/>
          </a:pr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06640" y="5875200"/>
            <a:ext cx="169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ew [K]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435800" y="4032360"/>
            <a:ext cx="17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ew (F)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76640" y="6060960"/>
            <a:ext cx="3122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at if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3000" y="1604880"/>
            <a:ext cx="81882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ossible situations 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ingle-point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b.c. involves only one d.o.f.; at least one must be nonzer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356520" y="3747960"/>
          <a:ext cx="9270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6520" y="3747960"/>
                    <a:ext cx="927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1228680" y="2955960"/>
            <a:ext cx="49388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3217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Properties of the Approximate Solu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erent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shape functions must be continuous and have continuous derivatives up to an order consistent with the variational principl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behavi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 order derivative is in variational principle, then shape functions must have continuous derivatives of or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-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integrals from “blowing up” or becoming un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622520"/>
            <a:ext cx="80802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14480" indent="-4381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Multi-point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b.c. involves more than one d.o.f.; may be zero or nonzer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108840" y="4205160"/>
          <a:ext cx="142236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8840" y="4205160"/>
                    <a:ext cx="1422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1444680" y="2806560"/>
            <a:ext cx="44686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number the d.o.f. to put constrained d.o.f. togeth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constraints in matrix/vector form (see Slide 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for constrained d.of. in terms of regular d.o.f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063800" y="2841480"/>
          <a:ext cx="777240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2841480"/>
                    <a:ext cx="777240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173240" y="3522600"/>
            <a:ext cx="1046160" cy="11239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11960" y="3882960"/>
            <a:ext cx="574560" cy="417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84280" y="3525840"/>
            <a:ext cx="1097280" cy="1136520"/>
          </a:xfrm>
          <a:prstGeom prst="rect">
            <a:avLst/>
          </a:prstGeom>
          <a:noFill/>
          <a:ln cap="sq"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72360" y="3889440"/>
            <a:ext cx="587160" cy="417600"/>
          </a:xfrm>
          <a:prstGeom prst="rect">
            <a:avLst/>
          </a:prstGeom>
          <a:noFill/>
          <a:ln cap="sq"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208320" y="5753160"/>
          <a:ext cx="48769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8320" y="5753160"/>
                    <a:ext cx="48769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710160" y="2901960"/>
            <a:ext cx="360360" cy="114948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264440" y="3718080"/>
            <a:ext cx="523800" cy="35388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03680" y="4076640"/>
            <a:ext cx="374760" cy="1214640"/>
          </a:xfrm>
          <a:prstGeom prst="rect">
            <a:avLst/>
          </a:prstGeom>
          <a:noFill/>
          <a:ln cap="sq"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289640" y="4124160"/>
            <a:ext cx="508320" cy="330480"/>
          </a:xfrm>
          <a:prstGeom prst="rect">
            <a:avLst/>
          </a:prstGeom>
          <a:noFill/>
          <a:ln cap="sq"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109960" y="5192640"/>
          <a:ext cx="464796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960" y="5192640"/>
                    <a:ext cx="46479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fines a transformation into “new” coordin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“new” coordinates into global proble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by 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nd rearr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066680" y="2027160"/>
          <a:ext cx="773460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27160"/>
                    <a:ext cx="7734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2041560" y="5181480"/>
            <a:ext cx="1388880" cy="50976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203480" y="5786280"/>
            <a:ext cx="280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w global stiffness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57720" y="5243400"/>
            <a:ext cx="2405160" cy="44136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35400" y="5788080"/>
            <a:ext cx="280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w global force 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771560" y="3911760"/>
          <a:ext cx="5384880" cy="49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1560" y="3911760"/>
                    <a:ext cx="538488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 flipH="1">
            <a:off x="6686280" y="2178000"/>
            <a:ext cx="268200" cy="15876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926400" y="1922400"/>
            <a:ext cx="20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ld” coord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148520" y="2614680"/>
            <a:ext cx="434880" cy="295200"/>
          </a:xfrm>
          <a:prstGeom prst="line">
            <a:avLst/>
          </a:prstGeom>
          <a:ln cap="sq" w="12600">
            <a:solidFill>
              <a:srgbClr val="047b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57880" y="2898720"/>
            <a:ext cx="204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7ba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47ba0"/>
                </a:solidFill>
                <a:latin typeface="Arial"/>
              </a:rPr>
              <a:t>new” coord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4960" y="1596960"/>
            <a:ext cx="85186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 on condensatio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powerful method; can handle a variety of displacement boundary condition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bandwidth by eliminating d.o.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ll boundary conditions are single-point, this method  is equivalent to simply “condensing out” the constrained d.o.f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dding in “extra” forces due to the imposed displacem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are many multi-point constraints, the process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numbering, transforming, and condensing can be very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-consum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ensation can sometimes be done at element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y Method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: enforce a displacement boundary conditi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pproximate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changing [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and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20640" y="3003480"/>
            <a:ext cx="83552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y Method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iffness of new spring;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 new force         to existing nodal force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     to existing stiffness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ok at equation corresponding to d.o.f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a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s bigger, approximation becomes bet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5556240" y="2112840"/>
          <a:ext cx="17272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6240" y="2112840"/>
                    <a:ext cx="17272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3195720" y="2647800"/>
          <a:ext cx="60948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5720" y="2647800"/>
                    <a:ext cx="6094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1801800" y="3146400"/>
          <a:ext cx="228600" cy="20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1800" y="3146400"/>
                    <a:ext cx="22860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6896160" y="2647800"/>
          <a:ext cx="30492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96160" y="2647800"/>
                    <a:ext cx="3049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4718160" y="3054240"/>
          <a:ext cx="44424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8160" y="3054240"/>
                    <a:ext cx="444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378080" y="3940200"/>
          <a:ext cx="6032520" cy="88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8080" y="3940200"/>
                    <a:ext cx="6032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heory of the Penalty Method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boundary conditions in “standard form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penalty 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the global problem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3303720" y="2610000"/>
          <a:ext cx="189216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3720" y="2610000"/>
                    <a:ext cx="1892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465200" y="4605480"/>
          <a:ext cx="57657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5200" y="4605480"/>
                    <a:ext cx="5765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5487840" y="268776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149560" y="3524400"/>
          <a:ext cx="48765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9560" y="3524400"/>
                    <a:ext cx="4876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2254320" y="4664160"/>
            <a:ext cx="1652400" cy="5634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08240" y="5365800"/>
            <a:ext cx="203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ded stiff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50040" y="4673520"/>
            <a:ext cx="1689120" cy="56376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48240" y="5418000"/>
            <a:ext cx="203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ded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6760" y="1589040"/>
            <a:ext cx="84056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 on the Penalty Method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2872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implement: no re-numbering, no transformations to apply,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2872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eliminate d.o.f., so no reduction in bandwi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2872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ing the penalty number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tric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0040"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oo low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poor approximation to boundary condi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0040"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oo high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can create numerical problem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(e.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, locking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ll-conditioning, 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6760" y="1589040"/>
            <a:ext cx="84056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8640" indent="-2872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“Penalty Method”? Look at variational princi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2872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irst variation to z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2872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add in “penalty function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044800" y="2120760"/>
          <a:ext cx="488952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4800" y="2120760"/>
                    <a:ext cx="488952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2863800" y="2216160"/>
            <a:ext cx="747720" cy="3510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14640" y="2614680"/>
            <a:ext cx="688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obal approximate solution = “union” of all elemen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797120" y="3468600"/>
          <a:ext cx="623556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7120" y="3468600"/>
                    <a:ext cx="62355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36600" y="4838760"/>
          <a:ext cx="876312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600" y="4838760"/>
                    <a:ext cx="87631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4156200" y="4857840"/>
            <a:ext cx="4867200" cy="628560"/>
          </a:xfrm>
          <a:prstGeom prst="rect">
            <a:avLst/>
          </a:prstGeom>
          <a:noFill/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18280" y="4497480"/>
            <a:ext cx="366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enalizes errors in satisfying b.c.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649440" y="5575320"/>
          <a:ext cx="76579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9440" y="5575320"/>
                    <a:ext cx="765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range Multiplier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: add extra d.o.f. into the problem, and use these d.o.f. to enforce the boundary condi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Lagrange multipliers can be interpreted physically as constraint fo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first vari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934920" y="3019320"/>
          <a:ext cx="77853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019320"/>
                    <a:ext cx="77853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6075360" y="3132000"/>
            <a:ext cx="415800" cy="3970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189400" y="3573360"/>
            <a:ext cx="231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grange multi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874800" y="4702320"/>
          <a:ext cx="77216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4800" y="4702320"/>
                    <a:ext cx="7721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2281320" y="4700520"/>
            <a:ext cx="3224160" cy="674640"/>
          </a:xfrm>
          <a:prstGeom prst="rect">
            <a:avLst/>
          </a:prstGeom>
          <a:noFill/>
          <a:ln cap="sq"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73520" y="5403960"/>
            <a:ext cx="18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must equ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46880" y="4738680"/>
            <a:ext cx="2041560" cy="636480"/>
          </a:xfrm>
          <a:prstGeom prst="rect">
            <a:avLst/>
          </a:prstGeom>
          <a:noFill/>
          <a:ln cap="sq" w="12600">
            <a:solidFill>
              <a:srgbClr val="047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546960" y="5456160"/>
            <a:ext cx="18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7ba0"/>
                </a:solidFill>
                <a:latin typeface="Arial"/>
              </a:rPr>
              <a:t>must equ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08400" y="1428840"/>
            <a:ext cx="3066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4: Boundary Condition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range Multiplier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ugmen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 probl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: very effective at handling multi-point constrai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dvantage: more d.o.f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nger solution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624040" y="2722680"/>
          <a:ext cx="375912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4040" y="2722680"/>
                    <a:ext cx="375912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Section 3.5: Example Problem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antilevered beam with dimensions shown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idly fixed 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; applied tra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18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27,000 ksi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25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Using CST plane stress elements, find the approximate deflection of the free end 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510240" y="4468680"/>
          <a:ext cx="16765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0240" y="4468680"/>
                    <a:ext cx="16765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1133640" y="1811160"/>
            <a:ext cx="7511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eliminari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h the beam as show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a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lution is know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92120" y="5389560"/>
          <a:ext cx="850896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5389560"/>
                    <a:ext cx="85089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795240" y="2530440"/>
            <a:ext cx="6340680" cy="22766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184880" y="3240000"/>
            <a:ext cx="1959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elements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total d.o.f.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element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pe fun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7080" y="4365720"/>
            <a:ext cx="14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#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632480" y="4375080"/>
            <a:ext cx="14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#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776160" y="4776840"/>
          <a:ext cx="365760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4776840"/>
                    <a:ext cx="36576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4645080" y="4757760"/>
          <a:ext cx="436860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5080" y="4757760"/>
                    <a:ext cx="43686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6" name="" descr=""/>
          <p:cNvPicPr/>
          <p:nvPr/>
        </p:nvPicPr>
        <p:blipFill>
          <a:blip r:embed="rId5"/>
          <a:stretch/>
        </p:blipFill>
        <p:spPr>
          <a:xfrm>
            <a:off x="739800" y="2573280"/>
            <a:ext cx="3222720" cy="1736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4749840" y="2540160"/>
            <a:ext cx="32227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element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pe functions for other el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 #3 is simply Element #1 shifted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6; thus, can “shift” each shape func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2862360" y="4902120"/>
          <a:ext cx="436860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4902120"/>
                    <a:ext cx="43686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2023920" y="2565360"/>
            <a:ext cx="51609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 #4 = Element #2 shifted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6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1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 #5 = Element #1 shifted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1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 #6 = Element #2 shifted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6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18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22640" y="3502080"/>
          <a:ext cx="544824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3502080"/>
                    <a:ext cx="54482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2317680" y="2036880"/>
          <a:ext cx="588024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7680" y="2036880"/>
                    <a:ext cx="58802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2222640" y="4924440"/>
          <a:ext cx="587988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2640" y="4924440"/>
                    <a:ext cx="58798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element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matrix for Element #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638280" y="2583000"/>
          <a:ext cx="850572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583000"/>
                    <a:ext cx="850572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element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matrix for Element #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49160" y="2619360"/>
          <a:ext cx="804096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2619360"/>
                    <a:ext cx="80409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0080" y="1589040"/>
            <a:ext cx="86835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[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matri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ce Elements #3 and #5 are both simply shifts of Element #1, coefficient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 not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wise, Elements #4 and #6 are shifts of Element #2, so have same [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matr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639800" y="2941560"/>
          <a:ext cx="6205680" cy="14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2941560"/>
                    <a:ext cx="620568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1555920" y="5200560"/>
          <a:ext cx="6570360" cy="140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920" y="5200560"/>
                    <a:ext cx="657036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 stiffness matrices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astic matrix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ce [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and [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are constant matrices, the volume integral for [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reduces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870120" y="2619360"/>
          <a:ext cx="7594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2619360"/>
                    <a:ext cx="7594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703520" y="5473800"/>
          <a:ext cx="595152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3520" y="5473800"/>
                    <a:ext cx="59515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9200" y="1590840"/>
            <a:ext cx="8321760" cy="51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1D Axial Rod “dynam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al princip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grating by parts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continuou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ativ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(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764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al princip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grating by parts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continuo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(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66800" y="3214800"/>
          <a:ext cx="56768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3214800"/>
                    <a:ext cx="5676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455840" y="5057640"/>
          <a:ext cx="60832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5840" y="5057640"/>
                    <a:ext cx="60832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661000" y="1585800"/>
            <a:ext cx="29304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lement #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0" y="2176560"/>
          <a:ext cx="910584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76560"/>
                    <a:ext cx="910584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other elements, we notice the follow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031760" y="2214720"/>
          <a:ext cx="745488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2214720"/>
                    <a:ext cx="745488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050920" y="2955960"/>
            <a:ext cx="56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 elements have the same stiffness matrix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element force vector for Element #6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609480" y="2287440"/>
          <a:ext cx="83026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7440"/>
                    <a:ext cx="83026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001960" y="4343400"/>
          <a:ext cx="52956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960" y="4343400"/>
                    <a:ext cx="5295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mbly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 #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 #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3325680" y="2111400"/>
          <a:ext cx="35686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5680" y="2111400"/>
                    <a:ext cx="3568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3373560" y="4336920"/>
          <a:ext cx="356868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3560" y="4336920"/>
                    <a:ext cx="3568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mbly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ffness matrix for #1 + #2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bout stiffness matrix for Element #3 + #4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lnSpc>
                <a:spcPct val="90000"/>
              </a:lnSpc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ly real difference between #3+#4 and #1+#2 is the numbering of the d.o.f. – all shifted by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438120">
              <a:lnSpc>
                <a:spcPct val="90000"/>
              </a:lnSpc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atrix for different d.o.f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30280" y="2610000"/>
          <a:ext cx="5156280" cy="22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2610000"/>
                    <a:ext cx="515628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ffness matrix for #3 + #4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ffness matrix for #5 + #6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822400" y="2004840"/>
          <a:ext cx="5220000" cy="22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2004840"/>
                    <a:ext cx="522000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2882880" y="4376880"/>
          <a:ext cx="5219640" cy="22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2880" y="4376880"/>
                    <a:ext cx="521964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ffness matrix for entire structu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2600" y="2335320"/>
          <a:ext cx="913140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2335320"/>
                    <a:ext cx="913140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 vector for entire structu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148280" y="2335320"/>
          <a:ext cx="1036440" cy="36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8280" y="2335320"/>
                    <a:ext cx="1036440" cy="36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force constraints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ondensation, you must simply eliminate the first 4 rows and columns of [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and first 4 rows of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803160" y="3063960"/>
          <a:ext cx="808992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3063960"/>
                    <a:ext cx="808992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now be solved for the remaining d.o.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is to interpolate the requested displac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4157640" y="2182680"/>
          <a:ext cx="1347840" cy="27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7640" y="2182680"/>
                    <a:ext cx="134784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79400" y="5329080"/>
          <a:ext cx="780912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9400" y="5329080"/>
                    <a:ext cx="7809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6116760" y="5989680"/>
            <a:ext cx="292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y poor approxim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1: Fundamental Concepts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590480"/>
            <a:ext cx="832176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Properties of the Approximate Solu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let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pproximate solution must be able to represent two special displacement st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5160">
              <a:spcBef>
                <a:spcPts val="499"/>
              </a:spcBef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id body motion: all points in element h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of displac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5160">
              <a:spcBef>
                <a:spcPts val="499"/>
              </a:spcBef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strain state: all normal strains and shearing strains have a fixed valu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ery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l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Times New Roman"/>
              </a:rPr>
              <a:t>3.5: Example (cont.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0080" y="1588680"/>
            <a:ext cx="868356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d.o.f. are extremely stiff in this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nging aspect ratio will hel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495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T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good element to model bending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957240" y="2693880"/>
          <a:ext cx="726588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2693880"/>
                    <a:ext cx="726588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5181480" y="2671920"/>
            <a:ext cx="2976840" cy="3157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49760" y="3038400"/>
            <a:ext cx="3281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minant terms in equation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≈ 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 small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7334280" y="4584600"/>
          <a:ext cx="143496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34280" y="4584600"/>
                    <a:ext cx="14349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7" name="" descr=""/>
          <p:cNvPicPr/>
          <p:nvPr/>
        </p:nvPicPr>
        <p:blipFill>
          <a:blip r:embed="rId5"/>
          <a:stretch/>
        </p:blipFill>
        <p:spPr>
          <a:xfrm>
            <a:off x="798480" y="4270320"/>
            <a:ext cx="62755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9:52:04Z</dcterms:created>
  <dc:creator>Timothy M. Whalen</dc:creator>
  <dc:description/>
  <dc:language>en-US</dc:language>
  <cp:lastModifiedBy>Meghna Mathur</cp:lastModifiedBy>
  <dcterms:modified xsi:type="dcterms:W3CDTF">2008-01-11T09:29:26Z</dcterms:modified>
  <cp:revision>489</cp:revision>
  <dc:subject/>
  <dc:title>CE 595 Section 1</dc:title>
</cp:coreProperties>
</file>